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76DF-A6E6-4F24-AF03-37427292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C15D-4D9B-4DB1-AAD4-7DBCFD14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BDE5-944F-4BF8-9F25-DDCE68E1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C71A-1AD8-4BB1-AF1D-646FD7AE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49EE-8E43-437D-8861-8D1E9A55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F83-6A7F-46CF-B53C-D3374B1E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9627-29C5-4E53-AFEE-51FD9637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44A2-A5CC-4573-81D9-91143026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6171-CA69-4C4A-98FA-9A691515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239-383D-4849-8BA4-88C3EAE1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9F07-11A6-4CBE-9DA7-FD1D0802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C859-8F67-4FE1-8D45-29AFDACD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7761-75EC-46B9-ABE1-AEAD0918E9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244564717_schkoljna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 rot="21283800">
            <a:off x="2130120" y="1628280"/>
            <a:ext cx="446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 rot="21111000">
            <a:off x="1914120" y="2852640"/>
            <a:ext cx="519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«Особе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даптации пятиклассник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468360" y="476280"/>
            <a:ext cx="828036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ние благоприятной семейной атмо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памятка для родител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мни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того, как родители разбудят ребенка, зависит его психологический настрой на весь день. Важно, чтобы ребенок выспался  и  легко проснулся, когда его будят роди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у родителей есть возможность дойти до школы вместе с ребенком, не упускайте ее. Совместная дорога - это совместное общение, ненавязчивые сов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учитесь встречать детей после уроков. Не стоит первым делом спрашивать: «Какие оценки ты сегодня получил?», лучше задать ней- тральные вопросы: «Что было интересного в школе?», «Чем сегодня занимались?», «Как дела в школе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дуйтесь успехам ребенка. Не раздражайтесь в момент его временных неу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пеливо, с интересом слушайте рассказы ребенка о событиях в его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бенок должен чувствовать, что он любим. Необходимо исключить из общения окрики, грубые интонации, создайте в семье атмосферу радости, любви и ув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539640" y="692280"/>
            <a:ext cx="81378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этот период родители должны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обенно внимательны к своим де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доровье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забывайте о смене учебной деятельности ребёнка дома, создавайте условия для двигательной активности между выполнением домашних зад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блюдайте за правильной позой во время выполнения домашних заданий, заботьтесь о правильном световом режи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упреждайте близорукость, искривление позвоночника, тренируйте мелкие мышцы кистей ру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язательно вводите в рацион ребенка витаминные препараты, фрукты и овощ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рганизуйте правильное питание. Заботьтесь о закаливании ребенка, максимальной двигательной активност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итывайте ответственность ребенка за свое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971640" y="907920"/>
            <a:ext cx="734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адаптационного периода в классе, решение и профилактика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знакомить с психологическими особенностями периода адапт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выявить причины дезадаптации учащихся и наметить пути решения появившихся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122480" y="620640"/>
            <a:ext cx="692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виды деятельности чело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ериод «детство – ю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04800" y="1747800"/>
            <a:ext cx="572184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школьник – 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ладший школьник – 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росток – отношения со сверстник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оутвер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888159_normal"/>
          <p:cNvPicPr/>
          <p:nvPr/>
        </p:nvPicPr>
        <p:blipFill>
          <a:blip r:embed="rId2"/>
          <a:stretch/>
        </p:blipFill>
        <p:spPr>
          <a:xfrm>
            <a:off x="3780000" y="1628640"/>
            <a:ext cx="1277640" cy="151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2146004"/>
          <p:cNvPicPr/>
          <p:nvPr/>
        </p:nvPicPr>
        <p:blipFill>
          <a:blip r:embed="rId3"/>
          <a:stretch/>
        </p:blipFill>
        <p:spPr>
          <a:xfrm>
            <a:off x="5259240" y="2924280"/>
            <a:ext cx="1325880" cy="157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KidsFunDays"/>
          <p:cNvPicPr/>
          <p:nvPr/>
        </p:nvPicPr>
        <p:blipFill>
          <a:blip r:embed="rId4"/>
          <a:stretch/>
        </p:blipFill>
        <p:spPr>
          <a:xfrm>
            <a:off x="4356000" y="5084640"/>
            <a:ext cx="234972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468360" y="476280"/>
            <a:ext cx="8207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знаки успешной адапт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довлетворенность ребенка процессом обуч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бенок легко справляется с программо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довлетворенность межличностными отношениями – с одноклассниками и учителя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знаки дезадапт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лый, утомлённый внешний вид ребён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желание ребёнка делиться своими впечатлениями о проведённом дн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емление отвлечь взрослого от школьных событий, переключить внимание на другие тем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желания выполнять домашние зад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гативные характеристики в адрес школы, учителей, одноклассник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алобы на те или иные события, связанные со школ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спокойный со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удности утреннего пробуждения, вял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оянные жалобы на плохое самочувств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p13_2"/>
          <p:cNvPicPr/>
          <p:nvPr/>
        </p:nvPicPr>
        <p:blipFill>
          <a:blip r:embed="rId2"/>
          <a:stretch/>
        </p:blipFill>
        <p:spPr>
          <a:xfrm>
            <a:off x="7308720" y="404640"/>
            <a:ext cx="1405080" cy="933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confused"/>
          <p:cNvPicPr/>
          <p:nvPr/>
        </p:nvPicPr>
        <p:blipFill>
          <a:blip r:embed="rId3"/>
          <a:stretch/>
        </p:blipFill>
        <p:spPr>
          <a:xfrm>
            <a:off x="7596360" y="5300640"/>
            <a:ext cx="101124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6"/>
          <p:cNvSpPr txBox="1"/>
          <p:nvPr/>
        </p:nvSpPr>
        <p:spPr>
          <a:xfrm>
            <a:off x="1116000" y="692280"/>
            <a:ext cx="691200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блемы школьной адаптации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190600" y="1413000"/>
            <a:ext cx="430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изменение условий обу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830880" y="3284640"/>
            <a:ext cx="326844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чальна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 основной 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 каби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 классный коллект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И треб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оевать авторитет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ОГО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793760" y="1989000"/>
            <a:ext cx="3841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еход в 5-й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ГО учителей-предме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ГО кабин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ГО других реб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ГО разных треб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ново завоевать авторитет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ГИХ 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2408517_3c6c1fa7"/>
          <p:cNvPicPr/>
          <p:nvPr/>
        </p:nvPicPr>
        <p:blipFill>
          <a:blip r:embed="rId2"/>
          <a:stretch/>
        </p:blipFill>
        <p:spPr>
          <a:xfrm>
            <a:off x="2771640" y="191628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2838960" y="1125360"/>
            <a:ext cx="34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изменение требова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6"/>
          <p:cNvSpPr txBox="1"/>
          <p:nvPr/>
        </p:nvSpPr>
        <p:spPr>
          <a:xfrm>
            <a:off x="1116000" y="549360"/>
            <a:ext cx="691200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блемы школьной адаптации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95280" y="1628640"/>
            <a:ext cx="83534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иод адаптации еще усложняет рассогласованность требований разных учителей-предметников. И все эти требования надо не только ВЫУЧИТЬ, но и СОБЛЮДАТЬ, и не запутаться, где что надо дел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Чем можно помоч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Во-первых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, увидеть плюсы этих «рассогласованностей‘». Эти «мелочи», которые поначалу так затрудняют ребенку школьную жизнь, приносят и пользу. Он учится учитывать все требования, соотносить их, преодолевать трудности, а значит, учится взрослой жизни, где «многотребовательность» в порядке вещ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Во-вторых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, это учит подростка строить отношения с разными людьми, становясь более гиб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омогите ребенку запомнить все требования и правила, предъявляемые учителями. Один из путей - </a:t>
            </a: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совместное с подростком составление расписания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с указанием особенностей выполнения зад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2912400" y="1125360"/>
            <a:ext cx="31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отсутствие контро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1116000" y="549360"/>
            <a:ext cx="691200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блемы школьной адаптации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24000" y="1557360"/>
            <a:ext cx="86407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ю начальную школу вашему ребенку помогал один учитель. Он выполнял функцию и учителя, и классного руководителя, и контролера. При переходе в пятый класс такой индивидуальный подход исчезает. Происходит как бы обезличивание школьника. Есть только пятиклассники в целом. Отсюда и внезапно появившаяся у некоторых детей регрессия: ребенок начинает капризничать, как маленький, уходит к своей первой учительнице или бегает 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лассным руководителем. А у других, наоборот, восторженное опьянение свободой передвижения приводит к нарушениям школьных прави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Чем можно помоч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Это будет прекрасный повод поговорить с ребенком об ответственности за выполнение заданий, даже когда тебя не контролируют. К тому же подросток хо-чет свободы - вот ему и пробный шар. Найдите и здесь плюс: такое отношение приобщает подростка к миру взрослых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Будьте терпеливы. Чаще расспрашивайте ребенка о школьной жиз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Контролируйте поначалу выполнение домашних заданий с учетом требований уч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- Помогите классному руководителю организовать досуг ребят, взяв часть забот на себя (и родительский комите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Если увидите проблемы, не затягивайте: подойдите к учителю, выясните прич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ну появившихся сложностей. Расскажите об особенностях своего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2915640" y="1197000"/>
            <a:ext cx="29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пробелы в знания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1116000" y="549360"/>
            <a:ext cx="691200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блемы школьной адаптации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468360" y="1916280"/>
            <a:ext cx="7651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годы обучения в начальной школе практически у каждого ученика появляются неусвоенные темы, неотработанные умения и навыки. Они накапливаются как снежный к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начальной школе эти «шероховатости» сглаживаются индивидуальным подходом учителя и повторными объяснениями сразу, как только было замечено неусвоение ребенком матери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ятом классе такого отслеживания не происходит. И, не усвоив тему (и не подойдя сразу за разъяснением к учителю или родителям), ребенок рискует не понять следующую. Материал усложняется от урока к уроку. Так появляются двойки... Также могут быть сложности в усвоении учебного материала из-за недостатка речевого развития, внимания и памят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539640" y="907920"/>
            <a:ext cx="79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Чем можно помоч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еред выполнением домашних заданий проверьте, усвоен ли классный материал. Важно добиться, чтобы ребенок понимал мельчайшие детали выполнения заданий и мог выполнить аналогичные. Просите ребенка объяснять, как он выполняет то или иное упражнение, почему именно эти вычисления применяет при выполнении определенных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Если ребенок все понимает, но проблема успеваемости все равно остается, то займитесь развитием мышления, памяти, внимания. Ведь и наблюдательность, и внимательность, и способность увидеть мельчайшие детали - все это поможет разбору и усвоению материала. Развитие этих психических процессов лучше всего пойдет в играх, потому что в игре появляется более сильная  мотивация, чем в учебной деятельности. Потом закрепленные навыки перенесутся на  саму учебную ситу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7:50:21Z</dcterms:created>
  <dc:creator>WiZaRd</dc:creator>
  <dc:description/>
  <dc:language>en-US</dc:language>
  <cp:lastModifiedBy>Психолог</cp:lastModifiedBy>
  <dcterms:modified xsi:type="dcterms:W3CDTF">2022-12-15T09:25:53Z</dcterms:modified>
  <cp:revision>5</cp:revision>
  <dc:subject/>
  <dc:title>Слайд 1</dc:title>
</cp:coreProperties>
</file>