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08B-8468-4EA8-91EB-7E9338F2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0EA-D9E4-4BC0-AB29-6CDA5B2F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BAE-BD03-4D3B-832E-4CD0AC0B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148-DE03-4667-8051-05D4DA9C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0FD0-A607-4BDD-86D7-9880152C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9ED-130B-473A-A23C-88DF15F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3252-2770-4BDE-845D-23D13EC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B6E3-E54F-420F-A95D-4EB6FE03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E4DC-B0ED-4E05-ACCD-1FECDEA7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340E-38F9-45F4-8389-16BF5CB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695-F9AF-49FC-8ECF-A74F76F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B55-E884-4BFD-85E5-3F97A63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FC6-1488-43D6-A257-031B5F0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ADBC-9570-4383-A24E-B0432669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63A7-F77F-46C6-BB59-39C8FF60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701-5DD0-4E95-B71D-36465665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DABB-A38C-44FA-8D5D-42BCAA02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698-B2C1-4560-9813-1316B7D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433-3C9C-4A61-8A5D-1F75696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6DF-9293-496F-9E99-D022D0C6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D5E-9709-4731-9F28-D79877E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413-05E9-49E5-9228-67A454F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1B8-4D03-46FD-943C-A4804C6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8DF-7520-4B16-9FDC-211B485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101-7C00-411C-95E3-4E2581BDA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C91-FC74-49D5-A54A-170314411B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s://disk.yandex.ru/i/i-rWCJ_PzjfqQw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s://disk.yandex.ru/i/70srQmNbP5GdcA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71680" y="6429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ДОУ «Сказка» Уренского муниципального округ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571680" y="1595880"/>
            <a:ext cx="796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  <a:ea typeface="Calibri"/>
              </a:rPr>
              <a:t>Бережлив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  <a:ea typeface="Calibri"/>
              </a:rPr>
              <a:t>«Организация рабочего места воспитател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929040" y="4797360"/>
            <a:ext cx="47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Мальцева Фируз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786120" y="60721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214200" y="214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Результаты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Организация рабочего места воспитат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KnwOgVKlljk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0200" y="1989000"/>
            <a:ext cx="3286440" cy="449280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20" name="Прямоугольник 5"/>
          <p:cNvSpPr/>
          <p:nvPr/>
        </p:nvSpPr>
        <p:spPr>
          <a:xfrm>
            <a:off x="785880" y="1528920"/>
            <a:ext cx="19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5143680" y="121428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Т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714920" y="1643040"/>
            <a:ext cx="3786120" cy="50418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2"/>
          <p:cNvSpPr/>
          <p:nvPr/>
        </p:nvSpPr>
        <p:spPr>
          <a:xfrm>
            <a:off x="2357280" y="14292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Карточка  5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«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»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96840" y="4780080"/>
            <a:ext cx="2340000" cy="7189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рт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325440" y="3886200"/>
            <a:ext cx="2340000" cy="7207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люда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539640" y="2997360"/>
            <a:ext cx="2340000" cy="7189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и в чист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749160" y="2133720"/>
            <a:ext cx="2340000" cy="7189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971640" y="1260360"/>
            <a:ext cx="2340000" cy="7207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4572000" y="4976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сомневаешься, то выбрасыв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572000" y="40370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и место для каждой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4572000" y="3105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чшая уборка, когда не нужно убираться; не создавай гр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4572000" y="23083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отри и знай, что должно быть сде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2"/>
          <p:cNvSpPr/>
          <p:nvPr/>
        </p:nvSpPr>
        <p:spPr>
          <a:xfrm>
            <a:off x="4572000" y="12034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меньше самодисциплины Вам нужно, тем луч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право 13"/>
          <p:cNvSpPr/>
          <p:nvPr/>
        </p:nvSpPr>
        <p:spPr>
          <a:xfrm>
            <a:off x="3498840" y="4948200"/>
            <a:ext cx="988920" cy="426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cc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498840" y="3976560"/>
            <a:ext cx="988920" cy="48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498840" y="3184560"/>
            <a:ext cx="1073160" cy="48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3498840" y="2249640"/>
            <a:ext cx="988920" cy="48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3498840" y="1378080"/>
            <a:ext cx="1050840" cy="48708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углом 14"/>
          <p:cNvSpPr/>
          <p:nvPr/>
        </p:nvSpPr>
        <p:spPr>
          <a:xfrm>
            <a:off x="96840" y="4246560"/>
            <a:ext cx="122400" cy="426960"/>
          </a:xfrm>
          <a:custGeom>
            <a:avLst/>
            <a:gdLst/>
            <a:ahLst/>
            <a:rect l="l" t="t" r="r" b="b"/>
            <a:pathLst>
              <a:path w="122237" h="427037">
                <a:moveTo>
                  <a:pt x="0" y="427037"/>
                </a:moveTo>
                <a:lnTo>
                  <a:pt x="0" y="68758"/>
                </a:lnTo>
                <a:lnTo>
                  <a:pt x="0" y="68758"/>
                </a:lnTo>
                <a:arcTo wR="53479" hR="53479" stAng="10800000" swAng="5400000"/>
                <a:lnTo>
                  <a:pt x="91678" y="15280"/>
                </a:lnTo>
                <a:lnTo>
                  <a:pt x="91678" y="0"/>
                </a:lnTo>
                <a:lnTo>
                  <a:pt x="122237" y="30559"/>
                </a:lnTo>
                <a:lnTo>
                  <a:pt x="91678" y="61119"/>
                </a:lnTo>
                <a:lnTo>
                  <a:pt x="91678" y="45839"/>
                </a:lnTo>
                <a:lnTo>
                  <a:pt x="53479" y="45839"/>
                </a:lnTo>
                <a:lnTo>
                  <a:pt x="53479" y="45839"/>
                </a:lnTo>
                <a:arcTo wR="22919" hR="22919" stAng="-5400000" swAng="-5400000"/>
                <a:lnTo>
                  <a:pt x="30559" y="42703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5"/>
          <a:stretch/>
        </p:blipFill>
        <p:spPr>
          <a:xfrm>
            <a:off x="357120" y="3355920"/>
            <a:ext cx="146160" cy="45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6"/>
          <a:stretch/>
        </p:blipFill>
        <p:spPr>
          <a:xfrm>
            <a:off x="573120" y="2511360"/>
            <a:ext cx="146160" cy="45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7"/>
          <a:stretch/>
        </p:blipFill>
        <p:spPr>
          <a:xfrm>
            <a:off x="755640" y="1623960"/>
            <a:ext cx="146160" cy="4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395880" y="216360"/>
            <a:ext cx="22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Марк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1689120" y="3429000"/>
            <a:ext cx="590724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Художественно-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1643040" y="271476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чев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1689120" y="2001960"/>
            <a:ext cx="69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знавательн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20"/>
          <p:cNvSpPr/>
          <p:nvPr/>
        </p:nvSpPr>
        <p:spPr>
          <a:xfrm>
            <a:off x="222120" y="2021040"/>
            <a:ext cx="1440000" cy="360360"/>
          </a:xfrm>
          <a:prstGeom prst="rect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3"/>
          <p:cNvSpPr/>
          <p:nvPr/>
        </p:nvSpPr>
        <p:spPr>
          <a:xfrm>
            <a:off x="222120" y="3429000"/>
            <a:ext cx="1440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7" descr=""/>
          <p:cNvPicPr/>
          <p:nvPr/>
        </p:nvPicPr>
        <p:blipFill>
          <a:blip r:embed="rId1"/>
          <a:stretch/>
        </p:blipFill>
        <p:spPr>
          <a:xfrm>
            <a:off x="225360" y="2708280"/>
            <a:ext cx="1463760" cy="3841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1662120" y="4149720"/>
            <a:ext cx="667692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1643040" y="1285920"/>
            <a:ext cx="61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циально-коммуникативн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1662120" y="484488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трудничество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2"/>
          <p:cNvSpPr/>
          <p:nvPr/>
        </p:nvSpPr>
        <p:spPr>
          <a:xfrm>
            <a:off x="1689120" y="55958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емонстрационный материал. Предметные 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8"/>
          <p:cNvSpPr/>
          <p:nvPr/>
        </p:nvSpPr>
        <p:spPr>
          <a:xfrm>
            <a:off x="239760" y="1285920"/>
            <a:ext cx="1439640" cy="360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9"/>
          <p:cNvSpPr/>
          <p:nvPr/>
        </p:nvSpPr>
        <p:spPr>
          <a:xfrm>
            <a:off x="222120" y="4865760"/>
            <a:ext cx="1440000" cy="360360"/>
          </a:xfrm>
          <a:prstGeom prst="rect">
            <a:avLst/>
          </a:prstGeom>
          <a:solidFill>
            <a:srgbClr val="9900cc"/>
          </a:soli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239760" y="5568840"/>
            <a:ext cx="1439640" cy="360360"/>
          </a:xfrm>
          <a:prstGeom prst="rect">
            <a:avLst/>
          </a:prstGeom>
          <a:solidFill>
            <a:srgbClr val="ff66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1"/>
          <p:cNvSpPr/>
          <p:nvPr/>
        </p:nvSpPr>
        <p:spPr>
          <a:xfrm>
            <a:off x="222120" y="4149720"/>
            <a:ext cx="1440000" cy="360360"/>
          </a:xfrm>
          <a:prstGeom prst="rect">
            <a:avLst/>
          </a:prstGeom>
          <a:solidFill>
            <a:srgbClr val="0080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17"/>
          <p:cNvCxnSpPr/>
          <p:nvPr/>
        </p:nvCxnSpPr>
        <p:spPr>
          <a:xfrm>
            <a:off x="1856880" y="1499760"/>
            <a:ext cx="4294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9" name="Прямая со стрелкой 19"/>
          <p:cNvCxnSpPr/>
          <p:nvPr/>
        </p:nvCxnSpPr>
        <p:spPr>
          <a:xfrm>
            <a:off x="1856880" y="221472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0" name="Прямая со стрелкой 21"/>
          <p:cNvCxnSpPr/>
          <p:nvPr/>
        </p:nvCxnSpPr>
        <p:spPr>
          <a:xfrm>
            <a:off x="1856880" y="2928960"/>
            <a:ext cx="429480" cy="21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61" name="Прямая со стрелкой 22"/>
          <p:cNvCxnSpPr/>
          <p:nvPr/>
        </p:nvCxnSpPr>
        <p:spPr>
          <a:xfrm>
            <a:off x="1856880" y="3642840"/>
            <a:ext cx="429480" cy="25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62" name="Прямая со стрелкой 24"/>
          <p:cNvCxnSpPr/>
          <p:nvPr/>
        </p:nvCxnSpPr>
        <p:spPr>
          <a:xfrm>
            <a:off x="1856880" y="4357800"/>
            <a:ext cx="429480" cy="21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63" name="Прямая со стрелкой 25"/>
          <p:cNvCxnSpPr/>
          <p:nvPr/>
        </p:nvCxnSpPr>
        <p:spPr>
          <a:xfrm>
            <a:off x="1856880" y="5072040"/>
            <a:ext cx="429480" cy="2160"/>
          </a:xfrm>
          <a:prstGeom prst="straightConnector1">
            <a:avLst/>
          </a:prstGeom>
          <a:ln w="38160">
            <a:solidFill>
              <a:srgbClr val="9900ff"/>
            </a:solidFill>
            <a:miter/>
            <a:tailEnd len="med" type="arrow" w="med"/>
          </a:ln>
        </p:spPr>
      </p:cxnSp>
      <p:cxnSp>
        <p:nvCxnSpPr>
          <p:cNvPr id="164" name="Прямая со стрелкой 26"/>
          <p:cNvCxnSpPr/>
          <p:nvPr/>
        </p:nvCxnSpPr>
        <p:spPr>
          <a:xfrm>
            <a:off x="1856880" y="5785920"/>
            <a:ext cx="429480" cy="2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19280" y="1397160"/>
            <a:ext cx="5905440" cy="525600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166" name="TextBox 3"/>
          <p:cNvSpPr/>
          <p:nvPr/>
        </p:nvSpPr>
        <p:spPr>
          <a:xfrm>
            <a:off x="214200" y="21420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Результаты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Организация рабочего места воспитат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285840" y="142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Распространенность достигнутых результа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43000" y="785880"/>
            <a:ext cx="5429160" cy="56674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9" name="Рисунок 3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286000" y="714240"/>
            <a:ext cx="4375080" cy="58341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0" name="Рисунок 2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500040" y="714240"/>
            <a:ext cx="7893000" cy="59295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1" name="Рисунок 6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428760" y="642960"/>
            <a:ext cx="8072280" cy="60609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2" name="Рисунок 6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1214280" y="642960"/>
            <a:ext cx="6715440" cy="6065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3" name="Рисунок 1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428760" y="642960"/>
            <a:ext cx="8072280" cy="60609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716360" y="3456000"/>
            <a:ext cx="3951360" cy="2967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5" name="Рисунок 2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358920" y="3429000"/>
            <a:ext cx="3952800" cy="2967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6" name="Рисунок 6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680080" y="237960"/>
            <a:ext cx="2227320" cy="2967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7" name="Рисунок 7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952720" y="260280"/>
            <a:ext cx="2227320" cy="2967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8" name="Рисунок 8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108000" y="260280"/>
            <a:ext cx="2227320" cy="2967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867280" y="3621240"/>
            <a:ext cx="3186360" cy="23922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0" name="Рисунок 2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20600" y="3700440"/>
            <a:ext cx="2955960" cy="22338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1" name="Рисунок 3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3470400" y="3654360"/>
            <a:ext cx="2203200" cy="29322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2" name="Рисунок 4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395280" y="222120"/>
            <a:ext cx="4019400" cy="30178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3" name="Рисунок 5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4932360" y="307800"/>
            <a:ext cx="3790800" cy="2846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714240" y="357120"/>
            <a:ext cx="77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влеченные 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0920" y="1314360"/>
            <a:ext cx="8893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Заказчики процесса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–     воспитатели МАДОУ «Ска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Периметр проекта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–       групповое пом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Владелец процесса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–     Сироткина Н.Н. заведу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Руководитель проекта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– Румянцева С.В. заместитель заведующего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  <a:ea typeface="Times New Roman"/>
              </a:rPr>
              <a:t>Команда проекта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–          Румянцева С.В. заместитель заведующего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Мальцева Ф.Н.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573000" y="4143240"/>
            <a:ext cx="35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Начало процесса – 05.09.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Конец процесса – 02.11.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1613545474_183-p-kartinki-na-belom-fone-dlya-prezentatsii-207.jpg"/>
          <p:cNvPicPr/>
          <p:nvPr/>
        </p:nvPicPr>
        <p:blipFill>
          <a:blip r:embed="rId1"/>
          <a:stretch/>
        </p:blipFill>
        <p:spPr>
          <a:xfrm>
            <a:off x="214200" y="3500280"/>
            <a:ext cx="30006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42920" y="620640"/>
            <a:ext cx="88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агностика и анализ проблемы выявили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лючевой рис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теря времени при подготовке  к образовательным мероприятиям, задержка проведения режимных мо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раты времени на поиск необходимых дидактических материалов и инвент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шние движения при подготовке необходимых средств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тельный поиск нужных учебно – методических материалов и средств обучения при выполнении обязанностей отсутствующего рабо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олнительные затраты времени при уборке учебно – методических материалов и средств обучения на свои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ижение качества воспитательно –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39640" y="2997360"/>
            <a:ext cx="8175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тизировать учебно – методические материалы и пос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ндартизировать размещение учебно-методических материалов и пособий, визуализировать места хранения материалов и пособ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работать маркер размещения материалов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643120" y="549360"/>
            <a:ext cx="6176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ЦЕЛЬ: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ращение времени протекания процесса поиска нужных учебно – методических материалов и средств обучения и улучшение качества воспитательно –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1613545474_183-p-kartinki-na-belom-fone-dlya-prezentatsii-207.jpg"/>
          <p:cNvPicPr/>
          <p:nvPr/>
        </p:nvPicPr>
        <p:blipFill>
          <a:blip r:embed="rId1"/>
          <a:stretch/>
        </p:blipFill>
        <p:spPr>
          <a:xfrm>
            <a:off x="0" y="857160"/>
            <a:ext cx="27860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"/>
          <p:cNvPicPr/>
          <p:nvPr/>
        </p:nvPicPr>
        <p:blipFill>
          <a:blip r:embed="rId1"/>
          <a:stretch/>
        </p:blipFill>
        <p:spPr>
          <a:xfrm>
            <a:off x="9360" y="260280"/>
            <a:ext cx="91346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KnwOgVKlljk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8000" y="811080"/>
            <a:ext cx="2738520" cy="51850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6804000" y="3403440"/>
            <a:ext cx="2017800" cy="2700360"/>
          </a:xfrm>
          <a:prstGeom prst="rect">
            <a:avLst/>
          </a:prstGeom>
          <a:ln w="0">
            <a:noFill/>
          </a:ln>
        </p:spPr>
      </p:pic>
      <p:sp>
        <p:nvSpPr>
          <p:cNvPr id="97" name="Выгнутая вниз стрелка 20"/>
          <p:cNvSpPr/>
          <p:nvPr/>
        </p:nvSpPr>
        <p:spPr>
          <a:xfrm flipH="1" flipV="1" rot="10980600">
            <a:off x="3082320" y="4868640"/>
            <a:ext cx="3139920" cy="512640"/>
          </a:xfrm>
          <a:custGeom>
            <a:avLst/>
            <a:gdLst>
              <a:gd name="textAreaLeft" fmla="*/ 736920 w 3139920"/>
              <a:gd name="textAreaRight" fmla="*/ 2338920 w 3139920"/>
              <a:gd name="textAreaTop" fmla="*/ 68400 h 512640"/>
              <a:gd name="textAreaBottom" fmla="*/ 4442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9" hR="21600" stAng="10800000" swAng="-5400000"/>
                <a:lnTo>
                  <a:pt x="11021" y="21600"/>
                </a:lnTo>
                <a:arcTo wR="10139" hR="21600" stAng="5400000" swAng="-3671113"/>
                <a:lnTo>
                  <a:pt x="21278" y="5400"/>
                </a:lnTo>
                <a:lnTo>
                  <a:pt x="20718" y="0"/>
                </a:lnTo>
                <a:lnTo>
                  <a:pt x="19514" y="5400"/>
                </a:lnTo>
                <a:lnTo>
                  <a:pt x="19955" y="5400"/>
                </a:lnTo>
                <a:arcTo wR="10139" hR="21600" stAng="1728887" swAng="3600869"/>
                <a:lnTo>
                  <a:pt x="10580" y="21580"/>
                </a:lnTo>
                <a:arcTo wR="10139" hR="21600" stAng="5470244" swAng="5329756"/>
                <a:close/>
              </a:path>
              <a:path fill="darkenLess" w="21600" h="21600">
                <a:moveTo>
                  <a:pt x="0" y="0"/>
                </a:moveTo>
                <a:arcTo wR="10139" hR="21600" stAng="10800000" swAng="-5400000"/>
                <a:lnTo>
                  <a:pt x="11021" y="21600"/>
                </a:lnTo>
                <a:arcTo wR="10139" hR="21600" stAng="5400000" swAng="70244"/>
                <a:lnTo>
                  <a:pt x="10580" y="21580"/>
                </a:lnTo>
                <a:arcTo wR="10139" hR="21600" stAng="5470244" swAng="532975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низ стрелка 25"/>
          <p:cNvSpPr/>
          <p:nvPr/>
        </p:nvSpPr>
        <p:spPr>
          <a:xfrm flipV="1" rot="10800000">
            <a:off x="3124080" y="5491800"/>
            <a:ext cx="3143520" cy="463320"/>
          </a:xfrm>
          <a:custGeom>
            <a:avLst/>
            <a:gdLst>
              <a:gd name="textAreaLeft" fmla="*/ 742320 w 3143520"/>
              <a:gd name="textAreaRight" fmla="*/ 2343240 w 3143520"/>
              <a:gd name="textAreaTop" fmla="*/ 61920 h 463320"/>
              <a:gd name="textAreaBottom" fmla="*/ 40140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-3680233"/>
                <a:lnTo>
                  <a:pt x="21276" y="5400"/>
                </a:lnTo>
                <a:lnTo>
                  <a:pt x="20804" y="0"/>
                </a:lnTo>
                <a:lnTo>
                  <a:pt x="19683" y="5400"/>
                </a:lnTo>
                <a:lnTo>
                  <a:pt x="20081" y="5400"/>
                </a:lnTo>
                <a:arcTo wR="10203" hR="21600" stAng="1719767" swAng="3616768"/>
                <a:lnTo>
                  <a:pt x="10601" y="21584"/>
                </a:lnTo>
                <a:arcTo wR="10203" hR="21600" stAng="5463464" swAng="5336536"/>
                <a:close/>
              </a:path>
              <a:path fill="darkenLess"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63464"/>
                <a:lnTo>
                  <a:pt x="10601" y="21584"/>
                </a:lnTo>
                <a:arcTo wR="10203" hR="21600" stAng="5463464" swAng="533653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гнутая вниз стрелка 26"/>
          <p:cNvSpPr/>
          <p:nvPr/>
        </p:nvSpPr>
        <p:spPr>
          <a:xfrm flipH="1" flipV="1" rot="10980600">
            <a:off x="3081960" y="3795840"/>
            <a:ext cx="3139920" cy="514440"/>
          </a:xfrm>
          <a:custGeom>
            <a:avLst/>
            <a:gdLst>
              <a:gd name="textAreaLeft" fmla="*/ 736920 w 3139920"/>
              <a:gd name="textAreaRight" fmla="*/ 2339280 w 313992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-3670826"/>
                <a:lnTo>
                  <a:pt x="21278" y="5400"/>
                </a:lnTo>
                <a:lnTo>
                  <a:pt x="20716" y="0"/>
                </a:lnTo>
                <a:lnTo>
                  <a:pt x="19509" y="5400"/>
                </a:lnTo>
                <a:lnTo>
                  <a:pt x="19951" y="5400"/>
                </a:lnTo>
                <a:arcTo wR="10137" hR="21600" stAng="1729174" swAng="3600343"/>
                <a:lnTo>
                  <a:pt x="10579" y="21579"/>
                </a:lnTo>
                <a:arcTo wR="10137" hR="21600" stAng="5470483" swAng="5329517"/>
                <a:close/>
              </a:path>
              <a:path fill="darkenLess"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70483"/>
                <a:lnTo>
                  <a:pt x="10579" y="21579"/>
                </a:lnTo>
                <a:arcTo wR="10137" hR="21600" stAng="5470483" swAng="5329517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гнутая вниз стрелка 27"/>
          <p:cNvSpPr/>
          <p:nvPr/>
        </p:nvSpPr>
        <p:spPr>
          <a:xfrm flipV="1" rot="10800000">
            <a:off x="3143160" y="4383000"/>
            <a:ext cx="3143520" cy="463680"/>
          </a:xfrm>
          <a:custGeom>
            <a:avLst/>
            <a:gdLst>
              <a:gd name="textAreaLeft" fmla="*/ 742320 w 3143520"/>
              <a:gd name="textAreaRight" fmla="*/ 2343240 w 3143520"/>
              <a:gd name="textAreaTop" fmla="*/ 61920 h 463680"/>
              <a:gd name="textAreaBottom" fmla="*/ 401760 h 4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-3680233"/>
                <a:lnTo>
                  <a:pt x="21276" y="5400"/>
                </a:lnTo>
                <a:lnTo>
                  <a:pt x="20804" y="0"/>
                </a:lnTo>
                <a:lnTo>
                  <a:pt x="19683" y="5400"/>
                </a:lnTo>
                <a:lnTo>
                  <a:pt x="20081" y="5400"/>
                </a:lnTo>
                <a:arcTo wR="10203" hR="21600" stAng="1719767" swAng="3616768"/>
                <a:lnTo>
                  <a:pt x="10601" y="21584"/>
                </a:lnTo>
                <a:arcTo wR="10203" hR="21600" stAng="5463464" swAng="5336536"/>
                <a:close/>
              </a:path>
              <a:path fill="darkenLess"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63464"/>
                <a:lnTo>
                  <a:pt x="10601" y="21584"/>
                </a:lnTo>
                <a:arcTo wR="10203" hR="21600" stAng="5463464" swAng="533653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гнутая вниз стрелка 28"/>
          <p:cNvSpPr/>
          <p:nvPr/>
        </p:nvSpPr>
        <p:spPr>
          <a:xfrm flipH="1" flipV="1" rot="10980600">
            <a:off x="3153960" y="2653920"/>
            <a:ext cx="3140280" cy="512640"/>
          </a:xfrm>
          <a:custGeom>
            <a:avLst/>
            <a:gdLst>
              <a:gd name="textAreaLeft" fmla="*/ 736920 w 3140280"/>
              <a:gd name="textAreaRight" fmla="*/ 2339280 w 3140280"/>
              <a:gd name="textAreaTop" fmla="*/ 68400 h 512640"/>
              <a:gd name="textAreaBottom" fmla="*/ 4442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9" hR="21600" stAng="10800000" swAng="-5400000"/>
                <a:lnTo>
                  <a:pt x="11021" y="21600"/>
                </a:lnTo>
                <a:arcTo wR="10139" hR="21600" stAng="5400000" swAng="-3671113"/>
                <a:lnTo>
                  <a:pt x="21278" y="5400"/>
                </a:lnTo>
                <a:lnTo>
                  <a:pt x="20718" y="0"/>
                </a:lnTo>
                <a:lnTo>
                  <a:pt x="19514" y="5400"/>
                </a:lnTo>
                <a:lnTo>
                  <a:pt x="19955" y="5400"/>
                </a:lnTo>
                <a:arcTo wR="10139" hR="21600" stAng="1728887" swAng="3600869"/>
                <a:lnTo>
                  <a:pt x="10580" y="21580"/>
                </a:lnTo>
                <a:arcTo wR="10139" hR="21600" stAng="5470244" swAng="5329756"/>
                <a:close/>
              </a:path>
              <a:path fill="darkenLess" w="21600" h="21600">
                <a:moveTo>
                  <a:pt x="0" y="0"/>
                </a:moveTo>
                <a:arcTo wR="10139" hR="21600" stAng="10800000" swAng="-5400000"/>
                <a:lnTo>
                  <a:pt x="11021" y="21600"/>
                </a:lnTo>
                <a:arcTo wR="10139" hR="21600" stAng="5400000" swAng="70244"/>
                <a:lnTo>
                  <a:pt x="10580" y="21580"/>
                </a:lnTo>
                <a:arcTo wR="10139" hR="21600" stAng="5470244" swAng="532975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Выгнутая вниз стрелка 29"/>
          <p:cNvSpPr/>
          <p:nvPr/>
        </p:nvSpPr>
        <p:spPr>
          <a:xfrm flipV="1" rot="10800000">
            <a:off x="3143160" y="3209760"/>
            <a:ext cx="3143520" cy="463680"/>
          </a:xfrm>
          <a:custGeom>
            <a:avLst/>
            <a:gdLst>
              <a:gd name="textAreaLeft" fmla="*/ 742320 w 3143520"/>
              <a:gd name="textAreaRight" fmla="*/ 2343240 w 3143520"/>
              <a:gd name="textAreaTop" fmla="*/ 61920 h 463680"/>
              <a:gd name="textAreaBottom" fmla="*/ 401760 h 4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-3680233"/>
                <a:lnTo>
                  <a:pt x="21276" y="5400"/>
                </a:lnTo>
                <a:lnTo>
                  <a:pt x="20804" y="0"/>
                </a:lnTo>
                <a:lnTo>
                  <a:pt x="19683" y="5400"/>
                </a:lnTo>
                <a:lnTo>
                  <a:pt x="20081" y="5400"/>
                </a:lnTo>
                <a:arcTo wR="10203" hR="21600" stAng="1719767" swAng="3616768"/>
                <a:lnTo>
                  <a:pt x="10601" y="21584"/>
                </a:lnTo>
                <a:arcTo wR="10203" hR="21600" stAng="5463464" swAng="5336536"/>
                <a:close/>
              </a:path>
              <a:path fill="darkenLess"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63464"/>
                <a:lnTo>
                  <a:pt x="10601" y="21584"/>
                </a:lnTo>
                <a:arcTo wR="10203" hR="21600" stAng="5463464" swAng="533653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низ стрелка 30"/>
          <p:cNvSpPr/>
          <p:nvPr/>
        </p:nvSpPr>
        <p:spPr>
          <a:xfrm flipH="1" flipV="1" rot="10980600">
            <a:off x="3225240" y="1439640"/>
            <a:ext cx="3139920" cy="512640"/>
          </a:xfrm>
          <a:custGeom>
            <a:avLst/>
            <a:gdLst>
              <a:gd name="textAreaLeft" fmla="*/ 736920 w 3139920"/>
              <a:gd name="textAreaRight" fmla="*/ 2338920 w 3139920"/>
              <a:gd name="textAreaTop" fmla="*/ 68400 h 512640"/>
              <a:gd name="textAreaBottom" fmla="*/ 4442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9" hR="21600" stAng="10800000" swAng="-5400000"/>
                <a:lnTo>
                  <a:pt x="11021" y="21600"/>
                </a:lnTo>
                <a:arcTo wR="10139" hR="21600" stAng="5400000" swAng="-3671113"/>
                <a:lnTo>
                  <a:pt x="21278" y="5400"/>
                </a:lnTo>
                <a:lnTo>
                  <a:pt x="20718" y="0"/>
                </a:lnTo>
                <a:lnTo>
                  <a:pt x="19514" y="5400"/>
                </a:lnTo>
                <a:lnTo>
                  <a:pt x="19955" y="5400"/>
                </a:lnTo>
                <a:arcTo wR="10139" hR="21600" stAng="1728887" swAng="3600869"/>
                <a:lnTo>
                  <a:pt x="10580" y="21580"/>
                </a:lnTo>
                <a:arcTo wR="10139" hR="21600" stAng="5470244" swAng="5329756"/>
                <a:close/>
              </a:path>
              <a:path fill="darkenLess" w="21600" h="21600">
                <a:moveTo>
                  <a:pt x="0" y="0"/>
                </a:moveTo>
                <a:arcTo wR="10139" hR="21600" stAng="10800000" swAng="-5400000"/>
                <a:lnTo>
                  <a:pt x="11021" y="21600"/>
                </a:lnTo>
                <a:arcTo wR="10139" hR="21600" stAng="5400000" swAng="70244"/>
                <a:lnTo>
                  <a:pt x="10580" y="21580"/>
                </a:lnTo>
                <a:arcTo wR="10139" hR="21600" stAng="5470244" swAng="532975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Выгнутая вниз стрелка 31"/>
          <p:cNvSpPr/>
          <p:nvPr/>
        </p:nvSpPr>
        <p:spPr>
          <a:xfrm flipV="1" rot="10800000">
            <a:off x="3143160" y="2070720"/>
            <a:ext cx="3143520" cy="463320"/>
          </a:xfrm>
          <a:custGeom>
            <a:avLst/>
            <a:gdLst>
              <a:gd name="textAreaLeft" fmla="*/ 742320 w 3143520"/>
              <a:gd name="textAreaRight" fmla="*/ 2343240 w 3143520"/>
              <a:gd name="textAreaTop" fmla="*/ 61920 h 463320"/>
              <a:gd name="textAreaBottom" fmla="*/ 40140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-3680233"/>
                <a:lnTo>
                  <a:pt x="21276" y="5400"/>
                </a:lnTo>
                <a:lnTo>
                  <a:pt x="20804" y="0"/>
                </a:lnTo>
                <a:lnTo>
                  <a:pt x="19683" y="5400"/>
                </a:lnTo>
                <a:lnTo>
                  <a:pt x="20081" y="5400"/>
                </a:lnTo>
                <a:arcTo wR="10203" hR="21600" stAng="1719767" swAng="3616768"/>
                <a:lnTo>
                  <a:pt x="10601" y="21584"/>
                </a:lnTo>
                <a:arcTo wR="10203" hR="21600" stAng="5463464" swAng="5336536"/>
                <a:close/>
              </a:path>
              <a:path fill="darkenLess" w="21600" h="21600">
                <a:moveTo>
                  <a:pt x="0" y="0"/>
                </a:moveTo>
                <a:arcTo wR="10203" hR="21600" stAng="10800000" swAng="-5400000"/>
                <a:lnTo>
                  <a:pt x="11000" y="21600"/>
                </a:lnTo>
                <a:arcTo wR="10203" hR="21600" stAng="5400000" swAng="63464"/>
                <a:lnTo>
                  <a:pt x="10601" y="21584"/>
                </a:lnTo>
                <a:arcTo wR="10203" hR="21600" stAng="5463464" swAng="5336536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3436920" y="59292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сылка на 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522520" y="635796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disk.yandex.ru/i/i-rWCJ_PzjfqQ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4"/>
          <a:stretch/>
        </p:blipFill>
        <p:spPr>
          <a:xfrm>
            <a:off x="6357960" y="500040"/>
            <a:ext cx="2644920" cy="20001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0" y="404640"/>
            <a:ext cx="922176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7077240" y="3309840"/>
            <a:ext cx="2017440" cy="27003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"/>
          <p:cNvPicPr/>
          <p:nvPr/>
        </p:nvPicPr>
        <p:blipFill>
          <a:blip r:embed="rId2"/>
          <a:stretch/>
        </p:blipFill>
        <p:spPr>
          <a:xfrm>
            <a:off x="128520" y="847800"/>
            <a:ext cx="3132360" cy="5162400"/>
          </a:xfrm>
          <a:prstGeom prst="rect">
            <a:avLst/>
          </a:prstGeom>
          <a:ln w="0">
            <a:noFill/>
          </a:ln>
        </p:spPr>
      </p:pic>
      <p:sp>
        <p:nvSpPr>
          <p:cNvPr id="111" name="Выгнутая вниз стрелка 4"/>
          <p:cNvSpPr/>
          <p:nvPr/>
        </p:nvSpPr>
        <p:spPr>
          <a:xfrm flipH="1" flipV="1" rot="10980600">
            <a:off x="3270240" y="3472560"/>
            <a:ext cx="3502080" cy="514440"/>
          </a:xfrm>
          <a:custGeom>
            <a:avLst/>
            <a:gdLst>
              <a:gd name="textAreaLeft" fmla="*/ 827280 w 3502080"/>
              <a:gd name="textAreaRight" fmla="*/ 2610720 w 350208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05" hR="21600" stAng="10800000" swAng="-5400000"/>
                <a:lnTo>
                  <a:pt x="10999" y="21600"/>
                </a:lnTo>
                <a:arcTo wR="10205" hR="21600" stAng="5400000" swAng="-3680587"/>
                <a:lnTo>
                  <a:pt x="21276" y="5400"/>
                </a:lnTo>
                <a:lnTo>
                  <a:pt x="20807" y="0"/>
                </a:lnTo>
                <a:lnTo>
                  <a:pt x="19690" y="5400"/>
                </a:lnTo>
                <a:lnTo>
                  <a:pt x="20086" y="5400"/>
                </a:lnTo>
                <a:arcTo wR="10205" hR="21600" stAng="1719413" swAng="3617362"/>
                <a:lnTo>
                  <a:pt x="10602" y="21584"/>
                </a:lnTo>
                <a:arcTo wR="10205" hR="21600" stAng="5463225" swAng="5336775"/>
                <a:close/>
              </a:path>
              <a:path fill="darkenLess" w="21600" h="21600">
                <a:moveTo>
                  <a:pt x="0" y="0"/>
                </a:moveTo>
                <a:arcTo wR="10205" hR="21600" stAng="10800000" swAng="-5400000"/>
                <a:lnTo>
                  <a:pt x="10999" y="21600"/>
                </a:lnTo>
                <a:arcTo wR="10205" hR="21600" stAng="5400000" swAng="63225"/>
                <a:lnTo>
                  <a:pt x="10602" y="21584"/>
                </a:lnTo>
                <a:arcTo wR="10205" hR="21600" stAng="5463225" swAng="5336775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гнутая вниз стрелка 5"/>
          <p:cNvSpPr/>
          <p:nvPr/>
        </p:nvSpPr>
        <p:spPr>
          <a:xfrm flipV="1" rot="10800000">
            <a:off x="3260520" y="4428000"/>
            <a:ext cx="3506760" cy="461880"/>
          </a:xfrm>
          <a:custGeom>
            <a:avLst/>
            <a:gdLst>
              <a:gd name="textAreaLeft" fmla="*/ 833400 w 3506760"/>
              <a:gd name="textAreaRight" fmla="*/ 2615760 w 3506760"/>
              <a:gd name="textAreaTop" fmla="*/ 61920 h 461880"/>
              <a:gd name="textAreaBottom" fmla="*/ 39996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67" hR="21600" stAng="10800000" swAng="-5400000"/>
                <a:lnTo>
                  <a:pt x="10978" y="21600"/>
                </a:lnTo>
                <a:arcTo wR="10267" hR="21600" stAng="5400000" swAng="-3689265"/>
                <a:lnTo>
                  <a:pt x="21274" y="5400"/>
                </a:lnTo>
                <a:lnTo>
                  <a:pt x="20889" y="0"/>
                </a:lnTo>
                <a:lnTo>
                  <a:pt x="19851" y="5400"/>
                </a:lnTo>
                <a:lnTo>
                  <a:pt x="20207" y="5400"/>
                </a:lnTo>
                <a:arcTo wR="10267" hR="21600" stAng="1710735" swAng="3632657"/>
                <a:lnTo>
                  <a:pt x="10622" y="21587"/>
                </a:lnTo>
                <a:arcTo wR="10267" hR="21600" stAng="5456608" swAng="5343392"/>
                <a:close/>
              </a:path>
              <a:path fill="darkenLess" w="21600" h="21600">
                <a:moveTo>
                  <a:pt x="0" y="0"/>
                </a:moveTo>
                <a:arcTo wR="10267" hR="21600" stAng="10800000" swAng="-5400000"/>
                <a:lnTo>
                  <a:pt x="10978" y="21600"/>
                </a:lnTo>
                <a:arcTo wR="10267" hR="21600" stAng="5400000" swAng="56608"/>
                <a:lnTo>
                  <a:pt x="10622" y="21587"/>
                </a:lnTo>
                <a:arcTo wR="10267" hR="21600" stAng="5456608" swAng="5343392"/>
                <a:close/>
              </a:path>
            </a:pathLst>
          </a:custGeom>
          <a:solidFill>
            <a:srgbClr val="ff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579120" y="57862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сылка на виде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2303640" y="62866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disk.yandex.ru/i/70srQmNbP5Gd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4"/>
          <a:stretch/>
        </p:blipFill>
        <p:spPr>
          <a:xfrm>
            <a:off x="5000760" y="1143000"/>
            <a:ext cx="3263760" cy="2077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57120" y="1285920"/>
            <a:ext cx="831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срока реализаци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достижения целевых показателей проекта на этапе реализации и закрепления не менее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ение достигнутых результатов на уровне ДО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1428840" y="5000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6T05:16:05Z</dcterms:created>
  <dc:creator>Пользователь</dc:creator>
  <dc:description/>
  <dc:language>en-US</dc:language>
  <cp:lastModifiedBy>Windows_7</cp:lastModifiedBy>
  <dcterms:modified xsi:type="dcterms:W3CDTF">2022-12-15T17:46:22Z</dcterms:modified>
  <cp:revision>93</cp:revision>
  <dc:subject/>
  <dc:title>Слайд 1</dc:title>
</cp:coreProperties>
</file>