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4D2-3B2B-4B95-8CFF-CE472694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146-EE9F-4085-A7A7-CBF1BC1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909-9452-41B0-8F83-1882B996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CC8-4CF7-4096-A080-6C53F0BB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C94-56F4-41B5-853E-FB3DC76B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5EF-ABA0-4B7C-A3C7-8DB92D92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74C-8B4D-4212-91EF-44D168FE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141-2A87-48E2-87FE-F57C117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1A0-97F6-49AF-B88E-A585D32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478-4A9F-4284-9655-85E526CE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F1D-F93C-415E-9283-747A716B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DFD-EA44-4C8C-B9EA-43284C6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B27F-A419-4C36-9E24-8DA90464F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Великий русский хим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198900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О жизни и научной деятельности Александра Михайловича Бутлер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Выполнила: ученица 9 «А»клас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МБОУ «Школа№69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Степанова 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Учитель: Севирова В.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жные аспекты теории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ий ученый установил тесную связь строения и химических свойств сложного органического 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теория Бутлерова давала возможность предсказывать возможные химические обращения и объясня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1018436.jpg"/>
          <p:cNvPicPr/>
          <p:nvPr/>
        </p:nvPicPr>
        <p:blipFill>
          <a:blip r:embed="rId1"/>
          <a:stretch/>
        </p:blipFill>
        <p:spPr>
          <a:xfrm>
            <a:off x="4932360" y="3213000"/>
            <a:ext cx="284328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воды о теории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л недостаточность существовавших на то время теорий хим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еркнул наиглавнейшее значение теории атом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л химическое строение как распределение сил сродства, принадлежащих атомам, вследствие чего атомы, оказывая друг на друга влияние (посредственное или непосредственное), соединяются в химическую частиц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л 8 правил формирования химических соеди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м обратил внимание на разницу реакционных способностей непохожих соединений, объясняемую меньшей или большей энергией, с которой соединя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учные успех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68г за научные достижения и успехи в изучении химического строения веществ по представлению самого Д.И.Менделеева Бутлеров был избран профессором Петербургского университета, в 1874 г- академиком Петербургской академии наук, а с 1878 по 1882 Президент Отделения химии Русского физико-химического об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М.Бутлеров стал основателем знаменитой «бутлеровской» школы химиков-органиков. Его ученики стали его последователями в науке, а потом и известными учеными: В.В.Марковников, Ф.М.Флавицкий, А.Е.Фаворский, И.Л.Кондаков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влечения в жизни учё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юности увлекался ботаникой. Проводил разнообразные опыты в своих оранжереях . Писал статьи по проблемам садоводства, цветоводства и земледелия. С любовью наблюдал он за развитием нежных камелий, пышных роз, выводил новые сорта ц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л общедоступные лекции по химии. С увлечением поддерживал экспериментальную деятельность своих студ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лекался пчеловодством. Написал много статей по этой теме. Создал школу для крестьян-пчеловодов. Написал книгу «Пчела, ее жизнь и правила толкового пчеловодства» , которой очень гордил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графии великих химиков. Перевод с нем. под ред. Быкова Г.В. – М.: Мир, 198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 В.А., Вонский Е.В., Кузнецова Г.И. Выдающиеся химики мира. – М.: ВШ, 199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fb.ru/article/217036/butlerov-aleksandr-mihaylovich-kratkaya-biografiya-butlerova-a-m#image10184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hyschem.chimfak.rsu.ru/Source/History/Persones/Butlerov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o-name.ru/biography/aleksandr-butlerov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ство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Михайлович Бутлеров родился в 1828 году в Казанской губернии в семье бывшего военного (его отец участвовал в войне 1812года). Мать умерла очень рано, поэтому будущий химик воспитывался тётуш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 получал в частном пансионе. С детства хорошо освоил французский и немецкий языки. Много чи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е увлечение детских лет- коллекционирование насекомых и растений. С 10 лет интересовался химией, ставил первые опы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уденческие годы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 студентом Казанского университета, первое время увлекался ботаникой и зоологией. Защитил кандидатскую диссертацию о бабочках. Его наставниками и научными руководителями были учёные К.К.Клаус и Н.Н.Зин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ский университет в то время (1844-1849гг) был центром естественных научных исследований. Химия всё сильнее увлекала Александра Михайловича Бутлерова.  Он самостоятельно организовал домашнюю лаборатор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талант заметил Н.И.Лобачевский и рекомендовал Бутлерова на преподавательскую должность. Вместе со студентами Бутлеров ставит множество опы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подавательская деятельность А.М.Бутле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х\Desktop\1018439.jpg"/>
          <p:cNvPicPr/>
          <p:nvPr/>
        </p:nvPicPr>
        <p:blipFill>
          <a:blip r:embed="rId1"/>
          <a:stretch/>
        </p:blipFill>
        <p:spPr>
          <a:xfrm>
            <a:off x="1849320" y="1700280"/>
            <a:ext cx="6178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подав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Михайлович Бутлеров был прекрасным оратором. На его лекциях, где он показывал различные химические опыты, собиралось студенчество со всего города. Слава о нём ходила далеко за пределами губер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 1854 году он защитил уже докторскую диссертацию в Московском университете по теме «Об эфирных масл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учи преподавателем , издал учебник «Введение к полному изучению органической химии» (1864-1868г, Казань). Вскоре учебник был переведен на немецкий язык и обрел огромную популярность и призн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ьская деятельность А.М.Бутлерова длилась      35 л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ложки первых изданий учебников А.М.Бутлеров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х\Desktop\1018449.jpg"/>
          <p:cNvPicPr/>
          <p:nvPr/>
        </p:nvPicPr>
        <p:blipFill>
          <a:blip r:embed="rId1"/>
          <a:stretch/>
        </p:blipFill>
        <p:spPr>
          <a:xfrm>
            <a:off x="1909800" y="1700280"/>
            <a:ext cx="6622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граничные поездки и их значение для научной деятельности учё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57-1858 гг. Париж. Знакомство с устройством и оборудованием химических лабораторий на ведущих предприятиях химической промышл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ещал лекции учёных Ю.Либиха, Э.Мичерлиха и других. Завел знакомство с Фридрихом Августом Кекуле - известным немецким химиком. Новые теоретические знания легли в основу смелых экспериментов самого Бутлер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ирал материал  для дальнейших исследований, на основании которого впоследствие впервые произвел полный синтез сахаристого вещества (1858г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стижения А.М.Бутлер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клад «О химическом строении вещ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61г  Бутлеров выступил на съезде немецких врачей и естествоиспытателей с докладом «О химическом строении вещества» в Шпейере (Германия).                                          Основные постулаты: 1) «Полагая, что каждому химическому атому свойственно лишь определённое и ограниченное количество химической силы (сродства), с которой он принимает участие в образовании тела, я назвал бы химическим строением эту химическую связь, или способ взаимного соединения атомов в сложном теле»; 2) «... химическая натура сложной частицы определяется натурой элементарных составных частей, количеством их и химическим строением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О химическом строении веществ»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ми словами, теория Бутлерова предполагала химическое строение молекул, под которым ученый понимал метод соединения атомов между собой в зависимости от определенного количества химической силы (сродства), свойственной каждому ат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этого доклада Бутлерова по праву стали называть  создателем теории химического строения органически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окладе были освещены важные аспекты теории Бутлерова, развивать и изучать которые он продолжал на  протяжении все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dostigator</cp:lastModifiedBy>
  <dcterms:modified xsi:type="dcterms:W3CDTF">2022-12-15T16:12:20Z</dcterms:modified>
  <cp:revision>20</cp:revision>
  <dc:subject/>
  <dc:title>Презентация PowerPoint</dc:title>
</cp:coreProperties>
</file>