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502-8048-496C-A4A4-E3FDD5F8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6B5-D38B-41A7-8B19-F1C618F7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259-E1FA-4517-9F51-8BE073B4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2C9-B4EF-4221-9F64-33D473D4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A2A-937D-478B-983B-834EB30B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169-2EA7-46B1-AF61-371D1A80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FC8-485B-404D-BB01-5EE693C3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533-A33E-44D9-B7F4-34910A63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49E-F6BE-4017-AF18-6DB79701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C38-701D-4BC3-B4EF-9D4385BB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706-C5CC-4412-A3B1-F1A70F43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F7C-FBB7-4F2A-93E7-05EE5027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B2F7-8D80-4BE3-A54A-5168AA93C3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Великий русский хим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198900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О жизни и научной деятельности Александра Михайловича Бутлер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030a0"/>
                </a:solidFill>
                <a:latin typeface="Calibri"/>
              </a:rPr>
              <a:t>Выполнила: ученица 9 «А»класс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1900" spc="-1" strike="noStrike">
                <a:solidFill>
                  <a:srgbClr val="7030a0"/>
                </a:solidFill>
                <a:latin typeface="Calibri"/>
              </a:rPr>
              <a:t>МБОУ «Школа№69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030a0"/>
                </a:solidFill>
                <a:latin typeface="Calibri"/>
              </a:rPr>
              <a:t>Степанова 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030a0"/>
                </a:solidFill>
                <a:latin typeface="Calibri"/>
              </a:rPr>
              <a:t>Учитель: Севирова В.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жные аспекты теории А.М.Бутлер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ий ученый установил тесную связь строения и химических свойств сложного органического соеди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 теория Бутлерова давала возможность предсказывать возможные химические обращения и объяснять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1018436.jpg"/>
          <p:cNvPicPr/>
          <p:nvPr/>
        </p:nvPicPr>
        <p:blipFill>
          <a:blip r:embed="rId1"/>
          <a:stretch/>
        </p:blipFill>
        <p:spPr>
          <a:xfrm>
            <a:off x="4932360" y="3213000"/>
            <a:ext cx="2843280" cy="34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воды о теории А.М.Бутлер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ал недостаточность существовавших на то время теорий хим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черкнул наиглавнейшее значение теории атом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ил химическое строение как распределение сил сродства, принадлежащих атомам, вследствие чего атомы, оказывая друг на друга влияние (посредственное или непосредственное), соединяются в химическую частиц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ил 8 правил формирования химических соедин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м обратил внимание на разницу реакционных способностей непохожих соединений, объясняемую меньшей или большей энергией, с которой соединяю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учные успех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868г за научные достижения и успехи в изучении химического строения веществ по представлению самого Д.И.Менделеева Бутлеров был избран профессором Петербургского университета, в 1874 г- академиком Петербургской академии наук, а с 1878 по 1882 Президент Отделения химии Русского физико-химического общ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.М.Бутлеров стал основателем знаменитой «бутлеровской» школы химиков-органиков. Его ученики стали его последователями в науке, а потом и известными учеными: В.В.Марковников, Ф.М.Флавицкий, А.Е.Фаворский, И.Л.Кондаков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влечения в жизни учён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юности увлекался ботаникой. Проводил разнообразные опыты в своих оранжереях . Писал статьи по проблемам садоводства, цветоводства и земледелия. С любовью наблюдал он за развитием нежных камелий, пышных роз, выводил новые сорта цв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тал общедоступные лекции по химии. С увлечением поддерживал экспериментальную деятельность своих студ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лекался пчеловодством. Написал много статей по этой теме. Создал школу для крестьян-пчеловодов. Написал книгу «Пчела, ее жизнь и правила толкового пчеловодства» , которой очень гордил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ографии великих химиков. Перевод с нем. под ред. Быкова Г.В. – М.: Мир, 198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ков В.А., Вонский Е.В., Кузнецова Г.И. Выдающиеся химики мира. – М.: ВШ, 199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fb.ru/article/217036/butlerov-aleksandr-mihaylovich-kratkaya-biografiya-butlerova-a-m#image10184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physchem.chimfak.rsu.ru/Source/History/Persones/Butlerov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to-name.ru/biography/aleksandr-butlerov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тство А.М.Бутлер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ександр Михайлович Бутлеров родился в 1828 году в Казанской губернии в семье бывшего военного (его отец участвовал в войне 1812года). Мать умерла очень рано, поэтому будущий химик воспитывался тётуш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ние получал в частном пансионе. С детства хорошо освоил французский и немецкий языки. Много чит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ое увлечение детских лет- коллекционирование насекомых и растений. С 10 лет интересовался химией, ставил первые опы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уденческие годы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в студентом Казанского университета, первое время увлекался ботаникой и зоологией. Защитил кандидатскую диссертацию о бабочках. Его наставниками и научными руководителями были учёные К.К.Клаус и Н.Н.Зин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занский университет в то время (1844-1849гг) был центром естественных научных исследований. Химия всё сильнее увлекала Александра Михайловича Бутлерова.  Он самостоятельно организовал домашнюю лаборатор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талант заметил Н.И.Лобачевский и рекомендовал Бутлерова на преподавательскую должность. Вместе со студентами Бутлеров ставит множество опы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подавательская деятельность А.М.Бутлер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х\Desktop\1018439.jpg"/>
          <p:cNvPicPr/>
          <p:nvPr/>
        </p:nvPicPr>
        <p:blipFill>
          <a:blip r:embed="rId1"/>
          <a:stretch/>
        </p:blipFill>
        <p:spPr>
          <a:xfrm>
            <a:off x="1849320" y="1700280"/>
            <a:ext cx="61786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подавательская деяте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ександр Михайлович Бутлеров был прекрасным оратором. На его лекциях, где он показывал различные химические опыты, собиралось студенчество со всего города. Слава о нём ходила далеко за пределами губер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 1854 году он защитил уже докторскую диссертацию в Московском университете по теме «Об эфирных маслах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учи преподавателем , издал учебник «Введение к полному изучению органической химии» (1864-1868г, Казань). Вскоре учебник был переведен на немецкий язык и обрел огромную популярность и призн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ьская деятельность А.М.Бутлерова длилась      35 ле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ложки первых изданий учебников А.М.Бутлеров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х\Desktop\1018449.jpg"/>
          <p:cNvPicPr/>
          <p:nvPr/>
        </p:nvPicPr>
        <p:blipFill>
          <a:blip r:embed="rId1"/>
          <a:stretch/>
        </p:blipFill>
        <p:spPr>
          <a:xfrm>
            <a:off x="1909800" y="1700280"/>
            <a:ext cx="66229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граничные поездки и их значение для научной деятельности учён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857-1858 гг. Париж. Знакомство с устройством и оборудованием химических лабораторий на ведущих предприятиях химической промышлен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ещал лекции учёных Ю.Либиха, Э.Мичерлиха и других. Завел знакомство с Фридрихом Августом Кекуле - известным немецким химиком. Новые теоретические знания легли в основу смелых экспериментов самого Бутлер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ирал материал  для дальнейших исследований, на основании которого впоследствие впервые произвел полный синтез сахаристого вещества (1858г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стижения А.М.Бутлеров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клад «О химическом строении веществ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861г  Бутлеров выступил на съезде немецких врачей и естествоиспытателей с докладом «О химическом строении вещества» в Шпейере (Германия).                                          Основные постулаты: 1) «Полагая, что каждому химическому атому свойственно лишь определённое и ограниченное количество химической силы (сродства), с которой он принимает участие в образовании тела, я назвал бы химическим строением эту химическую связь, или способ взаимного соединения атомов в сложном теле»; 2) «... химическая натура сложной частицы определяется натурой элементарных составных частей, количеством их и химическим строением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О химическом строении веществ»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ыми словами, теория Бутлерова предполагала химическое строение молекул, под которым ученый понимал метод соединения атомов между собой в зависимости от определенного количества химической силы (сродства), свойственной каждому ато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этого доклада Бутлерова по праву стали называть  создателем теории химического строения органических ве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докладе были освещены важные аспекты теории Бутлерова, развивать и изучать которые он продолжал на  протяжении всей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6:10:27Z</dcterms:created>
  <dc:creator>Катенок</dc:creator>
  <dc:description/>
  <dc:language>en-US</dc:language>
  <cp:lastModifiedBy>dostigator</cp:lastModifiedBy>
  <dcterms:modified xsi:type="dcterms:W3CDTF">2022-12-15T16:12:20Z</dcterms:modified>
  <cp:revision>20</cp:revision>
  <dc:subject/>
  <dc:title>Презентация PowerPoint</dc:title>
</cp:coreProperties>
</file>