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2B2-B330-48E9-8C30-E86C63BB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38B-79D1-42F3-A5CB-3CE30EDF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B6C-4C63-4DAA-B266-2290BEBD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9A1-9377-43A6-A61D-B8E56CB6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436-28FE-4A22-B823-3CB1C0BA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F21-B257-4F1E-8E64-2982388C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840-58A1-48BE-81C9-90812E80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E73-15D0-4B6E-9BED-415907B9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797-B23F-4BD8-B5C0-DD86553C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BC4-782F-40B9-8206-97DC0ADC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63D4-A237-47A6-8BDA-E3846393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471-B963-4CB9-A4FE-7EECA382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2C82-4D41-448B-9BF5-0263BCD6A8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cemb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1468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32523"/>
                </a:solidFill>
                <a:latin typeface="Comic Sans MS"/>
              </a:rPr>
              <a:t>We are glad to see you here!!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ощной магаз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74680" y="170028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газин игруш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1187280" y="1442880"/>
            <a:ext cx="66121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нижный магаз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632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газин одеж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417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лочный от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971640" y="1417680"/>
            <a:ext cx="741672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дитерск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901800" y="1341360"/>
            <a:ext cx="73404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pping centre (mall)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рговый цент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882720" y="1413000"/>
            <a:ext cx="737856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can buy sweets at the sweet 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5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62472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4248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Объект 3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9626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32523"/>
                </a:solidFill>
                <a:latin typeface="Comic Sans MS"/>
              </a:rPr>
              <a:t>Read the sentences below and guess what we are going to speak about</a:t>
            </a:r>
            <a:r>
              <a:rPr b="0" lang="ru-RU" sz="3600" spc="-1" strike="noStrike">
                <a:solidFill>
                  <a:srgbClr val="632523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43040" y="1600200"/>
            <a:ext cx="704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sually two or more people take part in this pro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e do it in a special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e do it very of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sually women like to do it, men don’t like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e can’t do it without mo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you got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 У вас есть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looking for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ищу… (мне нужно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does it cos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How much is i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) Сколько это стои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cheap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дёше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expensive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дор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o expensive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слишком дор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I try it o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 Могу я это примери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ll take it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возьму э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I help yo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гу ли я вам помоч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’m looking for…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е нужн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you got…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 У вас есть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size are yo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 Какой у вас размер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about this on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 Как насчёт этог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does it cos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ow much is i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) Сколько это стои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o expensive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слишком дор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 cheap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дёше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I try it 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 Могу я это примери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don’t like this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е это не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1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’ll take it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возьму эт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Home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learn (to  read) and  to translate the dialog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32523"/>
                </a:solidFill>
                <a:latin typeface="Monotype Corsiva"/>
              </a:rPr>
              <a:t>Thank you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32523"/>
                </a:solidFill>
                <a:latin typeface="Monotype Corsiva"/>
              </a:rPr>
              <a:t>for your work and  attention!!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20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32523"/>
                </a:solidFill>
                <a:latin typeface="Comic Sans MS"/>
              </a:rPr>
              <a:t>«</a:t>
            </a:r>
            <a:r>
              <a:rPr b="0" lang="en-US" sz="8000" spc="-1" strike="noStrike">
                <a:solidFill>
                  <a:srgbClr val="632523"/>
                </a:solidFill>
                <a:latin typeface="Comic Sans MS"/>
              </a:rPr>
              <a:t>Shopping</a:t>
            </a:r>
            <a:r>
              <a:rPr b="0" lang="ru-RU" sz="8000" spc="-1" strike="noStrike">
                <a:solidFill>
                  <a:srgbClr val="632523"/>
                </a:solidFill>
                <a:latin typeface="Comic Sans MS"/>
              </a:rPr>
              <a:t>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pani2.jpg"/>
          <p:cNvPicPr/>
          <p:nvPr/>
        </p:nvPicPr>
        <p:blipFill>
          <a:blip r:embed="rId1"/>
          <a:stretch/>
        </p:blipFill>
        <p:spPr>
          <a:xfrm>
            <a:off x="2143080" y="1714680"/>
            <a:ext cx="680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oday we are going to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57200" y="164304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earn new words on topic “Shopping”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peak about shops and shopping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ke up and act the dialogues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atch a video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rite a test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ve a lot of work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Let’s st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ri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2158920" y="115920"/>
            <a:ext cx="48261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SH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kery (baker’s)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лочн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ris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цветочный магаз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s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апте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e sho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обувной магаз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y sho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магазин игруше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 sho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книжный магаз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thes sho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магазин одежд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eet sho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кондитерск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-181080" y="981000"/>
            <a:ext cx="9145800" cy="5877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E 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веточный магаз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1608120" y="1557360"/>
            <a:ext cx="592776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пт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1979640" y="1909800"/>
            <a:ext cx="56466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Николай</cp:lastModifiedBy>
  <dcterms:modified xsi:type="dcterms:W3CDTF">2022-12-07T17:32:00Z</dcterms:modified>
  <cp:revision>40</cp:revision>
  <dc:subject/>
  <dc:title>Шаблон презентации</dc:title>
</cp:coreProperties>
</file>