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A41-5692-4FE9-AB88-C8C5C9F9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2FE-DF01-4FD3-81A7-7C436D4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F5D-C837-4869-93C1-71D325A9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B85-AD73-46B4-9378-1904447D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3EA-0AFF-4411-AD54-9D57E011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371-1302-45B3-B9FD-643A185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E7A-9EC7-4BC5-9D5B-4221BBAF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D50-1027-4603-B2D2-BDC1E5A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41A-A620-434B-9A2A-B943EB33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46F-9BB3-41B9-B83D-C124FCE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8B8-E92B-423D-B3BB-CFF3911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216-F48D-4951-8767-6E95819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103-1B9F-4A41-A3CD-84714285B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1468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32523"/>
                </a:solidFill>
                <a:latin typeface="Comic Sans MS"/>
              </a:rPr>
              <a:t>We are glad to see you here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щной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74680" y="170028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азин игру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1187280" y="1442880"/>
            <a:ext cx="66121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жный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азин одеж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чный от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971640" y="1417680"/>
            <a:ext cx="74167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дитерск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901800" y="1341360"/>
            <a:ext cx="7340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pping centre (mall)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ргов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882720" y="1413000"/>
            <a:ext cx="73785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can buy sweets at the sweet 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5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6247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962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2523"/>
                </a:solidFill>
                <a:latin typeface="Comic Sans MS"/>
              </a:rPr>
              <a:t>Read the sentences below and guess what we are going to speak about</a:t>
            </a:r>
            <a:r>
              <a:rPr b="0" lang="ru-RU" sz="3600" spc="-1" strike="noStrike">
                <a:solidFill>
                  <a:srgbClr val="632523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43040" y="1600200"/>
            <a:ext cx="70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ually two or more people take part in this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do it in a special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do it very of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ually women like to do it, men don’t lik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can’t do it without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 got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У вас есть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looking for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ищу… (мне нужно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does it co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ow much is 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 Сколько это сто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cheap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ёш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expensive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o expensive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лишком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 try it 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Могу я это пример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take it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озьму э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 help yo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гу ли я вам помо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m looking for…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е нуж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you got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У вас есть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ize are yo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Какой у вас разме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bout this o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Как насчёт это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does it cos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ow much is i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) Сколько это стои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o expensive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лишком дор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cheap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ёше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 try it 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Могу я это пример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don’t like this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е это не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ll take it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возьму э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earn (to  read) and  to translate the dialog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32523"/>
                </a:solidFill>
                <a:latin typeface="Monotype Corsiva"/>
              </a:rPr>
              <a:t>Thank you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32523"/>
                </a:solidFill>
                <a:latin typeface="Monotype Corsiva"/>
              </a:rPr>
              <a:t>for your work and  attention!!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20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32523"/>
                </a:solidFill>
                <a:latin typeface="Comic Sans MS"/>
              </a:rPr>
              <a:t>«</a:t>
            </a:r>
            <a:r>
              <a:rPr b="0" lang="en-US" sz="8000" spc="-1" strike="noStrike">
                <a:solidFill>
                  <a:srgbClr val="632523"/>
                </a:solidFill>
                <a:latin typeface="Comic Sans MS"/>
              </a:rPr>
              <a:t>Shopping</a:t>
            </a:r>
            <a:r>
              <a:rPr b="0" lang="ru-RU" sz="8000" spc="-1" strike="noStrike">
                <a:solidFill>
                  <a:srgbClr val="632523"/>
                </a:solidFill>
                <a:latin typeface="Comic Sans MS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pani2.jpg"/>
          <p:cNvPicPr/>
          <p:nvPr/>
        </p:nvPicPr>
        <p:blipFill>
          <a:blip r:embed="rId1"/>
          <a:stretch/>
        </p:blipFill>
        <p:spPr>
          <a:xfrm>
            <a:off x="2143080" y="1714680"/>
            <a:ext cx="680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oday we are going to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57200" y="164304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 new words on topic “Shopping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peak about shops and shopping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ke up and act the dialogues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tch a video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rite a tes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a lot of work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Let’s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158920" y="115920"/>
            <a:ext cx="4826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kery (baker’s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оч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ri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цветочный магаз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апт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e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бувной магаз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y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газин игруш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книжный магаз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thes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газин одеж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et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кондитер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-181080" y="981000"/>
            <a:ext cx="9145800" cy="5877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E 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веточный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608120" y="1557360"/>
            <a:ext cx="59277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п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1979640" y="1909800"/>
            <a:ext cx="56466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Николай</cp:lastModifiedBy>
  <dcterms:modified xsi:type="dcterms:W3CDTF">2022-12-07T17:32:00Z</dcterms:modified>
  <cp:revision>40</cp:revision>
  <dc:subject/>
  <dc:title>Шаблон презентации</dc:title>
</cp:coreProperties>
</file>