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648-30A6-498D-94AE-B1B056CFEF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0A29-A449-43F2-A7E5-353F2EABD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1C9-D0C7-4AFB-9B28-387CBA97D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8357-FF80-4D39-8D8D-6566FD6D3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0C5-E4F9-4705-8CEC-D20E0C6D22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EB1-082F-4F47-904F-76C9DCD1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2CB-52A8-460E-BBC8-97E2C92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B41-A153-48AE-B502-C8023DA7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299-D151-4DC9-A523-29CBC486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D63-8451-42E3-8DD1-188F3EC1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C9BF-78DD-491F-8D1C-AD3F3A4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E6F-1706-4F02-AFA7-C35811A9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F941-5125-41DC-BDD1-FAC929E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E06-9FBA-44A0-8C17-93910FE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D25-9F04-4E9A-9132-1FEBABCB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961-9A92-4956-82E8-4E06AAC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379-B694-4DC4-9D2D-C83CDCD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EF1-96B7-4FE7-BC9E-3A691CD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95E-6E53-4505-9B71-3C4C87C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FD52-2ED6-40A5-93E7-E3D77989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333E-6F4F-4CCA-AEE2-EA102588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BA5C-1451-4939-84E0-05352BA4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49D7-1608-403E-96D9-475074CA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2022-82E7-44A7-A8C0-DC00621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772C-EADC-40D2-985D-AA982880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2910-D1B0-4227-BCB5-32F06D56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0488-3B09-4D6F-A68F-DB6A04F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E42-87BB-428B-B2D8-DDCD296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B094-99CB-45E5-B81D-A564B47C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F530-7F7A-4CD1-B514-F55C089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A76B-5BB4-4A38-99ED-94C1814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DAE7-D939-4810-8D73-7A828A1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980D-E5C6-40BF-9DE2-8B019A8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6FF0-27F7-4A9D-9788-5D5E9ECC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28CA-E606-443E-BB37-FAAFE21F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D051-8776-463E-B89B-28990D0D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F731-E965-4E19-94D5-F2773F2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007F-8823-4AF7-BEBE-153CF9D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99D-6090-4153-8FF1-B7D51998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426A-005F-40A3-A604-D6FAFBCE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5DA6-8103-4D10-86CA-EF6564B3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7CC9-2505-4FCC-95DB-FB370CD8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DC86-DD5A-42CA-974F-3F65DBD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2EE4-2173-40BE-86B7-8AAFD61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8E85-7D53-4623-B3F9-9353B76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4D1D-A9C1-49DE-8FE2-299F06E6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39A3-2BCC-4E25-9D63-96CDA75C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C2E8-D14B-4381-BE63-FEECF4C1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FA7-139F-457C-AD73-7AFB7D8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E37-F09D-4E16-802C-D97E4AF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80D-F1E0-4B67-8A1B-6B2E2FB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289-30EE-4CE8-85DE-6EBE1EF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E7D-F5F4-4C2E-9256-362B9333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E79D-3B07-40C6-8306-38BBC149613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569D-6624-40FC-BD0B-82ECE3C20B4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F0C-64EB-43C0-9EC1-6AD9DDC6B50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583-0766-4D36-B146-5E83AA8DCAD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468360" y="1978920"/>
            <a:ext cx="7632720" cy="378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рок чт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.Н. Но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«Живая шляп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 МБОУ «С(К)ОШ «Злаг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.Симферо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скун Е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3898800" cy="5473800"/>
          </a:xfrm>
          <a:prstGeom prst="rect">
            <a:avLst/>
          </a:prstGeom>
          <a:ln w="76320">
            <a:solidFill>
              <a:srgbClr val="ffc000"/>
            </a:solidFill>
            <a:round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463840" y="463680"/>
            <a:ext cx="2036880" cy="241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2017800" cy="2833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4"/>
          <a:stretch/>
        </p:blipFill>
        <p:spPr>
          <a:xfrm>
            <a:off x="2217600" y="3086280"/>
            <a:ext cx="2251080" cy="3342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5"/>
          <a:stretch/>
        </p:blipFill>
        <p:spPr>
          <a:xfrm>
            <a:off x="0" y="549360"/>
            <a:ext cx="2381400" cy="28479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8358120" y="6286680"/>
            <a:ext cx="571680" cy="4698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26281" h="21600">
                <a:moveTo>
                  <a:pt x="0" y="0"/>
                </a:moveTo>
                <a:lnTo>
                  <a:pt x="26281" y="0"/>
                </a:lnTo>
                <a:lnTo>
                  <a:pt x="26281" y="21600"/>
                </a:lnTo>
                <a:lnTo>
                  <a:pt x="0" y="21600"/>
                </a:lnTo>
                <a:close/>
              </a:path>
              <a:path fill="lightenLess" w="26281" h="21600">
                <a:moveTo>
                  <a:pt x="0" y="0"/>
                </a:moveTo>
                <a:lnTo>
                  <a:pt x="26281" y="0"/>
                </a:lnTo>
                <a:lnTo>
                  <a:pt x="24881" y="1400"/>
                </a:lnTo>
                <a:lnTo>
                  <a:pt x="1400" y="1400"/>
                </a:lnTo>
                <a:close/>
              </a:path>
              <a:path fill="darken" w="26281" h="21600">
                <a:moveTo>
                  <a:pt x="26281" y="0"/>
                </a:moveTo>
                <a:lnTo>
                  <a:pt x="26281" y="21600"/>
                </a:lnTo>
                <a:lnTo>
                  <a:pt x="24881" y="20200"/>
                </a:lnTo>
                <a:lnTo>
                  <a:pt x="24881" y="1400"/>
                </a:lnTo>
                <a:close/>
              </a:path>
              <a:path fill="darkenLess" w="26281" h="21600">
                <a:moveTo>
                  <a:pt x="26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81" y="20200"/>
                </a:lnTo>
                <a:close/>
              </a:path>
              <a:path fill="lighten" w="26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81" h="21600">
                <a:moveTo>
                  <a:pt x="6134" y="3794"/>
                </a:moveTo>
                <a:lnTo>
                  <a:pt x="20147" y="10800"/>
                </a:lnTo>
                <a:lnTo>
                  <a:pt x="6134" y="17806"/>
                </a:lnTo>
                <a:close/>
              </a:path>
            </a:pathLst>
          </a:custGeom>
          <a:noFill/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900igr.net/datas/literatura/ZHivaja-shljapa/0011-011-Komod.jpg"/>
          <p:cNvPicPr/>
          <p:nvPr/>
        </p:nvPicPr>
        <p:blipFill>
          <a:blip r:embed="rId1"/>
          <a:srcRect l="10431" t="22249" r="52685" b="63462"/>
          <a:stretch/>
        </p:blipFill>
        <p:spPr>
          <a:xfrm>
            <a:off x="714240" y="2071800"/>
            <a:ext cx="3214800" cy="2571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4143240" y="1647720"/>
            <a:ext cx="4500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чер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пособление для перемешивания топлива в печи – толстый железный прут с прямо загнутым концом.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Admin\Desktop\1076629.jpg"/>
          <p:cNvPicPr/>
          <p:nvPr/>
        </p:nvPicPr>
        <p:blipFill>
          <a:blip r:embed="rId2"/>
          <a:stretch/>
        </p:blipFill>
        <p:spPr>
          <a:xfrm>
            <a:off x="324000" y="260280"/>
            <a:ext cx="93636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900igr.net/datas/literatura/ZHivaja-shljapa/0011-011-Komod.jpg"/>
          <p:cNvPicPr/>
          <p:nvPr/>
        </p:nvPicPr>
        <p:blipFill>
          <a:blip r:embed="rId1"/>
          <a:srcRect l="57336" t="12945" r="10385" b="57252"/>
          <a:stretch/>
        </p:blipFill>
        <p:spPr>
          <a:xfrm>
            <a:off x="285840" y="1785960"/>
            <a:ext cx="3071880" cy="42861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3929040" y="100008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мод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мебели, состоящий из нескольких расположенных друг над другом выдвижных ящиков (для белья и различных мелких ве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Admin\Desktop\1076629.jpg"/>
          <p:cNvPicPr/>
          <p:nvPr/>
        </p:nvPicPr>
        <p:blipFill>
          <a:blip r:embed="rId2"/>
          <a:stretch/>
        </p:blipFill>
        <p:spPr>
          <a:xfrm>
            <a:off x="179280" y="333360"/>
            <a:ext cx="938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"/>
          <p:cNvSpPr/>
          <p:nvPr/>
        </p:nvSpPr>
        <p:spPr>
          <a:xfrm>
            <a:off x="642960" y="1000080"/>
            <a:ext cx="757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яс-тись (от страх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рожать, бо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-ко-чить (с дивана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ыгнуть 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ы-ря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бросать с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ыр-кать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 шумом выпускать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х-ну-ло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яжело уп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8226360" cy="1111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  по  слогам  и целым словом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51960" y="1860480"/>
            <a:ext cx="764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-прыг-нет  -  подпрыгнет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–скольз–ну-ла  - соскользнула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х–ну–лось -  плюхнулос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-от-кры-ли  -  приоткрыли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-су-нул-ся  -  высунулся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-га-дал-ся  -  догадался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-кра-ши-ва-ли-раскрашивали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C:\Users\Admin\Desktop\1076629.jpg"/>
          <p:cNvPicPr/>
          <p:nvPr/>
        </p:nvPicPr>
        <p:blipFill>
          <a:blip r:embed="rId1"/>
          <a:stretch/>
        </p:blipFill>
        <p:spPr>
          <a:xfrm>
            <a:off x="8207280" y="189000"/>
            <a:ext cx="9367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Физкультминутк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Users\Admin\Desktop\1076629.jpg"/>
          <p:cNvPicPr/>
          <p:nvPr/>
        </p:nvPicPr>
        <p:blipFill>
          <a:blip r:embed="rId1"/>
          <a:stretch/>
        </p:blipFill>
        <p:spPr>
          <a:xfrm>
            <a:off x="755640" y="1989000"/>
            <a:ext cx="475308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C:\Users\ОЛЕГ\Desktop\Живая шляпа\2412.jpg"/>
          <p:cNvPicPr/>
          <p:nvPr/>
        </p:nvPicPr>
        <p:blipFill>
          <a:blip r:embed="rId1"/>
          <a:stretch/>
        </p:blipFill>
        <p:spPr>
          <a:xfrm>
            <a:off x="6372360" y="3500280"/>
            <a:ext cx="2411280" cy="309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Users\ОЛЕГ\Desktop\Живая шляпа\2415.jpg"/>
          <p:cNvPicPr/>
          <p:nvPr/>
        </p:nvPicPr>
        <p:blipFill>
          <a:blip r:embed="rId2"/>
          <a:stretch/>
        </p:blipFill>
        <p:spPr>
          <a:xfrm>
            <a:off x="324000" y="3645000"/>
            <a:ext cx="2663640" cy="292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C:\Users\ОЛЕГ\Desktop\Живая шляпа\zhivaya-shlyapa-pereskaz-rasskaza-n-n-nosova-dlya-chitatelskogo-dnevnika5.jpg"/>
          <p:cNvPicPr/>
          <p:nvPr/>
        </p:nvPicPr>
        <p:blipFill>
          <a:blip r:embed="rId3"/>
          <a:stretch/>
        </p:blipFill>
        <p:spPr>
          <a:xfrm>
            <a:off x="6372360" y="620640"/>
            <a:ext cx="2298600" cy="273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C:\Users\ОЛЕГ\Desktop\Живая шляпа\2411.jpg"/>
          <p:cNvPicPr/>
          <p:nvPr/>
        </p:nvPicPr>
        <p:blipFill>
          <a:blip r:embed="rId4"/>
          <a:stretch/>
        </p:blipFill>
        <p:spPr>
          <a:xfrm>
            <a:off x="3276720" y="476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C:\Users\ОЛЕГ\Desktop\Живая шляпа\2417.jpg"/>
          <p:cNvPicPr/>
          <p:nvPr/>
        </p:nvPicPr>
        <p:blipFill>
          <a:blip r:embed="rId5"/>
          <a:stretch/>
        </p:blipFill>
        <p:spPr>
          <a:xfrm>
            <a:off x="3419640" y="3645000"/>
            <a:ext cx="2447640" cy="280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C:\Users\ОЛЕГ\Desktop\Живая шляпа\2418.jpg"/>
          <p:cNvPicPr/>
          <p:nvPr/>
        </p:nvPicPr>
        <p:blipFill>
          <a:blip r:embed="rId6"/>
          <a:stretch/>
        </p:blipFill>
        <p:spPr>
          <a:xfrm>
            <a:off x="324000" y="476280"/>
            <a:ext cx="25923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5" descr="C:\Users\ОЛЕГ\Desktop\Живая шляпа\2412.jpg"/>
          <p:cNvPicPr/>
          <p:nvPr/>
        </p:nvPicPr>
        <p:blipFill>
          <a:blip r:embed="rId1"/>
          <a:stretch/>
        </p:blipFill>
        <p:spPr>
          <a:xfrm>
            <a:off x="395280" y="476280"/>
            <a:ext cx="2411280" cy="30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C:\Users\ОЛЕГ\Desktop\Живая шляпа\2415.jpg"/>
          <p:cNvPicPr/>
          <p:nvPr/>
        </p:nvPicPr>
        <p:blipFill>
          <a:blip r:embed="rId2"/>
          <a:stretch/>
        </p:blipFill>
        <p:spPr>
          <a:xfrm>
            <a:off x="6156360" y="476280"/>
            <a:ext cx="2663640" cy="2925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C:\Users\ОЛЕГ\Desktop\Живая шляпа\zhivaya-shlyapa-pereskaz-rasskaza-n-n-nosova-dlya-chitatelskogo-dnevnika5.jpg"/>
          <p:cNvPicPr/>
          <p:nvPr/>
        </p:nvPicPr>
        <p:blipFill>
          <a:blip r:embed="rId3"/>
          <a:stretch/>
        </p:blipFill>
        <p:spPr>
          <a:xfrm>
            <a:off x="468360" y="3716280"/>
            <a:ext cx="2298600" cy="273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C:\Users\ОЛЕГ\Desktop\Живая шляпа\2411.jpg"/>
          <p:cNvPicPr/>
          <p:nvPr/>
        </p:nvPicPr>
        <p:blipFill>
          <a:blip r:embed="rId4"/>
          <a:stretch/>
        </p:blipFill>
        <p:spPr>
          <a:xfrm>
            <a:off x="3203640" y="476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C:\Users\ОЛЕГ\Desktop\Живая шляпа\2417.jpg"/>
          <p:cNvPicPr/>
          <p:nvPr/>
        </p:nvPicPr>
        <p:blipFill>
          <a:blip r:embed="rId5"/>
          <a:stretch/>
        </p:blipFill>
        <p:spPr>
          <a:xfrm>
            <a:off x="3348000" y="364500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C:\Users\ОЛЕГ\Desktop\Живая шляпа\2418.jpg"/>
          <p:cNvPicPr/>
          <p:nvPr/>
        </p:nvPicPr>
        <p:blipFill>
          <a:blip r:embed="rId6"/>
          <a:stretch/>
        </p:blipFill>
        <p:spPr>
          <a:xfrm>
            <a:off x="6227640" y="3789360"/>
            <a:ext cx="2448000" cy="27702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7"/>
          <p:cNvSpPr/>
          <p:nvPr/>
        </p:nvSpPr>
        <p:spPr>
          <a:xfrm>
            <a:off x="1979640" y="2637000"/>
            <a:ext cx="431640" cy="43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3492360" y="2924280"/>
            <a:ext cx="409680" cy="36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6443640" y="2924280"/>
            <a:ext cx="411120" cy="411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755640" y="5877000"/>
            <a:ext cx="431640" cy="482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1"/>
          <p:cNvSpPr/>
          <p:nvPr/>
        </p:nvSpPr>
        <p:spPr>
          <a:xfrm>
            <a:off x="4572000" y="5877000"/>
            <a:ext cx="431640" cy="36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2"/>
          <p:cNvSpPr/>
          <p:nvPr/>
        </p:nvSpPr>
        <p:spPr>
          <a:xfrm>
            <a:off x="8172360" y="3860640"/>
            <a:ext cx="482760" cy="411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285840" y="100008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 У страха глаза вели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. Волков бояться - в лес не                ход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nstantia"/>
              </a:rPr>
              <a:t>Продолжите предложение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125360"/>
            <a:ext cx="7696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 похвалил бы себя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Я похвалил бы себя…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900000" y="7264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Начинается урок, пусть пойдут все знанья вп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Все, что надо - не лениться и старательно трудиться!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s://kot-pes.com/wp-content/uploads/2018/02/naturalnyy-racion-dlya-kota.jpg"/>
          <p:cNvPicPr/>
          <p:nvPr/>
        </p:nvPicPr>
        <p:blipFill>
          <a:blip r:embed="rId1"/>
          <a:stretch/>
        </p:blipFill>
        <p:spPr>
          <a:xfrm>
            <a:off x="684360" y="981000"/>
            <a:ext cx="7947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br>
              <a:rPr sz="2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по картинкам и опорным словам к ни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Дополнительно: можно нарисовать рисунок, каким вы представили себе котен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Спасибо за урок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26588557"/>
          <p:cNvPicPr/>
          <p:nvPr/>
        </p:nvPicPr>
        <p:blipFill>
          <a:blip r:embed="rId1"/>
          <a:stretch/>
        </p:blipFill>
        <p:spPr>
          <a:xfrm>
            <a:off x="826920" y="1916280"/>
            <a:ext cx="4897440" cy="4438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6"/>
          <p:cNvSpPr/>
          <p:nvPr/>
        </p:nvSpPr>
        <p:spPr>
          <a:xfrm>
            <a:off x="1239840" y="41385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4"/>
          <p:cNvSpPr/>
          <p:nvPr/>
        </p:nvSpPr>
        <p:spPr>
          <a:xfrm>
            <a:off x="7288200" y="5291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s://s1.1zoom.ru/big7/880/Cats_Glance_285862.jpg"/>
          <p:cNvPicPr/>
          <p:nvPr/>
        </p:nvPicPr>
        <p:blipFill>
          <a:blip r:embed="rId1"/>
          <a:stretch/>
        </p:blipFill>
        <p:spPr>
          <a:xfrm>
            <a:off x="755640" y="105264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150840" y="923040"/>
            <a:ext cx="8993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от у тёплой печки к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сенку свою поё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нь сегодня за окош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мур, хмур, хмур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дремлю в тепле немножк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Р, МУР, МУ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https://studfile.net/html/2706/128/html_pQHy16Tifv.CgGc/htmlconvd-PhivKG_html_513c6c101729d253.jpg"/>
          <p:cNvPicPr/>
          <p:nvPr/>
        </p:nvPicPr>
        <p:blipFill>
          <a:blip r:embed="rId1"/>
          <a:stretch/>
        </p:blipFill>
        <p:spPr>
          <a:xfrm>
            <a:off x="1403280" y="1125360"/>
            <a:ext cx="7272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Users\Admin\Desktop\img5.jpg"/>
          <p:cNvPicPr/>
          <p:nvPr/>
        </p:nvPicPr>
        <p:blipFill>
          <a:blip r:embed="rId1"/>
          <a:stretch/>
        </p:blipFill>
        <p:spPr>
          <a:xfrm>
            <a:off x="755640" y="1052640"/>
            <a:ext cx="7529400" cy="5048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ОЛЕГ\Desktop\Живая шляпа\maxresdefault.jpg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37080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ОЛЕГ\Desktop\Живая шляпа\5e33ef61edf8ba848ec473862920767c.jpg"/>
          <p:cNvPicPr/>
          <p:nvPr/>
        </p:nvPicPr>
        <p:blipFill>
          <a:blip r:embed="rId1"/>
          <a:stretch/>
        </p:blipFill>
        <p:spPr>
          <a:xfrm>
            <a:off x="1143000" y="836640"/>
            <a:ext cx="685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000080" y="404640"/>
            <a:ext cx="76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khive"/>
              </a:rPr>
              <a:t>Каждая книга Носова имела шумный успех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K0KIICAV4FHXCCAMDR4HKCA9EW3GCCAEVNFUQCANMTH85CA5CITPSCAA2IKRDCA4YIM8OCA0QNMAOCAX8CTD7CAPUEZDICAPE78I8CAT3C6CECAX6SSV4CAKH0ZDYCAZPZ40ECAGJJXJNCA01M68Q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3929040" y="1500120"/>
            <a:ext cx="1411200" cy="21988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Club_93471.jpg"/>
          <p:cNvPicPr/>
          <p:nvPr/>
        </p:nvPicPr>
        <p:blipFill>
          <a:blip r:embed="rId2"/>
          <a:stretch/>
        </p:blipFill>
        <p:spPr>
          <a:xfrm>
            <a:off x="714240" y="3857760"/>
            <a:ext cx="1673280" cy="2643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neznayka-friends-nikolay-nosov.jpg"/>
          <p:cNvPicPr/>
          <p:nvPr/>
        </p:nvPicPr>
        <p:blipFill>
          <a:blip r:embed="rId3"/>
          <a:stretch/>
        </p:blipFill>
        <p:spPr>
          <a:xfrm>
            <a:off x="6500880" y="3857760"/>
            <a:ext cx="1901880" cy="25002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8966.jpg"/>
          <p:cNvPicPr/>
          <p:nvPr/>
        </p:nvPicPr>
        <p:blipFill>
          <a:blip r:embed="rId4"/>
          <a:stretch/>
        </p:blipFill>
        <p:spPr>
          <a:xfrm>
            <a:off x="3643200" y="4000680"/>
            <a:ext cx="1571760" cy="2490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Фант"/>
          <p:cNvPicPr/>
          <p:nvPr/>
        </p:nvPicPr>
        <p:blipFill>
          <a:blip r:embed="rId5"/>
          <a:stretch/>
        </p:blipFill>
        <p:spPr>
          <a:xfrm rot="20522400">
            <a:off x="995040" y="1164960"/>
            <a:ext cx="1942920" cy="259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Club_91866"/>
          <p:cNvPicPr/>
          <p:nvPr/>
        </p:nvPicPr>
        <p:blipFill>
          <a:blip r:embed="rId6"/>
          <a:stretch/>
        </p:blipFill>
        <p:spPr>
          <a:xfrm rot="822000">
            <a:off x="6489720" y="1106640"/>
            <a:ext cx="180972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6:45:29Z</dcterms:created>
  <dc:creator>1</dc:creator>
  <dc:description/>
  <dc:language>en-US</dc:language>
  <cp:lastModifiedBy>user06</cp:lastModifiedBy>
  <dcterms:modified xsi:type="dcterms:W3CDTF">2022-12-14T09:36:19Z</dcterms:modified>
  <cp:revision>72</cp:revision>
  <dc:subject/>
  <dc:title>Фотоальбом</dc:title>
</cp:coreProperties>
</file>