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3CF-EC0C-4AB5-B650-6F3E05D0F1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BF2-7704-4FBD-880D-CDFCFC4951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0E9-E32D-43EB-A2CF-C6E4BFFFD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5C2-1AB2-4103-916B-957D9BE70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8041-4588-439E-AD8A-041639BB6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B3B-FC24-4665-94A7-CE727216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6A5-E4EF-4252-B1CF-E81B8B8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4F3-E56A-46AA-9ABB-3459C90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289-5248-4A74-B37C-9D678BBB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BE1-745C-4EDC-86E2-3B59C3C8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9FFD-0908-4DA3-8993-3AC8B44B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7CC6-27A0-4CD1-A1D4-560F6D5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614F-513F-4E09-A033-15DAACF5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4099-7719-4337-A54D-B66C8E23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D90-DA2C-47CB-AAD9-B63EBCC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B57-2EE5-43C3-B0C5-7B2B761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36A-FEF7-4A70-908E-B345886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D78-BD1D-4B32-9C9D-57F3732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76E4-5D12-4AB0-B1B7-863F8086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388-375B-4EE2-B822-E6771E5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C6FF-D33A-4EDC-9F14-6293DE57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410-1316-4E7E-9288-FB0F941D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5C38-B8DC-4A60-AA44-16C7C1E6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BBDD-7AEF-4374-A311-482174C3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8DEE-08D1-4D93-8276-0C6088F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0D88-6CB8-41D5-8551-B83A3B36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4D3D-9ECE-4808-ADBD-A96CC165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0F4-1DDA-493F-842A-1B05780B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69D9-434B-4504-827A-CE8B922E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7069-CFFA-492B-89A3-03ADD45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5478-F9BD-4377-B1D4-A0F0A9A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952B-CE0C-48B6-96E5-6DCA5D3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B173-328C-458F-A455-DC6C8D6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28DC-716B-4EA2-A1F4-66803032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D4BE-62D8-4561-8B93-DC53ABBB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4B76-D211-48E8-9CFD-AFB8FB9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248D-C51D-491B-959D-9DBB572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A9E3-9303-4168-BE57-C23106D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EA4-6850-486C-87EC-1948179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AB15-6907-4B06-A809-CEC3B03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E1A6-EA94-4325-8164-51CBEFB2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FA2B-A803-4026-A149-4C25F407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DBC1-F911-4454-BC93-F61E611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1ABA-B301-46DC-8647-9D0E8DA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3AD6-F038-4830-87BC-9847771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3055-B523-479D-992C-70FDD07F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6213-DB2C-4132-9CD5-D8B0BE13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A870-D125-4521-87D4-1762CFB6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C34-D1F8-4D9E-8DE1-DDC1A438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CC5-1372-49B0-BB54-496DD0E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1D5-C195-4B63-A67F-28A59D5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67B-0555-4EE7-AD52-F0EFCF5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DDE-9933-4F53-A3AD-EEE5E7B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7A2-37A3-407F-BE75-97B4AEF28F9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FD0-F23F-4A22-9392-0EA6F2BEBBD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033-7683-4CDE-ADC4-54BFE129DF9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5BA-EA8B-4643-A18B-69797F55A10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468360" y="1978920"/>
            <a:ext cx="7632720" cy="378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рок чт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.Н. Но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«Живая шляп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 МБОУ «С(К)ОШ «Злаг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.Симферо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скун Е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3898800" cy="5473800"/>
          </a:xfrm>
          <a:prstGeom prst="rect">
            <a:avLst/>
          </a:prstGeom>
          <a:ln w="76320">
            <a:solidFill>
              <a:srgbClr val="ffc000"/>
            </a:solidFill>
            <a:round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463840" y="463680"/>
            <a:ext cx="2036880" cy="241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2017800" cy="2833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4"/>
          <a:stretch/>
        </p:blipFill>
        <p:spPr>
          <a:xfrm>
            <a:off x="2217600" y="3086280"/>
            <a:ext cx="2251080" cy="3342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5"/>
          <a:stretch/>
        </p:blipFill>
        <p:spPr>
          <a:xfrm>
            <a:off x="0" y="549360"/>
            <a:ext cx="2381400" cy="28479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8358120" y="6286680"/>
            <a:ext cx="571680" cy="4698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26281" h="21600">
                <a:moveTo>
                  <a:pt x="0" y="0"/>
                </a:moveTo>
                <a:lnTo>
                  <a:pt x="26281" y="0"/>
                </a:lnTo>
                <a:lnTo>
                  <a:pt x="26281" y="21600"/>
                </a:lnTo>
                <a:lnTo>
                  <a:pt x="0" y="21600"/>
                </a:lnTo>
                <a:close/>
              </a:path>
              <a:path fill="lightenLess" w="26281" h="21600">
                <a:moveTo>
                  <a:pt x="0" y="0"/>
                </a:moveTo>
                <a:lnTo>
                  <a:pt x="26281" y="0"/>
                </a:lnTo>
                <a:lnTo>
                  <a:pt x="24881" y="1400"/>
                </a:lnTo>
                <a:lnTo>
                  <a:pt x="1400" y="1400"/>
                </a:lnTo>
                <a:close/>
              </a:path>
              <a:path fill="darken" w="26281" h="21600">
                <a:moveTo>
                  <a:pt x="26281" y="0"/>
                </a:moveTo>
                <a:lnTo>
                  <a:pt x="26281" y="21600"/>
                </a:lnTo>
                <a:lnTo>
                  <a:pt x="24881" y="20200"/>
                </a:lnTo>
                <a:lnTo>
                  <a:pt x="24881" y="1400"/>
                </a:lnTo>
                <a:close/>
              </a:path>
              <a:path fill="darkenLess" w="26281" h="21600">
                <a:moveTo>
                  <a:pt x="26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81" y="20200"/>
                </a:lnTo>
                <a:close/>
              </a:path>
              <a:path fill="lighten" w="26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81" h="21600">
                <a:moveTo>
                  <a:pt x="6134" y="3794"/>
                </a:moveTo>
                <a:lnTo>
                  <a:pt x="20147" y="10800"/>
                </a:lnTo>
                <a:lnTo>
                  <a:pt x="6134" y="17806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900igr.net/datas/literatura/ZHivaja-shljapa/0011-011-Komod.jpg"/>
          <p:cNvPicPr/>
          <p:nvPr/>
        </p:nvPicPr>
        <p:blipFill>
          <a:blip r:embed="rId1"/>
          <a:srcRect l="10431" t="22249" r="52685" b="63462"/>
          <a:stretch/>
        </p:blipFill>
        <p:spPr>
          <a:xfrm>
            <a:off x="714240" y="2071800"/>
            <a:ext cx="3214800" cy="2571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4143240" y="1647720"/>
            <a:ext cx="4500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чер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пособление для перемешивания топлива в печи – толстый железный прут с прямо загнутым концом.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Admin\Desktop\1076629.jpg"/>
          <p:cNvPicPr/>
          <p:nvPr/>
        </p:nvPicPr>
        <p:blipFill>
          <a:blip r:embed="rId2"/>
          <a:stretch/>
        </p:blipFill>
        <p:spPr>
          <a:xfrm>
            <a:off x="324000" y="260280"/>
            <a:ext cx="93636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900igr.net/datas/literatura/ZHivaja-shljapa/0011-011-Komod.jpg"/>
          <p:cNvPicPr/>
          <p:nvPr/>
        </p:nvPicPr>
        <p:blipFill>
          <a:blip r:embed="rId1"/>
          <a:srcRect l="57336" t="12945" r="10385" b="57252"/>
          <a:stretch/>
        </p:blipFill>
        <p:spPr>
          <a:xfrm>
            <a:off x="285840" y="1785960"/>
            <a:ext cx="3071880" cy="42861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3929040" y="100008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мод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мебели, состоящий из нескольких расположенных друг над другом выдвижных ящиков (для белья и различных мелких ве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Admin\Desktop\1076629.jpg"/>
          <p:cNvPicPr/>
          <p:nvPr/>
        </p:nvPicPr>
        <p:blipFill>
          <a:blip r:embed="rId2"/>
          <a:stretch/>
        </p:blipFill>
        <p:spPr>
          <a:xfrm>
            <a:off x="179280" y="333360"/>
            <a:ext cx="938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"/>
          <p:cNvSpPr/>
          <p:nvPr/>
        </p:nvSpPr>
        <p:spPr>
          <a:xfrm>
            <a:off x="642960" y="1000080"/>
            <a:ext cx="757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яс-тись (от страх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рожать, бо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-ко-чить (с диван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ыгнуть 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ы-ря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бросать с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ыр-кать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 шумом выпускать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х-ну-ло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яжело уп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8226360" cy="1111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  по  слогам  и целым словом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51960" y="1860480"/>
            <a:ext cx="764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-прыг-нет  -  подпрыгнет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–скольз–ну-ла  - соскользнула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х–ну–лось -  плюхнулос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-от-кры-ли  -  приоткрыли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-су-нул-ся  -  высунулся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-га-дал-ся  -  догадался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-кра-ши-ва-ли-раскрашивали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C:\Users\Admin\Desktop\1076629.jpg"/>
          <p:cNvPicPr/>
          <p:nvPr/>
        </p:nvPicPr>
        <p:blipFill>
          <a:blip r:embed="rId1"/>
          <a:stretch/>
        </p:blipFill>
        <p:spPr>
          <a:xfrm>
            <a:off x="8207280" y="189000"/>
            <a:ext cx="9367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Физкультминутк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Users\Admin\Desktop\1076629.jpg"/>
          <p:cNvPicPr/>
          <p:nvPr/>
        </p:nvPicPr>
        <p:blipFill>
          <a:blip r:embed="rId1"/>
          <a:stretch/>
        </p:blipFill>
        <p:spPr>
          <a:xfrm>
            <a:off x="755640" y="1989000"/>
            <a:ext cx="475308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C:\Users\ОЛЕГ\Desktop\Живая шляпа\2412.jpg"/>
          <p:cNvPicPr/>
          <p:nvPr/>
        </p:nvPicPr>
        <p:blipFill>
          <a:blip r:embed="rId1"/>
          <a:stretch/>
        </p:blipFill>
        <p:spPr>
          <a:xfrm>
            <a:off x="6372360" y="3500280"/>
            <a:ext cx="2411280" cy="309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Users\ОЛЕГ\Desktop\Живая шляпа\2415.jpg"/>
          <p:cNvPicPr/>
          <p:nvPr/>
        </p:nvPicPr>
        <p:blipFill>
          <a:blip r:embed="rId2"/>
          <a:stretch/>
        </p:blipFill>
        <p:spPr>
          <a:xfrm>
            <a:off x="324000" y="3645000"/>
            <a:ext cx="2663640" cy="292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C:\Users\ОЛЕГ\Desktop\Живая шляпа\zhivaya-shlyapa-pereskaz-rasskaza-n-n-nosova-dlya-chitatelskogo-dnevnika5.jpg"/>
          <p:cNvPicPr/>
          <p:nvPr/>
        </p:nvPicPr>
        <p:blipFill>
          <a:blip r:embed="rId3"/>
          <a:stretch/>
        </p:blipFill>
        <p:spPr>
          <a:xfrm>
            <a:off x="6372360" y="620640"/>
            <a:ext cx="2298600" cy="273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C:\Users\ОЛЕГ\Desktop\Живая шляпа\2411.jpg"/>
          <p:cNvPicPr/>
          <p:nvPr/>
        </p:nvPicPr>
        <p:blipFill>
          <a:blip r:embed="rId4"/>
          <a:stretch/>
        </p:blipFill>
        <p:spPr>
          <a:xfrm>
            <a:off x="3276720" y="476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C:\Users\ОЛЕГ\Desktop\Живая шляпа\2417.jpg"/>
          <p:cNvPicPr/>
          <p:nvPr/>
        </p:nvPicPr>
        <p:blipFill>
          <a:blip r:embed="rId5"/>
          <a:stretch/>
        </p:blipFill>
        <p:spPr>
          <a:xfrm>
            <a:off x="3419640" y="3645000"/>
            <a:ext cx="2447640" cy="280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C:\Users\ОЛЕГ\Desktop\Живая шляпа\2418.jpg"/>
          <p:cNvPicPr/>
          <p:nvPr/>
        </p:nvPicPr>
        <p:blipFill>
          <a:blip r:embed="rId6"/>
          <a:stretch/>
        </p:blipFill>
        <p:spPr>
          <a:xfrm>
            <a:off x="324000" y="476280"/>
            <a:ext cx="25923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5" descr="C:\Users\ОЛЕГ\Desktop\Живая шляпа\2412.jpg"/>
          <p:cNvPicPr/>
          <p:nvPr/>
        </p:nvPicPr>
        <p:blipFill>
          <a:blip r:embed="rId1"/>
          <a:stretch/>
        </p:blipFill>
        <p:spPr>
          <a:xfrm>
            <a:off x="395280" y="476280"/>
            <a:ext cx="2411280" cy="30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C:\Users\ОЛЕГ\Desktop\Живая шляпа\2415.jpg"/>
          <p:cNvPicPr/>
          <p:nvPr/>
        </p:nvPicPr>
        <p:blipFill>
          <a:blip r:embed="rId2"/>
          <a:stretch/>
        </p:blipFill>
        <p:spPr>
          <a:xfrm>
            <a:off x="6156360" y="476280"/>
            <a:ext cx="2663640" cy="2925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C:\Users\ОЛЕГ\Desktop\Живая шляпа\zhivaya-shlyapa-pereskaz-rasskaza-n-n-nosova-dlya-chitatelskogo-dnevnika5.jpg"/>
          <p:cNvPicPr/>
          <p:nvPr/>
        </p:nvPicPr>
        <p:blipFill>
          <a:blip r:embed="rId3"/>
          <a:stretch/>
        </p:blipFill>
        <p:spPr>
          <a:xfrm>
            <a:off x="468360" y="3716280"/>
            <a:ext cx="2298600" cy="273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C:\Users\ОЛЕГ\Desktop\Живая шляпа\2411.jpg"/>
          <p:cNvPicPr/>
          <p:nvPr/>
        </p:nvPicPr>
        <p:blipFill>
          <a:blip r:embed="rId4"/>
          <a:stretch/>
        </p:blipFill>
        <p:spPr>
          <a:xfrm>
            <a:off x="3203640" y="476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C:\Users\ОЛЕГ\Desktop\Живая шляпа\2417.jpg"/>
          <p:cNvPicPr/>
          <p:nvPr/>
        </p:nvPicPr>
        <p:blipFill>
          <a:blip r:embed="rId5"/>
          <a:stretch/>
        </p:blipFill>
        <p:spPr>
          <a:xfrm>
            <a:off x="3348000" y="364500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C:\Users\ОЛЕГ\Desktop\Живая шляпа\2418.jpg"/>
          <p:cNvPicPr/>
          <p:nvPr/>
        </p:nvPicPr>
        <p:blipFill>
          <a:blip r:embed="rId6"/>
          <a:stretch/>
        </p:blipFill>
        <p:spPr>
          <a:xfrm>
            <a:off x="6227640" y="3789360"/>
            <a:ext cx="2448000" cy="27702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7"/>
          <p:cNvSpPr/>
          <p:nvPr/>
        </p:nvSpPr>
        <p:spPr>
          <a:xfrm>
            <a:off x="1979640" y="2637000"/>
            <a:ext cx="431640" cy="43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3492360" y="2924280"/>
            <a:ext cx="409680" cy="36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6443640" y="2924280"/>
            <a:ext cx="411120" cy="411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755640" y="5877000"/>
            <a:ext cx="431640" cy="482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1"/>
          <p:cNvSpPr/>
          <p:nvPr/>
        </p:nvSpPr>
        <p:spPr>
          <a:xfrm>
            <a:off x="4572000" y="5877000"/>
            <a:ext cx="431640" cy="36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2"/>
          <p:cNvSpPr/>
          <p:nvPr/>
        </p:nvSpPr>
        <p:spPr>
          <a:xfrm>
            <a:off x="8172360" y="3860640"/>
            <a:ext cx="482760" cy="411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285840" y="100008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 У страха глаза вели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. Волков бояться - в лес не                ход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nstantia"/>
              </a:rPr>
              <a:t>Продолжите предложение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125360"/>
            <a:ext cx="7696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 похвалил бы себя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 похвалил бы себя…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900000" y="7264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Начинается урок, пусть пойдут все знанья вп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Все, что надо - не лениться и старательно трудиться!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s://kot-pes.com/wp-content/uploads/2018/02/naturalnyy-racion-dlya-kota.jpg"/>
          <p:cNvPicPr/>
          <p:nvPr/>
        </p:nvPicPr>
        <p:blipFill>
          <a:blip r:embed="rId1"/>
          <a:stretch/>
        </p:blipFill>
        <p:spPr>
          <a:xfrm>
            <a:off x="684360" y="981000"/>
            <a:ext cx="7947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br>
              <a:rPr sz="2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по картинкам и опорным словам к ни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Дополнительно: можно нарисовать рисунок, каким вы представили себе коте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Спасибо за урок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26588557"/>
          <p:cNvPicPr/>
          <p:nvPr/>
        </p:nvPicPr>
        <p:blipFill>
          <a:blip r:embed="rId1"/>
          <a:stretch/>
        </p:blipFill>
        <p:spPr>
          <a:xfrm>
            <a:off x="826920" y="1916280"/>
            <a:ext cx="4897440" cy="4438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6"/>
          <p:cNvSpPr/>
          <p:nvPr/>
        </p:nvSpPr>
        <p:spPr>
          <a:xfrm>
            <a:off x="1239840" y="41385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4"/>
          <p:cNvSpPr/>
          <p:nvPr/>
        </p:nvSpPr>
        <p:spPr>
          <a:xfrm>
            <a:off x="7288200" y="5291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s://s1.1zoom.ru/big7/880/Cats_Glance_285862.jpg"/>
          <p:cNvPicPr/>
          <p:nvPr/>
        </p:nvPicPr>
        <p:blipFill>
          <a:blip r:embed="rId1"/>
          <a:stretch/>
        </p:blipFill>
        <p:spPr>
          <a:xfrm>
            <a:off x="755640" y="105264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150840" y="923040"/>
            <a:ext cx="8993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от у тёплой печки к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сенку свою поё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нь сегодня за окош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мур, хмур, хмур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ремлю в тепле немножк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Р, МУР, МУ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https://studfile.net/html/2706/128/html_pQHy16Tifv.CgGc/htmlconvd-PhivKG_html_513c6c101729d253.jpg"/>
          <p:cNvPicPr/>
          <p:nvPr/>
        </p:nvPicPr>
        <p:blipFill>
          <a:blip r:embed="rId1"/>
          <a:stretch/>
        </p:blipFill>
        <p:spPr>
          <a:xfrm>
            <a:off x="1403280" y="1125360"/>
            <a:ext cx="7272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Users\Admin\Desktop\img5.jpg"/>
          <p:cNvPicPr/>
          <p:nvPr/>
        </p:nvPicPr>
        <p:blipFill>
          <a:blip r:embed="rId1"/>
          <a:stretch/>
        </p:blipFill>
        <p:spPr>
          <a:xfrm>
            <a:off x="755640" y="1052640"/>
            <a:ext cx="7529400" cy="5048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ОЛЕГ\Desktop\Живая шляпа\maxresdefault.jpg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37080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ОЛЕГ\Desktop\Живая шляпа\5e33ef61edf8ba848ec473862920767c.jpg"/>
          <p:cNvPicPr/>
          <p:nvPr/>
        </p:nvPicPr>
        <p:blipFill>
          <a:blip r:embed="rId1"/>
          <a:stretch/>
        </p:blipFill>
        <p:spPr>
          <a:xfrm>
            <a:off x="1143000" y="836640"/>
            <a:ext cx="685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000080" y="404640"/>
            <a:ext cx="76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khive"/>
              </a:rPr>
              <a:t>Каждая книга Носова имела шумный успех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K0KIICAV4FHXCCAMDR4HKCA9EW3GCCAEVNFUQCANMTH85CA5CITPSCAA2IKRDCA4YIM8OCA0QNMAOCAX8CTD7CAPUEZDICAPE78I8CAT3C6CECAX6SSV4CAKH0ZDYCAZPZ40ECAGJJXJNCA01M68Q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3929040" y="1500120"/>
            <a:ext cx="1411200" cy="21988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Club_93471.jpg"/>
          <p:cNvPicPr/>
          <p:nvPr/>
        </p:nvPicPr>
        <p:blipFill>
          <a:blip r:embed="rId2"/>
          <a:stretch/>
        </p:blipFill>
        <p:spPr>
          <a:xfrm>
            <a:off x="714240" y="3857760"/>
            <a:ext cx="1673280" cy="2643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neznayka-friends-nikolay-nosov.jpg"/>
          <p:cNvPicPr/>
          <p:nvPr/>
        </p:nvPicPr>
        <p:blipFill>
          <a:blip r:embed="rId3"/>
          <a:stretch/>
        </p:blipFill>
        <p:spPr>
          <a:xfrm>
            <a:off x="6500880" y="3857760"/>
            <a:ext cx="1901880" cy="25002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8966.jpg"/>
          <p:cNvPicPr/>
          <p:nvPr/>
        </p:nvPicPr>
        <p:blipFill>
          <a:blip r:embed="rId4"/>
          <a:stretch/>
        </p:blipFill>
        <p:spPr>
          <a:xfrm>
            <a:off x="3643200" y="4000680"/>
            <a:ext cx="1571760" cy="2490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Фант"/>
          <p:cNvPicPr/>
          <p:nvPr/>
        </p:nvPicPr>
        <p:blipFill>
          <a:blip r:embed="rId5"/>
          <a:stretch/>
        </p:blipFill>
        <p:spPr>
          <a:xfrm rot="20522400">
            <a:off x="995040" y="1164960"/>
            <a:ext cx="1942920" cy="259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Club_91866"/>
          <p:cNvPicPr/>
          <p:nvPr/>
        </p:nvPicPr>
        <p:blipFill>
          <a:blip r:embed="rId6"/>
          <a:stretch/>
        </p:blipFill>
        <p:spPr>
          <a:xfrm rot="822000">
            <a:off x="6489720" y="1106640"/>
            <a:ext cx="180972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6:45:29Z</dcterms:created>
  <dc:creator>1</dc:creator>
  <dc:description/>
  <dc:language>en-US</dc:language>
  <cp:lastModifiedBy>user06</cp:lastModifiedBy>
  <dcterms:modified xsi:type="dcterms:W3CDTF">2022-12-14T09:36:19Z</dcterms:modified>
  <cp:revision>72</cp:revision>
  <dc:subject/>
  <dc:title>Фотоальбом</dc:title>
</cp:coreProperties>
</file>