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47.png" ContentType="image/png"/>
  <Override PartName="/ppt/media/image49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19A-28E2-4A1E-B939-4888E93A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788-A9FD-47D9-A25B-95CB82F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AD9-5A53-431A-8643-03001FA1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F06-44E0-4FC8-924B-2855AC9A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BCA0-48F5-417A-9C4D-9BCBA354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BD6-209D-4895-A811-BB511EA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DE51-6D5A-43E8-AC1B-736926A6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DFE2-3AD8-4306-ADE7-7F7748AD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591-07E3-49C5-8B44-AC81CB1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FABE-A6D9-4CE1-B0FC-001F9E1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F4C-F0ED-4D92-B148-DEC8F74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425-295B-40B8-B65C-45F7D76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A1E5-177E-4467-A24B-1D04E62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572C-6960-40F2-B379-57FE1CF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BB7E-8A76-4FA6-8F54-3F32E32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C0DF-91D0-4180-B68B-D5124043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0B8E-FF55-43DB-93DC-50C3F6EF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3E52-2475-45C3-8C01-FFDA5FF9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6FE8-9EEA-4499-95BB-E9287564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9392-2AEE-4B67-A3BF-65C3FEA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AE9E-065E-4BB4-88FA-AFA8253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0D42-0548-4810-8584-79285F9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6B9-4B7A-4A0B-96E2-EC8FA0BA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28CC-4AA1-4444-881B-636CD6D0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F6DC-750A-41EB-833E-78DE64E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3F1C-2B60-4241-88E2-B2A8F4B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B0F5-FE3B-4577-A420-5009960A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ECE3-96F9-457B-B5AD-F8E9ACC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F907-C8E9-4579-AE8C-2FE271A3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B262-21A9-40D3-8137-DADE21B2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304B-A79E-4353-B21A-074864E4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26CC-E66A-466D-8995-9768746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B9A8-432F-4424-B3A1-BFB5EB1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88E-5137-4219-81E9-CA22D9FD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004D-1EC9-46E5-842B-21D1BEF8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C851-A789-4568-82E8-5236D859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CBDB-B390-4210-889E-FA98FCDC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8699-4444-4FDE-96D3-8C1F4E6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C310-98C4-4533-854E-69A68A2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1ABA-2279-4D36-A1D9-13A2F55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5ADD-F319-469F-8956-1807708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F21F-2B3D-4B0B-88F9-64318E89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3231-D5E9-4998-B115-87689D6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06FB-B214-4EE3-BEBD-1BB9268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B1B-7C51-4E19-A558-524E1329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A0B0-5B98-44DD-919D-EF951841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3ED7-6E61-4341-B1F4-922ED78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C565D-05CA-477F-81B7-FA9E748B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F34B3-3FBF-4544-9DAA-49E61B67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70D8-5760-4EF6-B737-B5E0927C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AB9F-DA0A-4371-BF96-7C298FC2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B176-2DA1-4958-A436-435E781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215EC-3670-4821-BCDC-EB2FE76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CB52-62DD-4486-AA36-258310AE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F23A-A28E-499F-9125-D98A5A3A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A63-6655-47F7-8D96-C41449D2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F7FE-A46E-4615-A88D-9FD3819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29F-A528-4ECF-80BB-7A615B3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934-F544-4431-BE4A-9D0EF23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DB9-40F1-41CE-91BE-1854725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31C-D9CB-4B0F-BB3A-23F04D442B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B86-3F93-4C3D-A8EB-8A452F8D5D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3948-713C-4B52-ABA5-3CAABD4E946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E108-17F2-47EF-9A3C-215FC06644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A42-B8A1-4514-9B63-40637BBD276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360"/>
            <a:ext cx="81835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думала мать дочерям имена,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т Лето и Осень, Зима и Весна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ила Тарасова О.В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Стихи о временах года"/>
          <p:cNvPicPr/>
          <p:nvPr/>
        </p:nvPicPr>
        <p:blipFill>
          <a:blip r:embed="rId1"/>
          <a:stretch/>
        </p:blipFill>
        <p:spPr>
          <a:xfrm>
            <a:off x="2987640" y="785880"/>
            <a:ext cx="3370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тушка – весна всем красн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240" y="2205000"/>
            <a:ext cx="6800760" cy="3433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Словесная игра  (старший возрас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«</a:t>
            </a: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Продолжи предложение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На поляне расцвели подснежники, потому что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2. Я пошла гулять на улицу и взяла с собой зонтик, потому что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3. На деревьях появились зеленые листочки, потому что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4. Птицы строят гнезда на деревьях для того,  чтобы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5. У меня грустное настроение ,потому что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6. Мне очень весело, потому что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7. Мы пошли на детскую площадку и взяли с собой.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8. В лесу весной все ожило: запели птицы, 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766f"/>
                </a:solidFill>
                <a:latin typeface="Verdana"/>
              </a:rPr>
              <a:t>9. На небе появилась туча и .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1773000"/>
            <a:ext cx="81835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весная игра «Назови из чего сделан предмет» (старший возра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ANd9GcQh1ds2z6hgoAed1jNnk9R0ficv64yZSlIJDSMurxX2HwjRNAps"/>
          <p:cNvPicPr/>
          <p:nvPr/>
        </p:nvPicPr>
        <p:blipFill>
          <a:blip r:embed="rId1"/>
          <a:stretch/>
        </p:blipFill>
        <p:spPr>
          <a:xfrm>
            <a:off x="900000" y="693720"/>
            <a:ext cx="1727280" cy="126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Nd9GcRGbfoaZk-77v6XMHke5TJEqgX-1AcEy2kY2zcikNmEbS4nqX21"/>
          <p:cNvPicPr/>
          <p:nvPr/>
        </p:nvPicPr>
        <p:blipFill>
          <a:blip r:embed="rId2"/>
          <a:stretch/>
        </p:blipFill>
        <p:spPr>
          <a:xfrm>
            <a:off x="2556000" y="703440"/>
            <a:ext cx="1368360" cy="1263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ANd9GcQUcrxbMhgqZx5tTpYQ-SeIvfsE83Hcl8EHErwiJdFsPIdpPtY8"/>
          <p:cNvPicPr/>
          <p:nvPr/>
        </p:nvPicPr>
        <p:blipFill>
          <a:blip r:embed="rId3"/>
          <a:stretch/>
        </p:blipFill>
        <p:spPr>
          <a:xfrm>
            <a:off x="4284720" y="981000"/>
            <a:ext cx="1598400" cy="106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ANd9GcTS1aH3wZNvBM05NrixXcgFYxKbqqO9h9uuu0cvh0-AT9iBiYOyzkvr-Q"/>
          <p:cNvPicPr/>
          <p:nvPr/>
        </p:nvPicPr>
        <p:blipFill>
          <a:blip r:embed="rId4"/>
          <a:stretch/>
        </p:blipFill>
        <p:spPr>
          <a:xfrm>
            <a:off x="6732720" y="765000"/>
            <a:ext cx="1822320" cy="1209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ANd9GcSBwF_1vzpFtsf5Rqy6uIXmaBDQx5poGm40w8rH7V8oFkboceui4Q"/>
          <p:cNvPicPr/>
          <p:nvPr/>
        </p:nvPicPr>
        <p:blipFill>
          <a:blip r:embed="rId5"/>
          <a:stretch/>
        </p:blipFill>
        <p:spPr>
          <a:xfrm>
            <a:off x="468360" y="2492280"/>
            <a:ext cx="1612800" cy="1533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ANd9GcR1xSnUeFCgsv0uWv_0_SYPTBYCtoRVQf0sM7JXlqE1plbxCDlrkHKuKg"/>
          <p:cNvPicPr/>
          <p:nvPr/>
        </p:nvPicPr>
        <p:blipFill>
          <a:blip r:embed="rId6"/>
          <a:stretch/>
        </p:blipFill>
        <p:spPr>
          <a:xfrm>
            <a:off x="2340000" y="2179800"/>
            <a:ext cx="1295280" cy="1479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ANd9GcRTBmUxEiu023cLQ9a0pZRCPKfnWEmX-x7JtRzTO9-ELvx7ZYe-"/>
          <p:cNvPicPr/>
          <p:nvPr/>
        </p:nvPicPr>
        <p:blipFill>
          <a:blip r:embed="rId7"/>
          <a:stretch/>
        </p:blipFill>
        <p:spPr>
          <a:xfrm>
            <a:off x="4140360" y="2413080"/>
            <a:ext cx="1439640" cy="1447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d9GcRK2VOmxObKn-aNeI6gqpi0xAD7xeqvBhRNUGWWO8t_yG_X1lj4eg"/>
          <p:cNvPicPr/>
          <p:nvPr/>
        </p:nvPicPr>
        <p:blipFill>
          <a:blip r:embed="rId8"/>
          <a:stretch/>
        </p:blipFill>
        <p:spPr>
          <a:xfrm>
            <a:off x="6372360" y="2546280"/>
            <a:ext cx="1728720" cy="121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nif-nif7"/>
          <p:cNvPicPr/>
          <p:nvPr/>
        </p:nvPicPr>
        <p:blipFill>
          <a:blip r:embed="rId9"/>
          <a:stretch/>
        </p:blipFill>
        <p:spPr>
          <a:xfrm>
            <a:off x="395280" y="4724280"/>
            <a:ext cx="3527280" cy="1419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ANd9GcQV2HrmZhrQOKEZtg6KOuipQ8k8aaWelqmtsGIkgwD0CEsTH2u7hNOFZw"/>
          <p:cNvPicPr/>
          <p:nvPr/>
        </p:nvPicPr>
        <p:blipFill>
          <a:blip r:embed="rId10"/>
          <a:stretch/>
        </p:blipFill>
        <p:spPr>
          <a:xfrm>
            <a:off x="4643280" y="4941720"/>
            <a:ext cx="1690920" cy="125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444806"/>
          <p:cNvPicPr/>
          <p:nvPr/>
        </p:nvPicPr>
        <p:blipFill>
          <a:blip r:embed="rId11"/>
          <a:stretch/>
        </p:blipFill>
        <p:spPr>
          <a:xfrm>
            <a:off x="6804000" y="4452840"/>
            <a:ext cx="12970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s://encrypted-tbn2.gstatic.com/images?q=tbn:ANd9GcSTa79RkUEx26iAbpBG3XdM9tC9Om5xiR88G7dWST9nLXpHc-r9SQ"/>
          <p:cNvPicPr/>
          <p:nvPr/>
        </p:nvPicPr>
        <p:blipFill>
          <a:blip r:embed="rId1"/>
          <a:stretch/>
        </p:blipFill>
        <p:spPr>
          <a:xfrm>
            <a:off x="2771640" y="3429000"/>
            <a:ext cx="3942000" cy="27813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1547640" y="83664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чиковая игра « Гусе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116000" y="162864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странный дом без окон у людей зовется коко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ив на ветке этот дом, дремлет гусеница в н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т без просыпа всю зиму, но зима промчалась мим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т, апрель, капель, весна! Просыпайся, соня, сонюшк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ысоким ясным солнышком гусенице не до с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бабочкой он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1341000"/>
            <a:ext cx="8183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весная игра «Назови – предмет и какой он»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(младший возраст)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Составь предложение , используя 3 предмета» (старший возраст)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https://encrypted-tbn0.gstatic.com/images?q=tbn:ANd9GcSw40xp1GnPXEubYlP7x8xwFSfg4-v5S5JPwq71mjnLDrTMbcMHfQ"/>
          <p:cNvPicPr/>
          <p:nvPr/>
        </p:nvPicPr>
        <p:blipFill>
          <a:blip r:embed="rId1"/>
          <a:stretch/>
        </p:blipFill>
        <p:spPr>
          <a:xfrm>
            <a:off x="755640" y="549360"/>
            <a:ext cx="1922400" cy="115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s://encrypted-tbn1.gstatic.com/images?q=tbn:ANd9GcR4U8Wdkoje0pf12AZDbgS83kGMxESVlFd8SzDlSgB65rcYhQ19Qg"/>
          <p:cNvPicPr/>
          <p:nvPr/>
        </p:nvPicPr>
        <p:blipFill>
          <a:blip r:embed="rId2"/>
          <a:stretch/>
        </p:blipFill>
        <p:spPr>
          <a:xfrm>
            <a:off x="3708360" y="404640"/>
            <a:ext cx="1368360" cy="153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https://encrypted-tbn2.gstatic.com/images?q=tbn:ANd9GcSgUZPojlKpSwTVIsFbYSZq7Xk9FIdd29l7rTM_59h4dNoZnh6N6g"/>
          <p:cNvPicPr/>
          <p:nvPr/>
        </p:nvPicPr>
        <p:blipFill>
          <a:blip r:embed="rId3"/>
          <a:stretch/>
        </p:blipFill>
        <p:spPr>
          <a:xfrm>
            <a:off x="5651640" y="47628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https://encrypted-tbn0.gstatic.com/images?q=tbn:ANd9GcSoPh2WCQ5eEXWqcO3YKr_8tad2hff9ZP9Jb3Y01-8iaOU47J03VJ5DJxw"/>
          <p:cNvPicPr/>
          <p:nvPr/>
        </p:nvPicPr>
        <p:blipFill>
          <a:blip r:embed="rId4"/>
          <a:stretch/>
        </p:blipFill>
        <p:spPr>
          <a:xfrm>
            <a:off x="611280" y="1989000"/>
            <a:ext cx="1542960" cy="107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https://encrypted-tbn3.gstatic.com/images?q=tbn:ANd9GcTFmhWoiOcMEJD7BTOiEHKOuE_3Qf1ZXK75ez4Ml-xBvxAYeKrQ"/>
          <p:cNvPicPr/>
          <p:nvPr/>
        </p:nvPicPr>
        <p:blipFill>
          <a:blip r:embed="rId5"/>
          <a:stretch/>
        </p:blipFill>
        <p:spPr>
          <a:xfrm>
            <a:off x="3132000" y="1989000"/>
            <a:ext cx="1944720" cy="1293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https://encrypted-tbn3.gstatic.com/images?q=tbn:ANd9GcSqhYnVuYcyFedMh1NLo-52BXBVjVYw1S8PujRqiYwn8Z12CaO6r6e60g"/>
          <p:cNvPicPr/>
          <p:nvPr/>
        </p:nvPicPr>
        <p:blipFill>
          <a:blip r:embed="rId6"/>
          <a:stretch/>
        </p:blipFill>
        <p:spPr>
          <a:xfrm>
            <a:off x="6012000" y="184464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https://encrypted-tbn0.gstatic.com/images?q=tbn:ANd9GcQMNRif1swDTpby-p9jZre_DJ02lHljsWqo_Pxqj8NKrA0LqygMvgtl0SQ"/>
          <p:cNvPicPr/>
          <p:nvPr/>
        </p:nvPicPr>
        <p:blipFill>
          <a:blip r:embed="rId7"/>
          <a:stretch/>
        </p:blipFill>
        <p:spPr>
          <a:xfrm>
            <a:off x="611280" y="3429000"/>
            <a:ext cx="1657080" cy="116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https://encrypted-tbn1.gstatic.com/images?q=tbn:ANd9GcSEcKTRGvXypt4_LpSB4n6d_FDKApF7QEwdTtzY-maSM3aky2R5"/>
          <p:cNvPicPr/>
          <p:nvPr/>
        </p:nvPicPr>
        <p:blipFill>
          <a:blip r:embed="rId8"/>
          <a:stretch/>
        </p:blipFill>
        <p:spPr>
          <a:xfrm>
            <a:off x="3348000" y="3429000"/>
            <a:ext cx="194796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0" descr="https://encrypted-tbn2.gstatic.com/images?q=tbn:ANd9GcTXHwUUW5wURF9oZYB4UwVj61JbuULOv9lPtpmfNGYIlAH-ASPqbw"/>
          <p:cNvPicPr/>
          <p:nvPr/>
        </p:nvPicPr>
        <p:blipFill>
          <a:blip r:embed="rId9"/>
          <a:stretch/>
        </p:blipFill>
        <p:spPr>
          <a:xfrm>
            <a:off x="6516720" y="3429000"/>
            <a:ext cx="1295280" cy="1487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s://encrypted-tbn0.gstatic.com/images?q=tbn:ANd9GcSlQiak-sonZjRuXZgCl2GNsF6UwWjWQRQD5gHfvmzAXC9LT-g_"/>
          <p:cNvPicPr/>
          <p:nvPr/>
        </p:nvPicPr>
        <p:blipFill>
          <a:blip r:embed="rId10"/>
          <a:stretch/>
        </p:blipFill>
        <p:spPr>
          <a:xfrm>
            <a:off x="1403280" y="4724280"/>
            <a:ext cx="1047960" cy="1560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s://encrypted-tbn3.gstatic.com/images?q=tbn:ANd9GcQEPKFH1sWdSBoIFMVe-77eHjU18cGhl9EwFhdXDYfAUUYJZzOoyXcaAw"/>
          <p:cNvPicPr/>
          <p:nvPr/>
        </p:nvPicPr>
        <p:blipFill>
          <a:blip r:embed="rId11"/>
          <a:stretch/>
        </p:blipFill>
        <p:spPr>
          <a:xfrm>
            <a:off x="3851280" y="5229360"/>
            <a:ext cx="1152360" cy="112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s://encrypted-tbn2.gstatic.com/images?q=tbn:ANd9GcQnAdrh5ybLekFxAy8JUO8MOnlQ9j0Wc1towhqZPZ0njRZstq57"/>
          <p:cNvPicPr/>
          <p:nvPr/>
        </p:nvPicPr>
        <p:blipFill>
          <a:blip r:embed="rId12"/>
          <a:stretch/>
        </p:blipFill>
        <p:spPr>
          <a:xfrm>
            <a:off x="6227640" y="4869000"/>
            <a:ext cx="18003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s://encrypted-tbn2.gstatic.com/images?q=tbn:ANd9GcSt80XytTouXcr1eh7LzGFdeSidu18TLO3cnx1h1GI6jHOgVulV"/>
          <p:cNvPicPr/>
          <p:nvPr/>
        </p:nvPicPr>
        <p:blipFill>
          <a:blip r:embed="rId1"/>
          <a:stretch/>
        </p:blipFill>
        <p:spPr>
          <a:xfrm>
            <a:off x="1116000" y="333360"/>
            <a:ext cx="1038240" cy="13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s://encrypted-tbn2.gstatic.com/images?q=tbn:ANd9GcQzB3CVyFWQnwhIwBtbFCrH5ZobBINAn-MDVFvrqvvmkoO0wB0O"/>
          <p:cNvPicPr/>
          <p:nvPr/>
        </p:nvPicPr>
        <p:blipFill>
          <a:blip r:embed="rId2"/>
          <a:stretch/>
        </p:blipFill>
        <p:spPr>
          <a:xfrm>
            <a:off x="5219640" y="476280"/>
            <a:ext cx="2232000" cy="139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s://encrypted-tbn0.gstatic.com/images?q=tbn:ANd9GcQi9AbXHCf5XYnMVvT2Zt7Onpzi5ggtR7AoXAd3uRg_giYMA6muoGngbw"/>
          <p:cNvPicPr/>
          <p:nvPr/>
        </p:nvPicPr>
        <p:blipFill>
          <a:blip r:embed="rId3"/>
          <a:stretch/>
        </p:blipFill>
        <p:spPr>
          <a:xfrm>
            <a:off x="3132000" y="404640"/>
            <a:ext cx="1008360" cy="1033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s://encrypted-tbn1.gstatic.com/images?q=tbn:ANd9GcTNNIB7FkKd4yNn_uCwFilpZM_QCbf1g1L5FWiCoWmLVy4FnM7Xdw"/>
          <p:cNvPicPr/>
          <p:nvPr/>
        </p:nvPicPr>
        <p:blipFill>
          <a:blip r:embed="rId4"/>
          <a:stretch/>
        </p:blipFill>
        <p:spPr>
          <a:xfrm>
            <a:off x="539640" y="1773360"/>
            <a:ext cx="1986120" cy="1487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s://encrypted-tbn3.gstatic.com/images?q=tbn:ANd9GcQm0jvjRJ4MpqhzBf3MoU15GE23Ms0FMrMj4NIc6PxCPojCVILFANa-kw"/>
          <p:cNvPicPr/>
          <p:nvPr/>
        </p:nvPicPr>
        <p:blipFill>
          <a:blip r:embed="rId5"/>
          <a:stretch/>
        </p:blipFill>
        <p:spPr>
          <a:xfrm>
            <a:off x="2987640" y="1773360"/>
            <a:ext cx="1575000" cy="1284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s://encrypted-tbn2.gstatic.com/images?q=tbn:ANd9GcRbQLpllwUsny6k_aNeCDA1Z6ILsLWUGGzwol9Rebby13CpO7uF_DEOTA"/>
          <p:cNvPicPr/>
          <p:nvPr/>
        </p:nvPicPr>
        <p:blipFill>
          <a:blip r:embed="rId6"/>
          <a:stretch/>
        </p:blipFill>
        <p:spPr>
          <a:xfrm>
            <a:off x="6084720" y="2022480"/>
            <a:ext cx="1008360" cy="903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https://encrypted-tbn2.gstatic.com/images?q=tbn:ANd9GcQ3PNrtUjMlejftFMzLO6TQp3LN60SNPuCOQH7Iq4OOcdNmrsqhHA"/>
          <p:cNvPicPr/>
          <p:nvPr/>
        </p:nvPicPr>
        <p:blipFill>
          <a:blip r:embed="rId7"/>
          <a:stretch/>
        </p:blipFill>
        <p:spPr>
          <a:xfrm>
            <a:off x="468360" y="3429000"/>
            <a:ext cx="2044800" cy="121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img12.nnm.me/8/8/f/c/8/8e5b4ee9bb95a8366c734c2eef8.jpg"/>
          <p:cNvPicPr/>
          <p:nvPr/>
        </p:nvPicPr>
        <p:blipFill>
          <a:blip r:embed="rId8"/>
          <a:stretch/>
        </p:blipFill>
        <p:spPr>
          <a:xfrm>
            <a:off x="5796000" y="3068640"/>
            <a:ext cx="1800360" cy="1389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https://encrypted-tbn1.gstatic.com/images?q=tbn:ANd9GcQ-KPHrofFypOakMAIzy5MEHZyQsvlyO8jwvAGdf7BkX5zrY0V5"/>
          <p:cNvPicPr/>
          <p:nvPr/>
        </p:nvPicPr>
        <p:blipFill>
          <a:blip r:embed="rId9"/>
          <a:stretch/>
        </p:blipFill>
        <p:spPr>
          <a:xfrm>
            <a:off x="3419640" y="3357720"/>
            <a:ext cx="1504800" cy="1126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https://encrypted-tbn3.gstatic.com/images?q=tbn:ANd9GcQHS7NU6UewpQI-YnBYSnRbfNUQjBBxyJ2j6AZwVsFPGSeUNRxwTw"/>
          <p:cNvPicPr/>
          <p:nvPr/>
        </p:nvPicPr>
        <p:blipFill>
          <a:blip r:embed="rId10"/>
          <a:stretch/>
        </p:blipFill>
        <p:spPr>
          <a:xfrm>
            <a:off x="923760" y="4876920"/>
            <a:ext cx="1127160" cy="150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https://encrypted-tbn0.gstatic.com/images?q=tbn:ANd9GcTps-Cj7FhFkmlODdKOFLdDeLnjPN-9so3T2tdzZXrjV-7nf8KT"/>
          <p:cNvPicPr/>
          <p:nvPr/>
        </p:nvPicPr>
        <p:blipFill>
          <a:blip r:embed="rId11"/>
          <a:stretch/>
        </p:blipFill>
        <p:spPr>
          <a:xfrm>
            <a:off x="3276720" y="4724280"/>
            <a:ext cx="1224000" cy="145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https://encrypted-tbn1.gstatic.com/images?q=tbn:ANd9GcRXq7Rx9pxAvLGbXlc2Klav_qaXb2u7vL5NyiG-QsXapdj-xYw_Ioi93A"/>
          <p:cNvPicPr/>
          <p:nvPr/>
        </p:nvPicPr>
        <p:blipFill>
          <a:blip r:embed="rId12"/>
          <a:stretch/>
        </p:blipFill>
        <p:spPr>
          <a:xfrm>
            <a:off x="5940360" y="476712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1835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пражнение на развитие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риентировки в пространстве, на плоскости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ладший возраст «На поляне)</a:t>
            </a:r>
            <a:br>
              <a:rPr sz="13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Найди отличия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Picture 2" descr="http://static.iledebeaute.ru/files/images/imgsng/part_16/335811/src/937036.png"/>
          <p:cNvPicPr/>
          <p:nvPr/>
        </p:nvPicPr>
        <p:blipFill>
          <a:blip r:embed="rId1"/>
          <a:stretch/>
        </p:blipFill>
        <p:spPr>
          <a:xfrm>
            <a:off x="826920" y="765000"/>
            <a:ext cx="7412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Что перепутал художн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6" name="Picture 2" descr="http://razigrushki.ru/wp-content/uploads/2012/02/chto_naputal_khudozhnik1.jpg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тицы к югу улетели, а рябины покраснели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Дождь стучит, как просо, оземь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В желтом платье ходит ....осень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https://encrypted-tbn2.gstatic.com/images?q=tbn:ANd9GcTs6ey-igmxr07FH9NIiqHBHQqIy2RF2DsKPz0I6SetIWvqSYJY"/>
          <p:cNvPicPr/>
          <p:nvPr/>
        </p:nvPicPr>
        <p:blipFill>
          <a:blip r:embed="rId1"/>
          <a:stretch/>
        </p:blipFill>
        <p:spPr>
          <a:xfrm>
            <a:off x="1619280" y="476280"/>
            <a:ext cx="59054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xn---16-9cdp0cq4b.xn--p1ai/wp-content/uploads/2014/02/Deti27.Ru-13c.jpg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1424108512_vesna"/>
          <p:cNvPicPr/>
          <p:nvPr/>
        </p:nvPicPr>
        <p:blipFill>
          <a:blip r:embed="rId1"/>
          <a:stretch/>
        </p:blipFill>
        <p:spPr>
          <a:xfrm>
            <a:off x="1500120" y="714240"/>
            <a:ext cx="6337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1988640"/>
            <a:ext cx="8183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Спасибо за внимание !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0" name="Picture 2" descr="https://encrypted-tbn1.gstatic.com/images?q=tbn:ANd9GcR1EvMZbQSMtiXnkNsIzbxxQfvOLHkyhHpV2bTnuz1gbTT7f39b"/>
          <p:cNvPicPr/>
          <p:nvPr/>
        </p:nvPicPr>
        <p:blipFill>
          <a:blip r:embed="rId1"/>
          <a:stretch/>
        </p:blipFill>
        <p:spPr>
          <a:xfrm>
            <a:off x="3059280" y="4070520"/>
            <a:ext cx="303984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Нам щедрая Осень приносит плоды,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Дают урожаи поля и сады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Рисунок 73" descr="http://img-fotki.yandex.ru/get/6503/88584892.1e/0_ae9ab_c8d9dd2f_XL"/>
          <p:cNvPicPr/>
          <p:nvPr/>
        </p:nvPicPr>
        <p:blipFill>
          <a:blip r:embed="rId1"/>
          <a:stretch/>
        </p:blipFill>
        <p:spPr>
          <a:xfrm>
            <a:off x="755640" y="1341360"/>
            <a:ext cx="3608280" cy="360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Хозяйка однажды с базара пришл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Хозяйка с базара домой принес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ртошку, капусту, морковку, горо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трушку и свеклу   -ох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зови суп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горох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из рыб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из фасол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из кур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 гриб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из щав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Посчитаем деревь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белая бере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колючая сос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высокий ду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альчиковая иг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Рисунок 76" descr="http://myfl.ru/files/u1522/kak_sdelat_byket_iz_listev.jpg"/>
          <p:cNvPicPr/>
          <p:nvPr/>
        </p:nvPicPr>
        <p:blipFill>
          <a:blip r:embed="rId1"/>
          <a:stretch/>
        </p:blipFill>
        <p:spPr>
          <a:xfrm>
            <a:off x="1332000" y="836640"/>
            <a:ext cx="3027240" cy="3529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, 2, 3, 4, 5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дем листья собирать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истья березы, листья рябин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истики тополя, листья осин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истики дуба мы соберем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ме осенний букет отнесе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има засыпает снегами поля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имой отдыхает и дремлет земл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Рисунок 67" descr="http://desktopwallpapers.org.ua/large/201212/22144.jpg"/>
          <p:cNvPicPr/>
          <p:nvPr/>
        </p:nvPicPr>
        <p:blipFill>
          <a:blip r:embed="rId1"/>
          <a:stretch/>
        </p:blipFill>
        <p:spPr>
          <a:xfrm>
            <a:off x="1835280" y="549360"/>
            <a:ext cx="561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ловесная игра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-  Какая зима ?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-Что можно делать зимой?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к снегурка, в шубке белой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Маша с горки едет смело.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Вася катит снежный ком –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Он решил построить дом.</a:t>
            </a: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Рисунок 79" descr="http://ds93.ru/uploads/posts/2012-12/1356087208_f_clip_image0021.jpg"/>
          <p:cNvPicPr/>
          <p:nvPr/>
        </p:nvPicPr>
        <p:blipFill>
          <a:blip r:embed="rId1"/>
          <a:stretch/>
        </p:blipFill>
        <p:spPr>
          <a:xfrm>
            <a:off x="1403280" y="206064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07f09"/>
                </a:solidFill>
                <a:latin typeface="Verdana"/>
              </a:rPr>
              <a:t>Пальчиковые игры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жи ласко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не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олнц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вет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мороз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кормуш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синиц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заяц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ли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бере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ови наоборо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погода не  ясная, а 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й не холодный, а ..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дание не высокое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рево не  тонкое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троение не грустное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вочка не плачет, а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1, 2, 3, 4, 5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Мы во двор пошли гуля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абу снежную лепи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тичек крошками кормили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С горки мы потом катались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А ещё в снегу валялис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Все в снегу домой приш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Съели суп, и спать лег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1, 2, 3, 4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Мы с тобой снежок слепи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Круглый, крепкий, очень гладк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И совсем-совсем не сладки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Раз подброси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Два поймае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Три уроним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И сломае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ходит Весна – зеленеют леса,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 птичьи повсюду звенят голос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Рисунок 64" descr="http://thumbs.dreamstime.com/z/%D0%BB%D0%B5%D1%81-%D0%B1%D0%B5%D1%80%D0%B5%D0%B7%D1%8B-%D0%B2%D0%B5%D1%81%D0%BD%D1%8B-41024294.jpg"/>
          <p:cNvPicPr/>
          <p:nvPr/>
        </p:nvPicPr>
        <p:blipFill>
          <a:blip r:embed="rId1"/>
          <a:stretch/>
        </p:blipFill>
        <p:spPr>
          <a:xfrm>
            <a:off x="1332000" y="620640"/>
            <a:ext cx="63356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7:01:12Z</dcterms:created>
  <dc:creator>amd</dc:creator>
  <dc:description/>
  <dc:language>en-US</dc:language>
  <cp:lastModifiedBy>Методист</cp:lastModifiedBy>
  <dcterms:modified xsi:type="dcterms:W3CDTF">2022-12-14T04:53:34Z</dcterms:modified>
  <cp:revision>25</cp:revision>
  <dc:subject/>
  <dc:title>Придумала мать дочерям имена, Вот Лето и Осень, Зима и Весна.</dc:title>
</cp:coreProperties>
</file>