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24.jpeg" ContentType="image/jpeg"/>
  <Override PartName="/ppt/media/image23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25.jpeg" ContentType="image/jpeg"/>
  <Override PartName="/ppt/media/image2.png" ContentType="image/png"/>
  <Override PartName="/ppt/media/image4.jpeg" ContentType="image/jpeg"/>
  <Override PartName="/ppt/media/image26.jpeg" ContentType="image/jpeg"/>
  <Override PartName="/ppt/media/image5.jpeg" ContentType="image/jpeg"/>
  <Override PartName="/ppt/media/image27.jpeg" ContentType="image/jpeg"/>
  <Override PartName="/ppt/media/image50.jpeg" ContentType="image/jpeg"/>
  <Override PartName="/ppt/media/image33.jpeg" ContentType="image/jpeg"/>
  <Override PartName="/ppt/media/image6.jpeg" ContentType="image/jpeg"/>
  <Override PartName="/ppt/media/image34.jpeg" ContentType="image/jpeg"/>
  <Override PartName="/ppt/media/image10.jpeg" ContentType="image/jpeg"/>
  <Override PartName="/ppt/media/image29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37.jpeg" ContentType="image/jpeg"/>
  <Override PartName="/ppt/media/image12.jpeg" ContentType="image/jpeg"/>
  <Override PartName="/ppt/media/image43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35.jpeg" ContentType="image/jpeg"/>
  <Override PartName="/ppt/media/image47.png" ContentType="image/png"/>
  <Override PartName="/ppt/media/image49.jpeg" ContentType="image/jpeg"/>
  <Override PartName="/ppt/media/image45.jpeg" ContentType="image/jpeg"/>
  <Override PartName="/ppt/media/image8.jpeg" ContentType="image/jpeg"/>
  <Override PartName="/ppt/media/image39.jpeg" ContentType="image/jpeg"/>
  <Override PartName="/ppt/media/image46.jpeg" ContentType="image/jpeg"/>
  <Override PartName="/ppt/media/image48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40.jpeg" ContentType="image/jpeg"/>
  <Override PartName="/ppt/media/image13.jpeg" ContentType="image/jpeg"/>
  <Override PartName="/ppt/media/image28.jpeg" ContentType="image/jpeg"/>
  <Override PartName="/ppt/media/image51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50A17-59F6-4FAF-B8FB-1E4A3CC8D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CA3A0-AF98-43ED-89A7-EEA5C7F7C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05104-53BB-4629-923F-8704ECA0F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AAA74-4AD5-4D3C-BCC0-B1904C5DB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0710B-F16D-4BC6-961B-288B14885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D2620-B6FD-4510-91FB-B8E1F24BD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E472E-38C2-4614-8B78-1D67ACA46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9E7A0-2BBA-4784-A2BE-FB3EEB3C0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DE9D1-F40A-4741-AF30-0CFE9C45F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815FB-0986-435F-A037-2556C473A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734B3-FBEA-452E-87CA-49C539798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0AB72-17DD-45EB-8EC1-7F3F881AD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CFD81-7EC4-49D0-9F63-B73EE385D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101A1-A667-4865-8E14-00A785004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96702-6AB9-4F5C-8E28-C48505CA7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F55DB-5F99-486B-939C-E8E63F4FB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F1D65-D5A2-4850-977A-D340E4FB9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4AD887-C054-4F43-82D6-4333B5925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989BDA-256F-4514-8903-DDD1E20AC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35855A-8470-4DEA-860B-01B082DB0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053D0A-CFE9-4C5F-A559-9A33200E6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ED8AB2-4328-4E43-8FD9-7FB5F688C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C6D5F-35B2-437A-B8EC-C4F0CB10A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E15F8E-1C7D-4366-83B7-3D6E76B19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817AED-473E-40B2-8314-22D1DBE37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D05B6F-6D48-465C-927C-66BE4316A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237DA8-F50D-435E-BA5E-5C44C885B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1B5B84-C24C-4F1F-94EE-4AED82D57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1E32AC-665D-49FA-9A51-DDEA8FAD4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871880-4779-4344-AD12-80FCD6649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DC3CAE-2A15-421C-9E42-9C26E8CE7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70559A-FFD3-4892-B6D9-FA942CE2E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80CF36-D686-4D1C-87D5-D0C3A6347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D4E2C-B377-4147-A174-657569E05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295D64-FF02-4E7E-9E92-D9372B735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833433-8F67-406F-A213-33780F21C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867D41-5D98-41C2-ADE7-4B79DD11B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A263F1-AEC5-4D2F-8579-5A519C284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D842F2-87D5-4A4F-93EB-99EA5BFE6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3D566D-38A2-4EBF-8857-C0AEF184F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F0CA32-AA4F-41D2-8066-E748F7C89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37B6E4-1B31-4A22-B4EF-496F45815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3F617E-17DF-4514-A873-D1281DB12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ADCDEE-659F-4080-BA69-EAAABE23B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CE2A0-EB60-4AB0-B824-85D78D375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DF667E-8AB9-4167-8E3F-F935B4334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A8B82A-2820-40D2-8E0B-71BEF52A3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F2F1A5-9510-42F0-89B2-843CF10EE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72CC88-72AE-46FE-9673-545083EFB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18B37D-9C54-4DAE-8D73-B187E3BD4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B0745D-9007-43BA-98B2-C24230CED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D7D212-F8D3-485D-8389-746B0A976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BE1E69-AB12-4C4F-A92E-F64003783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342EC3-B0C2-4E2E-AC13-5FF94810F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8EC74B-F3B3-456C-B0DE-0FCF17924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E7C81-BE4C-4470-9DBE-7035E72B2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4BF7F0-11C2-4AC9-AE7C-2B5312FD5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3B837-37E9-4CF0-A8CA-3708F190D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8E0A7-0C3E-42D7-B043-A72BA70BF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1C8F2-503E-4BD4-B92C-52C11F253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E1473-0FAF-45CD-BC8D-110F6B00281F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0762B-10AC-4544-82D7-B5CD84404FD5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8B949-8CFA-4F49-A6F8-A681BF3B1491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69728-0563-489F-AAB5-FCDD254FAC56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5DC0E-E351-4347-BF58-99088935871C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image" Target="../media/image17.jpeg"/><Relationship Id="rId8" Type="http://schemas.openxmlformats.org/officeDocument/2006/relationships/image" Target="../media/image18.jpeg"/><Relationship Id="rId9" Type="http://schemas.openxmlformats.org/officeDocument/2006/relationships/image" Target="../media/image19.jpeg"/><Relationship Id="rId10" Type="http://schemas.openxmlformats.org/officeDocument/2006/relationships/image" Target="../media/image20.jpeg"/><Relationship Id="rId11" Type="http://schemas.openxmlformats.org/officeDocument/2006/relationships/image" Target="../media/image21.jpeg"/><Relationship Id="rId1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image" Target="../media/image28.jpeg"/><Relationship Id="rId7" Type="http://schemas.openxmlformats.org/officeDocument/2006/relationships/image" Target="../media/image29.jpeg"/><Relationship Id="rId8" Type="http://schemas.openxmlformats.org/officeDocument/2006/relationships/image" Target="../media/image30.jpeg"/><Relationship Id="rId9" Type="http://schemas.openxmlformats.org/officeDocument/2006/relationships/image" Target="../media/image31.jpeg"/><Relationship Id="rId10" Type="http://schemas.openxmlformats.org/officeDocument/2006/relationships/image" Target="../media/image32.jpeg"/><Relationship Id="rId11" Type="http://schemas.openxmlformats.org/officeDocument/2006/relationships/image" Target="../media/image33.jpeg"/><Relationship Id="rId12" Type="http://schemas.openxmlformats.org/officeDocument/2006/relationships/image" Target="../media/image34.jpeg"/><Relationship Id="rId13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image" Target="../media/image39.jpeg"/><Relationship Id="rId6" Type="http://schemas.openxmlformats.org/officeDocument/2006/relationships/image" Target="../media/image40.jpeg"/><Relationship Id="rId7" Type="http://schemas.openxmlformats.org/officeDocument/2006/relationships/image" Target="../media/image41.jpeg"/><Relationship Id="rId8" Type="http://schemas.openxmlformats.org/officeDocument/2006/relationships/image" Target="../media/image42.jpeg"/><Relationship Id="rId9" Type="http://schemas.openxmlformats.org/officeDocument/2006/relationships/image" Target="../media/image43.jpeg"/><Relationship Id="rId10" Type="http://schemas.openxmlformats.org/officeDocument/2006/relationships/image" Target="../media/image44.jpeg"/><Relationship Id="rId11" Type="http://schemas.openxmlformats.org/officeDocument/2006/relationships/image" Target="../media/image45.jpeg"/><Relationship Id="rId12" Type="http://schemas.openxmlformats.org/officeDocument/2006/relationships/image" Target="../media/image46.jpeg"/><Relationship Id="rId13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03280" y="4986360"/>
            <a:ext cx="818352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Придумала мать дочерям имена,</a:t>
            </a:r>
            <a:br>
              <a:rPr sz="3200"/>
            </a:b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Вот Лето и Осень, Зима и Весна</a:t>
            </a:r>
            <a:r>
              <a:rPr b="1" lang="ru-RU" sz="4000" spc="-1" strike="noStrike">
                <a:solidFill>
                  <a:srgbClr val="ff8d3e"/>
                </a:solidFill>
                <a:latin typeface="Verdana"/>
              </a:rPr>
              <a:t>.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Составила Тарасова О.В</a:t>
            </a:r>
            <a:r>
              <a:rPr b="1" lang="ru-RU" sz="4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40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21" name="Picture 2" descr="Стихи о временах года"/>
          <p:cNvPicPr/>
          <p:nvPr/>
        </p:nvPicPr>
        <p:blipFill>
          <a:blip r:embed="rId1"/>
          <a:stretch/>
        </p:blipFill>
        <p:spPr>
          <a:xfrm>
            <a:off x="2987640" y="785880"/>
            <a:ext cx="33703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620280"/>
            <a:ext cx="7772400" cy="1368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Матушка – весна всем красна.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1371240" y="2205000"/>
            <a:ext cx="6800760" cy="343368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9766f"/>
                </a:solidFill>
                <a:latin typeface="Verdana"/>
              </a:rPr>
              <a:t>Словесная игра  (старший возраст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9766f"/>
                </a:solidFill>
                <a:latin typeface="Verdana"/>
              </a:rPr>
              <a:t>«</a:t>
            </a:r>
            <a:r>
              <a:rPr b="1" lang="ru-RU" sz="1400" spc="-1" strike="noStrike">
                <a:solidFill>
                  <a:srgbClr val="79766f"/>
                </a:solidFill>
                <a:latin typeface="Verdana"/>
              </a:rPr>
              <a:t>Продолжи предложение»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6360">
              <a:buClr>
                <a:srgbClr val="f07f09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79766f"/>
                </a:solidFill>
                <a:latin typeface="Verdana"/>
              </a:rPr>
              <a:t>На поляне расцвели подснежники, потому что.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6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79766f"/>
                </a:solidFill>
                <a:latin typeface="Verdana"/>
              </a:rPr>
              <a:t>2. Я пошла гулять на улицу и взяла с собой зонтик, потому что..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6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79766f"/>
                </a:solidFill>
                <a:latin typeface="Verdana"/>
              </a:rPr>
              <a:t>3. На деревьях появились зеленые листочки, потому что ..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6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79766f"/>
                </a:solidFill>
                <a:latin typeface="Verdana"/>
              </a:rPr>
              <a:t>4. Птицы строят гнезда на деревьях для того,  чтобы...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6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79766f"/>
                </a:solidFill>
                <a:latin typeface="Verdana"/>
              </a:rPr>
              <a:t>5. У меня грустное настроение ,потому что...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6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79766f"/>
                </a:solidFill>
                <a:latin typeface="Verdana"/>
              </a:rPr>
              <a:t>6. Мне очень весело, потому что...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6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79766f"/>
                </a:solidFill>
                <a:latin typeface="Verdana"/>
              </a:rPr>
              <a:t>7. Мы пошли на детскую площадку и взяли с собой.....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6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79766f"/>
                </a:solidFill>
                <a:latin typeface="Verdana"/>
              </a:rPr>
              <a:t>8. В лесу весной все ожило: запели птицы, ....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6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79766f"/>
                </a:solidFill>
                <a:latin typeface="Verdana"/>
              </a:rPr>
              <a:t>9. На небе появилась туча и .....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6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3280" y="1773000"/>
            <a:ext cx="8183520" cy="194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Словесная игра «Назови из чего сделан предмет» (старший возраст)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2" descr="ANd9GcQh1ds2z6hgoAed1jNnk9R0ficv64yZSlIJDSMurxX2HwjRNAps"/>
          <p:cNvPicPr/>
          <p:nvPr/>
        </p:nvPicPr>
        <p:blipFill>
          <a:blip r:embed="rId1"/>
          <a:stretch/>
        </p:blipFill>
        <p:spPr>
          <a:xfrm>
            <a:off x="900000" y="693720"/>
            <a:ext cx="1727280" cy="126684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3" descr="ANd9GcRGbfoaZk-77v6XMHke5TJEqgX-1AcEy2kY2zcikNmEbS4nqX21"/>
          <p:cNvPicPr/>
          <p:nvPr/>
        </p:nvPicPr>
        <p:blipFill>
          <a:blip r:embed="rId2"/>
          <a:stretch/>
        </p:blipFill>
        <p:spPr>
          <a:xfrm>
            <a:off x="2556000" y="703440"/>
            <a:ext cx="1368360" cy="126360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4" descr="ANd9GcQUcrxbMhgqZx5tTpYQ-SeIvfsE83Hcl8EHErwiJdFsPIdpPtY8"/>
          <p:cNvPicPr/>
          <p:nvPr/>
        </p:nvPicPr>
        <p:blipFill>
          <a:blip r:embed="rId3"/>
          <a:stretch/>
        </p:blipFill>
        <p:spPr>
          <a:xfrm>
            <a:off x="4284720" y="981000"/>
            <a:ext cx="1598400" cy="106524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5" descr="ANd9GcTS1aH3wZNvBM05NrixXcgFYxKbqqO9h9uuu0cvh0-AT9iBiYOyzkvr-Q"/>
          <p:cNvPicPr/>
          <p:nvPr/>
        </p:nvPicPr>
        <p:blipFill>
          <a:blip r:embed="rId4"/>
          <a:stretch/>
        </p:blipFill>
        <p:spPr>
          <a:xfrm>
            <a:off x="6732720" y="765000"/>
            <a:ext cx="1822320" cy="120996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6" descr="ANd9GcSBwF_1vzpFtsf5Rqy6uIXmaBDQx5poGm40w8rH7V8oFkboceui4Q"/>
          <p:cNvPicPr/>
          <p:nvPr/>
        </p:nvPicPr>
        <p:blipFill>
          <a:blip r:embed="rId5"/>
          <a:stretch/>
        </p:blipFill>
        <p:spPr>
          <a:xfrm>
            <a:off x="468360" y="2492280"/>
            <a:ext cx="1612800" cy="153360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7" descr="ANd9GcR1xSnUeFCgsv0uWv_0_SYPTBYCtoRVQf0sM7JXlqE1plbxCDlrkHKuKg"/>
          <p:cNvPicPr/>
          <p:nvPr/>
        </p:nvPicPr>
        <p:blipFill>
          <a:blip r:embed="rId6"/>
          <a:stretch/>
        </p:blipFill>
        <p:spPr>
          <a:xfrm>
            <a:off x="2340000" y="2179800"/>
            <a:ext cx="1295280" cy="147924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8" descr="ANd9GcRTBmUxEiu023cLQ9a0pZRCPKfnWEmX-x7JtRzTO9-ELvx7ZYe-"/>
          <p:cNvPicPr/>
          <p:nvPr/>
        </p:nvPicPr>
        <p:blipFill>
          <a:blip r:embed="rId7"/>
          <a:stretch/>
        </p:blipFill>
        <p:spPr>
          <a:xfrm>
            <a:off x="4140360" y="2413080"/>
            <a:ext cx="1439640" cy="144756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9" descr="ANd9GcRK2VOmxObKn-aNeI6gqpi0xAD7xeqvBhRNUGWWO8t_yG_X1lj4eg"/>
          <p:cNvPicPr/>
          <p:nvPr/>
        </p:nvPicPr>
        <p:blipFill>
          <a:blip r:embed="rId8"/>
          <a:stretch/>
        </p:blipFill>
        <p:spPr>
          <a:xfrm>
            <a:off x="6372360" y="2546280"/>
            <a:ext cx="1728720" cy="121284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10" descr="nif-nif7"/>
          <p:cNvPicPr/>
          <p:nvPr/>
        </p:nvPicPr>
        <p:blipFill>
          <a:blip r:embed="rId9"/>
          <a:stretch/>
        </p:blipFill>
        <p:spPr>
          <a:xfrm>
            <a:off x="395280" y="4724280"/>
            <a:ext cx="3527280" cy="141948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11" descr="ANd9GcQV2HrmZhrQOKEZtg6KOuipQ8k8aaWelqmtsGIkgwD0CEsTH2u7hNOFZw"/>
          <p:cNvPicPr/>
          <p:nvPr/>
        </p:nvPicPr>
        <p:blipFill>
          <a:blip r:embed="rId10"/>
          <a:stretch/>
        </p:blipFill>
        <p:spPr>
          <a:xfrm>
            <a:off x="4643280" y="4941720"/>
            <a:ext cx="1690920" cy="125892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12" descr="444806"/>
          <p:cNvPicPr/>
          <p:nvPr/>
        </p:nvPicPr>
        <p:blipFill>
          <a:blip r:embed="rId11"/>
          <a:stretch/>
        </p:blipFill>
        <p:spPr>
          <a:xfrm>
            <a:off x="6804000" y="4452840"/>
            <a:ext cx="1297080" cy="182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Picture 2" descr="https://encrypted-tbn2.gstatic.com/images?q=tbn:ANd9GcSTa79RkUEx26iAbpBG3XdM9tC9Om5xiR88G7dWST9nLXpHc-r9SQ"/>
          <p:cNvPicPr/>
          <p:nvPr/>
        </p:nvPicPr>
        <p:blipFill>
          <a:blip r:embed="rId1"/>
          <a:stretch/>
        </p:blipFill>
        <p:spPr>
          <a:xfrm>
            <a:off x="2771640" y="3429000"/>
            <a:ext cx="3942000" cy="2781360"/>
          </a:xfrm>
          <a:prstGeom prst="rect">
            <a:avLst/>
          </a:prstGeom>
          <a:ln w="0">
            <a:noFill/>
          </a:ln>
        </p:spPr>
      </p:pic>
      <p:sp>
        <p:nvSpPr>
          <p:cNvPr id="255" name="Прямоугольник 2"/>
          <p:cNvSpPr/>
          <p:nvPr/>
        </p:nvSpPr>
        <p:spPr>
          <a:xfrm>
            <a:off x="1547640" y="836640"/>
            <a:ext cx="59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альчиковая игра « Гусениц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оугольник 3"/>
          <p:cNvSpPr/>
          <p:nvPr/>
        </p:nvSpPr>
        <p:spPr>
          <a:xfrm>
            <a:off x="1116000" y="1628640"/>
            <a:ext cx="6840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тот странный дом без окон у людей зовется кокон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вив на ветке этот дом, дремлет гусеница в нем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пит без просыпа всю зиму, но зима промчалась мимо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рт, апрель, капель, весна! Просыпайся, соня, сонюшка!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д высоким ясным солнышком гусенице не до сна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ала бабочкой она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03280" y="1341000"/>
            <a:ext cx="818352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Словесная игра «Назови – предмет и какой он»</a:t>
            </a:r>
            <a:br>
              <a:rPr sz="3600"/>
            </a:b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 (младший возраст)</a:t>
            </a:r>
            <a:br>
              <a:rPr sz="3600"/>
            </a:b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«Составь предложение , используя 3 предмета» (старший возраст)</a:t>
            </a:r>
            <a:br>
              <a:rPr sz="3600"/>
            </a:b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4" descr="https://encrypted-tbn0.gstatic.com/images?q=tbn:ANd9GcSw40xp1GnPXEubYlP7x8xwFSfg4-v5S5JPwq71mjnLDrTMbcMHfQ"/>
          <p:cNvPicPr/>
          <p:nvPr/>
        </p:nvPicPr>
        <p:blipFill>
          <a:blip r:embed="rId1"/>
          <a:stretch/>
        </p:blipFill>
        <p:spPr>
          <a:xfrm>
            <a:off x="755640" y="549360"/>
            <a:ext cx="1922400" cy="115236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6" descr="https://encrypted-tbn1.gstatic.com/images?q=tbn:ANd9GcR4U8Wdkoje0pf12AZDbgS83kGMxESVlFd8SzDlSgB65rcYhQ19Qg"/>
          <p:cNvPicPr/>
          <p:nvPr/>
        </p:nvPicPr>
        <p:blipFill>
          <a:blip r:embed="rId2"/>
          <a:stretch/>
        </p:blipFill>
        <p:spPr>
          <a:xfrm>
            <a:off x="3708360" y="404640"/>
            <a:ext cx="1368360" cy="153540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8" descr="https://encrypted-tbn2.gstatic.com/images?q=tbn:ANd9GcSgUZPojlKpSwTVIsFbYSZq7Xk9FIdd29l7rTM_59h4dNoZnh6N6g"/>
          <p:cNvPicPr/>
          <p:nvPr/>
        </p:nvPicPr>
        <p:blipFill>
          <a:blip r:embed="rId3"/>
          <a:stretch/>
        </p:blipFill>
        <p:spPr>
          <a:xfrm>
            <a:off x="5651640" y="476280"/>
            <a:ext cx="1800000" cy="120024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10" descr="https://encrypted-tbn0.gstatic.com/images?q=tbn:ANd9GcSoPh2WCQ5eEXWqcO3YKr_8tad2hff9ZP9Jb3Y01-8iaOU47J03VJ5DJxw"/>
          <p:cNvPicPr/>
          <p:nvPr/>
        </p:nvPicPr>
        <p:blipFill>
          <a:blip r:embed="rId4"/>
          <a:stretch/>
        </p:blipFill>
        <p:spPr>
          <a:xfrm>
            <a:off x="611280" y="1989000"/>
            <a:ext cx="1542960" cy="107964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12" descr="https://encrypted-tbn3.gstatic.com/images?q=tbn:ANd9GcTFmhWoiOcMEJD7BTOiEHKOuE_3Qf1ZXK75ez4Ml-xBvxAYeKrQ"/>
          <p:cNvPicPr/>
          <p:nvPr/>
        </p:nvPicPr>
        <p:blipFill>
          <a:blip r:embed="rId5"/>
          <a:stretch/>
        </p:blipFill>
        <p:spPr>
          <a:xfrm>
            <a:off x="3132000" y="1989000"/>
            <a:ext cx="1944720" cy="129384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14" descr="https://encrypted-tbn3.gstatic.com/images?q=tbn:ANd9GcSqhYnVuYcyFedMh1NLo-52BXBVjVYw1S8PujRqiYwn8Z12CaO6r6e60g"/>
          <p:cNvPicPr/>
          <p:nvPr/>
        </p:nvPicPr>
        <p:blipFill>
          <a:blip r:embed="rId6"/>
          <a:stretch/>
        </p:blipFill>
        <p:spPr>
          <a:xfrm>
            <a:off x="6012000" y="1844640"/>
            <a:ext cx="1512720" cy="12240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16" descr="https://encrypted-tbn0.gstatic.com/images?q=tbn:ANd9GcQMNRif1swDTpby-p9jZre_DJ02lHljsWqo_Pxqj8NKrA0LqygMvgtl0SQ"/>
          <p:cNvPicPr/>
          <p:nvPr/>
        </p:nvPicPr>
        <p:blipFill>
          <a:blip r:embed="rId7"/>
          <a:stretch/>
        </p:blipFill>
        <p:spPr>
          <a:xfrm>
            <a:off x="611280" y="3429000"/>
            <a:ext cx="1657080" cy="116208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18" descr="https://encrypted-tbn1.gstatic.com/images?q=tbn:ANd9GcSEcKTRGvXypt4_LpSB4n6d_FDKApF7QEwdTtzY-maSM3aky2R5"/>
          <p:cNvPicPr/>
          <p:nvPr/>
        </p:nvPicPr>
        <p:blipFill>
          <a:blip r:embed="rId8"/>
          <a:stretch/>
        </p:blipFill>
        <p:spPr>
          <a:xfrm>
            <a:off x="3348000" y="3429000"/>
            <a:ext cx="1947960" cy="129528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20" descr="https://encrypted-tbn2.gstatic.com/images?q=tbn:ANd9GcTXHwUUW5wURF9oZYB4UwVj61JbuULOv9lPtpmfNGYIlAH-ASPqbw"/>
          <p:cNvPicPr/>
          <p:nvPr/>
        </p:nvPicPr>
        <p:blipFill>
          <a:blip r:embed="rId9"/>
          <a:stretch/>
        </p:blipFill>
        <p:spPr>
          <a:xfrm>
            <a:off x="6516720" y="3429000"/>
            <a:ext cx="1295280" cy="148752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2" descr="https://encrypted-tbn0.gstatic.com/images?q=tbn:ANd9GcSlQiak-sonZjRuXZgCl2GNsF6UwWjWQRQD5gHfvmzAXC9LT-g_"/>
          <p:cNvPicPr/>
          <p:nvPr/>
        </p:nvPicPr>
        <p:blipFill>
          <a:blip r:embed="rId10"/>
          <a:stretch/>
        </p:blipFill>
        <p:spPr>
          <a:xfrm>
            <a:off x="1403280" y="4724280"/>
            <a:ext cx="1047960" cy="156060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4" descr="https://encrypted-tbn3.gstatic.com/images?q=tbn:ANd9GcQEPKFH1sWdSBoIFMVe-77eHjU18cGhl9EwFhdXDYfAUUYJZzOoyXcaAw"/>
          <p:cNvPicPr/>
          <p:nvPr/>
        </p:nvPicPr>
        <p:blipFill>
          <a:blip r:embed="rId11"/>
          <a:stretch/>
        </p:blipFill>
        <p:spPr>
          <a:xfrm>
            <a:off x="3851280" y="5229360"/>
            <a:ext cx="1152360" cy="112212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6" descr="https://encrypted-tbn2.gstatic.com/images?q=tbn:ANd9GcQnAdrh5ybLekFxAy8JUO8MOnlQ9j0Wc1towhqZPZ0njRZstq57"/>
          <p:cNvPicPr/>
          <p:nvPr/>
        </p:nvPicPr>
        <p:blipFill>
          <a:blip r:embed="rId12"/>
          <a:stretch/>
        </p:blipFill>
        <p:spPr>
          <a:xfrm>
            <a:off x="6227640" y="4869000"/>
            <a:ext cx="1800360" cy="119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2" descr="https://encrypted-tbn2.gstatic.com/images?q=tbn:ANd9GcSt80XytTouXcr1eh7LzGFdeSidu18TLO3cnx1h1GI6jHOgVulV"/>
          <p:cNvPicPr/>
          <p:nvPr/>
        </p:nvPicPr>
        <p:blipFill>
          <a:blip r:embed="rId1"/>
          <a:stretch/>
        </p:blipFill>
        <p:spPr>
          <a:xfrm>
            <a:off x="1116000" y="333360"/>
            <a:ext cx="1038240" cy="138600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4" descr="https://encrypted-tbn2.gstatic.com/images?q=tbn:ANd9GcQzB3CVyFWQnwhIwBtbFCrH5ZobBINAn-MDVFvrqvvmkoO0wB0O"/>
          <p:cNvPicPr/>
          <p:nvPr/>
        </p:nvPicPr>
        <p:blipFill>
          <a:blip r:embed="rId2"/>
          <a:stretch/>
        </p:blipFill>
        <p:spPr>
          <a:xfrm>
            <a:off x="5219640" y="476280"/>
            <a:ext cx="2232000" cy="139212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6" descr="https://encrypted-tbn0.gstatic.com/images?q=tbn:ANd9GcQi9AbXHCf5XYnMVvT2Zt7Onpzi5ggtR7AoXAd3uRg_giYMA6muoGngbw"/>
          <p:cNvPicPr/>
          <p:nvPr/>
        </p:nvPicPr>
        <p:blipFill>
          <a:blip r:embed="rId3"/>
          <a:stretch/>
        </p:blipFill>
        <p:spPr>
          <a:xfrm>
            <a:off x="3132000" y="404640"/>
            <a:ext cx="1008360" cy="103356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8" descr="https://encrypted-tbn1.gstatic.com/images?q=tbn:ANd9GcTNNIB7FkKd4yNn_uCwFilpZM_QCbf1g1L5FWiCoWmLVy4FnM7Xdw"/>
          <p:cNvPicPr/>
          <p:nvPr/>
        </p:nvPicPr>
        <p:blipFill>
          <a:blip r:embed="rId4"/>
          <a:stretch/>
        </p:blipFill>
        <p:spPr>
          <a:xfrm>
            <a:off x="539640" y="1773360"/>
            <a:ext cx="1986120" cy="148752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10" descr="https://encrypted-tbn3.gstatic.com/images?q=tbn:ANd9GcQm0jvjRJ4MpqhzBf3MoU15GE23Ms0FMrMj4NIc6PxCPojCVILFANa-kw"/>
          <p:cNvPicPr/>
          <p:nvPr/>
        </p:nvPicPr>
        <p:blipFill>
          <a:blip r:embed="rId5"/>
          <a:stretch/>
        </p:blipFill>
        <p:spPr>
          <a:xfrm>
            <a:off x="2987640" y="1773360"/>
            <a:ext cx="1575000" cy="128412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12" descr="https://encrypted-tbn2.gstatic.com/images?q=tbn:ANd9GcRbQLpllwUsny6k_aNeCDA1Z6ILsLWUGGzwol9Rebby13CpO7uF_DEOTA"/>
          <p:cNvPicPr/>
          <p:nvPr/>
        </p:nvPicPr>
        <p:blipFill>
          <a:blip r:embed="rId6"/>
          <a:stretch/>
        </p:blipFill>
        <p:spPr>
          <a:xfrm>
            <a:off x="6084720" y="2022480"/>
            <a:ext cx="1008360" cy="90324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14" descr="https://encrypted-tbn2.gstatic.com/images?q=tbn:ANd9GcQ3PNrtUjMlejftFMzLO6TQp3LN60SNPuCOQH7Iq4OOcdNmrsqhHA"/>
          <p:cNvPicPr/>
          <p:nvPr/>
        </p:nvPicPr>
        <p:blipFill>
          <a:blip r:embed="rId7"/>
          <a:stretch/>
        </p:blipFill>
        <p:spPr>
          <a:xfrm>
            <a:off x="468360" y="3429000"/>
            <a:ext cx="2044800" cy="121608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16" descr="http://img12.nnm.me/8/8/f/c/8/8e5b4ee9bb95a8366c734c2eef8.jpg"/>
          <p:cNvPicPr/>
          <p:nvPr/>
        </p:nvPicPr>
        <p:blipFill>
          <a:blip r:embed="rId8"/>
          <a:stretch/>
        </p:blipFill>
        <p:spPr>
          <a:xfrm>
            <a:off x="5796000" y="3068640"/>
            <a:ext cx="1800360" cy="138924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18" descr="https://encrypted-tbn1.gstatic.com/images?q=tbn:ANd9GcQ-KPHrofFypOakMAIzy5MEHZyQsvlyO8jwvAGdf7BkX5zrY0V5"/>
          <p:cNvPicPr/>
          <p:nvPr/>
        </p:nvPicPr>
        <p:blipFill>
          <a:blip r:embed="rId9"/>
          <a:stretch/>
        </p:blipFill>
        <p:spPr>
          <a:xfrm>
            <a:off x="3419640" y="3357720"/>
            <a:ext cx="1504800" cy="112680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12" descr="https://encrypted-tbn3.gstatic.com/images?q=tbn:ANd9GcQHS7NU6UewpQI-YnBYSnRbfNUQjBBxyJ2j6AZwVsFPGSeUNRxwTw"/>
          <p:cNvPicPr/>
          <p:nvPr/>
        </p:nvPicPr>
        <p:blipFill>
          <a:blip r:embed="rId10"/>
          <a:stretch/>
        </p:blipFill>
        <p:spPr>
          <a:xfrm>
            <a:off x="923760" y="4876920"/>
            <a:ext cx="1127160" cy="150480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14" descr="https://encrypted-tbn0.gstatic.com/images?q=tbn:ANd9GcTps-Cj7FhFkmlODdKOFLdDeLnjPN-9so3T2tdzZXrjV-7nf8KT"/>
          <p:cNvPicPr/>
          <p:nvPr/>
        </p:nvPicPr>
        <p:blipFill>
          <a:blip r:embed="rId11"/>
          <a:stretch/>
        </p:blipFill>
        <p:spPr>
          <a:xfrm>
            <a:off x="3276720" y="4724280"/>
            <a:ext cx="1224000" cy="145908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16" descr="https://encrypted-tbn1.gstatic.com/images?q=tbn:ANd9GcRXq7Rx9pxAvLGbXlc2Klav_qaXb2u7vL5NyiG-QsXapdj-xYw_Ioi93A"/>
          <p:cNvPicPr/>
          <p:nvPr/>
        </p:nvPicPr>
        <p:blipFill>
          <a:blip r:embed="rId12"/>
          <a:stretch/>
        </p:blipFill>
        <p:spPr>
          <a:xfrm>
            <a:off x="5940360" y="4767120"/>
            <a:ext cx="136836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39640" y="1412640"/>
            <a:ext cx="818352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Упражнение на развитие </a:t>
            </a:r>
            <a:br>
              <a:rPr sz="3200"/>
            </a:b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ориентировки в пространстве, на плоскости. </a:t>
            </a:r>
            <a:br>
              <a:rPr sz="3200"/>
            </a:b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(младший возраст «На поляне)</a:t>
            </a:r>
            <a:br>
              <a:rPr sz="1300"/>
            </a:b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«Найди отличия»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84" name="Picture 2" descr="http://static.iledebeaute.ru/files/images/imgsng/part_16/335811/src/937036.png"/>
          <p:cNvPicPr/>
          <p:nvPr/>
        </p:nvPicPr>
        <p:blipFill>
          <a:blip r:embed="rId1"/>
          <a:stretch/>
        </p:blipFill>
        <p:spPr>
          <a:xfrm>
            <a:off x="826920" y="765000"/>
            <a:ext cx="741204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«Что перепутал художник»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86" name="Picture 2" descr="http://razigrushki.ru/wp-content/uploads/2012/02/chto_naputal_khudozhnik1.jpg"/>
          <p:cNvPicPr/>
          <p:nvPr/>
        </p:nvPicPr>
        <p:blipFill>
          <a:blip r:embed="rId1"/>
          <a:stretch/>
        </p:blipFill>
        <p:spPr>
          <a:xfrm>
            <a:off x="1258920" y="476280"/>
            <a:ext cx="6265800" cy="49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8d3e"/>
                </a:solidFill>
                <a:latin typeface="Verdana"/>
              </a:rPr>
              <a:t>Птицы к югу улетели, а рябины покраснели.</a:t>
            </a:r>
            <a:br>
              <a:rPr sz="2500"/>
            </a:br>
            <a:r>
              <a:rPr b="1" lang="ru-RU" sz="2500" spc="-1" strike="noStrike">
                <a:solidFill>
                  <a:srgbClr val="ff8d3e"/>
                </a:solidFill>
                <a:latin typeface="Verdana"/>
              </a:rPr>
              <a:t>Дождь стучит, как просо, оземь.</a:t>
            </a:r>
            <a:br>
              <a:rPr sz="2500"/>
            </a:br>
            <a:r>
              <a:rPr b="1" lang="ru-RU" sz="2500" spc="-1" strike="noStrike">
                <a:solidFill>
                  <a:srgbClr val="ff8d3e"/>
                </a:solidFill>
                <a:latin typeface="Verdana"/>
              </a:rPr>
              <a:t>В желтом платье ходит ....осень.</a:t>
            </a:r>
            <a:endParaRPr b="1" lang="en-US" sz="25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23" name="Picture 2" descr="https://encrypted-tbn2.gstatic.com/images?q=tbn:ANd9GcTs6ey-igmxr07FH9NIiqHBHQqIy2RF2DsKPz0I6SetIWvqSYJY"/>
          <p:cNvPicPr/>
          <p:nvPr/>
        </p:nvPicPr>
        <p:blipFill>
          <a:blip r:embed="rId1"/>
          <a:stretch/>
        </p:blipFill>
        <p:spPr>
          <a:xfrm>
            <a:off x="1619280" y="476280"/>
            <a:ext cx="5905440" cy="407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2" descr="http://xn---16-9cdp0cq4b.xn--p1ai/wp-content/uploads/2014/02/Deti27.Ru-13c.jpg"/>
          <p:cNvPicPr/>
          <p:nvPr/>
        </p:nvPicPr>
        <p:blipFill>
          <a:blip r:embed="rId1"/>
          <a:stretch/>
        </p:blipFill>
        <p:spPr>
          <a:xfrm>
            <a:off x="755640" y="765000"/>
            <a:ext cx="76201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Picture 2" descr="1424108512_vesna"/>
          <p:cNvPicPr/>
          <p:nvPr/>
        </p:nvPicPr>
        <p:blipFill>
          <a:blip r:embed="rId1"/>
          <a:stretch/>
        </p:blipFill>
        <p:spPr>
          <a:xfrm>
            <a:off x="1500120" y="714240"/>
            <a:ext cx="6337440" cy="46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03280" y="1988640"/>
            <a:ext cx="818352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8d3e"/>
                </a:solidFill>
                <a:latin typeface="Verdana"/>
              </a:rPr>
              <a:t>Спасибо за внимание !</a:t>
            </a:r>
            <a:endParaRPr b="1" lang="en-US" sz="72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90" name="Picture 2" descr="https://encrypted-tbn1.gstatic.com/images?q=tbn:ANd9GcR1EvMZbQSMtiXnkNsIzbxxQfvOLHkyhHpV2bTnuz1gbTT7f39b"/>
          <p:cNvPicPr/>
          <p:nvPr/>
        </p:nvPicPr>
        <p:blipFill>
          <a:blip r:embed="rId1"/>
          <a:stretch/>
        </p:blipFill>
        <p:spPr>
          <a:xfrm>
            <a:off x="3059280" y="4070520"/>
            <a:ext cx="3039840" cy="166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8d3e"/>
                </a:solidFill>
                <a:latin typeface="Verdana"/>
              </a:rPr>
              <a:t>Нам щедрая Осень приносит плоды,</a:t>
            </a:r>
            <a:br>
              <a:rPr sz="2800"/>
            </a:br>
            <a:r>
              <a:rPr b="1" lang="ru-RU" sz="2800" spc="-1" strike="noStrike">
                <a:solidFill>
                  <a:srgbClr val="ff8d3e"/>
                </a:solidFill>
                <a:latin typeface="Verdana"/>
              </a:rPr>
              <a:t>Дают урожаи поля и сады.</a:t>
            </a:r>
            <a:endParaRPr b="1" lang="en-US" sz="28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25" name="Рисунок 73" descr="http://img-fotki.yandex.ru/get/6503/88584892.1e/0_ae9ab_c8d9dd2f_XL"/>
          <p:cNvPicPr/>
          <p:nvPr/>
        </p:nvPicPr>
        <p:blipFill>
          <a:blip r:embed="rId1"/>
          <a:stretch/>
        </p:blipFill>
        <p:spPr>
          <a:xfrm>
            <a:off x="755640" y="1341360"/>
            <a:ext cx="3608280" cy="360036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4756320" y="529920"/>
            <a:ext cx="3930480" cy="43894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1. Хозяйка однажды с базара пришла,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Хозяйка с базара домой принесла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Картошку, капусту, морковку, горох,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етрушку и свеклу   -ох!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2. 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Назови суп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из гороха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-из рыбы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- из фасоли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-из курицы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-с грибами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-из щавеля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3.Посчитаем деревья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-белая береза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-колючая сосна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-высокий дуб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Пальчиковая игра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28" name="Рисунок 76" descr="http://myfl.ru/files/u1522/kak_sdelat_byket_iz_listev.jpg"/>
          <p:cNvPicPr/>
          <p:nvPr/>
        </p:nvPicPr>
        <p:blipFill>
          <a:blip r:embed="rId1"/>
          <a:stretch/>
        </p:blipFill>
        <p:spPr>
          <a:xfrm>
            <a:off x="1332000" y="836640"/>
            <a:ext cx="3027240" cy="352908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 txBox="1"/>
          <p:nvPr/>
        </p:nvSpPr>
        <p:spPr>
          <a:xfrm>
            <a:off x="4756320" y="529920"/>
            <a:ext cx="3930480" cy="43894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1, 2, 3, 4, 5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Будем листья собирать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Листья березы, листья рябины,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Листики тополя, листья осины,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Листики дуба мы соберем,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Маме осенний букет отнесем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Зима засыпает снегами поля.</a:t>
            </a:r>
            <a:br>
              <a:rPr sz="3200"/>
            </a:b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Зимой отдыхает и дремлет земля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31" name="Рисунок 67" descr="http://desktopwallpapers.org.ua/large/201212/22144.jpg"/>
          <p:cNvPicPr/>
          <p:nvPr/>
        </p:nvPicPr>
        <p:blipFill>
          <a:blip r:embed="rId1"/>
          <a:stretch/>
        </p:blipFill>
        <p:spPr>
          <a:xfrm>
            <a:off x="1835280" y="549360"/>
            <a:ext cx="5616360" cy="38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5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Словесная игра</a:t>
            </a:r>
            <a:br>
              <a:rPr sz="3600"/>
            </a:br>
            <a:br>
              <a:rPr sz="3200"/>
            </a:b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-  Какая зима ?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-Что можно делать зимой?</a:t>
            </a:r>
            <a:br>
              <a:rPr sz="3200"/>
            </a:br>
            <a:br>
              <a:rPr sz="3200"/>
            </a:br>
            <a:br>
              <a:rPr sz="3200"/>
            </a:b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8d3e"/>
                </a:solidFill>
                <a:latin typeface="Verdana"/>
              </a:rPr>
              <a:t>Как снегурка, в шубке белой</a:t>
            </a:r>
            <a:br>
              <a:rPr sz="1800"/>
            </a:br>
            <a:r>
              <a:rPr b="1" lang="ru-RU" sz="1800" spc="-1" strike="noStrike">
                <a:solidFill>
                  <a:srgbClr val="ff8d3e"/>
                </a:solidFill>
                <a:latin typeface="Verdana"/>
              </a:rPr>
              <a:t>Маша с горки едет смело.</a:t>
            </a:r>
            <a:br>
              <a:rPr sz="1800"/>
            </a:br>
            <a:r>
              <a:rPr b="1" lang="ru-RU" sz="1800" spc="-1" strike="noStrike">
                <a:solidFill>
                  <a:srgbClr val="ff8d3e"/>
                </a:solidFill>
                <a:latin typeface="Verdana"/>
              </a:rPr>
              <a:t>Вася катит снежный ком –</a:t>
            </a:r>
            <a:br>
              <a:rPr sz="1800"/>
            </a:br>
            <a:r>
              <a:rPr b="1" lang="ru-RU" sz="1800" spc="-1" strike="noStrike">
                <a:solidFill>
                  <a:srgbClr val="ff8d3e"/>
                </a:solidFill>
                <a:latin typeface="Verdana"/>
              </a:rPr>
              <a:t>Он решил построить дом.</a:t>
            </a:r>
            <a:br>
              <a:rPr sz="1800"/>
            </a:br>
            <a:endParaRPr b="1" lang="en-US" sz="18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34" name="Рисунок 79" descr="http://ds93.ru/uploads/posts/2012-12/1356087208_f_clip_image0021.jpg"/>
          <p:cNvPicPr/>
          <p:nvPr/>
        </p:nvPicPr>
        <p:blipFill>
          <a:blip r:embed="rId1"/>
          <a:stretch/>
        </p:blipFill>
        <p:spPr>
          <a:xfrm>
            <a:off x="1403280" y="2060640"/>
            <a:ext cx="62643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538600" y="533520"/>
            <a:ext cx="2971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07f09"/>
                </a:solidFill>
                <a:latin typeface="Verdana"/>
              </a:rPr>
              <a:t>Пальчиковые игры</a:t>
            </a:r>
            <a:endParaRPr b="1" lang="en-US" sz="25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538600" y="1447560"/>
            <a:ext cx="2971800" cy="420660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Скажи ласково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-снег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-солнце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-ветер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-мороз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-кормушка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-синица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-заяц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-лиса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-береза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Назови наоборот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-погода не  ясная, а ...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Чай не холодный, а ....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Здание не высокое, а ..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Дерево не  тонкое, а ..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Настроение не грустное, а ..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Девочка не плачет, а ..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762120" y="929880"/>
            <a:ext cx="4626000" cy="47242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700" spc="-1" strike="noStrike">
                <a:solidFill>
                  <a:srgbClr val="000000"/>
                </a:solidFill>
                <a:latin typeface="Verdana"/>
              </a:rPr>
              <a:t>1, 2, 3, 4, 5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700" spc="-1" strike="noStrike">
                <a:solidFill>
                  <a:srgbClr val="000000"/>
                </a:solidFill>
                <a:latin typeface="Verdana"/>
              </a:rPr>
              <a:t>Мы во двор пошли гулять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700" spc="-1" strike="noStrike">
                <a:solidFill>
                  <a:srgbClr val="000000"/>
                </a:solidFill>
                <a:latin typeface="Verdana"/>
              </a:rPr>
              <a:t>Бабу снежную лепили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700" spc="-1" strike="noStrike">
                <a:solidFill>
                  <a:srgbClr val="000000"/>
                </a:solidFill>
                <a:latin typeface="Verdana"/>
              </a:rPr>
              <a:t>Птичек крошками кормили,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700" spc="-1" strike="noStrike">
                <a:solidFill>
                  <a:srgbClr val="000000"/>
                </a:solidFill>
                <a:latin typeface="Verdana"/>
              </a:rPr>
              <a:t>С горки мы потом катались,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700" spc="-1" strike="noStrike">
                <a:solidFill>
                  <a:srgbClr val="000000"/>
                </a:solidFill>
                <a:latin typeface="Verdana"/>
              </a:rPr>
              <a:t>А ещё в снегу валялись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700" spc="-1" strike="noStrike">
                <a:solidFill>
                  <a:srgbClr val="000000"/>
                </a:solidFill>
                <a:latin typeface="Verdana"/>
              </a:rPr>
              <a:t>Все в снегу домой пришли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700" spc="-1" strike="noStrike">
                <a:solidFill>
                  <a:srgbClr val="000000"/>
                </a:solidFill>
                <a:latin typeface="Verdana"/>
              </a:rPr>
              <a:t>Съели суп, и спать легли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700" spc="-1" strike="noStrike">
                <a:solidFill>
                  <a:srgbClr val="000000"/>
                </a:solidFill>
                <a:latin typeface="Verdana"/>
              </a:rPr>
              <a:t>1, 2, 3, 4,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700" spc="-1" strike="noStrike">
                <a:solidFill>
                  <a:srgbClr val="000000"/>
                </a:solidFill>
                <a:latin typeface="Verdana"/>
              </a:rPr>
              <a:t>Мы с тобой снежок слепили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700" spc="-1" strike="noStrike">
                <a:solidFill>
                  <a:srgbClr val="000000"/>
                </a:solidFill>
                <a:latin typeface="Verdana"/>
              </a:rPr>
              <a:t>Круглый, крепкий, очень гладкий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700" spc="-1" strike="noStrike">
                <a:solidFill>
                  <a:srgbClr val="000000"/>
                </a:solidFill>
                <a:latin typeface="Verdana"/>
              </a:rPr>
              <a:t>И совсем-совсем не сладкий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700" spc="-1" strike="noStrike">
                <a:solidFill>
                  <a:srgbClr val="000000"/>
                </a:solidFill>
                <a:latin typeface="Verdana"/>
              </a:rPr>
              <a:t>Раз подбросим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700" spc="-1" strike="noStrike">
                <a:solidFill>
                  <a:srgbClr val="000000"/>
                </a:solidFill>
                <a:latin typeface="Verdana"/>
              </a:rPr>
              <a:t>Два поймаем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700" spc="-1" strike="noStrike">
                <a:solidFill>
                  <a:srgbClr val="000000"/>
                </a:solidFill>
                <a:latin typeface="Verdana"/>
              </a:rPr>
              <a:t>Три уроним,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700" spc="-1" strike="noStrike">
                <a:solidFill>
                  <a:srgbClr val="000000"/>
                </a:solidFill>
                <a:latin typeface="Verdana"/>
              </a:rPr>
              <a:t>И сломаем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Приходит Весна – зеленеют леса,</a:t>
            </a:r>
            <a:br>
              <a:rPr sz="3200"/>
            </a:b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И птичьи повсюду звенят голоса.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39" name="Рисунок 64" descr="http://thumbs.dreamstime.com/z/%D0%BB%D0%B5%D1%81-%D0%B1%D0%B5%D1%80%D0%B5%D0%B7%D1%8B-%D0%B2%D0%B5%D1%81%D0%BD%D1%8B-41024294.jpg"/>
          <p:cNvPicPr/>
          <p:nvPr/>
        </p:nvPicPr>
        <p:blipFill>
          <a:blip r:embed="rId1"/>
          <a:stretch/>
        </p:blipFill>
        <p:spPr>
          <a:xfrm>
            <a:off x="1332000" y="620640"/>
            <a:ext cx="6335640" cy="440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3T17:01:12Z</dcterms:created>
  <dc:creator>amd</dc:creator>
  <dc:description/>
  <dc:language>en-US</dc:language>
  <cp:lastModifiedBy>Методист</cp:lastModifiedBy>
  <dcterms:modified xsi:type="dcterms:W3CDTF">2022-12-14T04:53:34Z</dcterms:modified>
  <cp:revision>25</cp:revision>
  <dc:subject/>
  <dc:title>Придумала мать дочерям имена, Вот Лето и Осень, Зима и Весна.</dc:title>
</cp:coreProperties>
</file>