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00A-3A4D-4FDD-BD26-1D4CC9DD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47F-24E6-415D-BEA0-4090977E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19A-2DD8-476A-9C54-2B45861A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AD9-B30C-4330-A562-1EF6CC14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58E-71FD-4AA0-9808-1BF657D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846-7838-4581-8CA3-E810B7A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4A0-078C-4D90-B5CF-3CE30E4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A58-E69C-437C-AF62-D4C21DE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B08-7E9B-405A-B007-BAB9F553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44D-333A-4D9C-B889-0FCBE04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338-060C-4621-9604-A186333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D28-1A5C-4557-95BE-539A1C5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64FFBE-A1C7-482A-9E05-EB94B1C7D6D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ы-высказывания»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ы всегда оставляешь в комнате грязь». В результате ребенок чувствует, что он плохой, и обижается.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Я-высказывания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очень устала и огорчена, что ты не успел сделать домашнее задание к моему приходу. Как бы ты мог быстро решить эту проблему? » Этот способ решать проблемы менее конфлик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990720" y="-96840"/>
            <a:ext cx="1066824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52488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6012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103633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05840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959120"/>
            <a:ext cx="9144000" cy="881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анализируйте, какой жизненный опыт получит ребенок, когда родители помогают ему выполнять домашние задания и когда не помог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Как должны вести себя родители, увидев в работе ребенка ошиб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Ребенок просит маму отпустить его к   другу поиграть в новую игру, а уроки он сделает потом. Как поступить в такой ситуации? Можно ли верить обещани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ак приучить ребенка к самостоятельности в приготовлении уроков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7:40:13Z</dcterms:created>
  <dc:creator>Екатерина</dc:creator>
  <dc:description/>
  <dc:language>en-US</dc:language>
  <cp:lastModifiedBy>Екатерина</cp:lastModifiedBy>
  <dcterms:modified xsi:type="dcterms:W3CDTF">2016-02-18T18:05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