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0F4-E023-41BB-BCEF-9D6F1BBC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271-1936-4F13-A973-D2A35C9B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84F-B44D-4F43-9816-E02B8846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030-7051-49CA-AA0E-395FCBED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469-439B-4542-910A-04743409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AFD-B1D9-4C5F-993D-580FF3B3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7A7-EE03-4F35-9293-44ED0874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0E4-9C98-415A-9CF7-35CD77BD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647-5A60-41D5-B808-07F354CC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106-E4F7-4D4C-B905-B464AA58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735-8496-4EC4-BC86-3C5DC358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E12-8AB7-4C3C-941A-47E48111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7FD675-FF17-49F4-B1B3-6DAD5D7F4C8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Ты-высказывания» 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Ты всегда оставляешь в комнате грязь». В результате ребенок чувствует, что он плохой, и обижается.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«Я-высказывания»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Я очень устала и огорчена, что ты не успел сделать домашнее задание к моему приходу. Как бы ты мог быстро решить эту проблему? » Этот способ решать проблемы менее конфликт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990720" y="-96840"/>
            <a:ext cx="10668240" cy="69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42840"/>
            <a:ext cx="9524880" cy="69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601200" cy="688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60480"/>
            <a:ext cx="1036332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10058400" cy="69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959120"/>
            <a:ext cx="9144000" cy="881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для группы 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анализируйте, какой жизненный опыт получит ребенок, когда родители помогают ему выполнять домашние задания и когда не помог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для группы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Как должны вести себя родители, увидев в работе ребенка ошиб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для группы 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Ребенок просит маму отпустить его к   другу поиграть в новую игру, а уроки он сделает потом. Как поступить в такой ситуации? Можно ли верить обещани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учащих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Как приучить ребенка к самостоятельности в приготовлении уроков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8T17:40:13Z</dcterms:created>
  <dc:creator>Екатерина</dc:creator>
  <dc:description/>
  <dc:language>en-US</dc:language>
  <cp:lastModifiedBy>Екатерина</cp:lastModifiedBy>
  <dcterms:modified xsi:type="dcterms:W3CDTF">2016-02-18T18:05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