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136-7242-49EE-AFAB-54A941E4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099-CEBB-4B02-A9E6-18710646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A7A-EB8C-4317-80B8-EF3E4D3E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906-C237-4007-B156-11929B41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638-470D-4CC4-B7A2-C751B034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B28-D88D-4963-8508-6DBA15B5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AFA-180A-46DD-8D00-390ACBD5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DAC-C8B9-40C6-ADEB-64C662C6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C7B-53AA-4112-9D70-32F746D7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35B-737B-4231-871C-49570F42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97D-9B6F-4314-A44E-374D952C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A54-3DA4-44D2-B18A-239D4E23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AEB2-4B4A-43A1-8E0F-802F5D222E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Сечения</a:t>
            </a:r>
            <a:r>
              <a:rPr b="0" lang="ru-RU" sz="4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многогранника плоскостью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1628640"/>
            <a:ext cx="6912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Задача: В правильной треугольной пирамиде сторона основания - а и угол наклона бокового ребра к плоскости основания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. Через центр основания проведено сечение пирамиды плоскостью, параллельной двум пересекающимся рёбрам. Построить сечение и найти его площад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21"/>
          <p:cNvGrpSpPr/>
          <p:nvPr/>
        </p:nvGrpSpPr>
        <p:grpSpPr>
          <a:xfrm>
            <a:off x="1547640" y="2205000"/>
            <a:ext cx="6769440" cy="4114800"/>
            <a:chOff x="1547640" y="2205000"/>
            <a:chExt cx="6769440" cy="4114800"/>
          </a:xfrm>
        </p:grpSpPr>
        <p:sp>
          <p:nvSpPr>
            <p:cNvPr id="44" name="AutoShape 22"/>
            <p:cNvSpPr/>
            <p:nvPr/>
          </p:nvSpPr>
          <p:spPr>
            <a:xfrm>
              <a:off x="1547640" y="2205000"/>
              <a:ext cx="67694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Line 23"/>
            <p:cNvSpPr/>
            <p:nvPr/>
          </p:nvSpPr>
          <p:spPr>
            <a:xfrm>
              <a:off x="3936600" y="4727160"/>
              <a:ext cx="796320" cy="11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Line 24"/>
            <p:cNvSpPr/>
            <p:nvPr/>
          </p:nvSpPr>
          <p:spPr>
            <a:xfrm flipV="1">
              <a:off x="4732920" y="4727160"/>
              <a:ext cx="2522520" cy="11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Line 25"/>
            <p:cNvSpPr/>
            <p:nvPr/>
          </p:nvSpPr>
          <p:spPr>
            <a:xfrm flipH="1">
              <a:off x="4335120" y="4727160"/>
              <a:ext cx="2920320" cy="530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26"/>
            <p:cNvSpPr/>
            <p:nvPr/>
          </p:nvSpPr>
          <p:spPr>
            <a:xfrm>
              <a:off x="3936600" y="4727160"/>
              <a:ext cx="3318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Line 27"/>
            <p:cNvSpPr/>
            <p:nvPr/>
          </p:nvSpPr>
          <p:spPr>
            <a:xfrm>
              <a:off x="3936600" y="4727160"/>
              <a:ext cx="1991160" cy="663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Line 28"/>
            <p:cNvSpPr/>
            <p:nvPr/>
          </p:nvSpPr>
          <p:spPr>
            <a:xfrm flipV="1">
              <a:off x="5131440" y="3665160"/>
              <a:ext cx="0" cy="1460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29"/>
            <p:cNvSpPr/>
            <p:nvPr/>
          </p:nvSpPr>
          <p:spPr>
            <a:xfrm>
              <a:off x="5131440" y="3665160"/>
              <a:ext cx="2124000" cy="10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0"/>
            <p:cNvSpPr/>
            <p:nvPr/>
          </p:nvSpPr>
          <p:spPr>
            <a:xfrm flipH="1">
              <a:off x="4732560" y="3665160"/>
              <a:ext cx="398520" cy="22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1"/>
            <p:cNvSpPr/>
            <p:nvPr/>
          </p:nvSpPr>
          <p:spPr>
            <a:xfrm flipH="1">
              <a:off x="3936240" y="3665160"/>
              <a:ext cx="1194840" cy="10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Text Box 33"/>
          <p:cNvSpPr/>
          <p:nvPr/>
        </p:nvSpPr>
        <p:spPr>
          <a:xfrm>
            <a:off x="3494160" y="450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4"/>
          <p:cNvSpPr/>
          <p:nvPr/>
        </p:nvSpPr>
        <p:spPr>
          <a:xfrm>
            <a:off x="4573800" y="595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5005800" y="51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723780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934160" y="32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200720" cy="31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Дано: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ABC –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правильная пирамида.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     АВ = а,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     угол (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C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; (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BC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)) =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Сечение плоскостью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u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: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       Содержит центр основания пирамиды и 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       параллельно двум непересекающимся рёбрам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C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                              AB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Построить сечение и найти его площадь.</a:t>
            </a:r>
            <a:br>
              <a:rPr sz="2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32000" y="1700280"/>
            <a:ext cx="6912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33"/>
          <p:cNvGrpSpPr/>
          <p:nvPr/>
        </p:nvGrpSpPr>
        <p:grpSpPr>
          <a:xfrm>
            <a:off x="1547640" y="2205000"/>
            <a:ext cx="6769440" cy="4114800"/>
            <a:chOff x="1547640" y="2205000"/>
            <a:chExt cx="6769440" cy="4114800"/>
          </a:xfrm>
        </p:grpSpPr>
        <p:sp>
          <p:nvSpPr>
            <p:cNvPr id="62" name="AutoShape 34"/>
            <p:cNvSpPr/>
            <p:nvPr/>
          </p:nvSpPr>
          <p:spPr>
            <a:xfrm>
              <a:off x="1547640" y="2205000"/>
              <a:ext cx="67694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35"/>
            <p:cNvSpPr/>
            <p:nvPr/>
          </p:nvSpPr>
          <p:spPr>
            <a:xfrm>
              <a:off x="3936600" y="4727160"/>
              <a:ext cx="796320" cy="11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36"/>
            <p:cNvSpPr/>
            <p:nvPr/>
          </p:nvSpPr>
          <p:spPr>
            <a:xfrm flipV="1">
              <a:off x="4732920" y="4727160"/>
              <a:ext cx="2522520" cy="11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37"/>
            <p:cNvSpPr/>
            <p:nvPr/>
          </p:nvSpPr>
          <p:spPr>
            <a:xfrm flipH="1">
              <a:off x="4335120" y="4727160"/>
              <a:ext cx="2920320" cy="530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38"/>
            <p:cNvSpPr/>
            <p:nvPr/>
          </p:nvSpPr>
          <p:spPr>
            <a:xfrm>
              <a:off x="3936600" y="4727160"/>
              <a:ext cx="3318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39"/>
            <p:cNvSpPr/>
            <p:nvPr/>
          </p:nvSpPr>
          <p:spPr>
            <a:xfrm>
              <a:off x="3936600" y="4727160"/>
              <a:ext cx="1991160" cy="663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40"/>
            <p:cNvSpPr/>
            <p:nvPr/>
          </p:nvSpPr>
          <p:spPr>
            <a:xfrm flipV="1">
              <a:off x="5131440" y="3665160"/>
              <a:ext cx="0" cy="1460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41"/>
            <p:cNvSpPr/>
            <p:nvPr/>
          </p:nvSpPr>
          <p:spPr>
            <a:xfrm>
              <a:off x="5131440" y="3665160"/>
              <a:ext cx="2124000" cy="10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42"/>
            <p:cNvSpPr/>
            <p:nvPr/>
          </p:nvSpPr>
          <p:spPr>
            <a:xfrm flipH="1">
              <a:off x="4732560" y="3665160"/>
              <a:ext cx="398520" cy="22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43"/>
            <p:cNvSpPr/>
            <p:nvPr/>
          </p:nvSpPr>
          <p:spPr>
            <a:xfrm flipH="1">
              <a:off x="3936240" y="3665160"/>
              <a:ext cx="1194840" cy="10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Text Box 44"/>
          <p:cNvSpPr/>
          <p:nvPr/>
        </p:nvSpPr>
        <p:spPr>
          <a:xfrm>
            <a:off x="3565800" y="450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5"/>
          <p:cNvSpPr/>
          <p:nvPr/>
        </p:nvSpPr>
        <p:spPr>
          <a:xfrm>
            <a:off x="4502160" y="595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6"/>
          <p:cNvSpPr/>
          <p:nvPr/>
        </p:nvSpPr>
        <p:spPr>
          <a:xfrm>
            <a:off x="5005800" y="51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7"/>
          <p:cNvSpPr/>
          <p:nvPr/>
        </p:nvSpPr>
        <p:spPr>
          <a:xfrm>
            <a:off x="723780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8"/>
          <p:cNvSpPr/>
          <p:nvPr/>
        </p:nvSpPr>
        <p:spPr>
          <a:xfrm>
            <a:off x="5005440" y="32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строение сечения многогранника плоскостью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774800"/>
            <a:ext cx="854064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Точка Н является центром основания (по свойству правильной пирамиды). Проведём через точку Н в плоскости основания прямую, параллельную ребру АВ. Она пересечёт ребро АС в точке К, а ребро ВС в точке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. Отрезок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KL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элемент сечения.                        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464328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49"/>
          <p:cNvGrpSpPr/>
          <p:nvPr/>
        </p:nvGrpSpPr>
        <p:grpSpPr>
          <a:xfrm>
            <a:off x="971640" y="1584360"/>
            <a:ext cx="8675640" cy="5273640"/>
            <a:chOff x="971640" y="1584360"/>
            <a:chExt cx="8675640" cy="5273640"/>
          </a:xfrm>
        </p:grpSpPr>
        <p:sp>
          <p:nvSpPr>
            <p:cNvPr id="81" name="AutoShape 50"/>
            <p:cNvSpPr/>
            <p:nvPr/>
          </p:nvSpPr>
          <p:spPr>
            <a:xfrm>
              <a:off x="971640" y="1584360"/>
              <a:ext cx="8675640" cy="52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51"/>
            <p:cNvSpPr/>
            <p:nvPr/>
          </p:nvSpPr>
          <p:spPr>
            <a:xfrm>
              <a:off x="4033080" y="4816800"/>
              <a:ext cx="1020240" cy="153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52"/>
            <p:cNvSpPr/>
            <p:nvPr/>
          </p:nvSpPr>
          <p:spPr>
            <a:xfrm flipV="1">
              <a:off x="5053680" y="4816800"/>
              <a:ext cx="3232800" cy="153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53"/>
            <p:cNvSpPr/>
            <p:nvPr/>
          </p:nvSpPr>
          <p:spPr>
            <a:xfrm flipH="1">
              <a:off x="4544280" y="4816800"/>
              <a:ext cx="3742560" cy="679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54"/>
            <p:cNvSpPr/>
            <p:nvPr/>
          </p:nvSpPr>
          <p:spPr>
            <a:xfrm>
              <a:off x="4033080" y="4816800"/>
              <a:ext cx="4253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55"/>
            <p:cNvSpPr/>
            <p:nvPr/>
          </p:nvSpPr>
          <p:spPr>
            <a:xfrm>
              <a:off x="4033080" y="4816800"/>
              <a:ext cx="2552040" cy="850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56"/>
            <p:cNvSpPr/>
            <p:nvPr/>
          </p:nvSpPr>
          <p:spPr>
            <a:xfrm flipV="1">
              <a:off x="5564880" y="3455640"/>
              <a:ext cx="0" cy="1871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57"/>
            <p:cNvSpPr/>
            <p:nvPr/>
          </p:nvSpPr>
          <p:spPr>
            <a:xfrm>
              <a:off x="5564880" y="3455640"/>
              <a:ext cx="2721960" cy="13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58"/>
            <p:cNvSpPr/>
            <p:nvPr/>
          </p:nvSpPr>
          <p:spPr>
            <a:xfrm flipH="1">
              <a:off x="5053320" y="3455640"/>
              <a:ext cx="510840" cy="28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59"/>
            <p:cNvSpPr/>
            <p:nvPr/>
          </p:nvSpPr>
          <p:spPr>
            <a:xfrm flipH="1">
              <a:off x="4033080" y="3455640"/>
              <a:ext cx="1531440" cy="13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Line 60"/>
          <p:cNvSpPr/>
          <p:nvPr/>
        </p:nvSpPr>
        <p:spPr>
          <a:xfrm>
            <a:off x="5219640" y="4797360"/>
            <a:ext cx="792360" cy="115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1"/>
          <p:cNvSpPr/>
          <p:nvPr/>
        </p:nvSpPr>
        <p:spPr>
          <a:xfrm>
            <a:off x="3637080" y="45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2"/>
          <p:cNvSpPr/>
          <p:nvPr/>
        </p:nvSpPr>
        <p:spPr>
          <a:xfrm>
            <a:off x="536580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3"/>
          <p:cNvSpPr/>
          <p:nvPr/>
        </p:nvSpPr>
        <p:spPr>
          <a:xfrm>
            <a:off x="4861080" y="630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4"/>
          <p:cNvSpPr/>
          <p:nvPr/>
        </p:nvSpPr>
        <p:spPr>
          <a:xfrm>
            <a:off x="8245800" y="45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5"/>
          <p:cNvSpPr/>
          <p:nvPr/>
        </p:nvSpPr>
        <p:spPr>
          <a:xfrm>
            <a:off x="586728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6"/>
          <p:cNvSpPr/>
          <p:nvPr/>
        </p:nvSpPr>
        <p:spPr>
          <a:xfrm>
            <a:off x="4934160" y="443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67"/>
          <p:cNvSpPr/>
          <p:nvPr/>
        </p:nvSpPr>
        <p:spPr>
          <a:xfrm>
            <a:off x="5366160" y="537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В плоскости боковой грани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BSC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через точку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L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проведём прямую, параллельную ребру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SC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. Она пересечёт ребро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SB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в точке М.           Отрезок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ML –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элемент сечения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100" name="Group 26"/>
          <p:cNvGrpSpPr/>
          <p:nvPr/>
        </p:nvGrpSpPr>
        <p:grpSpPr>
          <a:xfrm>
            <a:off x="826920" y="1584360"/>
            <a:ext cx="8676000" cy="5273640"/>
            <a:chOff x="826920" y="1584360"/>
            <a:chExt cx="8676000" cy="5273640"/>
          </a:xfrm>
        </p:grpSpPr>
        <p:sp>
          <p:nvSpPr>
            <p:cNvPr id="101" name="AutoShape 27"/>
            <p:cNvSpPr/>
            <p:nvPr/>
          </p:nvSpPr>
          <p:spPr>
            <a:xfrm>
              <a:off x="826920" y="1584360"/>
              <a:ext cx="8676000" cy="52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8"/>
            <p:cNvSpPr/>
            <p:nvPr/>
          </p:nvSpPr>
          <p:spPr>
            <a:xfrm>
              <a:off x="3888720" y="4816800"/>
              <a:ext cx="1020600" cy="153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9"/>
            <p:cNvSpPr/>
            <p:nvPr/>
          </p:nvSpPr>
          <p:spPr>
            <a:xfrm flipV="1">
              <a:off x="4909320" y="4816800"/>
              <a:ext cx="3233160" cy="153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30"/>
            <p:cNvSpPr/>
            <p:nvPr/>
          </p:nvSpPr>
          <p:spPr>
            <a:xfrm flipH="1">
              <a:off x="4399560" y="4816800"/>
              <a:ext cx="3742560" cy="679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31"/>
            <p:cNvSpPr/>
            <p:nvPr/>
          </p:nvSpPr>
          <p:spPr>
            <a:xfrm>
              <a:off x="3888720" y="4816800"/>
              <a:ext cx="425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2"/>
            <p:cNvSpPr/>
            <p:nvPr/>
          </p:nvSpPr>
          <p:spPr>
            <a:xfrm>
              <a:off x="3888720" y="4816800"/>
              <a:ext cx="2552040" cy="850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33"/>
            <p:cNvSpPr/>
            <p:nvPr/>
          </p:nvSpPr>
          <p:spPr>
            <a:xfrm flipV="1">
              <a:off x="5420160" y="3455640"/>
              <a:ext cx="0" cy="1871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34"/>
            <p:cNvSpPr/>
            <p:nvPr/>
          </p:nvSpPr>
          <p:spPr>
            <a:xfrm>
              <a:off x="5420160" y="3455640"/>
              <a:ext cx="2721960" cy="13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5"/>
            <p:cNvSpPr/>
            <p:nvPr/>
          </p:nvSpPr>
          <p:spPr>
            <a:xfrm flipH="1">
              <a:off x="4908960" y="3455640"/>
              <a:ext cx="510840" cy="28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36"/>
            <p:cNvSpPr/>
            <p:nvPr/>
          </p:nvSpPr>
          <p:spPr>
            <a:xfrm flipH="1">
              <a:off x="3888720" y="3455640"/>
              <a:ext cx="1531440" cy="13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Text Box 37"/>
          <p:cNvSpPr/>
          <p:nvPr/>
        </p:nvSpPr>
        <p:spPr>
          <a:xfrm>
            <a:off x="3494160" y="45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8"/>
          <p:cNvSpPr/>
          <p:nvPr/>
        </p:nvSpPr>
        <p:spPr>
          <a:xfrm>
            <a:off x="4645080" y="630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5221440" y="530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0"/>
          <p:cNvSpPr/>
          <p:nvPr/>
        </p:nvSpPr>
        <p:spPr>
          <a:xfrm>
            <a:off x="8102880" y="45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1"/>
          <p:cNvSpPr/>
          <p:nvPr/>
        </p:nvSpPr>
        <p:spPr>
          <a:xfrm>
            <a:off x="522144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>
            <a:off x="5076720" y="4797360"/>
            <a:ext cx="792360" cy="115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4718160" y="4365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>
            <a:off x="5797440" y="5877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50"/>
          <p:cNvSpPr/>
          <p:nvPr/>
        </p:nvSpPr>
        <p:spPr>
          <a:xfrm>
            <a:off x="5076720" y="5516640"/>
            <a:ext cx="792360" cy="433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5"/>
          <p:cNvSpPr/>
          <p:nvPr/>
        </p:nvSpPr>
        <p:spPr>
          <a:xfrm>
            <a:off x="4645080" y="530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В плоскости боковой грани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ASC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через точку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K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роведём прямую, параллельную ребру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SC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. Она пересечёт ребро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SA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в точке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.           Отрезок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KN –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элемент сечения. 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826920" y="1584360"/>
            <a:ext cx="8676000" cy="5273640"/>
            <a:chOff x="826920" y="1584360"/>
            <a:chExt cx="8676000" cy="5273640"/>
          </a:xfrm>
        </p:grpSpPr>
        <p:sp>
          <p:nvSpPr>
            <p:cNvPr id="123" name="AutoShape 6"/>
            <p:cNvSpPr/>
            <p:nvPr/>
          </p:nvSpPr>
          <p:spPr>
            <a:xfrm>
              <a:off x="826920" y="1584360"/>
              <a:ext cx="8676000" cy="52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3888720" y="4816800"/>
              <a:ext cx="1020600" cy="153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 flipV="1">
              <a:off x="4909320" y="4816800"/>
              <a:ext cx="3233160" cy="153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4399560" y="4816800"/>
              <a:ext cx="3742560" cy="679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>
              <a:off x="3888720" y="4816800"/>
              <a:ext cx="425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3888720" y="4816800"/>
              <a:ext cx="2552040" cy="850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5420160" y="3455640"/>
              <a:ext cx="0" cy="1871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5420160" y="3455640"/>
              <a:ext cx="2721960" cy="13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4"/>
            <p:cNvSpPr/>
            <p:nvPr/>
          </p:nvSpPr>
          <p:spPr>
            <a:xfrm flipH="1">
              <a:off x="4908960" y="3455640"/>
              <a:ext cx="510840" cy="28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 flipH="1">
              <a:off x="3888720" y="3455640"/>
              <a:ext cx="1531440" cy="13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Text Box 16"/>
          <p:cNvSpPr/>
          <p:nvPr/>
        </p:nvSpPr>
        <p:spPr>
          <a:xfrm>
            <a:off x="3494160" y="465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4573800" y="630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8174160" y="45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221440" y="31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5221440" y="530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5076720" y="4797360"/>
            <a:ext cx="790560" cy="115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5797440" y="5877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4789800" y="443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4645080" y="530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8"/>
          <p:cNvSpPr/>
          <p:nvPr/>
        </p:nvSpPr>
        <p:spPr>
          <a:xfrm>
            <a:off x="5076720" y="5516640"/>
            <a:ext cx="7192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30"/>
          <p:cNvSpPr/>
          <p:nvPr/>
        </p:nvSpPr>
        <p:spPr>
          <a:xfrm flipH="1" flipV="1">
            <a:off x="4284720" y="4365720"/>
            <a:ext cx="790560" cy="43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406908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9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В плоскости боковой грани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ASB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имеются две точки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, принадлежащие плоскости сечения. Соединим их. Полученный отрезок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NM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является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элементом сечения.  Четырёхугольник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KLMN –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искомое сечение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146" name="Group 5"/>
          <p:cNvGrpSpPr/>
          <p:nvPr/>
        </p:nvGrpSpPr>
        <p:grpSpPr>
          <a:xfrm>
            <a:off x="826920" y="1584360"/>
            <a:ext cx="8676000" cy="5273640"/>
            <a:chOff x="826920" y="1584360"/>
            <a:chExt cx="8676000" cy="5273640"/>
          </a:xfrm>
        </p:grpSpPr>
        <p:sp>
          <p:nvSpPr>
            <p:cNvPr id="147" name="AutoShape 6"/>
            <p:cNvSpPr/>
            <p:nvPr/>
          </p:nvSpPr>
          <p:spPr>
            <a:xfrm>
              <a:off x="826920" y="1584360"/>
              <a:ext cx="8676000" cy="52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3888720" y="4816800"/>
              <a:ext cx="1020600" cy="153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 flipV="1">
              <a:off x="4909320" y="4816800"/>
              <a:ext cx="3233160" cy="153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 flipH="1">
              <a:off x="4399560" y="4816800"/>
              <a:ext cx="3742560" cy="679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3888720" y="4816800"/>
              <a:ext cx="425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3888720" y="4816800"/>
              <a:ext cx="2552040" cy="850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 flipV="1">
              <a:off x="5420160" y="3455640"/>
              <a:ext cx="0" cy="1871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5420160" y="3455640"/>
              <a:ext cx="2721960" cy="13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 flipH="1">
              <a:off x="4908960" y="3455640"/>
              <a:ext cx="510840" cy="28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 flipH="1">
              <a:off x="3888720" y="3455640"/>
              <a:ext cx="1531440" cy="13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Text Box 16"/>
          <p:cNvSpPr/>
          <p:nvPr/>
        </p:nvSpPr>
        <p:spPr>
          <a:xfrm>
            <a:off x="3494160" y="45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4573800" y="630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5221440" y="530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8102880" y="45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522144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1"/>
          <p:cNvSpPr/>
          <p:nvPr/>
        </p:nvSpPr>
        <p:spPr>
          <a:xfrm>
            <a:off x="5076720" y="4797360"/>
            <a:ext cx="790560" cy="115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2"/>
          <p:cNvSpPr/>
          <p:nvPr/>
        </p:nvSpPr>
        <p:spPr>
          <a:xfrm>
            <a:off x="5076720" y="5516640"/>
            <a:ext cx="7192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3"/>
          <p:cNvSpPr/>
          <p:nvPr/>
        </p:nvSpPr>
        <p:spPr>
          <a:xfrm flipH="1" flipV="1">
            <a:off x="4284720" y="4365720"/>
            <a:ext cx="790560" cy="43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645080" y="530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406908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6"/>
          <p:cNvSpPr/>
          <p:nvPr/>
        </p:nvSpPr>
        <p:spPr>
          <a:xfrm>
            <a:off x="5868720" y="5877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4861080" y="443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4356000" y="4437000"/>
            <a:ext cx="720720" cy="1079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5:04:34Z</dcterms:created>
  <dc:creator>Светланка</dc:creator>
  <dc:description/>
  <dc:language>en-US</dc:language>
  <cp:lastModifiedBy>Марина</cp:lastModifiedBy>
  <dcterms:modified xsi:type="dcterms:W3CDTF">2022-12-15T11:36:07Z</dcterms:modified>
  <cp:revision>4</cp:revision>
  <dc:subject/>
  <dc:title>Сечения многогранника плоскостью.</dc:title>
</cp:coreProperties>
</file>