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98C-BFC4-4867-A9A2-2F8EFB7F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9EE-EC59-47AB-AF57-BB199B0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959-8422-403C-9EC9-05151B1D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1F2-1BB7-4D3E-961C-6A4725F3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3A9-3D6E-46D5-9844-D18B213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CD1-9B2E-4F77-8212-62D88D6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253-7AC9-4190-AED4-A90A634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F9B-BC25-40DF-ADD4-CEDA9831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A1B-113D-44BB-8CF4-9477DA11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5F7-7A9C-4B48-BCD0-B1892C8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5F4-89C4-4A3C-BBFB-9B001FB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04B-D905-4F28-8C69-63CE788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ACC6-4F7A-4719-8986-E635F1AFD2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Сечения</a:t>
            </a:r>
            <a:r>
              <a:rPr b="0" lang="ru-RU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многогранника плоскостью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Задача: В правильной треугольной пирамиде сторона основания - а и угол наклона бокового ребра к плоскости основания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 Через центр основания проведено сечение пирамиды плоскостью, параллельной двум пересекающимся рёбрам. Построить сечение и найти его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21"/>
          <p:cNvGrpSpPr/>
          <p:nvPr/>
        </p:nvGrpSpPr>
        <p:grpSpPr>
          <a:xfrm>
            <a:off x="1547640" y="2205000"/>
            <a:ext cx="6769440" cy="4114800"/>
            <a:chOff x="1547640" y="2205000"/>
            <a:chExt cx="6769440" cy="4114800"/>
          </a:xfrm>
        </p:grpSpPr>
        <p:sp>
          <p:nvSpPr>
            <p:cNvPr id="44" name="AutoShape 22"/>
            <p:cNvSpPr/>
            <p:nvPr/>
          </p:nvSpPr>
          <p:spPr>
            <a:xfrm>
              <a:off x="1547640" y="2205000"/>
              <a:ext cx="6769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23"/>
            <p:cNvSpPr/>
            <p:nvPr/>
          </p:nvSpPr>
          <p:spPr>
            <a:xfrm>
              <a:off x="3936600" y="4727160"/>
              <a:ext cx="7963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 flipV="1">
              <a:off x="4732920" y="4727160"/>
              <a:ext cx="25225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 flipH="1">
              <a:off x="4335120" y="4727160"/>
              <a:ext cx="2920320" cy="5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3936600" y="4727160"/>
              <a:ext cx="3318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3936600" y="4727160"/>
              <a:ext cx="1991160" cy="66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28"/>
            <p:cNvSpPr/>
            <p:nvPr/>
          </p:nvSpPr>
          <p:spPr>
            <a:xfrm flipV="1">
              <a:off x="5131440" y="366516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29"/>
            <p:cNvSpPr/>
            <p:nvPr/>
          </p:nvSpPr>
          <p:spPr>
            <a:xfrm>
              <a:off x="5131440" y="3665160"/>
              <a:ext cx="2124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0"/>
            <p:cNvSpPr/>
            <p:nvPr/>
          </p:nvSpPr>
          <p:spPr>
            <a:xfrm flipH="1">
              <a:off x="4732560" y="3665160"/>
              <a:ext cx="398520" cy="22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1"/>
            <p:cNvSpPr/>
            <p:nvPr/>
          </p:nvSpPr>
          <p:spPr>
            <a:xfrm flipH="1">
              <a:off x="3936240" y="3665160"/>
              <a:ext cx="119484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Text Box 33"/>
          <p:cNvSpPr/>
          <p:nvPr/>
        </p:nvSpPr>
        <p:spPr>
          <a:xfrm>
            <a:off x="349416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457380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5005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723780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93416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200720" cy="31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ABC –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равильная пирамида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АВ = а,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угол (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C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;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)) =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Сечение плоскостью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: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  Содержит центр основания пирамиды и 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  параллельно двум непересекающимся рёбрам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C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                         AB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строить сечение и найти его площадь.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32000" y="170028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3"/>
          <p:cNvGrpSpPr/>
          <p:nvPr/>
        </p:nvGrpSpPr>
        <p:grpSpPr>
          <a:xfrm>
            <a:off x="1547640" y="2205000"/>
            <a:ext cx="6769440" cy="4114800"/>
            <a:chOff x="1547640" y="2205000"/>
            <a:chExt cx="6769440" cy="4114800"/>
          </a:xfrm>
        </p:grpSpPr>
        <p:sp>
          <p:nvSpPr>
            <p:cNvPr id="62" name="AutoShape 34"/>
            <p:cNvSpPr/>
            <p:nvPr/>
          </p:nvSpPr>
          <p:spPr>
            <a:xfrm>
              <a:off x="1547640" y="2205000"/>
              <a:ext cx="6769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5"/>
            <p:cNvSpPr/>
            <p:nvPr/>
          </p:nvSpPr>
          <p:spPr>
            <a:xfrm>
              <a:off x="3936600" y="4727160"/>
              <a:ext cx="7963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6"/>
            <p:cNvSpPr/>
            <p:nvPr/>
          </p:nvSpPr>
          <p:spPr>
            <a:xfrm flipV="1">
              <a:off x="4732920" y="4727160"/>
              <a:ext cx="25225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4335120" y="4727160"/>
              <a:ext cx="2920320" cy="5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3936600" y="4727160"/>
              <a:ext cx="3318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>
              <a:off x="3936600" y="4727160"/>
              <a:ext cx="1991160" cy="66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0"/>
            <p:cNvSpPr/>
            <p:nvPr/>
          </p:nvSpPr>
          <p:spPr>
            <a:xfrm flipV="1">
              <a:off x="5131440" y="366516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41"/>
            <p:cNvSpPr/>
            <p:nvPr/>
          </p:nvSpPr>
          <p:spPr>
            <a:xfrm>
              <a:off x="5131440" y="3665160"/>
              <a:ext cx="2124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 flipH="1">
              <a:off x="4732560" y="3665160"/>
              <a:ext cx="398520" cy="22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3"/>
            <p:cNvSpPr/>
            <p:nvPr/>
          </p:nvSpPr>
          <p:spPr>
            <a:xfrm flipH="1">
              <a:off x="3936240" y="3665160"/>
              <a:ext cx="119484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Text Box 44"/>
          <p:cNvSpPr/>
          <p:nvPr/>
        </p:nvSpPr>
        <p:spPr>
          <a:xfrm>
            <a:off x="356580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4502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5005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723780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500544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строение сечения многогранника плоскостью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74800"/>
            <a:ext cx="85406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Точка Н является центром основания (по свойству правильной пирамиды). Проведём через точку Н в плоскости основания прямую, параллельную ребру АВ. Она пересечёт ребро АС в точке К, а ребро ВС в точке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элемент сечения.                       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6432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49"/>
          <p:cNvGrpSpPr/>
          <p:nvPr/>
        </p:nvGrpSpPr>
        <p:grpSpPr>
          <a:xfrm>
            <a:off x="971640" y="1584360"/>
            <a:ext cx="8675640" cy="5273640"/>
            <a:chOff x="971640" y="1584360"/>
            <a:chExt cx="8675640" cy="5273640"/>
          </a:xfrm>
        </p:grpSpPr>
        <p:sp>
          <p:nvSpPr>
            <p:cNvPr id="81" name="AutoShape 50"/>
            <p:cNvSpPr/>
            <p:nvPr/>
          </p:nvSpPr>
          <p:spPr>
            <a:xfrm>
              <a:off x="971640" y="1584360"/>
              <a:ext cx="867564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51"/>
            <p:cNvSpPr/>
            <p:nvPr/>
          </p:nvSpPr>
          <p:spPr>
            <a:xfrm>
              <a:off x="4033080" y="4816800"/>
              <a:ext cx="102024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52"/>
            <p:cNvSpPr/>
            <p:nvPr/>
          </p:nvSpPr>
          <p:spPr>
            <a:xfrm flipV="1">
              <a:off x="5053680" y="4816800"/>
              <a:ext cx="32328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53"/>
            <p:cNvSpPr/>
            <p:nvPr/>
          </p:nvSpPr>
          <p:spPr>
            <a:xfrm flipH="1">
              <a:off x="454428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54"/>
            <p:cNvSpPr/>
            <p:nvPr/>
          </p:nvSpPr>
          <p:spPr>
            <a:xfrm>
              <a:off x="4033080" y="4816800"/>
              <a:ext cx="425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55"/>
            <p:cNvSpPr/>
            <p:nvPr/>
          </p:nvSpPr>
          <p:spPr>
            <a:xfrm>
              <a:off x="403308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56"/>
            <p:cNvSpPr/>
            <p:nvPr/>
          </p:nvSpPr>
          <p:spPr>
            <a:xfrm flipV="1">
              <a:off x="556488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556488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 flipH="1">
              <a:off x="505332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9"/>
            <p:cNvSpPr/>
            <p:nvPr/>
          </p:nvSpPr>
          <p:spPr>
            <a:xfrm flipH="1">
              <a:off x="403308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Line 60"/>
          <p:cNvSpPr/>
          <p:nvPr/>
        </p:nvSpPr>
        <p:spPr>
          <a:xfrm>
            <a:off x="5219640" y="4797360"/>
            <a:ext cx="792360" cy="115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363708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5365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86108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4"/>
          <p:cNvSpPr/>
          <p:nvPr/>
        </p:nvSpPr>
        <p:spPr>
          <a:xfrm>
            <a:off x="824580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586728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493416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7"/>
          <p:cNvSpPr/>
          <p:nvPr/>
        </p:nvSpPr>
        <p:spPr>
          <a:xfrm>
            <a:off x="536616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B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через точку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проведём прямую, параллельную ребр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на пересечёт ребро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B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точке М.          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ML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 сечения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00" name="Group 26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01" name="AutoShape 27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8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9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0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1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2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3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4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5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Text Box 37"/>
          <p:cNvSpPr/>
          <p:nvPr/>
        </p:nvSpPr>
        <p:spPr>
          <a:xfrm>
            <a:off x="349416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464508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810288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522144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5076720" y="4797360"/>
            <a:ext cx="792360" cy="115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71816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579744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0"/>
          <p:cNvSpPr/>
          <p:nvPr/>
        </p:nvSpPr>
        <p:spPr>
          <a:xfrm>
            <a:off x="5076720" y="5516640"/>
            <a:ext cx="792360" cy="4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SC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через точк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роведём прямую, параллельную ребр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на пересечёт ребро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A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точке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         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N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 сечения. 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23" name="AutoShape 6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16"/>
          <p:cNvSpPr/>
          <p:nvPr/>
        </p:nvSpPr>
        <p:spPr>
          <a:xfrm>
            <a:off x="349416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57380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817416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22144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076720" y="4797360"/>
            <a:ext cx="790560" cy="115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79744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478980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5076720" y="55166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 flipH="1" flipV="1">
            <a:off x="4284720" y="4365720"/>
            <a:ext cx="790560" cy="43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40690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SB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меются две точк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, принадлежащие плоскости сечения. Соединим их. Полученный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M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является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ом сечения.  Четырёхугольни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LMN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комое сечение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47" name="AutoShape 6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349416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457380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810288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22144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5076720" y="4797360"/>
            <a:ext cx="790560" cy="115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5076720" y="55166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 flipH="1" flipV="1">
            <a:off x="4284720" y="4365720"/>
            <a:ext cx="790560" cy="43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40690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586872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486108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4356000" y="4437000"/>
            <a:ext cx="72072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5:04:34Z</dcterms:created>
  <dc:creator>Светланка</dc:creator>
  <dc:description/>
  <dc:language>en-US</dc:language>
  <cp:lastModifiedBy>Марина</cp:lastModifiedBy>
  <dcterms:modified xsi:type="dcterms:W3CDTF">2022-12-15T11:36:07Z</dcterms:modified>
  <cp:revision>4</cp:revision>
  <dc:subject/>
  <dc:title>Сечения многогранника плоскостью.</dc:title>
</cp:coreProperties>
</file>