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D18-0DAF-4C93-B605-6C64F867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2D9B-6196-4651-87B2-0E033B2E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CD3-939A-4128-9B46-C8613969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C079-EEC7-4787-B271-6474DB03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54E4-71D9-4AB7-8770-11265569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6E05-BB25-4646-A424-B399CEB6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14CA-50EC-4A68-8A8A-D87CD7EF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556-9476-4545-B615-BD849F53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139-3913-4F1E-9561-A83F4549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D9B-C45E-42B4-8E9D-68877D85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21C-5F2E-436F-896F-A0FA4847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C590-CA83-4A1A-814F-A652C3BC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d971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E0C0-89D0-4898-91FE-379531378B5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C146-3260-46F4-B96D-35E28C21E4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User\AppData\Local\Microsoft\Windows\Temporary Internet Files\Content.IE5\UZH972EG\MC900437638[1].png"/>
          <p:cNvPicPr/>
          <p:nvPr/>
        </p:nvPicPr>
        <p:blipFill>
          <a:blip r:embed="rId1"/>
          <a:stretch/>
        </p:blipFill>
        <p:spPr>
          <a:xfrm>
            <a:off x="-544680" y="1165320"/>
            <a:ext cx="3316320" cy="388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Users\User\AppData\Local\Microsoft\Windows\Temporary Internet Files\Content.IE5\UZH972EG\MC900437638[1].png"/>
          <p:cNvPicPr/>
          <p:nvPr/>
        </p:nvPicPr>
        <p:blipFill>
          <a:blip r:embed="rId2"/>
          <a:stretch/>
        </p:blipFill>
        <p:spPr>
          <a:xfrm>
            <a:off x="1708200" y="1197000"/>
            <a:ext cx="3316320" cy="3887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User\AppData\Local\Microsoft\Windows\Temporary Internet Files\Content.IE5\UZH972EG\MC900437638[1].png"/>
          <p:cNvPicPr/>
          <p:nvPr/>
        </p:nvPicPr>
        <p:blipFill>
          <a:blip r:embed="rId3"/>
          <a:stretch/>
        </p:blipFill>
        <p:spPr>
          <a:xfrm>
            <a:off x="3989520" y="1197000"/>
            <a:ext cx="3316320" cy="388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User\AppData\Local\Microsoft\Windows\Temporary Internet Files\Content.IE5\UZH972EG\MC900437638[1].png"/>
          <p:cNvPicPr/>
          <p:nvPr/>
        </p:nvPicPr>
        <p:blipFill>
          <a:blip r:embed="rId4"/>
          <a:stretch/>
        </p:blipFill>
        <p:spPr>
          <a:xfrm>
            <a:off x="6270480" y="1197000"/>
            <a:ext cx="3316320" cy="388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User\AppData\Local\Microsoft\Windows\Temporary Internet Files\Content.IE5\UZH972EG\MC900437638[1].png"/>
          <p:cNvPicPr/>
          <p:nvPr/>
        </p:nvPicPr>
        <p:blipFill>
          <a:blip r:embed="rId5"/>
          <a:stretch/>
        </p:blipFill>
        <p:spPr>
          <a:xfrm>
            <a:off x="-554040" y="4149720"/>
            <a:ext cx="3316320" cy="388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User\AppData\Local\Microsoft\Windows\Temporary Internet Files\Content.IE5\UZH972EG\MC900437638[1].png"/>
          <p:cNvPicPr/>
          <p:nvPr/>
        </p:nvPicPr>
        <p:blipFill>
          <a:blip r:embed="rId6"/>
          <a:stretch/>
        </p:blipFill>
        <p:spPr>
          <a:xfrm>
            <a:off x="6265800" y="4149720"/>
            <a:ext cx="3316320" cy="388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User\AppData\Local\Microsoft\Windows\Temporary Internet Files\Content.IE5\UZH972EG\MC900437638[1].png"/>
          <p:cNvPicPr/>
          <p:nvPr/>
        </p:nvPicPr>
        <p:blipFill>
          <a:blip r:embed="rId7"/>
          <a:stretch/>
        </p:blipFill>
        <p:spPr>
          <a:xfrm>
            <a:off x="1681200" y="4122720"/>
            <a:ext cx="3316320" cy="3887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User\AppData\Local\Microsoft\Windows\Temporary Internet Files\Content.IE5\UZH972EG\MC900437638[1].png"/>
          <p:cNvPicPr/>
          <p:nvPr/>
        </p:nvPicPr>
        <p:blipFill>
          <a:blip r:embed="rId8"/>
          <a:stretch/>
        </p:blipFill>
        <p:spPr>
          <a:xfrm>
            <a:off x="3989520" y="4149720"/>
            <a:ext cx="3316320" cy="3887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Users\User\AppData\Local\Microsoft\Windows\Temporary Internet Files\Content.IE5\2SZ5KGP9\MC900434823[1].png"/>
          <p:cNvPicPr/>
          <p:nvPr/>
        </p:nvPicPr>
        <p:blipFill>
          <a:blip r:embed="rId9"/>
          <a:stretch/>
        </p:blipFill>
        <p:spPr>
          <a:xfrm>
            <a:off x="500040" y="1623960"/>
            <a:ext cx="625320" cy="627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Users\User\AppData\Local\Microsoft\Windows\Temporary Internet Files\Content.IE5\2SZ5KGP9\MC900434823[1].png"/>
          <p:cNvPicPr/>
          <p:nvPr/>
        </p:nvPicPr>
        <p:blipFill>
          <a:blip r:embed="rId10"/>
          <a:stretch/>
        </p:blipFill>
        <p:spPr>
          <a:xfrm>
            <a:off x="1125360" y="162396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User\AppData\Local\Microsoft\Windows\Temporary Internet Files\Content.IE5\2SZ5KGP9\MC900434823[1].png"/>
          <p:cNvPicPr/>
          <p:nvPr/>
        </p:nvPicPr>
        <p:blipFill>
          <a:blip r:embed="rId11"/>
          <a:stretch/>
        </p:blipFill>
        <p:spPr>
          <a:xfrm>
            <a:off x="339840" y="2168640"/>
            <a:ext cx="625320" cy="625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Users\User\AppData\Local\Microsoft\Windows\Temporary Internet Files\Content.IE5\2SZ5KGP9\MC900434823[1].png"/>
          <p:cNvPicPr/>
          <p:nvPr/>
        </p:nvPicPr>
        <p:blipFill>
          <a:blip r:embed="rId12"/>
          <a:stretch/>
        </p:blipFill>
        <p:spPr>
          <a:xfrm>
            <a:off x="1395360" y="2168640"/>
            <a:ext cx="627120" cy="625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User\AppData\Local\Microsoft\Windows\Temporary Internet Files\Content.IE5\2SZ5KGP9\MC900434823[1].png"/>
          <p:cNvPicPr/>
          <p:nvPr/>
        </p:nvPicPr>
        <p:blipFill>
          <a:blip r:embed="rId13"/>
          <a:stretch/>
        </p:blipFill>
        <p:spPr>
          <a:xfrm>
            <a:off x="4859280" y="514836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AppData\Local\Microsoft\Windows\Temporary Internet Files\Content.IE5\2SZ5KGP9\MC900434823[1].png"/>
          <p:cNvPicPr/>
          <p:nvPr/>
        </p:nvPicPr>
        <p:blipFill>
          <a:blip r:embed="rId14"/>
          <a:stretch/>
        </p:blipFill>
        <p:spPr>
          <a:xfrm>
            <a:off x="5676840" y="4618080"/>
            <a:ext cx="625680" cy="627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Users\User\AppData\Local\Microsoft\Windows\Temporary Internet Files\Content.IE5\2SZ5KGP9\MC900434823[1].png"/>
          <p:cNvPicPr/>
          <p:nvPr/>
        </p:nvPicPr>
        <p:blipFill>
          <a:blip r:embed="rId15"/>
          <a:stretch/>
        </p:blipFill>
        <p:spPr>
          <a:xfrm>
            <a:off x="5049720" y="461808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User\AppData\Local\Microsoft\Windows\Temporary Internet Files\Content.IE5\2SZ5KGP9\MC900434823[1].png"/>
          <p:cNvPicPr/>
          <p:nvPr/>
        </p:nvPicPr>
        <p:blipFill>
          <a:blip r:embed="rId16"/>
          <a:stretch/>
        </p:blipFill>
        <p:spPr>
          <a:xfrm>
            <a:off x="3479760" y="514836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User\AppData\Local\Microsoft\Windows\Temporary Internet Files\Content.IE5\2SZ5KGP9\MC900434823[1].png"/>
          <p:cNvPicPr/>
          <p:nvPr/>
        </p:nvPicPr>
        <p:blipFill>
          <a:blip r:embed="rId17"/>
          <a:stretch/>
        </p:blipFill>
        <p:spPr>
          <a:xfrm>
            <a:off x="2593800" y="5154480"/>
            <a:ext cx="625680" cy="62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User\AppData\Local\Microsoft\Windows\Temporary Internet Files\Content.IE5\2SZ5KGP9\MC900434823[1].png"/>
          <p:cNvPicPr/>
          <p:nvPr/>
        </p:nvPicPr>
        <p:blipFill>
          <a:blip r:embed="rId18"/>
          <a:stretch/>
        </p:blipFill>
        <p:spPr>
          <a:xfrm>
            <a:off x="3340080" y="4618080"/>
            <a:ext cx="625320" cy="627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User\AppData\Local\Microsoft\Windows\Temporary Internet Files\Content.IE5\2SZ5KGP9\MC900434823[1].png"/>
          <p:cNvPicPr/>
          <p:nvPr/>
        </p:nvPicPr>
        <p:blipFill>
          <a:blip r:embed="rId19"/>
          <a:stretch/>
        </p:blipFill>
        <p:spPr>
          <a:xfrm>
            <a:off x="2739960" y="461808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User\AppData\Local\Microsoft\Windows\Temporary Internet Files\Content.IE5\2SZ5KGP9\MC900434823[1].png"/>
          <p:cNvPicPr/>
          <p:nvPr/>
        </p:nvPicPr>
        <p:blipFill>
          <a:blip r:embed="rId20"/>
          <a:stretch/>
        </p:blipFill>
        <p:spPr>
          <a:xfrm>
            <a:off x="1254240" y="5189400"/>
            <a:ext cx="625320" cy="625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User\AppData\Local\Microsoft\Windows\Temporary Internet Files\Content.IE5\2SZ5KGP9\MC900434823[1].png"/>
          <p:cNvPicPr/>
          <p:nvPr/>
        </p:nvPicPr>
        <p:blipFill>
          <a:blip r:embed="rId21"/>
          <a:stretch/>
        </p:blipFill>
        <p:spPr>
          <a:xfrm>
            <a:off x="293760" y="5153040"/>
            <a:ext cx="625320" cy="62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User\AppData\Local\Microsoft\Windows\Temporary Internet Files\Content.IE5\2SZ5KGP9\MC900434823[1].png"/>
          <p:cNvPicPr/>
          <p:nvPr/>
        </p:nvPicPr>
        <p:blipFill>
          <a:blip r:embed="rId22"/>
          <a:stretch/>
        </p:blipFill>
        <p:spPr>
          <a:xfrm>
            <a:off x="1082520" y="4653000"/>
            <a:ext cx="625680" cy="627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User\AppData\Local\Microsoft\Windows\Temporary Internet Files\Content.IE5\2SZ5KGP9\MC900434823[1].png"/>
          <p:cNvPicPr/>
          <p:nvPr/>
        </p:nvPicPr>
        <p:blipFill>
          <a:blip r:embed="rId23"/>
          <a:stretch/>
        </p:blipFill>
        <p:spPr>
          <a:xfrm>
            <a:off x="484200" y="4626000"/>
            <a:ext cx="625320" cy="627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User\AppData\Local\Microsoft\Windows\Temporary Internet Files\Content.IE5\2SZ5KGP9\MC900434823[1].png"/>
          <p:cNvPicPr/>
          <p:nvPr/>
        </p:nvPicPr>
        <p:blipFill>
          <a:blip r:embed="rId24"/>
          <a:stretch/>
        </p:blipFill>
        <p:spPr>
          <a:xfrm>
            <a:off x="8101080" y="2193840"/>
            <a:ext cx="625320" cy="62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User\AppData\Local\Microsoft\Windows\Temporary Internet Files\Content.IE5\2SZ5KGP9\MC900434823[1].png"/>
          <p:cNvPicPr/>
          <p:nvPr/>
        </p:nvPicPr>
        <p:blipFill>
          <a:blip r:embed="rId25"/>
          <a:stretch/>
        </p:blipFill>
        <p:spPr>
          <a:xfrm>
            <a:off x="7164360" y="2141640"/>
            <a:ext cx="625680" cy="62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User\AppData\Local\Microsoft\Windows\Temporary Internet Files\Content.IE5\2SZ5KGP9\MC900434823[1].png"/>
          <p:cNvPicPr/>
          <p:nvPr/>
        </p:nvPicPr>
        <p:blipFill>
          <a:blip r:embed="rId26"/>
          <a:stretch/>
        </p:blipFill>
        <p:spPr>
          <a:xfrm>
            <a:off x="7983360" y="1652760"/>
            <a:ext cx="625680" cy="626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Users\User\AppData\Local\Microsoft\Windows\Temporary Internet Files\Content.IE5\2SZ5KGP9\MC900434823[1].png"/>
          <p:cNvPicPr/>
          <p:nvPr/>
        </p:nvPicPr>
        <p:blipFill>
          <a:blip r:embed="rId27"/>
          <a:stretch/>
        </p:blipFill>
        <p:spPr>
          <a:xfrm>
            <a:off x="7358040" y="1631880"/>
            <a:ext cx="625320" cy="625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Users\User\AppData\Local\Microsoft\Windows\Temporary Internet Files\Content.IE5\2SZ5KGP9\MC900434823[1].png"/>
          <p:cNvPicPr/>
          <p:nvPr/>
        </p:nvPicPr>
        <p:blipFill>
          <a:blip r:embed="rId28"/>
          <a:stretch/>
        </p:blipFill>
        <p:spPr>
          <a:xfrm>
            <a:off x="5738760" y="2133720"/>
            <a:ext cx="625680" cy="625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Users\User\AppData\Local\Microsoft\Windows\Temporary Internet Files\Content.IE5\2SZ5KGP9\MC900434823[1].png"/>
          <p:cNvPicPr/>
          <p:nvPr/>
        </p:nvPicPr>
        <p:blipFill>
          <a:blip r:embed="rId29"/>
          <a:stretch/>
        </p:blipFill>
        <p:spPr>
          <a:xfrm>
            <a:off x="4859280" y="212076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User\AppData\Local\Microsoft\Windows\Temporary Internet Files\Content.IE5\2SZ5KGP9\MC900434823[1].png"/>
          <p:cNvPicPr/>
          <p:nvPr/>
        </p:nvPicPr>
        <p:blipFill>
          <a:blip r:embed="rId30"/>
          <a:stretch/>
        </p:blipFill>
        <p:spPr>
          <a:xfrm>
            <a:off x="5648400" y="1616040"/>
            <a:ext cx="625320" cy="62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Users\User\AppData\Local\Microsoft\Windows\Temporary Internet Files\Content.IE5\2SZ5KGP9\MC900434823[1].png"/>
          <p:cNvPicPr/>
          <p:nvPr/>
        </p:nvPicPr>
        <p:blipFill>
          <a:blip r:embed="rId31"/>
          <a:stretch/>
        </p:blipFill>
        <p:spPr>
          <a:xfrm>
            <a:off x="5049720" y="1598760"/>
            <a:ext cx="627120" cy="626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Users\User\AppData\Local\Microsoft\Windows\Temporary Internet Files\Content.IE5\2SZ5KGP9\MC900434823[1].png"/>
          <p:cNvPicPr/>
          <p:nvPr/>
        </p:nvPicPr>
        <p:blipFill>
          <a:blip r:embed="rId32"/>
          <a:stretch/>
        </p:blipFill>
        <p:spPr>
          <a:xfrm>
            <a:off x="3479760" y="2144880"/>
            <a:ext cx="627120" cy="626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Users\User\AppData\Local\Microsoft\Windows\Temporary Internet Files\Content.IE5\2SZ5KGP9\MC900434823[1].png"/>
          <p:cNvPicPr/>
          <p:nvPr/>
        </p:nvPicPr>
        <p:blipFill>
          <a:blip r:embed="rId33"/>
          <a:stretch/>
        </p:blipFill>
        <p:spPr>
          <a:xfrm>
            <a:off x="2593800" y="2133720"/>
            <a:ext cx="625680" cy="625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Users\User\AppData\Local\Microsoft\Windows\Temporary Internet Files\Content.IE5\2SZ5KGP9\MC900434823[1].png"/>
          <p:cNvPicPr/>
          <p:nvPr/>
        </p:nvPicPr>
        <p:blipFill>
          <a:blip r:embed="rId34"/>
          <a:stretch/>
        </p:blipFill>
        <p:spPr>
          <a:xfrm>
            <a:off x="3387600" y="1623960"/>
            <a:ext cx="625680" cy="627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Users\User\AppData\Local\Microsoft\Windows\Temporary Internet Files\Content.IE5\2SZ5KGP9\MC900434823[1].png"/>
          <p:cNvPicPr/>
          <p:nvPr/>
        </p:nvPicPr>
        <p:blipFill>
          <a:blip r:embed="rId35"/>
          <a:stretch/>
        </p:blipFill>
        <p:spPr>
          <a:xfrm>
            <a:off x="2801880" y="162396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User\AppData\Local\Microsoft\Windows\Temporary Internet Files\Content.IE5\2SZ5KGP9\MC900434823[1].png"/>
          <p:cNvPicPr/>
          <p:nvPr/>
        </p:nvPicPr>
        <p:blipFill>
          <a:blip r:embed="rId36"/>
          <a:stretch/>
        </p:blipFill>
        <p:spPr>
          <a:xfrm>
            <a:off x="8055000" y="5084640"/>
            <a:ext cx="625320" cy="62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User\AppData\Local\Microsoft\Windows\Temporary Internet Files\Content.IE5\2SZ5KGP9\MC900434823[1].png"/>
          <p:cNvPicPr/>
          <p:nvPr/>
        </p:nvPicPr>
        <p:blipFill>
          <a:blip r:embed="rId37"/>
          <a:stretch/>
        </p:blipFill>
        <p:spPr>
          <a:xfrm>
            <a:off x="7155000" y="5084640"/>
            <a:ext cx="625320" cy="627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Users\User\AppData\Local\Microsoft\Windows\Temporary Internet Files\Content.IE5\2SZ5KGP9\MC900434823[1].png"/>
          <p:cNvPicPr/>
          <p:nvPr/>
        </p:nvPicPr>
        <p:blipFill>
          <a:blip r:embed="rId38"/>
          <a:stretch/>
        </p:blipFill>
        <p:spPr>
          <a:xfrm>
            <a:off x="7932600" y="4502160"/>
            <a:ext cx="627120" cy="625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Users\User\AppData\Local\Microsoft\Windows\Temporary Internet Files\Content.IE5\2SZ5KGP9\MC900434823[1].png"/>
          <p:cNvPicPr/>
          <p:nvPr/>
        </p:nvPicPr>
        <p:blipFill>
          <a:blip r:embed="rId39"/>
          <a:stretch/>
        </p:blipFill>
        <p:spPr>
          <a:xfrm>
            <a:off x="7358040" y="4551480"/>
            <a:ext cx="625320" cy="62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:\Users\User\AppData\Local\Microsoft\Windows\Temporary Internet Files\Content.IE5\2SZ5KGP9\MC900434823[1].png"/>
          <p:cNvPicPr/>
          <p:nvPr/>
        </p:nvPicPr>
        <p:blipFill>
          <a:blip r:embed="rId40"/>
          <a:stretch/>
        </p:blipFill>
        <p:spPr>
          <a:xfrm>
            <a:off x="5738760" y="5148360"/>
            <a:ext cx="625680" cy="62712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8"/>
          <p:cNvSpPr/>
          <p:nvPr/>
        </p:nvSpPr>
        <p:spPr>
          <a:xfrm>
            <a:off x="0" y="115920"/>
            <a:ext cx="9144000" cy="1049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0" y="442800"/>
            <a:ext cx="9001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d314a"/>
                </a:solidFill>
                <a:latin typeface="Calibri"/>
              </a:rPr>
              <a:t>Сколько яблок на 2 деревья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0" y="442800"/>
            <a:ext cx="9001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d314a"/>
                </a:solidFill>
                <a:latin typeface="Calibri"/>
              </a:rPr>
              <a:t>Сколько яблок на 3 деревья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0" y="442800"/>
            <a:ext cx="900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d314a"/>
                </a:solidFill>
                <a:latin typeface="Calibri"/>
              </a:rPr>
              <a:t>Сколько яблок на 4 деревья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4680" y="442800"/>
            <a:ext cx="900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d314a"/>
                </a:solidFill>
                <a:latin typeface="Calibri"/>
              </a:rPr>
              <a:t>Сколько яблок на 5 деревья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9"/>
          <p:cNvSpPr/>
          <p:nvPr/>
        </p:nvSpPr>
        <p:spPr>
          <a:xfrm>
            <a:off x="0" y="452520"/>
            <a:ext cx="9001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d314a"/>
                </a:solidFill>
                <a:latin typeface="Calibri"/>
              </a:rPr>
              <a:t>Сколько яблок на 6 деревья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0" y="442800"/>
            <a:ext cx="900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d314a"/>
                </a:solidFill>
                <a:latin typeface="Calibri"/>
              </a:rPr>
              <a:t>Сколько яблок на 7 деревья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0" y="442800"/>
            <a:ext cx="9001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d314a"/>
                </a:solidFill>
                <a:latin typeface="Calibri"/>
              </a:rPr>
              <a:t>Сколько яблок на 8 деревья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-6480" y="442800"/>
            <a:ext cx="9001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d314a"/>
                </a:solidFill>
                <a:latin typeface="Calibri"/>
              </a:rPr>
              <a:t>Сколько яблок на 9 деревья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546120" y="2060640"/>
            <a:ext cx="7993080" cy="3744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8"/>
          <p:cNvSpPr/>
          <p:nvPr/>
        </p:nvSpPr>
        <p:spPr>
          <a:xfrm>
            <a:off x="-28440" y="0"/>
            <a:ext cx="9144000" cy="1368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Заголовок 1"/>
          <p:cNvSpPr/>
          <p:nvPr/>
        </p:nvSpPr>
        <p:spPr>
          <a:xfrm>
            <a:off x="303120" y="3808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d314a"/>
                </a:solidFill>
                <a:latin typeface="Calibri"/>
              </a:rPr>
              <a:t>Запись таблицы:</a:t>
            </a:r>
            <a:r>
              <a:rPr b="1" lang="ru-RU" sz="4400" spc="-1" strike="noStrike">
                <a:solidFill>
                  <a:srgbClr val="dd314a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755640" y="1670040"/>
            <a:ext cx="853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    2 = 8              4    6 = 24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    3 = 12            4    7 = 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    4 = 16            4    8 = 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 = 20            4    9 = 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    10 = 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0"/>
          <p:cNvSpPr/>
          <p:nvPr/>
        </p:nvSpPr>
        <p:spPr>
          <a:xfrm>
            <a:off x="1476360" y="2565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0"/>
          <p:cNvSpPr/>
          <p:nvPr/>
        </p:nvSpPr>
        <p:spPr>
          <a:xfrm>
            <a:off x="1476360" y="3429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0"/>
          <p:cNvSpPr/>
          <p:nvPr/>
        </p:nvSpPr>
        <p:spPr>
          <a:xfrm>
            <a:off x="1481040" y="515772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0"/>
          <p:cNvSpPr/>
          <p:nvPr/>
        </p:nvSpPr>
        <p:spPr>
          <a:xfrm>
            <a:off x="1467000" y="4292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0"/>
          <p:cNvSpPr/>
          <p:nvPr/>
        </p:nvSpPr>
        <p:spPr>
          <a:xfrm>
            <a:off x="6215040" y="4292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0"/>
          <p:cNvSpPr/>
          <p:nvPr/>
        </p:nvSpPr>
        <p:spPr>
          <a:xfrm>
            <a:off x="6215040" y="3429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6215040" y="5157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0"/>
          <p:cNvSpPr/>
          <p:nvPr/>
        </p:nvSpPr>
        <p:spPr>
          <a:xfrm>
            <a:off x="6215040" y="2565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0"/>
          <p:cNvSpPr/>
          <p:nvPr/>
        </p:nvSpPr>
        <p:spPr>
          <a:xfrm>
            <a:off x="6084720" y="6022800"/>
            <a:ext cx="130320" cy="173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E23F-10EC-4E5E-BD0B-E3D9CE2C2F6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865C-A019-4288-AE1C-7928CEDBA5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457200" y="501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Bookman Old Style"/>
              </a:rPr>
              <a:t>Деление – действие, обратное умнож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66560" y="1994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  <a:ea typeface="Arial"/>
              </a:rPr>
              <a:t>  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  <a:ea typeface="Arial"/>
              </a:rPr>
              <a:t>4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  <a:ea typeface="Arial"/>
              </a:rPr>
              <a:t>х </a:t>
            </a:r>
            <a:r>
              <a:rPr b="1" i="1" lang="ru-RU" sz="4000" spc="-1" strike="noStrike">
                <a:solidFill>
                  <a:srgbClr val="000099"/>
                </a:solidFill>
                <a:latin typeface="Bookman Old Style"/>
                <a:ea typeface="Arial"/>
              </a:rPr>
              <a:t>5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  <a:ea typeface="Arial"/>
              </a:rPr>
              <a:t> = </a:t>
            </a:r>
            <a:r>
              <a:rPr b="1" i="1" lang="ru-RU" sz="4000" spc="-1" strike="noStrike">
                <a:solidFill>
                  <a:srgbClr val="006600"/>
                </a:solidFill>
                <a:latin typeface="Bookman Old Style"/>
                <a:ea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Bookman Old Style"/>
                <a:ea typeface="Arial"/>
              </a:rPr>
              <a:t>20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  <a:ea typeface="Arial"/>
              </a:rPr>
              <a:t> : 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  <a:ea typeface="Arial"/>
              </a:rPr>
              <a:t>4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  <a:ea typeface="Arial"/>
              </a:rPr>
              <a:t> = </a:t>
            </a:r>
            <a:r>
              <a:rPr b="1" i="1" lang="ru-RU" sz="4000" spc="-1" strike="noStrike">
                <a:solidFill>
                  <a:srgbClr val="000099"/>
                </a:solidFill>
                <a:latin typeface="Bookman Old Style"/>
                <a:ea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Bookman Old Style"/>
                <a:ea typeface="Arial"/>
              </a:rPr>
              <a:t>20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  <a:ea typeface="Arial"/>
              </a:rPr>
              <a:t> : </a:t>
            </a:r>
            <a:r>
              <a:rPr b="1" i="1" lang="ru-RU" sz="4000" spc="-1" strike="noStrike">
                <a:solidFill>
                  <a:srgbClr val="000099"/>
                </a:solidFill>
                <a:latin typeface="Bookman Old Style"/>
                <a:ea typeface="Arial"/>
              </a:rPr>
              <a:t>5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  <a:ea typeface="Arial"/>
              </a:rPr>
              <a:t> = 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  <a:ea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6C55-30AE-48D1-96F1-6E20CCE1D68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4864-C0F1-4D78-A20B-6B05E5FC80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Bookman Old Style"/>
              </a:rPr>
              <a:t>Используя таблицу умножения на 4, выполни 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 х 1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 х 2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 х 3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 х 4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 х 5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 х 6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 х 7 =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 х 8 =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 х 9 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 х 10 =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24 :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20 :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8 :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28 :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12 :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16 :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32 :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36 :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 :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40 :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CC26-EF7B-461A-BA29-6DAB9EEAAFC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170E-A00C-4ABC-A5DC-06D3AEF511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6"/>
          <p:cNvSpPr/>
          <p:nvPr/>
        </p:nvSpPr>
        <p:spPr>
          <a:xfrm>
            <a:off x="611280" y="260280"/>
            <a:ext cx="8218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Как лучше посчит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4"/>
          <p:cNvSpPr/>
          <p:nvPr/>
        </p:nvSpPr>
        <p:spPr>
          <a:xfrm>
            <a:off x="466560" y="1557360"/>
            <a:ext cx="850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 магазин привезли 32 кг мандаринов. Их разложили по мешкам,  в каждый по 4 кг. Сколько мешков с мандаринами получилос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79280" y="1773360"/>
            <a:ext cx="8936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   4 =        4   7 =      24 : 4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   4 =        4   8 =      16 :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   4 =        3   4 =        4 :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0"/>
          <p:cNvSpPr/>
          <p:nvPr/>
        </p:nvSpPr>
        <p:spPr>
          <a:xfrm>
            <a:off x="960480" y="4797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0" y="-171360"/>
            <a:ext cx="9144000" cy="1800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1403280" y="189000"/>
            <a:ext cx="633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d314a"/>
                </a:solidFill>
                <a:latin typeface="Calibri"/>
              </a:rPr>
              <a:t>Вычислит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0"/>
          <p:cNvSpPr/>
          <p:nvPr/>
        </p:nvSpPr>
        <p:spPr>
          <a:xfrm>
            <a:off x="938160" y="39290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942840" y="299736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0"/>
          <p:cNvSpPr/>
          <p:nvPr/>
        </p:nvSpPr>
        <p:spPr>
          <a:xfrm>
            <a:off x="4046400" y="299736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4057560" y="39290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0"/>
          <p:cNvSpPr/>
          <p:nvPr/>
        </p:nvSpPr>
        <p:spPr>
          <a:xfrm>
            <a:off x="4032360" y="47480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4T09:58:32Z</dcterms:created>
  <dc:creator>hp</dc:creator>
  <dc:description>http://aida.ucoz.ru</dc:description>
  <dc:language>en-US</dc:language>
  <cp:lastModifiedBy>Сыникова Мария</cp:lastModifiedBy>
  <dcterms:modified xsi:type="dcterms:W3CDTF">2022-12-15T05:36:05Z</dcterms:modified>
  <cp:revision>1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0f0000000000010243100207f6000400038000</vt:lpwstr>
  </property>
</Properties>
</file>