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15B-160C-4A70-94AA-4F75E7EF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B35-62DB-45C0-B551-122B0585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E22-F9C5-4B83-885E-FC15D124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C54-3BB3-48E8-8735-E92814DC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EB66-0B52-45F8-9D7E-A3C32EF2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5693-8D98-4AB0-876B-22DC54AF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7F5B-146A-4C6A-BA7A-53126F91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41B2-7808-45AE-BB6B-080941F8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A880-54EB-4E2D-8F69-D35FCD7A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54E8-793A-4D7B-8576-6FA88F42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F221-04F2-4E2C-A7CC-59D8ECFD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F65-B8C8-4363-976D-2C12033A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DB5D-70C2-47C8-B698-C9FC31F7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2E9D-485F-40E8-9B46-C82A4429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C0AF-E991-4AC6-9BED-55287232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5CAC-0B98-4E63-A291-A7B62E2B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3A39-2422-463D-ADF4-FCF74CAA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59D94-3F66-472E-94A5-BDA971DF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E936-5FCA-440B-A5EA-54ADF1D5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F116-D6E5-41B5-B0FC-FFE1E45B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ABD31-7010-4C18-8BF2-B2825ABD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8A274-F20D-416E-812F-702496AB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429-9F57-4E5E-9467-77D68711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C52E-BB9E-4528-B7C6-5A0CF4D0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A8F4-10DD-4AE1-954D-ED896455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70300-7F19-44BB-A659-A2FDD053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E814-A941-47C1-903C-10EFFF0D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95CFB-B249-4B55-AB1D-EC32C14F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95DD-09EB-465E-8E35-E411C0A7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68F60-81E4-4677-93E5-433F94D5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872F6-3F88-46F3-9B99-0D2EA42D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32490-FE8A-4ACD-B19E-750B74BE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A6690-05BE-45D6-BFED-595BA6B6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D27-5370-4916-B1D7-4107EF6D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1AC46-B479-49D3-A045-EA099A17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79D33-2064-4A44-9CFF-055E5DB7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1A039-52AD-4FBB-94BA-47DB83EC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C37B6-6EDA-4C71-B957-27BBF9DE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87F48-B7A8-4CC6-87B1-C6C814C7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1CC54-C3D1-4252-94CB-EA3E93B7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BAB18-6E38-416D-A40D-D4E74C8A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8B894-DA61-4FAA-9D4E-A2C8BF7D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545A3-65B6-4C88-935D-DDE9DDA0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E4CD6-B91F-4B82-ABFC-66EDCC92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F15-D500-4D20-B892-535A89BA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97A20-424D-4558-ABBA-ECDEA15C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93B39-6C44-4F6E-82E2-785205A5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98FC2-111D-4542-8513-379E6DDC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A5C64-ED8A-4008-B379-A0DA4DBC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016E4-DAD5-49B8-B5F6-B146E2BE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F65F0-366B-4F8D-B9CE-A9CA546D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B1010-046D-47B3-BB6C-C5D1A1DD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4E9B9-D2D4-4A70-9A61-28E8E5C1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B9CF4-2C3E-4CFB-96FA-354DAD28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8CFF7-147D-40E5-AD57-BB959C97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D95-10F5-409F-9E6F-18BF6834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07DCB-4621-413A-AB66-6E107A9C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7D2-D2B8-4F47-8C60-D0B33F71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5B8-EF3E-4222-B27A-8A473B47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78E-DEFF-4C6C-95CC-6D648910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AE0A2-0DC5-418F-A544-566F272C09F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22806-6C19-4AA3-8029-CC43518A8F5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2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110BF-AD3D-452E-8B8B-2508CB33B9A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C6752-178B-4FF7-B6F8-DDA1EEE2628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6B39B-9660-4030-86D9-CBFE4A56A16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1486080"/>
            <a:ext cx="7238880" cy="8380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РУССКИЕ ЖЕНЩИНЫ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80520" y="2590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Николай Алексеевич Некрасов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09" name="Picture 3" descr="C:\Documents and Settings\Sml\Рабочий стол\8308.jpg"/>
          <p:cNvPicPr/>
          <p:nvPr/>
        </p:nvPicPr>
        <p:blipFill>
          <a:blip r:embed="rId1"/>
          <a:stretch/>
        </p:blipFill>
        <p:spPr>
          <a:xfrm>
            <a:off x="3733920" y="3581280"/>
            <a:ext cx="20574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412120" cy="144792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6a21d"/>
                </a:solidFill>
                <a:latin typeface="Corbel"/>
              </a:rPr>
              <a:t>ОТВЕТ</a:t>
            </a:r>
            <a:r>
              <a:rPr b="1" lang="ru-RU" sz="2500" spc="-1" strike="noStrike">
                <a:solidFill>
                  <a:srgbClr val="4a5356"/>
                </a:solidFill>
                <a:latin typeface="Corbel"/>
              </a:rPr>
              <a:t> </a:t>
            </a:r>
            <a:r>
              <a:rPr b="1" lang="ru-RU" sz="2500" spc="-1" strike="noStrike">
                <a:solidFill>
                  <a:srgbClr val="f6a21d"/>
                </a:solidFill>
                <a:latin typeface="Corbel"/>
              </a:rPr>
              <a:t>КНЯГИНИ НА УГОВОРЫ ГЕНЕРАЛА ВЕРНУТЬСЯ, ОСТАТЬСЯ В СВЕТСКОМ ОБЩЕСТВЕ</a:t>
            </a:r>
            <a:br>
              <a:rPr sz="2500"/>
            </a:br>
            <a:endParaRPr b="0" lang="en-US" sz="25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98600" y="2057400"/>
            <a:ext cx="79581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Tahoma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А прежде был там рай земной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А ныне этот  рай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Своей заботливой рукой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Расчистил Николай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Там люди заживо гниют –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Ходячие гробы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Что там найду я»? Ханжество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Поруганную честь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Нахальной дряни торжество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И подленькую месть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Нет, в этот вырубленный лес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Меня не заманят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Где были дубы до небес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А нынче пни торчат!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6a21d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7" name="Picture 2" descr="C:\Documents and Settings\Sml\Рабочий стол\Obrasez001.jpg"/>
          <p:cNvPicPr/>
          <p:nvPr/>
        </p:nvPicPr>
        <p:blipFill>
          <a:blip r:embed="rId1"/>
          <a:stretch/>
        </p:blipFill>
        <p:spPr>
          <a:xfrm>
            <a:off x="5029200" y="1676520"/>
            <a:ext cx="274320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b241"/>
                </a:solidFill>
                <a:latin typeface="Corbel"/>
              </a:rPr>
              <a:t>ДОЛГ – ПОДДЕРЖКА МУЖА СВОЕЙ ЛЮБОВЬЮ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28600" y="1676520"/>
            <a:ext cx="5943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Corbel"/>
              </a:rPr>
              <a:t>    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      </a:t>
            </a: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Мой долг, - я слёз не принесу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     </a:t>
            </a: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В проклятую тюрьму – 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     </a:t>
            </a: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Я гордость, гордость в нём спасу,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     </a:t>
            </a: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Я силу дам ему!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     </a:t>
            </a: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Презренье  к нашим палачам,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     </a:t>
            </a: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Сознанье правоты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     </a:t>
            </a: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Опорой будет вечно нам.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0" name="Picture 2" descr="C:\Documents and Settings\Sml\Рабочий стол\3-79370-688d5.jpg"/>
          <p:cNvPicPr/>
          <p:nvPr/>
        </p:nvPicPr>
        <p:blipFill>
          <a:blip r:embed="rId1"/>
          <a:stretch/>
        </p:blipFill>
        <p:spPr>
          <a:xfrm>
            <a:off x="6172200" y="2133720"/>
            <a:ext cx="2438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183520" cy="10508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ac777"/>
                </a:solidFill>
                <a:latin typeface="Corbel"/>
              </a:rPr>
              <a:t>ЧАСТЬ </a:t>
            </a:r>
            <a:r>
              <a:rPr b="1" lang="en-US" sz="2300" spc="-1" strike="noStrike">
                <a:solidFill>
                  <a:srgbClr val="fac777"/>
                </a:solidFill>
                <a:latin typeface="Gill Sans MT"/>
              </a:rPr>
              <a:t>II.</a:t>
            </a:r>
            <a:br>
              <a:rPr sz="2300"/>
            </a:br>
            <a:r>
              <a:rPr b="1" lang="ru-RU" sz="2300" spc="-1" strike="noStrike">
                <a:solidFill>
                  <a:srgbClr val="fac777"/>
                </a:solidFill>
                <a:latin typeface="Corbel"/>
              </a:rPr>
              <a:t> «КНЯГИНЯ</a:t>
            </a:r>
            <a:r>
              <a:rPr b="1" lang="en-US" sz="2300" spc="-1" strike="noStrike">
                <a:solidFill>
                  <a:srgbClr val="fac777"/>
                </a:solidFill>
                <a:latin typeface="Gill Sans MT"/>
              </a:rPr>
              <a:t> </a:t>
            </a:r>
            <a:r>
              <a:rPr b="1" lang="ru-RU" sz="2300" spc="-1" strike="noStrike">
                <a:solidFill>
                  <a:srgbClr val="fac777"/>
                </a:solidFill>
                <a:latin typeface="Corbel"/>
              </a:rPr>
              <a:t>ВОЛКОНСКАЯ» </a:t>
            </a:r>
            <a:br>
              <a:rPr sz="2300"/>
            </a:br>
            <a:r>
              <a:rPr b="1" lang="ru-RU" sz="2300" spc="-1" strike="noStrike">
                <a:solidFill>
                  <a:srgbClr val="fac777"/>
                </a:solidFill>
                <a:latin typeface="Corbel"/>
              </a:rPr>
              <a:t>(1826-1927)</a:t>
            </a:r>
            <a:endParaRPr b="0" lang="en-US" sz="2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480" y="22096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entury Schoolbook"/>
              </a:rPr>
              <a:t>Некрасов узнал, что у его давнего знакомого, Волконского, сына сосланного декабриста, хранятся записки его матери, Марии Николаевны Волконской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262626"/>
                </a:solidFill>
                <a:latin typeface="Century Schoolbook"/>
              </a:rPr>
              <a:t>Поэт попросил разрешения ознакомиться с ними. Сначала Волконский наотрез отказался, но после настойчивых просьб согласился прочитать их Некрасову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3" name="Picture 2" descr="C:\Documents and Settings\Sml\Рабочий стол\Volkonsky_by_Repin.jpg"/>
          <p:cNvPicPr/>
          <p:nvPr/>
        </p:nvPicPr>
        <p:blipFill>
          <a:blip r:embed="rId1"/>
          <a:stretch/>
        </p:blipFill>
        <p:spPr>
          <a:xfrm>
            <a:off x="5410080" y="2286000"/>
            <a:ext cx="2362320" cy="325440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593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b241"/>
                </a:solidFill>
                <a:latin typeface="Corbel"/>
              </a:rPr>
              <a:t>ВОЛКОНСКАЯ МАРИЯ НИКОЛАЕВНА</a:t>
            </a:r>
            <a:endParaRPr b="0" lang="en-US" sz="2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1600200"/>
            <a:ext cx="5410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след за Трубецкой выехала в Сибир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н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20-ти летне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оселение 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аторг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Мария Волконская, выросшая в богатстве и роскоши, блиставшая на балах. Отец Марии Николаевны - отважный генерал, герой войны с Наполеоном. Мать была внучкой Ломоносова. От н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дочь унаследовала темные глаза и гордую стать. 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6" name="Picture 2" descr="C:\Documents and Settings\Sml\Рабочий стол\69617815_Neizvestnuyy_hudozhnik_nachalo_1820h.jpg"/>
          <p:cNvPicPr/>
          <p:nvPr/>
        </p:nvPicPr>
        <p:blipFill>
          <a:blip r:embed="rId1"/>
          <a:stretch/>
        </p:blipFill>
        <p:spPr>
          <a:xfrm>
            <a:off x="6172200" y="1828800"/>
            <a:ext cx="2286000" cy="302904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85440" y="609480"/>
            <a:ext cx="7574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ctr">
              <a:lnSpc>
                <a:spcPct val="17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ария Николаевна ехала день и ночь.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 algn="ctr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олконская нашла мужа в Благодатном руднике. 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 algn="ctr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месте со своей подругой княгиней Екатериной Трубецкой  стали жить в  маленьком домике. 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8" name="Picture 3" descr="C:\Documents and Settings\Sml\Рабочий стол\volkonskaia_dom.jpg"/>
          <p:cNvPicPr/>
          <p:nvPr/>
        </p:nvPicPr>
        <p:blipFill>
          <a:blip r:embed="rId1"/>
          <a:stretch/>
        </p:blipFill>
        <p:spPr>
          <a:xfrm>
            <a:off x="3124080" y="4419720"/>
            <a:ext cx="2857680" cy="188568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14080" y="529920"/>
            <a:ext cx="81723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Century Schoolbook"/>
              </a:rPr>
              <a:t>Свидание Волконской с мужем в руднике — принадлежит к трогательнейшим сценам всей русской литературы.</a:t>
            </a:r>
            <a:endParaRPr b="0" lang="en-US" sz="15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495320" y="182844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Увидев оковы на муже моем, 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Вполне поняла его муки, 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И силу его... и готовность страдать!..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Невольно пред ним я склонила 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Колени - и, прежде чем мужа обнять, 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Оковы к губам приложила!..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Чужие, свои - со слезами в глазах,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Взволнованы, бледны, суровы – 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Стояли кругом. 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На недвижных ногах 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Не издали звука оковы…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1" name="Содержимое 5"/>
          <p:cNvSpPr/>
          <p:nvPr/>
        </p:nvSpPr>
        <p:spPr>
          <a:xfrm>
            <a:off x="457200" y="1866960"/>
            <a:ext cx="41148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 вот он увидел, увидел меня!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 руки простер ко мне: "Маша!"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 стал, обессиленный словно, вдали..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Два ссыльных его поддержали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По бледным щекам его слезы текли,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Простертые руки дрожали..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 я подбежала..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 душу мою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Наполнило чувство святое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Я только теперь, в руднике роковом,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Услышав ужасные звуки,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91520" cy="8380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241"/>
                </a:solidFill>
                <a:latin typeface="Corbel"/>
              </a:rPr>
              <a:t>СПАСИБО ЗА ВНИМАНИЕ</a:t>
            </a:r>
            <a:endParaRPr b="0" lang="en-US" sz="40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53" name="Рисунок 2" descr=""/>
          <p:cNvPicPr/>
          <p:nvPr/>
        </p:nvPicPr>
        <p:blipFill>
          <a:blip r:embed="rId1"/>
          <a:stretch/>
        </p:blipFill>
        <p:spPr>
          <a:xfrm>
            <a:off x="648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6858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b241"/>
                </a:solidFill>
                <a:latin typeface="Corbel"/>
              </a:rPr>
              <a:t>ЗАПИСКИ ВОЛКОНСКОЙ МАРИИ НИКОЛАЕВНЫ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520" y="114264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Corbel"/>
              </a:rPr>
              <a:t>	</a:t>
            </a:r>
            <a:r>
              <a:rPr b="1" lang="ru-RU" sz="1700" spc="-1" strike="noStrike">
                <a:solidFill>
                  <a:srgbClr val="262626"/>
                </a:solidFill>
                <a:latin typeface="Corbel"/>
              </a:rPr>
              <a:t> </a:t>
            </a:r>
            <a:r>
              <a:rPr b="1" i="1" lang="ru-RU" sz="1700" spc="-1" strike="noStrike">
                <a:solidFill>
                  <a:srgbClr val="262626"/>
                </a:solidFill>
                <a:latin typeface="Century Schoolbook"/>
              </a:rPr>
              <a:t>«Записки Марии Николаевны Волконской»</a:t>
            </a:r>
            <a:r>
              <a:rPr b="1" lang="ru-RU" sz="1700" spc="-1" strike="noStrike">
                <a:solidFill>
                  <a:srgbClr val="262626"/>
                </a:solidFill>
                <a:latin typeface="Century Schoolbook"/>
              </a:rPr>
              <a:t> легли в основу поэмы. Главное внимание Н.А. Некрасов уделил рассказу о том, как под влиянием событий 14 декабря 1825 года изменился характер Волконской, как из человека далёкого от общественно-политической жизни, она стала сознательной гражданкой, убеждённой в правоте дела, которому посвятил себя муж-декабрист.</a:t>
            </a:r>
            <a:endParaRPr b="0" lang="en-US" sz="17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12" name="Picture 2" descr="C:\Documents and Settings\Sml\Рабочий стол\69617815_Neizvestnuyy_hudozhnik_nachalo_1820h.jpg"/>
          <p:cNvPicPr/>
          <p:nvPr/>
        </p:nvPicPr>
        <p:blipFill>
          <a:blip r:embed="rId1"/>
          <a:stretch/>
        </p:blipFill>
        <p:spPr>
          <a:xfrm>
            <a:off x="5791320" y="1523880"/>
            <a:ext cx="2286000" cy="302904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89856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b241"/>
                </a:solidFill>
                <a:latin typeface="Corbel"/>
              </a:rPr>
              <a:t>ВОССТАНИЕ ДЕКАБРИСТОВ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00400" y="1447920"/>
            <a:ext cx="5562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3720" indent="-24372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entury Schoolbook"/>
              </a:rPr>
              <a:t>14 декабря 1825г. в Санкт-Петербурге должна была состояться присяга новому русскому императору Николаю </a:t>
            </a:r>
            <a:r>
              <a:rPr b="1" lang="en-US" sz="1400" spc="-1" strike="noStrike">
                <a:solidFill>
                  <a:srgbClr val="262626"/>
                </a:solidFill>
                <a:latin typeface="Century Schoolbook"/>
              </a:rPr>
              <a:t>I.</a:t>
            </a:r>
            <a:r>
              <a:rPr b="1" lang="ru-RU" sz="1400" spc="-1" strike="noStrike">
                <a:solidFill>
                  <a:srgbClr val="262626"/>
                </a:solidFill>
                <a:latin typeface="Century Schoolbook"/>
              </a:rPr>
              <a:t> Несколько воинских частей вышли на Сенатскую площадь, отказавшись подчиниться новому царю.</a:t>
            </a: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  <a:p>
            <a:pPr marL="243720" indent="-24372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  <a:p>
            <a:pPr marL="243720" indent="-24372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entury Schoolbook"/>
              </a:rPr>
              <a:t>Декабристы  выступали за неограниченную власть монарха, введение конституции и отмену крепостного права.</a:t>
            </a: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  <a:p>
            <a:pPr marL="243720" indent="-24372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  <a:p>
            <a:pPr marL="243720" indent="-24372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Однако по приказу Николая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I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восстание было подавлено. Более 600 человек арестовано. Николай I лично участвовал в допросах.</a:t>
            </a: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  <a:p>
            <a:pPr marL="243720" indent="-24372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  <a:p>
            <a:pPr marL="243720" indent="-24372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Около ста декабристов были сосланы на вечное поселение в Сибирь.</a:t>
            </a: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15" name="Picture 7" descr="http://www.nb-info.ru/orden/dek.jpg"/>
          <p:cNvPicPr/>
          <p:nvPr/>
        </p:nvPicPr>
        <p:blipFill>
          <a:blip r:embed="rId1"/>
          <a:stretch/>
        </p:blipFill>
        <p:spPr>
          <a:xfrm>
            <a:off x="685800" y="1523880"/>
            <a:ext cx="2357280" cy="293868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33160" y="762120"/>
            <a:ext cx="4647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Schoolbook"/>
              </a:rPr>
              <a:t>Поэма  «Русские женщины» Н.А.Некрасова  состоит из двух частей. 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Schoolbook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Century Schoolbook"/>
              </a:rPr>
              <a:t>I. </a:t>
            </a:r>
            <a:r>
              <a:rPr b="1" i="1" lang="ru-RU" sz="2000" spc="-1" strike="noStrike">
                <a:solidFill>
                  <a:srgbClr val="262626"/>
                </a:solidFill>
                <a:latin typeface="Century Schoolbook"/>
              </a:rPr>
              <a:t>«Княгиня Трубецкая» (1826)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Schoolbook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Century Schoolbook"/>
              </a:rPr>
              <a:t>II. </a:t>
            </a:r>
            <a:r>
              <a:rPr b="1" i="1" lang="ru-RU" sz="2000" spc="-1" strike="noStrike">
                <a:solidFill>
                  <a:srgbClr val="262626"/>
                </a:solidFill>
                <a:latin typeface="Century Schoolbook"/>
              </a:rPr>
              <a:t>«Княгиня Волконская» (1826-1827)</a:t>
            </a:r>
            <a:r>
              <a:rPr b="1" lang="ru-RU" sz="2000" spc="-1" strike="noStrike">
                <a:solidFill>
                  <a:srgbClr val="262626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Schoolbook"/>
              </a:rPr>
              <a:t>Напечатаны  в 1872-1873 годах в журнале «Отечественные записки»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Schoolbook"/>
              </a:rPr>
              <a:t>Первоначально свою поэму он назвал «Декабристки», но потом дал ей более широкое заглавие – «Русские женщины»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17" name="Picture 2" descr="C:\Documents and Settings\Sml\Рабочий стол\61_1.gif"/>
          <p:cNvPicPr/>
          <p:nvPr/>
        </p:nvPicPr>
        <p:blipFill>
          <a:blip r:embed="rId1"/>
          <a:stretch/>
        </p:blipFill>
        <p:spPr>
          <a:xfrm>
            <a:off x="5410080" y="762120"/>
            <a:ext cx="2529000" cy="396216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183520" cy="10508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b241"/>
                </a:solidFill>
                <a:latin typeface="Corbel"/>
              </a:rPr>
              <a:t>ТЕМА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733920" y="1294920"/>
            <a:ext cx="48765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Schoolbook"/>
              </a:rPr>
              <a:t>Тема  произведения – поездка жён декабристов в Сибирь вслед за своими мужьями.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0" name="Содержимое 2"/>
          <p:cNvSpPr/>
          <p:nvPr/>
        </p:nvSpPr>
        <p:spPr>
          <a:xfrm>
            <a:off x="3760920" y="3200400"/>
            <a:ext cx="4495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6a21d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Поэма вызывает чувство гордости за свой народ, женщины которого обладают такой способностью любить, таким героизмом и готовностью к самопожертвованию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1" name="Picture 2" descr="C:\Documents and Settings\Sml\Рабочий стол\106905_640.jpg"/>
          <p:cNvPicPr/>
          <p:nvPr/>
        </p:nvPicPr>
        <p:blipFill>
          <a:blip r:embed="rId1"/>
          <a:stretch/>
        </p:blipFill>
        <p:spPr>
          <a:xfrm>
            <a:off x="1066680" y="1295280"/>
            <a:ext cx="2438640" cy="335772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086600" cy="12952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ac777"/>
                </a:solidFill>
                <a:latin typeface="Corbel"/>
              </a:rPr>
              <a:t>ЧАСТЬ </a:t>
            </a:r>
            <a:r>
              <a:rPr b="1" lang="en-US" sz="2600" spc="-1" strike="noStrike">
                <a:solidFill>
                  <a:srgbClr val="fac777"/>
                </a:solidFill>
                <a:latin typeface="Gill Sans MT"/>
              </a:rPr>
              <a:t>I.</a:t>
            </a:r>
            <a:br>
              <a:rPr sz="2600"/>
            </a:br>
            <a:r>
              <a:rPr b="1" lang="ru-RU" sz="2600" spc="-1" strike="noStrike">
                <a:solidFill>
                  <a:srgbClr val="fac777"/>
                </a:solidFill>
                <a:latin typeface="Corbel"/>
              </a:rPr>
              <a:t> «КНЯГИНЯ ТРУБЕЦКАЯ» (1826)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14440" y="2209320"/>
            <a:ext cx="4343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Некрасов воссоздал яркий характер мужественной женщины, которая  добивается права быть вместе со своим избранником и разделить  с ним горькую участь.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1285920" y="2286000"/>
            <a:ext cx="2133720" cy="281448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83520" cy="10512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b241"/>
                </a:solidFill>
                <a:latin typeface="Corbel"/>
              </a:rPr>
              <a:t>ТРУБЕЦКАЯ ЕКАТЕРИНА ИВАНОВНА</a:t>
            </a:r>
            <a:endParaRPr b="0" lang="en-US" sz="29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480" y="1294920"/>
            <a:ext cx="5105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Екатерина Ивановна Трубецкая первой отправилась вслед за мужем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. Она была дочерью знатного француза И.С. Лаваля.  Мать Екатерины Ивановны владела большим медеплавильным заводом, золотым прииском и несколькими имениями. Сергей Трубецкой и Екатерина познакомились в Париже где и обвенчались.  Князь происходил из родовитой семьи. Во время войны 1812 года он прославил своё имя в боях при Бородино. Начались четыре года счастья. Сергей Трубецкой отличался добрым, спокойным характером, "имел просвещенный ум", был всеми любим и уважаем. Екатерина Ивановна страстно его любила и была счастлива с ним. Поэтому после его ареста Екатерина Ивановна направляет Николаю I просьбу о разрешении разделить участь мужа.</a:t>
            </a: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27" name="Picture 2" descr="C:\Documents and Settings\Sml\Рабочий стол\0010-066_266985f103aacdfbc01242b63bc7553e_480.jpg"/>
          <p:cNvPicPr/>
          <p:nvPr/>
        </p:nvPicPr>
        <p:blipFill>
          <a:blip r:embed="rId1"/>
          <a:stretch/>
        </p:blipFill>
        <p:spPr>
          <a:xfrm>
            <a:off x="5943600" y="1523880"/>
            <a:ext cx="2286000" cy="308160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183520" cy="10512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b241"/>
                </a:solidFill>
                <a:latin typeface="Corbel"/>
              </a:rPr>
              <a:t>ПУТЬ В ВОСТОЧНУЮ СИБИРЬ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9520" y="1523880"/>
            <a:ext cx="4496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1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entury Schoolbook"/>
              </a:rPr>
              <a:t>Хороших дорог не было, железные дороги ещё не существовали. Ехать лучше было зимой на санях, пока реки были замёрзшими. Но путника подстерегали сильные морозы, метели и снегопады. Местность была  малонаселённой, но в случае поломки было трудно найти мастера.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Century Schoolbook"/>
              </a:rPr>
              <a:t>	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Century Schoolbook"/>
              </a:rPr>
              <a:t>Жёнам декабристов надо было преодолеть в зимний мороз около семи тысячи километров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1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30" name="Picture 2" descr="C:\Documents and Settings\Sml\Рабочий стол\22(7).jpg"/>
          <p:cNvPicPr/>
          <p:nvPr/>
        </p:nvPicPr>
        <p:blipFill>
          <a:blip r:embed="rId1"/>
          <a:stretch/>
        </p:blipFill>
        <p:spPr>
          <a:xfrm>
            <a:off x="685800" y="1523880"/>
            <a:ext cx="3233880" cy="297180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83520" cy="66996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b241"/>
                </a:solidFill>
                <a:latin typeface="Corbel"/>
              </a:rPr>
              <a:t>ПОСТУПОК ТРУБЕЦКОЙ</a:t>
            </a:r>
            <a:endParaRPr b="0" lang="en-US" sz="2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189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Schoolbook"/>
              </a:rPr>
              <a:t>Прощаясь с отцом в Москве, она прощается со своей жизнью, которую вела до сих пор; с привычным домом, с друзьями и подругами, с удобствами и блестящим обществом, к которому она привыкла. Она просит отца благословения  и умоляет его не рвать себе сердце тоской. Женщина уезжает  в Сибирь, не зная возвратится ли она когда-нибудь назад, обещает помнить завещание отца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4022280" y="4038480"/>
            <a:ext cx="499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475b61"/>
                </a:solidFill>
                <a:latin typeface="Tahoma"/>
              </a:rPr>
              <a:t>      </a:t>
            </a:r>
            <a:r>
              <a:rPr b="1" i="1" lang="ru-RU" sz="2000" spc="-1" strike="noStrike">
                <a:solidFill>
                  <a:srgbClr val="475b61"/>
                </a:solidFill>
                <a:latin typeface="Century Schoolbook"/>
              </a:rPr>
              <a:t>Далёк мой путь, тяжёл мой путь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2000" spc="-1" strike="noStrike">
                <a:solidFill>
                  <a:srgbClr val="475b61"/>
                </a:solidFill>
                <a:latin typeface="Century Schoolbook"/>
              </a:rPr>
              <a:t>Страшна  судьба моя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2000" spc="-1" strike="noStrike">
                <a:solidFill>
                  <a:srgbClr val="475b61"/>
                </a:solidFill>
                <a:latin typeface="Century Schoolbook"/>
              </a:rPr>
              <a:t>Но сталью я одела грудь…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2000" spc="-1" strike="noStrike">
                <a:solidFill>
                  <a:srgbClr val="475b61"/>
                </a:solidFill>
                <a:latin typeface="Century Schoolbook"/>
              </a:rPr>
              <a:t>Гордись – я дочь твоя!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4" name="Picture 2" descr="C:\Documents and Settings\Sml\Рабочий стол\77f54e1b72ad.jpg"/>
          <p:cNvPicPr/>
          <p:nvPr/>
        </p:nvPicPr>
        <p:blipFill>
          <a:blip r:embed="rId1"/>
          <a:stretch/>
        </p:blipFill>
        <p:spPr>
          <a:xfrm>
            <a:off x="990720" y="3657600"/>
            <a:ext cx="25905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22-12-16T05:25:09Z</dcterms:modified>
  <cp:revision>63</cp:revision>
  <dc:subject/>
  <dc:title>Русские женщины</dc:title>
</cp:coreProperties>
</file>