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653-41CB-4FC8-ADBB-98166512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B03-8E80-4F1A-AC47-CE91B857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323-CE18-4D98-BA18-0A28D7D5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3C2-E354-4E02-9327-4A855FB5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91A3-BA1B-43CF-B37B-67B24DAD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FCF3-2E52-43F4-848C-E4B5F9F6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FD4F-27E0-4F04-B75D-0CBEAC8C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B4BC-2D22-4155-979A-EF85B1D6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C74E-1647-4B3D-BC80-DCB227EE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2C05-E434-4188-A972-7D7A0BE1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1FC9-DED4-473F-B5CE-84C3D4AB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600-3208-4AFA-807A-EF376B46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898B-7F3C-4B07-8C6F-262483C9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BCCA-99E1-4458-BFB0-95E0FC2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43F9-4D85-494E-804B-18617FC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03CE-49BB-4E18-964B-0A418409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60F3-F550-4A3E-A3D9-0ADC16C2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F8AF-FD12-4D7C-ACD0-16FA4AD7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F204-B8E6-4403-905D-99BC7D79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9E65-7052-40BE-B21A-FF16707A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E00E-3370-4040-8A05-41AF2878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FC22-5039-4A51-989A-7BF4AE90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684-AE17-468F-A95D-50DBB123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2686-2900-4EAF-A8F4-3ED9B510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273E-9C9E-47FE-93B7-59D66F5B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6F63-8337-4484-A844-1524679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DB6D-96FD-4C50-8FB6-A5E99DF1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07BB-FE68-4832-B0F0-AD6020A0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B6D1-118F-4F99-B48D-BE1760ED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BF14-CD79-47DE-AD68-2817AC2B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AF0E-DA5A-4B8A-ACB8-B6685786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BC76-AA44-427F-9AB3-BD09A70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9DC8-57A8-4F90-859B-14F1B9B6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3AD-4420-4EAB-A263-3210E9EB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E2CBC-19CE-4764-BF2C-7A915F22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A89A-F30A-4861-BF4F-E59543C5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3D27-034B-451F-96DC-773A6078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EB52-B5DA-48C5-AEAC-8A94A2D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79316-9113-4AB4-BBAA-9341118F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1146-65B0-4407-B6CE-9CF25E56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AF2F-6A3C-41A7-AB94-67338968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46DA-E8C6-460C-BB0A-A1602073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890B-0AB2-4AD4-B54C-F2C7A8BF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2C17-A7B1-4210-A4D1-C317EEF9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374-2E86-42E7-8C85-B9818A7D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CD468-D255-450F-8345-CB86EA33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09E83-44B3-4304-8ECB-990197C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7CAEB-66F9-459D-8B51-D98696C6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429D1-4BD4-4F89-8769-62D8483F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5BEB1-B5BA-4B33-A594-D2D55208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EAEC-83FE-40DA-826C-F90CFAAF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9979-808E-4AF0-A509-AFCA4605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767F-8CA4-4C95-B064-0C87D544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DF9D0-4B47-4FB1-B351-6A4813A2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74A5-81F3-429D-883C-FE2DE7C5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51B-CFD4-4D1D-964A-879F3A43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94189-4CD5-4B79-AA8C-87ACC9BE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A2F-AB86-4A69-A35E-3AE92B65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647-52D5-486C-9ED5-A5FCF164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A24-3194-430F-B8E5-2344F07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DB9B5-D187-414B-999F-853B58639C9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EBEC9-5C5F-4847-A1B0-3429352FA54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63F79-7B52-4123-AA98-E95A1BB04CB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741D0-B139-45C3-B4F2-8A1954FDCC8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FDCD6-55ED-4BDC-A68D-7A203AE48A2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486080"/>
            <a:ext cx="7238880" cy="8380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УССКИЕ ЖЕНЩИН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80520" y="2590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Николай Алексеевич Некрас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09" name="Picture 3" descr="C:\Documents and Settings\Sml\Рабочий стол\8308.jpg"/>
          <p:cNvPicPr/>
          <p:nvPr/>
        </p:nvPicPr>
        <p:blipFill>
          <a:blip r:embed="rId1"/>
          <a:stretch/>
        </p:blipFill>
        <p:spPr>
          <a:xfrm>
            <a:off x="3733920" y="3581280"/>
            <a:ext cx="2057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412120" cy="14479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6a21d"/>
                </a:solidFill>
                <a:latin typeface="Corbel"/>
              </a:rPr>
              <a:t>ОТВЕТ</a:t>
            </a:r>
            <a:r>
              <a:rPr b="1" lang="ru-RU" sz="2500" spc="-1" strike="noStrike">
                <a:solidFill>
                  <a:srgbClr val="4a5356"/>
                </a:solidFill>
                <a:latin typeface="Corbel"/>
              </a:rPr>
              <a:t> </a:t>
            </a:r>
            <a:r>
              <a:rPr b="1" lang="ru-RU" sz="2500" spc="-1" strike="noStrike">
                <a:solidFill>
                  <a:srgbClr val="f6a21d"/>
                </a:solidFill>
                <a:latin typeface="Corbel"/>
              </a:rPr>
              <a:t>КНЯГИНИ НА УГОВОРЫ ГЕНЕРАЛА ВЕРНУТЬСЯ, ОСТАТЬСЯ В СВЕТСКОМ ОБЩЕСТВЕ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98600" y="2057400"/>
            <a:ext cx="7958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Tahoma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А прежде был там рай земной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А ныне этот  рай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Своей заботливой рукой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Расчистил Николай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Там люди заживо гниют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Ходячие гробы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Что там найду я»? Ханжество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Поруганную честь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Нахальной дряни торжество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И подленькую месть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Нет, в этот вырубленный лес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Меня не заманят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Где были дубы до небес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1700" spc="-1" strike="noStrike">
                <a:solidFill>
                  <a:srgbClr val="475b61"/>
                </a:solidFill>
                <a:latin typeface="Century Schoolbook"/>
              </a:rPr>
              <a:t>А нынче пни торчат!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6a21d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7" name="Picture 2" descr="C:\Documents and Settings\Sml\Рабочий стол\Obrasez001.jpg"/>
          <p:cNvPicPr/>
          <p:nvPr/>
        </p:nvPicPr>
        <p:blipFill>
          <a:blip r:embed="rId1"/>
          <a:stretch/>
        </p:blipFill>
        <p:spPr>
          <a:xfrm>
            <a:off x="5029200" y="1676520"/>
            <a:ext cx="27432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b241"/>
                </a:solidFill>
                <a:latin typeface="Corbel"/>
              </a:rPr>
              <a:t>ДОЛГ – ПОДДЕРЖКА МУЖА СВОЕЙ ЛЮБОВЬЮ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600" y="167652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Corbel"/>
              </a:rPr>
              <a:t>    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Мой долг, - я слёз не принесу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В проклятую тюрьму – 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Я гордость, гордость в нём спасу,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Я силу дам ему!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Презренье  к нашим палачам,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Сознанье правоты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     </a:t>
            </a: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Опорой будет вечно нам.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0" name="Picture 2" descr="C:\Documents and Settings\Sml\Рабочий стол\3-79370-688d5.jpg"/>
          <p:cNvPicPr/>
          <p:nvPr/>
        </p:nvPicPr>
        <p:blipFill>
          <a:blip r:embed="rId1"/>
          <a:stretch/>
        </p:blipFill>
        <p:spPr>
          <a:xfrm>
            <a:off x="6172200" y="2133720"/>
            <a:ext cx="2438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83520" cy="10508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ac777"/>
                </a:solidFill>
                <a:latin typeface="Corbel"/>
              </a:rPr>
              <a:t>ЧАСТЬ </a:t>
            </a:r>
            <a:r>
              <a:rPr b="1" lang="en-US" sz="2300" spc="-1" strike="noStrike">
                <a:solidFill>
                  <a:srgbClr val="fac777"/>
                </a:solidFill>
                <a:latin typeface="Gill Sans MT"/>
              </a:rPr>
              <a:t>II.</a:t>
            </a:r>
            <a:br>
              <a:rPr sz="2300"/>
            </a:br>
            <a:r>
              <a:rPr b="1" lang="ru-RU" sz="2300" spc="-1" strike="noStrike">
                <a:solidFill>
                  <a:srgbClr val="fac777"/>
                </a:solidFill>
                <a:latin typeface="Corbel"/>
              </a:rPr>
              <a:t> «КНЯГИНЯ</a:t>
            </a:r>
            <a:r>
              <a:rPr b="1" lang="en-US" sz="2300" spc="-1" strike="noStrike">
                <a:solidFill>
                  <a:srgbClr val="fac777"/>
                </a:solidFill>
                <a:latin typeface="Gill Sans MT"/>
              </a:rPr>
              <a:t> </a:t>
            </a:r>
            <a:r>
              <a:rPr b="1" lang="ru-RU" sz="2300" spc="-1" strike="noStrike">
                <a:solidFill>
                  <a:srgbClr val="fac777"/>
                </a:solidFill>
                <a:latin typeface="Corbel"/>
              </a:rPr>
              <a:t>ВОЛКОНСКАЯ» </a:t>
            </a:r>
            <a:br>
              <a:rPr sz="2300"/>
            </a:br>
            <a:r>
              <a:rPr b="1" lang="ru-RU" sz="2300" spc="-1" strike="noStrike">
                <a:solidFill>
                  <a:srgbClr val="fac777"/>
                </a:solidFill>
                <a:latin typeface="Corbel"/>
              </a:rPr>
              <a:t>(1826-1927)</a:t>
            </a: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480" y="22096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Schoolbook"/>
              </a:rPr>
              <a:t>Некрасов узнал, что у его давнего знакомого, Волконского, сына сосланного декабриста, хранятся записки его матери, Марии Николаевны Волконской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262626"/>
                </a:solidFill>
                <a:latin typeface="Century Schoolbook"/>
              </a:rPr>
              <a:t>Поэт попросил разрешения ознакомиться с ними. Сначала Волконский наотрез отказался, но после настойчивых просьб согласился прочитать их Некрасову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3" name="Picture 2" descr="C:\Documents and Settings\Sml\Рабочий стол\Volkonsky_by_Repin.jpg"/>
          <p:cNvPicPr/>
          <p:nvPr/>
        </p:nvPicPr>
        <p:blipFill>
          <a:blip r:embed="rId1"/>
          <a:stretch/>
        </p:blipFill>
        <p:spPr>
          <a:xfrm>
            <a:off x="5410080" y="2286000"/>
            <a:ext cx="2362320" cy="325440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593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b241"/>
                </a:solidFill>
                <a:latin typeface="Corbel"/>
              </a:rPr>
              <a:t>ВОЛКОНСКАЯ МАРИЯ НИКОЛАЕВНА</a:t>
            </a: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1600200"/>
            <a:ext cx="54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след за Трубецкой выехала в Сибир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20-ти летне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оселение 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аторг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рия Волконская, выросшая в богатстве и роскоши, блиставшая на балах. Отец Марии Николаевны - отважный генерал, герой войны с Наполеоном. Мать была внучкой Ломоносова. От н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ё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дочь унаследовала темные глаза и гордую стать. 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6" name="Picture 2" descr="C:\Documents and Settings\Sml\Рабочий стол\69617815_Neizvestnuyy_hudozhnik_nachalo_1820h.jpg"/>
          <p:cNvPicPr/>
          <p:nvPr/>
        </p:nvPicPr>
        <p:blipFill>
          <a:blip r:embed="rId1"/>
          <a:stretch/>
        </p:blipFill>
        <p:spPr>
          <a:xfrm>
            <a:off x="6172200" y="1828800"/>
            <a:ext cx="2286000" cy="302904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440" y="609480"/>
            <a:ext cx="7574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7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ария Николаевна ехала день и ночь.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 algn="ctr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олконская нашла мужа в Благодатном руднике.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 algn="ctr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месте со своей подругой княгиней Екатериной Трубецкой  стали жить в  маленьком домике.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8" name="Picture 3" descr="C:\Documents and Settings\Sml\Рабочий стол\volkonskaia_dom.jpg"/>
          <p:cNvPicPr/>
          <p:nvPr/>
        </p:nvPicPr>
        <p:blipFill>
          <a:blip r:embed="rId1"/>
          <a:stretch/>
        </p:blipFill>
        <p:spPr>
          <a:xfrm>
            <a:off x="3124080" y="4419720"/>
            <a:ext cx="2857680" cy="188568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4080" y="529920"/>
            <a:ext cx="81723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Century Schoolbook"/>
              </a:rPr>
              <a:t>Свидание Волконской с мужем в руднике — принадлежит к трогательнейшим сценам всей русской литературы.</a:t>
            </a:r>
            <a:endParaRPr b="0" lang="en-US" sz="1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495320" y="182844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Увидев оковы на муже моем,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Вполне поняла его муки,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И силу его... и готовность страдать!..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Невольно пред ним я склонила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Колени - и, прежде чем мужа обнять,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Оковы к губам приложила!..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Чужие, свои - со слезами в глазах,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Взволнованы, бледны, суровы –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Стояли кругом.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На недвижных ногах 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62626"/>
                </a:solidFill>
                <a:latin typeface="Century Schoolbook"/>
              </a:rPr>
              <a:t>Не издали звука оковы…</a:t>
            </a:r>
            <a:endParaRPr b="0" lang="en-US" sz="1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1" name="Содержимое 5"/>
          <p:cNvSpPr/>
          <p:nvPr/>
        </p:nvSpPr>
        <p:spPr>
          <a:xfrm>
            <a:off x="457200" y="1866960"/>
            <a:ext cx="4114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вот он увидел, увидел меня!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руки простер ко мне: "Маша!"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стал, обессиленный словно, вдали..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Два ссыльных его поддержал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По бледным щекам его слезы текли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Простертые руки дрожали..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я подбежала..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 душу мою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Наполнило чувство святое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Я только теперь, в руднике роковом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Услышав ужасные звуки,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8380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241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53" name="Рисунок 2" descr=""/>
          <p:cNvPicPr/>
          <p:nvPr/>
        </p:nvPicPr>
        <p:blipFill>
          <a:blip r:embed="rId1"/>
          <a:stretch/>
        </p:blipFill>
        <p:spPr>
          <a:xfrm>
            <a:off x="648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6858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b241"/>
                </a:solidFill>
                <a:latin typeface="Corbel"/>
              </a:rPr>
              <a:t>ЗАПИСКИ ВОЛКОНСКОЙ МАРИИ НИКОЛАЕВНЫ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1426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1700" spc="-1" strike="noStrike">
                <a:solidFill>
                  <a:srgbClr val="262626"/>
                </a:solidFill>
                <a:latin typeface="Corbel"/>
              </a:rPr>
              <a:t> </a:t>
            </a:r>
            <a:r>
              <a:rPr b="1" i="1" lang="ru-RU" sz="1700" spc="-1" strike="noStrike">
                <a:solidFill>
                  <a:srgbClr val="262626"/>
                </a:solidFill>
                <a:latin typeface="Century Schoolbook"/>
              </a:rPr>
              <a:t>«Записки Марии Николаевны Волконской»</a:t>
            </a:r>
            <a:r>
              <a:rPr b="1" lang="ru-RU" sz="1700" spc="-1" strike="noStrike">
                <a:solidFill>
                  <a:srgbClr val="262626"/>
                </a:solidFill>
                <a:latin typeface="Century Schoolbook"/>
              </a:rPr>
              <a:t> легли в основу поэмы. Главное внимание Н.А. Некрасов уделил рассказу о том, как под влиянием событий 14 декабря 1825 года изменился характер Волконской, как из человека далёкого от общественно-политической жизни, она стала сознательной гражданкой, убеждённой в правоте дела, которому посвятил себя муж-декабрист.</a:t>
            </a:r>
            <a:endParaRPr b="0" lang="en-US" sz="17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12" name="Picture 2" descr="C:\Documents and Settings\Sml\Рабочий стол\69617815_Neizvestnuyy_hudozhnik_nachalo_1820h.jpg"/>
          <p:cNvPicPr/>
          <p:nvPr/>
        </p:nvPicPr>
        <p:blipFill>
          <a:blip r:embed="rId1"/>
          <a:stretch/>
        </p:blipFill>
        <p:spPr>
          <a:xfrm>
            <a:off x="5791320" y="1523880"/>
            <a:ext cx="2286000" cy="302904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8985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241"/>
                </a:solidFill>
                <a:latin typeface="Corbel"/>
              </a:rPr>
              <a:t>ВОССТАНИЕ ДЕКАБРИСТ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00400" y="1447920"/>
            <a:ext cx="5562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entury Schoolbook"/>
              </a:rPr>
              <a:t>14 декабря 1825г. в Санкт-Петербурге должна была состояться присяга новому русскому императору Николаю </a:t>
            </a:r>
            <a:r>
              <a:rPr b="1" lang="en-US" sz="1400" spc="-1" strike="noStrike">
                <a:solidFill>
                  <a:srgbClr val="262626"/>
                </a:solidFill>
                <a:latin typeface="Century Schoolbook"/>
              </a:rPr>
              <a:t>I.</a:t>
            </a:r>
            <a:r>
              <a:rPr b="1" lang="ru-RU" sz="1400" spc="-1" strike="noStrike">
                <a:solidFill>
                  <a:srgbClr val="262626"/>
                </a:solidFill>
                <a:latin typeface="Century Schoolbook"/>
              </a:rPr>
              <a:t> Несколько воинских частей вышли на Сенатскую площадь, отказавшись подчиниться новому царю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entury Schoolbook"/>
              </a:rPr>
              <a:t>Декабристы  выступали за неограниченную власть монарха, введение конституции и отмену крепостного права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Однако по приказу Николая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восстание было подавлено. Более 600 человек арестовано. Николай I лично участвовал в допросах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43720" indent="-24372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Около ста декабристов были сосланы на вечное поселение в Сибирь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15" name="Picture 7" descr="http://www.nb-info.ru/orden/dek.jpg"/>
          <p:cNvPicPr/>
          <p:nvPr/>
        </p:nvPicPr>
        <p:blipFill>
          <a:blip r:embed="rId1"/>
          <a:stretch/>
        </p:blipFill>
        <p:spPr>
          <a:xfrm>
            <a:off x="685800" y="1523880"/>
            <a:ext cx="2357280" cy="293868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33160" y="762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Поэма  «Русские женщины» Н.А.Некрасова  состоит из двух частей. 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Century Schoolbook"/>
              </a:rPr>
              <a:t>I. </a:t>
            </a:r>
            <a:r>
              <a:rPr b="1" i="1" lang="ru-RU" sz="2000" spc="-1" strike="noStrike">
                <a:solidFill>
                  <a:srgbClr val="262626"/>
                </a:solidFill>
                <a:latin typeface="Century Schoolbook"/>
              </a:rPr>
              <a:t>«Княгиня Трубецкая» (1826)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Century Schoolbook"/>
              </a:rPr>
              <a:t>II. </a:t>
            </a:r>
            <a:r>
              <a:rPr b="1" i="1" lang="ru-RU" sz="2000" spc="-1" strike="noStrike">
                <a:solidFill>
                  <a:srgbClr val="262626"/>
                </a:solidFill>
                <a:latin typeface="Century Schoolbook"/>
              </a:rPr>
              <a:t>«Княгиня Волконская» (1826-1827)</a:t>
            </a: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Напечатаны  в 1872-1873 годах в журнале «Отечественные записки»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Первоначально свою поэму он назвал «Декабристки», но потом дал ей более широкое заглавие – «Русские женщины»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17" name="Picture 2" descr="C:\Documents and Settings\Sml\Рабочий стол\61_1.gif"/>
          <p:cNvPicPr/>
          <p:nvPr/>
        </p:nvPicPr>
        <p:blipFill>
          <a:blip r:embed="rId1"/>
          <a:stretch/>
        </p:blipFill>
        <p:spPr>
          <a:xfrm>
            <a:off x="5410080" y="762120"/>
            <a:ext cx="2529000" cy="396216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183520" cy="10508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b241"/>
                </a:solidFill>
                <a:latin typeface="Corbel"/>
              </a:rPr>
              <a:t>ТЕМА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733920" y="1294920"/>
            <a:ext cx="48765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Schoolbook"/>
              </a:rPr>
              <a:t>Тема  произведения – поездка жён декабристов в Сибирь вслед за своими мужьями.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3760920" y="320040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6a21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Поэма вызывает чувство гордости за свой народ, женщины которого обладают такой способностью любить, таким героизмом и готовностью к самопожертвованию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1" name="Picture 2" descr="C:\Documents and Settings\Sml\Рабочий стол\106905_640.jpg"/>
          <p:cNvPicPr/>
          <p:nvPr/>
        </p:nvPicPr>
        <p:blipFill>
          <a:blip r:embed="rId1"/>
          <a:stretch/>
        </p:blipFill>
        <p:spPr>
          <a:xfrm>
            <a:off x="1066680" y="1295280"/>
            <a:ext cx="2438640" cy="335772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086600" cy="12952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ac777"/>
                </a:solidFill>
                <a:latin typeface="Corbel"/>
              </a:rPr>
              <a:t>ЧАСТЬ </a:t>
            </a:r>
            <a:r>
              <a:rPr b="1" lang="en-US" sz="2600" spc="-1" strike="noStrike">
                <a:solidFill>
                  <a:srgbClr val="fac777"/>
                </a:solidFill>
                <a:latin typeface="Gill Sans MT"/>
              </a:rPr>
              <a:t>I.</a:t>
            </a:r>
            <a:br>
              <a:rPr sz="2600"/>
            </a:br>
            <a:r>
              <a:rPr b="1" lang="ru-RU" sz="2600" spc="-1" strike="noStrike">
                <a:solidFill>
                  <a:srgbClr val="fac777"/>
                </a:solidFill>
                <a:latin typeface="Corbel"/>
              </a:rPr>
              <a:t> «КНЯГИНЯ ТРУБЕЦКАЯ» (1826)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14440" y="2209320"/>
            <a:ext cx="4343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entury Schoolbook"/>
              </a:rPr>
              <a:t>Некрасов воссоздал яркий характер мужественной женщины, которая  добивается права быть вместе со своим избранником и разделить  с ним горькую участь.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1285920" y="2286000"/>
            <a:ext cx="2133720" cy="281448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83520" cy="10512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b241"/>
                </a:solidFill>
                <a:latin typeface="Corbel"/>
              </a:rPr>
              <a:t>ТРУБЕЦКАЯ ЕКАТЕРИНА ИВАНОВНА</a:t>
            </a:r>
            <a:endParaRPr b="0" lang="en-US" sz="29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480" y="1294920"/>
            <a:ext cx="5105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Екатерина Ивановна Трубецкая первой отправилась вслед за мужем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Она была дочерью знатного француза И.С. Лаваля.  Мать Екатерины Ивановны владела большим медеплавильным заводом, золотым прииском и несколькими имениями. Сергей Трубецкой и Екатерина познакомились в Париже где и обвенчались.  Князь происходил из родовитой семьи. Во время войны 1812 года он прославил своё имя в боях при Бородино. Начались четыре года счастья. Сергей Трубецкой отличался добрым, спокойным характером, "имел просвещенный ум", был всеми любим и уважаем. Екатерина Ивановна страстно его любила и была счастлива с ним. Поэтому после его ареста Екатерина Ивановна направляет Николаю I просьбу о разрешении разделить участь мужа.</a:t>
            </a: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27" name="Picture 2" descr="C:\Documents and Settings\Sml\Рабочий стол\0010-066_266985f103aacdfbc01242b63bc7553e_480.jpg"/>
          <p:cNvPicPr/>
          <p:nvPr/>
        </p:nvPicPr>
        <p:blipFill>
          <a:blip r:embed="rId1"/>
          <a:stretch/>
        </p:blipFill>
        <p:spPr>
          <a:xfrm>
            <a:off x="5943600" y="1523880"/>
            <a:ext cx="2286000" cy="308160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183520" cy="10512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b241"/>
                </a:solidFill>
                <a:latin typeface="Corbel"/>
              </a:rPr>
              <a:t>ПУТЬ В ВОСТОЧНУЮ СИБИРЬ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9520" y="1523880"/>
            <a:ext cx="4496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1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entury Schoolbook"/>
              </a:rPr>
              <a:t>Хороших дорог не было, железные дороги ещё не существовали. Ехать лучше было зимой на санях, пока реки были замёрзшими. Но путника подстерегали сильные морозы, метели и снегопады. Местность была  малонаселённой, но в случае поломки было трудно найти мастера.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Century Schoolbook"/>
              </a:rPr>
              <a:t>	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Century Schoolbook"/>
              </a:rPr>
              <a:t>Жёнам декабристов надо было преодолеть в зимний мороз около семи тысячи километров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64960" indent="-264960">
              <a:lnSpc>
                <a:spcPct val="110000"/>
              </a:lnSpc>
              <a:spcBef>
                <a:spcPts val="1001"/>
              </a:spcBef>
              <a:buClr>
                <a:srgbClr val="9bafb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30" name="Picture 2" descr="C:\Documents and Settings\Sml\Рабочий стол\22(7).jpg"/>
          <p:cNvPicPr/>
          <p:nvPr/>
        </p:nvPicPr>
        <p:blipFill>
          <a:blip r:embed="rId1"/>
          <a:stretch/>
        </p:blipFill>
        <p:spPr>
          <a:xfrm>
            <a:off x="685800" y="1523880"/>
            <a:ext cx="3233880" cy="297180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83520" cy="6699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b241"/>
                </a:solidFill>
                <a:latin typeface="Corbel"/>
              </a:rPr>
              <a:t>ПОСТУПОК ТРУБЕЦКОЙ</a:t>
            </a: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8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</a:rPr>
              <a:t>Прощаясь с отцом в Москве, она прощается со своей жизнью, которую вела до сих пор; с привычным домом, с друзьями и подругами, с удобствами и блестящим обществом, к которому она привыкла. Она просит отца благословения  и умоляет его не рвать себе сердце тоской. Женщина уезжает  в Сибирь, не зная возвратится ли она когда-нибудь назад, обещает помнить завещание отца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4022280" y="4038480"/>
            <a:ext cx="499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>
                <a:solidFill>
                  <a:srgbClr val="475b61"/>
                </a:solidFill>
                <a:latin typeface="Tahoma"/>
              </a:rPr>
              <a:t>      </a:t>
            </a: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Далёк мой путь, тяжёл мой путь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Страшна  судьба моя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Но сталью я одела грудь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     </a:t>
            </a:r>
            <a:r>
              <a:rPr b="1" i="1" lang="ru-RU" sz="2000" spc="-1" strike="noStrike">
                <a:solidFill>
                  <a:srgbClr val="475b61"/>
                </a:solidFill>
                <a:latin typeface="Century Schoolbook"/>
              </a:rPr>
              <a:t>Гордись – я дочь твоя!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4" name="Picture 2" descr="C:\Documents and Settings\Sml\Рабочий стол\77f54e1b72ad.jpg"/>
          <p:cNvPicPr/>
          <p:nvPr/>
        </p:nvPicPr>
        <p:blipFill>
          <a:blip r:embed="rId1"/>
          <a:stretch/>
        </p:blipFill>
        <p:spPr>
          <a:xfrm>
            <a:off x="990720" y="3657600"/>
            <a:ext cx="25905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22-12-16T05:25:09Z</dcterms:modified>
  <cp:revision>63</cp:revision>
  <dc:subject/>
  <dc:title>Русские женщины</dc:title>
</cp:coreProperties>
</file>