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FEC-B067-4338-9964-D58B54FE3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CFC9-A479-426B-A7F0-F2F956409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8AD-9638-43D7-8352-7462973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D32-EECC-4C1A-9706-81030AD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968-D17F-4EDA-B51A-63125B5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A03-B61E-4AEA-B4DD-B08AB361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53B2-F173-4AF0-9D4A-2FBE5F30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15C8-8DAA-4683-A0D9-1BE3E953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5174-B321-4921-A46F-956B106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7009-4E9E-4C4E-8D7A-359C2E44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701-B7D3-498D-B654-F67BDCF7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5FDE-56BA-44BD-BF7F-2CFB01DF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F1F-9698-4CC3-812F-2AB0405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8E6-75E9-417B-9F80-72647DF1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C3A-2FDC-41BA-81D4-704A4E4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C23-CEB2-4FEA-B215-F61F69D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1706-A2AB-4050-BF47-EB45602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3DC-A134-4A6E-93DD-7949BB3D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953-ED9B-4E62-9353-5FFC7159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F02D-9C75-47A9-B9AD-EFF95DCA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9715-3236-48B8-AACC-3BC4821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A9F0-FF43-4597-ABD4-E42FB6B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BB78-8B63-4534-ACCD-79674BD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08F8-0920-4F95-9656-8AA51B6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21F-86BD-44BD-A19C-083CE96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29F6-BC5F-4CB5-9339-E6408EE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3CD9-CA80-43BC-9C87-A43BDA7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593C-F0BA-47AC-8C9B-E8C7667E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44F2-8AF3-4789-B276-76DED26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7851-8002-440C-8813-DF32E2B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ED9A-8C0C-4581-AEBB-3115DE61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71E0-7C91-4EDF-A351-5196AED0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F3B9-6524-470A-BB1E-CB209202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433A-3C3F-409E-8DB0-777F9929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6CFC-0FC6-4D1C-8F27-4DFC8D9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28A-40AF-4392-B317-7151A46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5496-10B1-4616-B4BC-EF62F3A1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F5D8-9089-4641-B0A2-BC8A2B5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5DBA-332F-48EB-A817-83E19CB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B8FB-9098-4DEE-AA2E-CEF5E04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37B5-E5F1-4258-B760-4B21289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AEE1-34B8-4079-B5C1-4BD8F6C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8A5B-3FBC-4331-9FCF-05AC5B5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2CF9-1637-4698-BB51-B9505D72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F0F8-5B5E-43DC-BE9D-4707530C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1873-0244-4B9B-9E05-C33B0AC3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ED3-EFD7-4F8B-8752-79E1F54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E5F7-F828-4295-A1D7-FC40A32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CC0D-1F39-4253-8846-2A3B5E6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3BCA-2B6A-4D66-8F17-DFFD2032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D517-BE81-4004-B70D-C6620E9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74B4-B849-4733-84E8-4A1BA2F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1DFD-ADA5-4232-BC52-A8EB272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92B5-7AA1-4C22-A930-A2AD4EA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1A02-CFB5-4B41-8C24-A5BF5F5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5E99B-437E-4500-8CD1-C9F7ACBB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9CAE-3B17-4F39-B8C4-C60B6721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CD4-6B62-4D94-A9FD-239F8803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712F-2E06-4209-B5D5-84061AC1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C44-7999-4045-A797-2E8D2C5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17B-1DD4-4FE5-A779-4371AA4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A86-7C0E-4D1B-9B23-FEBBB20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481-6C1B-4BB9-8A67-18D10717402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6DF-4C76-45E7-A25B-E400768E98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5109-59A8-435C-9F0C-375B7147F0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D25-CDA5-4539-AC1B-76395A4F6F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E2D5-0CE1-4DCC-BE05-81C1511DB57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572000"/>
            <a:ext cx="81835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Правила </a:t>
            </a:r>
            <a:r>
              <a:rPr b="1" lang="ru-RU" sz="4800" spc="-1" strike="noStrike">
                <a:solidFill>
                  <a:srgbClr val="ffff00"/>
                </a:solidFill>
                <a:latin typeface="Verdana"/>
              </a:rPr>
              <a:t>дорожного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движен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8040" y="579240"/>
            <a:ext cx="3930480" cy="184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заранку за окош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ук и звон и кутерьм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По прямым стальны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дорож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Ходят красные до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7776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 летает, н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Жук по улиц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И горит в глазах жу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Два блестящих </a:t>
            </a: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огонь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транспорт\трамвай.jpg"/>
          <p:cNvPicPr/>
          <p:nvPr/>
        </p:nvPicPr>
        <p:blipFill>
          <a:blip r:embed="rId2"/>
          <a:stretch/>
        </p:blipFill>
        <p:spPr>
          <a:xfrm>
            <a:off x="785880" y="2643120"/>
            <a:ext cx="3714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6437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збука безопас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4200" y="357120"/>
            <a:ext cx="871560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– асфальтом улицы мостятся, автомобили быстро мчат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– бурлит в движенье мостовая, бегут авто. Спешат трамва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– все будьте правилам верны – держитесь правой сторо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 – груз громоздкий и большой неси у края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 – должен помнить пешеход: перекресток – перех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 – есть сигналы светофора – подчиняйся им без сп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 – желтый свет – предупрежденье – жди сигнала для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 – зеленый свет открыл дорогу, переходить ребята мог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– иди вперед, порядок знаешь на мостовой – не пострадаеш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– красный свет нам говорит: стой, опасно, путь закрыт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 – Леша с Любой ходят парой. Где идут по тротуар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 – марширует в садик строй, мы идем по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 – не смей на буфере кататься, не трудно с буфера сорвать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– опасность ротозеев ждет около любых воро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 – по асфальту точек стежка – пешеходная дор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 – риск ненужный, так и знай, на ходу скакать в трамв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– совет – не доверяй сноровке, в трамвай входи на останов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 – ты не мартышка и не кошка и не трапеция – подн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– ученик, садясь в трамвай, старшим место уступ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 – футбол – хорошая игра на стадионе, детв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 – хоккей – игра на льду зимой, не играй на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 – цеплять крючком машины борт – опасный и ненужный спор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 – чтобы тебя не задавили, не висни на автомоби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 – шагая осторожно, за улицей следи и только там, где можно, ее перехо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Щ – щади здоровье, жизнь щади, за движением сле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 – экзамен важного значенья держи по правилам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 – юные граждане, Тани и Пети, твердо запомните правила э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 – ясно, чтобы быть здоровым, чтобы быть к труду готовым, эту азбуку, друзья, нужно знать от А до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4200" y="4982760"/>
            <a:ext cx="87156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бята,соблюдайте правила дорожного движения!</a:t>
            </a:r>
            <a:br>
              <a:rPr sz="2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4" descr="Рисунок1"/>
          <p:cNvPicPr/>
          <p:nvPr/>
        </p:nvPicPr>
        <p:blipFill>
          <a:blip r:embed="rId1"/>
          <a:stretch/>
        </p:blipFill>
        <p:spPr>
          <a:xfrm>
            <a:off x="571680" y="357120"/>
            <a:ext cx="1928520" cy="450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анимашки\baby14_1.gif"/>
          <p:cNvPicPr/>
          <p:nvPr/>
        </p:nvPicPr>
        <p:blipFill>
          <a:blip r:embed="rId2"/>
          <a:stretch/>
        </p:blipFill>
        <p:spPr>
          <a:xfrm>
            <a:off x="4286160" y="428760"/>
            <a:ext cx="3357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18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У светофора окошечка три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При переходе на них посмотри,</a:t>
            </a:r>
            <a:br>
              <a:rPr sz="2200"/>
            </a:b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Если в окошечке красный горит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,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“Стой на панели!” - он говорит.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Рисунок1"/>
          <p:cNvPicPr/>
          <p:nvPr/>
        </p:nvPicPr>
        <p:blipFill>
          <a:blip r:embed="rId1"/>
          <a:stretch/>
        </p:blipFill>
        <p:spPr>
          <a:xfrm>
            <a:off x="5929200" y="785880"/>
            <a:ext cx="200052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 наверное видели треугольные,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руглые и квадратные знаки на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многих улицах и дорогах. По этим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кам водители узнают, где можно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ехать, а где нельзя, где можно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остановить машину и заправи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бензином. Знаки предупреждают об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пасности на дорогах, указывают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направление движения. Эти знак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лжны знать и пешеходы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1835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Быть серьезней на дороге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знать порядок вы должны 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Verdana"/>
              </a:rPr>
              <a:t>на проезжей части строго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игры все запрещены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35712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тветственная работа у водител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правляя своей машиной он все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ремя внимательно следит за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движущимся транспортом, за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игналами светофора,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пешеходами. Кроме того он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бязан строго выполнять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казания дорожных знаков. Эти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знаки важны не только для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одителей, но и для пешеходов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иночка</cp:lastModifiedBy>
  <dcterms:modified xsi:type="dcterms:W3CDTF">2014-09-14T10:46:17Z</dcterms:modified>
  <cp:revision>14</cp:revision>
  <dc:subject/>
  <dc:title>Слайд 1</dc:title>
</cp:coreProperties>
</file>