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4.jpeg" ContentType="image/jpeg"/>
  <Override PartName="/ppt/media/image5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15.gif" ContentType="image/gif"/>
  <Override PartName="/ppt/media/image7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6BAE-7700-4B0C-8DC8-F38502893D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F7DD-66B2-400C-8B0D-5476992FE7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D640-FC43-4658-BB66-4FCB1D7FA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9B39-BB97-43AD-97CC-06582F45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D9E6-EF02-4253-A5F3-C1833C262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99A5-F1BA-4137-9051-6481985AD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05753-B397-4047-BAC9-7DEB7F5FE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4559-0F97-4C68-998F-CA4BE41F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EDCC-745E-4217-901E-21645FA4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962DC-6676-4E82-9FC8-AFA6A67B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49F5-717B-4D5A-88DA-223060CE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98EB0-2681-4D6E-ABD3-F75AF269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AF8C-BB5E-4679-BBC7-26497329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22D3-C84C-41A4-BBD3-37E5F483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057F-1020-4A24-9356-8BFE1587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E389-64B0-4C8D-8A21-B54D4386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7903-364B-4871-A786-80D51216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5AE9-92E3-49CC-A5F5-DAA9A644D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9FD02-BC78-4E06-B319-353C549E3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2BFC9-13D5-4865-8857-F9124894B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0AD21-5CBD-4874-B751-50390DDF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1080E-923A-4FAF-ABB4-47373748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27F8B-D07E-4CC7-B694-09F17C11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B6372-EA53-44C8-8FC0-54066D11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BEDA-60D1-4654-9FAF-66B8B834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3C127-7071-4FD6-8182-1E3C09D4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189EE-B7B0-43EC-BFF7-067B567A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C5593-F4D7-42AD-AC5A-FC1EEB3C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DCEDD-2F8C-423D-A61D-337E61AF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B455A-7DFD-45C0-A9D3-4F1FD11F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4300A-465F-4665-90BE-7BD863BB4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62F14-217B-4E09-A479-C83CB167B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140FD-ABD6-41D9-A079-34C85458B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AEF34-E0F9-4D02-97D4-592F99BC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4B68C-86CF-4567-AAE2-670208DA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3108-55B3-4F9F-B1A2-0047F3E5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B4ECF-2291-4985-9112-1338CC0B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9034D-DC67-478A-BBAB-0AF59F56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BD3C1-CC6E-494D-8A06-8332B882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2008E-F9E0-4049-A830-89A91E25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FC4E4-81D5-408E-9B94-FE803779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D0807-B9C0-4479-AD26-0899C083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603D2-D125-429B-9EEF-163EAC33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D4E22-1DA8-4568-A36E-73BF2FD1A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A131D-C0EE-4EE1-B442-19DE321DE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DB342-5204-4501-9240-862A456D7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4B9B-6C49-4DE9-A0AD-CB14CFB7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7F79E-6CFE-432F-B42F-76769064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A3B50-27B1-4392-93F9-92866825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7CD2A-FBE0-4BF0-9B95-3AD88C41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9C599-FFBC-4EE7-AFC2-AAAA2CDF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35144-CDF4-4869-9679-5D4A06D7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B49A8-7640-451E-8418-20B2A40A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6E43A-161E-4815-A7A9-7F191F5C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1284E-31CF-4961-B5E4-7EB81F4F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F0772-E690-4EDF-8795-B349B072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434CA-828E-427E-8788-96E6D9BFA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45CA-7F81-4CA5-92B8-EA50F8D5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656E7-6457-43BB-8E75-2DBE199F8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F786-E073-45B4-9054-A147D2B6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E72A-8A23-4712-ADC2-1DB9E757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7433-391B-43E0-A5F6-9660A86E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AF7B-152C-467D-83B0-143978E4078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AAA0-6B9C-43D8-902E-AED21D929E1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FBFD-DCDE-4D98-89F3-686904589FA1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5755-AD5C-4705-8741-672DB639D881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98E7-F4AC-41C0-B05E-91BBCE51BC31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572000"/>
            <a:ext cx="81835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Verdana"/>
              </a:rPr>
              <a:t>Правила </a:t>
            </a:r>
            <a:r>
              <a:rPr b="1" lang="ru-RU" sz="4800" spc="-1" strike="noStrike">
                <a:solidFill>
                  <a:srgbClr val="ffff00"/>
                </a:solidFill>
                <a:latin typeface="Verdana"/>
              </a:rPr>
              <a:t>дорожного</a:t>
            </a:r>
            <a:r>
              <a:rPr b="1" lang="ru-RU" sz="4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4800" spc="-1" strike="noStrike">
                <a:solidFill>
                  <a:srgbClr val="00b050"/>
                </a:solidFill>
                <a:latin typeface="Verdana"/>
              </a:rPr>
              <a:t>движения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642960" y="428760"/>
            <a:ext cx="7715160" cy="4000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8040" y="579240"/>
            <a:ext cx="3930480" cy="184932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Спозаранку за окошком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Стук и звон и кутерьм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Verdana"/>
              </a:rPr>
              <a:t>По прямым стальным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дорожкам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Ходят красные дом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177768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Не летает, не бежит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Verdana"/>
              </a:rPr>
              <a:t>Жук по улице бежит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Verdana"/>
              </a:rPr>
              <a:t>И горит в глазах жук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Два блестящих </a:t>
            </a:r>
            <a:r>
              <a:rPr b="1" lang="ru-RU" sz="2200" spc="-1" strike="noStrike">
                <a:solidFill>
                  <a:srgbClr val="ffff00"/>
                </a:solidFill>
                <a:latin typeface="Verdana"/>
              </a:rPr>
              <a:t>огонька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5072040" y="2571840"/>
            <a:ext cx="3357720" cy="2357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H:\транспорт\трамвай.jpg"/>
          <p:cNvPicPr/>
          <p:nvPr/>
        </p:nvPicPr>
        <p:blipFill>
          <a:blip r:embed="rId2"/>
          <a:stretch/>
        </p:blipFill>
        <p:spPr>
          <a:xfrm>
            <a:off x="785880" y="2643120"/>
            <a:ext cx="371484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285840" y="357120"/>
            <a:ext cx="85723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5643720"/>
            <a:ext cx="81835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Азбука безопасност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14200" y="357120"/>
            <a:ext cx="8715600" cy="4786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 – асфальтом улицы мостятся, автомобили быстро мчатся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 – бурлит в движенье мостовая, бегут авто. Спешат трамваи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– все будьте правилам верны – держитесь правой стороны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 – груз громоздкий и большой неси у края мостовой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 – должен помнить пешеход: перекресток – переход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Е – есть сигналы светофора – подчиняйся им без спора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Ж – желтый свет – предупрежденье – жди сигнала для движенья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 – зеленый свет открыл дорогу, переходить ребята могут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 – иди вперед, порядок знаешь на мостовой – не пострадаешь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 – красный свет нам говорит: стой, опасно, путь закрыт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 – Леша с Любой ходят парой. Где идут по тротуара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 – марширует в садик строй, мы идем по мостовой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 – не смей на буфере кататься, не трудно с буфера сорваться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 – опасность ротозеев ждет около любых ворот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 – по асфальту точек стежка – пешеходная дорожка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 – риск ненужный, так и знай, на ходу скакать в трамвай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 – совет – не доверяй сноровке, в трамвай входи на остановке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 – ты не мартышка и не кошка и не трапеция – подножка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 – ученик, садясь в трамвай, старшим место уступай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 – футбол – хорошая игра на стадионе, детвора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Х – хоккей – игра на льду зимой, не играй на мостовой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Ц – цеплять крючком машины борт – опасный и ненужный спорт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Ч – чтобы тебя не задавили, не висни на автомобил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Ш – шагая осторожно, за улицей следи и только там, где можно, ее переходи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Щ – щади здоровье, жизнь щади, за движением следи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Э – экзамен важного значенья держи по правилам движенья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Ю – юные граждане, Тани и Пети, твердо запомните правила эти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Я – ясно, чтобы быть здоровым, чтобы быть к труду готовым, эту азбуку, друзья, нужно знать от А до 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4200" y="4982760"/>
            <a:ext cx="8715600" cy="16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Ребята,соблюдайте правила дорожного движения!</a:t>
            </a:r>
            <a:br>
              <a:rPr sz="28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0" name="Picture 4" descr="Рисунок1"/>
          <p:cNvPicPr/>
          <p:nvPr/>
        </p:nvPicPr>
        <p:blipFill>
          <a:blip r:embed="rId1"/>
          <a:stretch/>
        </p:blipFill>
        <p:spPr>
          <a:xfrm>
            <a:off x="571680" y="357120"/>
            <a:ext cx="1928520" cy="4500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H:\анимашки\baby14_1.gif"/>
          <p:cNvPicPr/>
          <p:nvPr/>
        </p:nvPicPr>
        <p:blipFill>
          <a:blip r:embed="rId2"/>
          <a:stretch/>
        </p:blipFill>
        <p:spPr>
          <a:xfrm>
            <a:off x="4286160" y="428760"/>
            <a:ext cx="335772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0040" y="4285800"/>
            <a:ext cx="818352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d3e"/>
                </a:solidFill>
                <a:latin typeface="Verdana"/>
              </a:rPr>
              <a:t>У светофора окошечка три</a:t>
            </a:r>
            <a:br>
              <a:rPr sz="2200"/>
            </a:br>
            <a:r>
              <a:rPr b="1" lang="ru-RU" sz="2200" spc="-1" strike="noStrike">
                <a:solidFill>
                  <a:srgbClr val="ffff00"/>
                </a:solidFill>
                <a:latin typeface="Verdana"/>
              </a:rPr>
              <a:t>При переходе на них посмотри,</a:t>
            </a:r>
            <a:br>
              <a:rPr sz="2200"/>
            </a:br>
            <a:r>
              <a:rPr b="1" lang="ru-RU" sz="2200" spc="-1" strike="noStrike">
                <a:solidFill>
                  <a:srgbClr val="00b050"/>
                </a:solidFill>
                <a:latin typeface="Verdana"/>
              </a:rPr>
              <a:t>Если в окошечке красный горит</a:t>
            </a:r>
            <a:r>
              <a:rPr b="1" lang="ru-RU" sz="2200" spc="-1" strike="noStrike">
                <a:solidFill>
                  <a:srgbClr val="ff8d3e"/>
                </a:solidFill>
                <a:latin typeface="Verdana"/>
              </a:rPr>
              <a:t>,</a:t>
            </a:r>
            <a:br>
              <a:rPr sz="2200"/>
            </a:br>
            <a:r>
              <a:rPr b="1" lang="ru-RU" sz="2200" spc="-1" strike="noStrike">
                <a:solidFill>
                  <a:srgbClr val="ff8d3e"/>
                </a:solidFill>
                <a:latin typeface="Verdana"/>
              </a:rPr>
              <a:t>“Стой на панели!” - он говорит.</a:t>
            </a:r>
            <a:br>
              <a:rPr sz="2200"/>
            </a:b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0" name="Picture 4" descr="Рисунок1"/>
          <p:cNvPicPr/>
          <p:nvPr/>
        </p:nvPicPr>
        <p:blipFill>
          <a:blip r:embed="rId1"/>
          <a:stretch/>
        </p:blipFill>
        <p:spPr>
          <a:xfrm>
            <a:off x="5929200" y="785880"/>
            <a:ext cx="2000520" cy="4095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03280" y="529920"/>
            <a:ext cx="8183520" cy="5398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Вы наверное видели треугольные, </a:t>
            </a: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круглые и квадратные знаки на </a:t>
            </a:r>
            <a:r>
              <a:rPr b="1" lang="ru-RU" sz="2800" spc="-1" strike="noStrike">
                <a:solidFill>
                  <a:srgbClr val="00b050"/>
                </a:solidFill>
                <a:latin typeface="Verdana"/>
              </a:rPr>
              <a:t>многих улицах и дорогах. По этим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знакам водители узнают, где можно </a:t>
            </a: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ехать, а где нельзя, где можно </a:t>
            </a:r>
            <a:r>
              <a:rPr b="1" lang="ru-RU" sz="2800" spc="-1" strike="noStrike">
                <a:solidFill>
                  <a:srgbClr val="00b050"/>
                </a:solidFill>
                <a:latin typeface="Verdana"/>
              </a:rPr>
              <a:t>остановить машину и заправить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бензином. Знаки предупреждают об </a:t>
            </a: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опасности на дорогах, указывают </a:t>
            </a:r>
            <a:r>
              <a:rPr b="1" lang="ru-RU" sz="2800" spc="-1" strike="noStrike">
                <a:solidFill>
                  <a:srgbClr val="00b050"/>
                </a:solidFill>
                <a:latin typeface="Verdana"/>
              </a:rPr>
              <a:t>направление движения. Эти знаки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должны знать и пешеходы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357120" y="357120"/>
            <a:ext cx="8358120" cy="5572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0040" y="3714480"/>
            <a:ext cx="818352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Verdana"/>
              </a:rPr>
              <a:t>Быть серьезней на дороге,</a:t>
            </a:r>
            <a:br>
              <a:rPr sz="3000"/>
            </a:br>
            <a:r>
              <a:rPr b="1" lang="ru-RU" sz="3000" spc="-1" strike="noStrike">
                <a:solidFill>
                  <a:srgbClr val="ffff00"/>
                </a:solidFill>
                <a:latin typeface="Verdana"/>
              </a:rPr>
              <a:t>знать порядок вы должны </a:t>
            </a:r>
            <a:br>
              <a:rPr sz="3000"/>
            </a:br>
            <a:r>
              <a:rPr b="1" lang="ru-RU" sz="3000" spc="-1" strike="noStrike">
                <a:solidFill>
                  <a:srgbClr val="00b050"/>
                </a:solidFill>
                <a:latin typeface="Verdana"/>
              </a:rPr>
              <a:t>на проезжей части строго </a:t>
            </a:r>
            <a:br>
              <a:rPr sz="3000"/>
            </a:br>
            <a:r>
              <a:rPr b="1" lang="ru-RU" sz="3000" spc="-1" strike="noStrike">
                <a:solidFill>
                  <a:srgbClr val="ff0000"/>
                </a:solidFill>
                <a:latin typeface="Verdana"/>
              </a:rPr>
              <a:t>игры все запрещены.</a:t>
            </a:r>
            <a:br>
              <a:rPr sz="3200"/>
            </a:br>
            <a:endParaRPr b="1" lang="en-US" sz="3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1785960" y="642960"/>
            <a:ext cx="564372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850104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285840" y="357120"/>
            <a:ext cx="864396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214200" y="357120"/>
            <a:ext cx="8786880" cy="6143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Ответственная работа у водителя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Управляя своей машиной он все </a:t>
            </a:r>
            <a:r>
              <a:rPr b="0" lang="ru-RU" sz="3600" spc="-1" strike="noStrike">
                <a:solidFill>
                  <a:srgbClr val="00b050"/>
                </a:solidFill>
                <a:latin typeface="Verdana"/>
              </a:rPr>
              <a:t>время внимательно следит за </a:t>
            </a: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движущимся транспортом, за </a:t>
            </a: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сигналами светофора, </a:t>
            </a:r>
            <a:r>
              <a:rPr b="0" lang="ru-RU" sz="3600" spc="-1" strike="noStrike">
                <a:solidFill>
                  <a:srgbClr val="00b050"/>
                </a:solidFill>
                <a:latin typeface="Verdana"/>
              </a:rPr>
              <a:t>пешеходами. Кроме того он </a:t>
            </a: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обязан строго выполнять </a:t>
            </a: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указания дорожных знаков. Эти </a:t>
            </a:r>
            <a:r>
              <a:rPr b="0" lang="ru-RU" sz="3600" spc="-1" strike="noStrike">
                <a:solidFill>
                  <a:srgbClr val="00b050"/>
                </a:solidFill>
                <a:latin typeface="Verdana"/>
              </a:rPr>
              <a:t>знаки важны не только для </a:t>
            </a: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водителей, но и для пешеходов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428760" y="285840"/>
            <a:ext cx="84294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иночка</cp:lastModifiedBy>
  <dcterms:modified xsi:type="dcterms:W3CDTF">2014-09-14T10:46:17Z</dcterms:modified>
  <cp:revision>14</cp:revision>
  <dc:subject/>
  <dc:title>Слайд 1</dc:title>
</cp:coreProperties>
</file>