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F99-CC82-447B-B586-EEC91CAA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49A-0310-46A0-AE46-F83F58E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7F2-4B2C-469E-9858-5A64934C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466-8831-4AC0-B0A3-B3D60A22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297-51BC-4F98-ADAD-4937A1B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CBA-998E-4287-9B52-2694EC4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CFD-C54A-427B-BE1C-DA205CE1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20C-6FFE-4D96-A930-23A857FB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42A-FDFA-4B31-9E44-DB0D1122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A48-E7A2-46E0-8BB5-28F415D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1D7-B286-4841-9F26-F5C85D8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CB6-5B98-4F23-BBAC-D879B69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5D8-3B0F-4FC8-83EC-B7F911246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1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9848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дорожные детям знать положе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00720" y="5084640"/>
            <a:ext cx="2656080" cy="11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атель Овод С.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Sveta\Desktop\памятки по пдд\101-3-bezopasnost-dorozhnogo-dvizheniya-kartinki-dlya-detej.jpg"/>
          <p:cNvPicPr/>
          <p:nvPr/>
        </p:nvPicPr>
        <p:blipFill>
          <a:blip r:embed="rId2"/>
          <a:stretch/>
        </p:blipFill>
        <p:spPr>
          <a:xfrm>
            <a:off x="1706400" y="2000160"/>
            <a:ext cx="3511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0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68360" y="126828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Делаем ребятам предостереж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ыучите срочно правила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б не волновались каждый день родит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б спокойно мчались улицей в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св.png"/>
          <p:cNvPicPr/>
          <p:nvPr/>
        </p:nvPicPr>
        <p:blipFill>
          <a:blip r:embed="rId2"/>
          <a:stretch/>
        </p:blipFill>
        <p:spPr>
          <a:xfrm>
            <a:off x="2651040" y="2639880"/>
            <a:ext cx="22687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0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971640" y="1683720"/>
            <a:ext cx="64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Каждый ребёнок обязан узн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Рядом с дорогой опасно игр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Не забывай, что дорога – не дв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Затормозить не успеет шофё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Если ты вдруг за мячом побеж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Прямо на трассу, беспечный малыш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Миг! И случится большая беда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Ты у дорог не играй нико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0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539640" y="189000"/>
            <a:ext cx="820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На дороге множество пра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Кто где едет, куда как ид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Их придумали, чтобы ава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Не случилось с тобою в пу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Если ты пока не мож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Рассмотреть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ыходить туда не над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одожди нем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усть машины пронесу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Разойду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И всю трассу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Лучше видно буд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от тогда ступай спокой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доль по перех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Где всегда ходить удоб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ешему народ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св.png"/>
          <p:cNvPicPr/>
          <p:nvPr/>
        </p:nvPicPr>
        <p:blipFill>
          <a:blip r:embed="rId2"/>
          <a:stretch/>
        </p:blipFill>
        <p:spPr>
          <a:xfrm>
            <a:off x="-122400" y="3676680"/>
            <a:ext cx="23115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0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0" y="1063080"/>
            <a:ext cx="54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Нам на улице не страш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Знаем все мы с давних п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Красный свет – идти опас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Путь закрыл нам светоф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Жёлтый свет горит – смотр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Скоро сможешь перей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Свет зелёный (не забудь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Говорит: «Свободен путь!»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0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0" y="77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92360" y="1557360"/>
            <a:ext cx="61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равила до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 так уж и сло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олько в жизни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чень всем ну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8T16:45:34Z</dcterms:created>
  <dc:creator>Sveta</dc:creator>
  <dc:description/>
  <dc:language>en-US</dc:language>
  <cp:lastModifiedBy>Sveta</cp:lastModifiedBy>
  <dcterms:modified xsi:type="dcterms:W3CDTF">2022-12-16T17:39:20Z</dcterms:modified>
  <cp:revision>5</cp:revision>
  <dc:subject/>
  <dc:title>Правила дорожные детям знать положено!</dc:title>
</cp:coreProperties>
</file>