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CE1E-FA5D-4793-8371-FD7C980E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93CA-53F0-46DE-9935-FFD354A4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E9F8-0BFB-49E6-9E2F-440936AC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3ACA-1A83-4999-9F06-3545839D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F664-81EF-4A3E-9F2B-ED307528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37C9-D583-4159-B70E-12EEF8FE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20B6-1DF4-41C0-8B77-A24D62B3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65A7-8F15-456A-AE00-0FF9D015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352C-B3E4-4C58-8027-2FFF510F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C3E3-361F-4526-8619-42B125A8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4FE8-0C8F-4FBD-B90E-7E22E2C9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8BD1-E4B6-4591-AA8F-9F8AF795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5D0E-3403-4BB5-B621-01D65D2709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5130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98480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авила дорожные детям знать положен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300720" y="5084640"/>
            <a:ext cx="2656080" cy="11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оспитатель Овод С.Ф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Sveta\Desktop\памятки по пдд\101-3-bezopasnost-dorozhnogo-dvizheniya-kartinki-dlya-detej.jpg"/>
          <p:cNvPicPr/>
          <p:nvPr/>
        </p:nvPicPr>
        <p:blipFill>
          <a:blip r:embed="rId2"/>
          <a:stretch/>
        </p:blipFill>
        <p:spPr>
          <a:xfrm>
            <a:off x="1706400" y="2000160"/>
            <a:ext cx="35118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0г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468360" y="126828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Делаем ребятам предостереж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Выучите срочно правила движен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Чтоб не волновались каждый день родите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Чтоб спокойно мчались улицей водите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3" descr="св.png"/>
          <p:cNvPicPr/>
          <p:nvPr/>
        </p:nvPicPr>
        <p:blipFill>
          <a:blip r:embed="rId2"/>
          <a:stretch/>
        </p:blipFill>
        <p:spPr>
          <a:xfrm>
            <a:off x="2651040" y="2639880"/>
            <a:ext cx="226872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0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971640" y="1683720"/>
            <a:ext cx="640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Каждый ребёнок обязан узнат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Рядом с дорогой опасно играть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Не забывай, что дорога – не двор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Затормозить не успеет шофё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Если ты вдруг за мячом побежиш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Прямо на трассу, беспечный малыш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Миг! И случится большая беда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Ты у дорог не играй никогд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0ё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539640" y="189000"/>
            <a:ext cx="8209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На дороге множество прави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Кто где едет, куда как ид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Их придумали, чтобы авар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Не случилось с тобою в пу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Если ты пока не може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Рассмотреть дорог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Выходить туда не надо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Подожди немн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Пусть машины пронесу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Разойдутся люд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И всю трассу постепен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Лучше видно буд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Вот тогда ступай спокой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Вдоль по переход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Где всегда ходить удоб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 Black"/>
              </a:rPr>
              <a:t>Пешему народ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3" descr="св.png"/>
          <p:cNvPicPr/>
          <p:nvPr/>
        </p:nvPicPr>
        <p:blipFill>
          <a:blip r:embed="rId2"/>
          <a:stretch/>
        </p:blipFill>
        <p:spPr>
          <a:xfrm>
            <a:off x="-122400" y="3676680"/>
            <a:ext cx="23115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0ж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0" y="1063080"/>
            <a:ext cx="540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Calibri"/>
              </a:rPr>
              <a:t>Нам на улице не страшн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Calibri"/>
              </a:rPr>
              <a:t>Знаем все мы с давних по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Calibri"/>
              </a:rPr>
              <a:t>Красный свет – идти опас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Calibri"/>
              </a:rPr>
              <a:t>Путь закрыл нам светофо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Calibri"/>
              </a:rPr>
              <a:t>Жёлтый свет горит – смотр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Calibri"/>
              </a:rPr>
              <a:t>Скоро сможешь перей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Calibri"/>
              </a:rPr>
              <a:t>Свет зелёный (не забудь!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Calibri"/>
              </a:rPr>
              <a:t>Говорит: «Свободен путь!»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0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"/>
          <p:cNvSpPr/>
          <p:nvPr/>
        </p:nvSpPr>
        <p:spPr>
          <a:xfrm>
            <a:off x="0" y="770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1692360" y="1557360"/>
            <a:ext cx="619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Правила дор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Не так уж и слож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Только в жизни прав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Очень всем нуж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08T16:45:34Z</dcterms:created>
  <dc:creator>Sveta</dc:creator>
  <dc:description/>
  <dc:language>en-US</dc:language>
  <cp:lastModifiedBy>Sveta</cp:lastModifiedBy>
  <dcterms:modified xsi:type="dcterms:W3CDTF">2022-12-16T17:39:20Z</dcterms:modified>
  <cp:revision>5</cp:revision>
  <dc:subject/>
  <dc:title>Правила дорожные детям знать положено!</dc:title>
</cp:coreProperties>
</file>