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0CE1-2427-48BF-82EF-5AFAE8D589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B129-5453-4EE6-8C41-E2654F76EF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CBCB-2D9F-41F7-9587-E6116E07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99B0-4088-4005-B8E7-3365AF32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61E0-C3E3-41E8-90FE-B8BF9410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2961-1037-4C35-8A7A-94A4ED33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BC4B-FF15-43D1-AB21-9E928FB0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3C20-6DFF-42EA-9722-48F3C27B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0E64-F956-4BDB-A9FD-10C2C7DD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D236-95F7-41C0-AFFB-8824D80F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8E25-B5DE-483B-9592-EC571BB0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55BB-3322-4547-85AE-CBA89AEA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86F1-2683-4A2B-9B9E-0CCF3F84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790-D37A-4068-8C35-F297DF44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0753-55C9-4C4D-81FC-FA7DFEBA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F92E-3A1E-410F-B6D6-F4AF2B3C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20FC-876F-49B2-BD97-0263598D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136C-5DE5-43EE-A32F-F1E8C879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4BB1-0263-49AB-9AE4-43FA66B0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86EA6-7D6E-43E5-BFC4-DE8B39F6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67BF1-B1BC-4CF9-95C6-6469C249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21E4D-564D-4417-BA78-6B914402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2960F-3C97-4569-A4FF-1A7595D9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37F5F-B652-4138-A61B-89F94B72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2200-9255-43EE-A281-CC350B58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F17DF-7F6B-474A-84F2-59543357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4AD33-BE8F-43B8-BCA7-645CD6B9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CE1F8-1CB3-4B91-A81B-1A2A8BF7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BE33C-BC74-43CF-B061-23F39556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A1A4A-944B-4967-8E42-52D05B2F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96172-0143-4955-BB6A-4B5AA82B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4E309-DAC1-4C4F-B0F2-7FB69C34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BC74C-6B94-42A6-BB67-316AE9BF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54B42-1FC9-4A8A-9737-A7C34C8F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A136A-43D0-40D4-A8D8-0450612C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CF2B-D44C-4755-B54B-BFBCE6AE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6DFC2-5561-4072-8820-2D5885CD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4F982-03DD-4614-80F4-073E950D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2F5C4-7D40-4FAD-9561-2B1F5670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EB1E3-004C-49AB-B637-352F4A91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265A3-EDF6-4ECB-A509-8C331AEE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3F92B-115A-4292-B510-1CE965B8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32B2C-5724-49B9-9EA6-11A0D14E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AA223-A10C-4707-A549-9C79507E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5F3B4-A345-4312-9F6D-EFA2DBF9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574-CF3A-41D3-89FD-9E11B17E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CEB-0739-4BC2-BE38-134764BB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D860-558E-490F-966A-1B6DE5A9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9665-F83E-4355-985F-4356EF1D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030F-8FBD-4A3B-98C2-B3B9B291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5A4A-361F-48A4-AC80-069C96E5AA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4263-13D8-4AB3-A6D4-BA76FD6D56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D06A-34B6-4C01-8F2B-E8F61047BA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2E00-C62F-47A1-A1A9-89BF1C7611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pandia.ru/text/category/tatarstan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28920" y="1071360"/>
            <a:ext cx="59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Татарско –Суксинская СОШ» Актанышского муниципального района 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214720" y="2571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льтура татарского и марийского на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Заголовок 1"/>
          <p:cNvSpPr/>
          <p:nvPr/>
        </p:nvSpPr>
        <p:spPr>
          <a:xfrm>
            <a:off x="2571840" y="4643280"/>
            <a:ext cx="5214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начальных классов: Салихова Дайсана Рави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Объект 4" descr=""/>
          <p:cNvPicPr/>
          <p:nvPr/>
        </p:nvPicPr>
        <p:blipFill>
          <a:blip r:embed="rId1"/>
          <a:stretch/>
        </p:blipFill>
        <p:spPr>
          <a:xfrm>
            <a:off x="4765680" y="404640"/>
            <a:ext cx="4019400" cy="281016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3" descr=""/>
          <p:cNvPicPr/>
          <p:nvPr/>
        </p:nvPicPr>
        <p:blipFill>
          <a:blip r:embed="rId2"/>
          <a:stretch/>
        </p:blipFill>
        <p:spPr>
          <a:xfrm>
            <a:off x="1042920" y="404640"/>
            <a:ext cx="3753000" cy="281016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5" descr=""/>
          <p:cNvPicPr/>
          <p:nvPr/>
        </p:nvPicPr>
        <p:blipFill>
          <a:blip r:embed="rId3"/>
          <a:stretch/>
        </p:blipFill>
        <p:spPr>
          <a:xfrm>
            <a:off x="971640" y="3243240"/>
            <a:ext cx="3824280" cy="29941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8" descr=""/>
          <p:cNvPicPr/>
          <p:nvPr/>
        </p:nvPicPr>
        <p:blipFill>
          <a:blip r:embed="rId4"/>
          <a:stretch/>
        </p:blipFill>
        <p:spPr>
          <a:xfrm>
            <a:off x="4572000" y="3344760"/>
            <a:ext cx="4322880" cy="289260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785880" y="57168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и направлены на обеспечение хозяйственного и семейного благополучия, увеличения в новом году урожайности полей, приплода скота. Основные обрядовые действия приходятся на первый день праздника. Дергание овец за ноги должен  обеспечить плодовитость овец. В каждом доме в честь праздника Шорыкйол и «хозяина» дома кудорт проводят семейные мол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42600" y="64296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полняются обряды, связанные с разведением скота. В первый день совершают подворный обход дети и девушки-участницы обряда Удырсий* (Девичий пир). Они поздравляют домохозяев с приходом Нового года и желают благополучной семейной и хозяйственной жизни, приплода овец. Хозяева угощают их ритуальным супом из конопляных семян (кынешур), орешками и сладостями. Вечером по домам выходит группа ряженых во главе со стариком Василием и его старухой — Васликува-кугыз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4296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и воспринимаются  марийцами как предвестники будущего, т.к. предсказывают о будущей жизни, урожае, прибавлении семейства, увеличении поголовья домашнего скота. Другие дни праздника проходят в веселом времяпрепровождении. Разделившись на группы по возрасту и полу, сельские жители собираются в доме «шорыкйол порт», специально нанятый на период праздни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2876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м они устраивают  различные представления, играют в традиционные игры, например, «Сокыртага», «Нийкучен», девушки гадают, пожилые рассказывают сказки, истории из жизн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время праздника соблюдались некоторые запреты: остерегались стирать белье, шить и вышивать, не выполнялись тяжелые виды работ. Существенную роль играла обильная обрядовая еда, она предполагала достаток на предстоящий г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71680" y="85716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ы ,татары, тоже участвуем на этом праздн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нас, у татар , празднуют «Сабантуй», а у них празднуют «Семык». Это один  из больших праздников марийского народа. И каждый год «Семык» празднуют в разном районе, в 2011 году праздновали в Кукморском районе, в прошлом году в Елабужском районе, а уж в этом году праздник был у нас, в Актанышском районе, в селе Мари-Суксы.  На этот праздник приезжают марийцы и  из республики Мари- Эль, из Удмурт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их много праздников и обычаев, не все как у нас, но есть и общие черты Татарские народные праздники восхищают чувством благодарности и почтения людей к природе, к обычаям предков, друг к дру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7168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1-22 марта празднуют в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атарстан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Казахстане, Киргизии и др. странах и субъектах РФ замечательный весенний праздник - Навруз (науруз, наурыз, нооруз). Навруз – это первый день Нового года по восточному календарю, праздник весны, день весеннего равноденствия. Если вдуматься, навруз – самый логичный Новый год из всех национальных, он начинается с возрождения жизни на земле – весны.. Название в переводе с языка фарси означает "новый день"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Объект 3" descr=""/>
          <p:cNvPicPr/>
          <p:nvPr/>
        </p:nvPicPr>
        <p:blipFill>
          <a:blip r:embed="rId1"/>
          <a:stretch/>
        </p:blipFill>
        <p:spPr>
          <a:xfrm>
            <a:off x="727200" y="563400"/>
            <a:ext cx="3956040" cy="264960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4" descr=""/>
          <p:cNvPicPr/>
          <p:nvPr/>
        </p:nvPicPr>
        <p:blipFill>
          <a:blip r:embed="rId2"/>
          <a:stretch/>
        </p:blipFill>
        <p:spPr>
          <a:xfrm>
            <a:off x="4352760" y="3357720"/>
            <a:ext cx="4435560" cy="322560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5" descr=""/>
          <p:cNvPicPr/>
          <p:nvPr/>
        </p:nvPicPr>
        <p:blipFill>
          <a:blip r:embed="rId3"/>
          <a:srcRect l="0" t="0" r="20" b="-422"/>
          <a:stretch/>
        </p:blipFill>
        <p:spPr>
          <a:xfrm>
            <a:off x="900000" y="3405240"/>
            <a:ext cx="3311640" cy="29764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6" descr=""/>
          <p:cNvPicPr/>
          <p:nvPr/>
        </p:nvPicPr>
        <p:blipFill>
          <a:blip r:embed="rId4"/>
          <a:stretch/>
        </p:blipFill>
        <p:spPr>
          <a:xfrm>
            <a:off x="4729320" y="349200"/>
            <a:ext cx="3957480" cy="286380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одновременно и праздник весны, и встреча Нового года. По традиции в Навруз готовят праздничный стол, на котором обязательно должны быть семь блюд, название которых начинается с буквы "с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2876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Цель проекта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общение детей к культуре татарского и марийского народов, развитие прикладных умений и навыков, способности к творческому взаимодействию с социум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дачи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звать у детей интерес к истории и народным традициям Татарстана;  раскрыть значение национальных традиций (проведение праздников, игр и др.) для формирования культуры, нравственных качест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5651640" y="4307040"/>
            <a:ext cx="2720880" cy="22129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6920" y="837000"/>
            <a:ext cx="7831440" cy="2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ГА БОТКАС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2876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га боткасы. Дословно он переводиться как «Пора варить кашу». Его празднуют ранней весной, когда начинает сходить снег. Татарские праздники и традиции часто вовлекают в празднование детей, и именно этот праздник есть одним из таких. Дети ходили в своем конце деревни по домам и просили у хозяек продукты на кашу и хором говорили разные стихи с пожеланиями и просьбами, а хозяйки давали им за это крупу, яйца и мас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0004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сбора всего необходимого детки отправлялись на поляну, где разводили костер и готовили кашу. Естественно, они это делали не сами, им помогали несколько пожилых женщин. Готовой кашей угощали всех, кто пришел на праздник. После трапезы дети играли в различные игры, пели песни и танцевали. Этот праздник был ознаменованием того, что скоро наступит Сабанту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42960" y="35712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бантуй остается повсеместным и любимым весенним праздником татар. Это очень красивый, добрый и мудрый праздник. Он включает в себя различные обряды и иг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ловно «сабантуй» означает «Праздник Плуга» (сабан - плуг и туй – праздник). Раньше он праздновался перед началом весенних полевых работ, в апреле, сейчас сабантуй устраивают в июне – по окончании се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былые времена к сабантую готовились долго и тщательно – девушки ткали, шили, вышивали национальным узором платки, полотенца, рубашки; каждой хотелось, чтобы, именно ее творение стало наградой самому сильному джигиту - победителю в национальной борьбе или в скачк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2876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молодые люди ходили по домам и собирали подарки, пели песни, шутили. Подарки привязывали к длинному шесту, иногда джигиты обвязывали себя собранными полотенцами и не снимали их до конца церемо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время сабантуя избирался совет из уважаемых аксакалов – к ним переходила вся власть в деревне, они назначали жюри для награждения победителей, следили за порядком во время состяз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бантуй начинается с самого утра. Женщины надевают свои самые красивые украшения, в гривы лошадей вплетают ленточки, подвешивают к дуге колокольчики. Все наряжаются и собираются на майдане – большом лу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лечений на сабантуе великое множество. Главное - это, конечно же, национальная борьба курэш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Объект 4" descr=""/>
          <p:cNvPicPr/>
          <p:nvPr/>
        </p:nvPicPr>
        <p:blipFill>
          <a:blip r:embed="rId1"/>
          <a:stretch/>
        </p:blipFill>
        <p:spPr>
          <a:xfrm>
            <a:off x="817560" y="479520"/>
            <a:ext cx="3608280" cy="240804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2"/>
          <a:stretch/>
        </p:blipFill>
        <p:spPr>
          <a:xfrm>
            <a:off x="4683240" y="441360"/>
            <a:ext cx="3732120" cy="24861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5" descr=""/>
          <p:cNvPicPr/>
          <p:nvPr/>
        </p:nvPicPr>
        <p:blipFill>
          <a:blip r:embed="rId3"/>
          <a:stretch/>
        </p:blipFill>
        <p:spPr>
          <a:xfrm>
            <a:off x="817560" y="3581280"/>
            <a:ext cx="3906720" cy="27036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6" descr=""/>
          <p:cNvPicPr/>
          <p:nvPr/>
        </p:nvPicPr>
        <p:blipFill>
          <a:blip r:embed="rId4"/>
          <a:stretch/>
        </p:blipFill>
        <p:spPr>
          <a:xfrm>
            <a:off x="4859280" y="3603600"/>
            <a:ext cx="3732120" cy="260496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71320" y="428760"/>
            <a:ext cx="81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ычно недели за две до сабантуя претенденты на победу в этом состязании переставали выходить на полевые работы и ели сколько душе угодно свежих яиц, масла, меда, набирались сил, чтобы защищать честь родной деревни. Для победы в курэш требуется немало силы, хитрости и ловкости. Схватка происходит по строгим правилам: противники обматывают друг друга широкими поясами, задача заключается в том, чтобы подвесить противника на своем кушаке в воздухе, а затем положить его на лопат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бедитель национальной борьбы – абсолютный батыр - получает в награду живого барана и с ним на плечах совершает круг почета. Правда, в последнее время барана часто заменяют каким-нибудь другим ценным призом – телевизором, холодильником, стиральной маши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Обоснование проблематики и социальной значимости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ный проект направлен на то, чтобы татарский народ не забывал о национальных праздниках, которые праздновали наши деды и прадеды. Тем самым мы сможем чтить их память и продолжить их традиции, чтобы наши потомки помнили о них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8272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ть навыки работы в группе, выполнять различные роли, взаимодействовать с другими людь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оспитывать любовь и уважение к традициям народ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 способствовать формированию у обучающихся умений и навыков свободного общения на татарском язы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Описание опыта работы в указанном направлении (за последние 3 год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1 - подготови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этом этапе проводилось изучение проблемы, актуальности идеи проекта, изучение литературы по теме проекта, анкетирование, социологические опросы, в ходе которых выяснилось, что современные дети совсем не знают о народных традициях, играх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данном этапе мы определили тему проекта, поставили цель, сформулировали задачи, составили план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ЭТАП – ТЕХНОЛОГИЧЕСКИЙ (Выполнение запланированных тренировочных упражнений). На этом этапе выполнялись первичные наброски, изучались сами традиции, национальные праздники, составлялась программа праздников., подготовили консультантов-инструкторов, привлекались спонсоры для награждения победите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ЭТАП – ПРАКТИЧЕСКАЯ РЕАЛИЗАЦИЯ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ли праздники :«Карга боткасы» , «Науруз», «Сабантуй». Участвовали в марийских праздниках: «Семык», «Маслениц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сленица в Мари -Сукс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1238400" y="1639800"/>
            <a:ext cx="3404880" cy="2271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4248000" y="3605040"/>
            <a:ext cx="4162680" cy="277668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мы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3168720" cy="2111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5651640" y="3824280"/>
            <a:ext cx="2927160" cy="2195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"/>
          <p:cNvPicPr/>
          <p:nvPr/>
        </p:nvPicPr>
        <p:blipFill>
          <a:blip r:embed="rId3"/>
          <a:stretch/>
        </p:blipFill>
        <p:spPr>
          <a:xfrm>
            <a:off x="5037120" y="1628640"/>
            <a:ext cx="3606840" cy="2028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4"/>
          <a:stretch/>
        </p:blipFill>
        <p:spPr>
          <a:xfrm>
            <a:off x="1116000" y="3768840"/>
            <a:ext cx="3600360" cy="239076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здник -Шорыкйол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57200" y="2068560"/>
            <a:ext cx="8229600" cy="358920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здник Науру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3095640" cy="2405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4427640" y="31417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42960" y="28584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Срок реализации,  календарный план проекта  -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019-2023 г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Целевые группы проекта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ченики начальных класс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Ожидаемые количественные и качественные результаты проекта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проект приведет к обогащению наших знаний об этнографии народов, повышению культурного уровня, информированности, зарождению чувства гордости, патриотизма за культуру своего народа,систематизации материала по этнографии  татарского  народа, 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олерантности в отношении к человеку другой национальности, заинтересованности в дальнейшем поиске материала, любви к родному народу и своей малой Родин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Бюджет проект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50000 руб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Партнеры проекта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 реализуется совместно с родительским комитетом, к реализации проекта привлекаются: работники дома культуры села Татарские Суксы, и села Марийские Суксы ,ансамбль «Агидель» Актанышского 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Этапы проек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28760" y="1000080"/>
            <a:ext cx="828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1 ЭТАП - ПОИСКОВО-ИССЛЕДОВАТЕЛЬ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ие цели и задач, идеи проекта, аналитическая и диагностическая рабо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2 ЭТАП – ТЕХНОЛОГИЧЕСК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ыполнение запланированных тренировочных упражнений). На этом этапе выполняются первичные наброски, изучаются сами традиции, национальные праздники, составляется программа праздников., готовятся консультанты-инструкторы, привлекаются спонсоры для награждения победит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РЕАЛИЗАЦИЯ ПРОЕК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формление афиши - приглашения на праздник «Сабантуй», подготовка необходимых снаряжений, места проведения праздника, порядка расположения. На территории Татарстана проживают люди  115 национальностей. Это национальное многообразие - настоящее богатство Татарстана. Ведь у каждого народа – своя культура, традиции, свой исторический опы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71320" y="28584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территории Татарстана проживают люди  115 национальностей. Это национальное многообразие - настоящее богатство Татарстана. Ведь у каждого народа – своя культура, традиции, свой исторический опы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ы живем в Актанышском районе Республики Татарстан. На сегодняшний день численность населения составляет 32 тыс. человек.  Из них татары-98,07%, марийцы-1,83%, русские-0,09%.В нашей местности живут и татары, и марийцы. Нас разделяет только центральная дорога. Мы живем в деревне Татарские Суксы, а через дорогу находится деревня Марийские Сукс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Объект 3" descr=""/>
          <p:cNvPicPr/>
          <p:nvPr/>
        </p:nvPicPr>
        <p:blipFill>
          <a:blip r:embed="rId1"/>
          <a:stretch/>
        </p:blipFill>
        <p:spPr>
          <a:xfrm>
            <a:off x="971640" y="274680"/>
            <a:ext cx="4086000" cy="3100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4600440" y="3009960"/>
            <a:ext cx="4086360" cy="3483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4" descr=""/>
          <p:cNvPicPr/>
          <p:nvPr/>
        </p:nvPicPr>
        <p:blipFill>
          <a:blip r:embed="rId3"/>
          <a:srcRect l="0" t="0" r="28" b="21"/>
          <a:stretch/>
        </p:blipFill>
        <p:spPr>
          <a:xfrm>
            <a:off x="971640" y="3375000"/>
            <a:ext cx="3628800" cy="3208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"/>
          <p:cNvPicPr/>
          <p:nvPr/>
        </p:nvPicPr>
        <p:blipFill>
          <a:blip r:embed="rId4"/>
          <a:stretch/>
        </p:blipFill>
        <p:spPr>
          <a:xfrm>
            <a:off x="4917960" y="290520"/>
            <a:ext cx="3967200" cy="271944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4296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м живут марийцы.    Немного их, но они сохранили свой язык, свои традиции и обычаи. У каждого народа есть свои национальные праздники. Многие из этих праздников родились ещё в древности — несколько столетий или даже тысячу лет назад. Всё вокруг: деревни и города, вещи, одежда, профессии, природа- меняется, а народные праздники  продолжают жить. Ибо  праздники — это праздники сердца, души на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4296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изучили несколько народных праздиков марийского на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ин из таких праздников -Шорыкйол . Этот праздник традиционно отмечается в период зимнего солнцестояния (22 декабря), после нарождения новой луны. Праздник начинается в пятницу и завершается через неделю. В дни праздника Шорыкйол проводятся всевозможные обряды, магические действия, гадания, игры и ряженья, мол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13</dc:creator>
  <dc:description/>
  <dc:language>en-US</dc:language>
  <cp:lastModifiedBy>Пользователь</cp:lastModifiedBy>
  <dcterms:modified xsi:type="dcterms:W3CDTF">2022-12-16T11:10:29Z</dcterms:modified>
  <cp:revision>4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190000000000010292010207f7000400038000</vt:lpwstr>
  </property>
</Properties>
</file>