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0C7B-153D-4640-976D-EFDF853C6F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F60C-1556-4B92-A531-BF8CF2AAA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65F-9397-46BD-97A5-E527DA9D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147-D07F-4A50-8826-0B82692B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0D0-520A-4A0D-A0C9-3A118CE1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BB4-C45E-4798-B0BF-BB44E334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DC7D-3EF2-46E1-B551-AC4BFC16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8469-0E43-4D30-8E1D-34BB03B1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21A-4F9C-4ABE-98CD-EAFC3B58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08C7-133E-45C7-AFB8-88369E80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C162-75AD-4DD8-ACBD-8E38A2CE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08E4-35E4-4E29-9E27-9C2B9990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33F0-C637-43DA-B1CE-9CFA9604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9BF-553B-45AA-A901-5B29FCDE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A20C-A818-433E-A367-48EA3560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551A-A105-432F-8685-911419D9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4417-D882-4D0B-9825-DDCBC5D5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38D8-A0DD-468B-857D-2BC1AE62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D8B6-31BB-4226-BDBA-399DCD11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8876-7F86-444C-9825-B6B640FD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2F56-AF22-403A-81AD-BA32DDE1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68AD-E327-40D6-8A38-3FC098CC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D3A3-0452-4B35-AC0D-3880808D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7A93-F6BE-458E-B6DF-D5EF5E0C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835-8D69-4D55-8C9C-EAB59FD2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293A-DA72-45D4-8578-F0876AC6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4A25-9FF5-4774-B72E-AC4FAE19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2123-2126-4536-A9DB-EC7F63F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8FB3-E901-42AF-B600-58244CD9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44D2-9B2A-49E3-814E-8286A4EE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92C6-92D5-453C-9794-5C0D2295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9291-D492-4F96-BDDF-1BDE80DE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ABC1-79CE-4F74-BBA7-7C2B0DE2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53AC-4D1C-4B52-909C-491149A8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E4B3-9A6B-4058-AC41-FD23D612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308-2B8E-4E16-90D9-95076788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54C2-1606-41CD-806E-26830369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2D55-24E7-4B91-B11B-2C35F5C6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81A3-DB03-4DF7-9671-2F7DBE81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DD999-D81E-4B36-A08A-A6285A5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904D-C93D-4F20-B503-04ABED0F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C7DF-2CFB-4648-8E44-019D582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84FC-BB9C-4ADE-BC7C-B64588D3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D7AF-357D-48E1-B2D0-C7E79B0D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E33C-4A3F-4121-9BB0-EE588F38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D1C-A921-49A8-BF25-55979D1F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54D-2F75-4410-8A2E-F86FB175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E84-6061-4A25-ADFF-3E5AFA26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12C-101A-4969-9244-4043753C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AA7-A85F-42FE-9AB1-8DA55B1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831E-096C-417F-AE85-2FFACE2E5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A2FB-8AA0-4821-9F6A-CE9F92434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50F-4DAF-4166-AD34-86706C545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E379-4444-442A-B546-DC11BAE66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pandia.ru/text/category/tatarst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28920" y="1071360"/>
            <a:ext cx="59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Татарско –Суксинская СОШ» Актанышского муниципального района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1472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татарского и марий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2571840" y="4643280"/>
            <a:ext cx="5214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: Салихова Дайсана Рави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Объект 4" descr=""/>
          <p:cNvPicPr/>
          <p:nvPr/>
        </p:nvPicPr>
        <p:blipFill>
          <a:blip r:embed="rId1"/>
          <a:stretch/>
        </p:blipFill>
        <p:spPr>
          <a:xfrm>
            <a:off x="4765680" y="404640"/>
            <a:ext cx="4019400" cy="28101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3753000" cy="28101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"/>
          <p:cNvPicPr/>
          <p:nvPr/>
        </p:nvPicPr>
        <p:blipFill>
          <a:blip r:embed="rId3"/>
          <a:stretch/>
        </p:blipFill>
        <p:spPr>
          <a:xfrm>
            <a:off x="971640" y="3243240"/>
            <a:ext cx="3824280" cy="29941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8" descr=""/>
          <p:cNvPicPr/>
          <p:nvPr/>
        </p:nvPicPr>
        <p:blipFill>
          <a:blip r:embed="rId4"/>
          <a:stretch/>
        </p:blipFill>
        <p:spPr>
          <a:xfrm>
            <a:off x="4572000" y="3344760"/>
            <a:ext cx="4322880" cy="28926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85880" y="5716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направлены на обеспечение хозяйственного и семейного благополучия, увеличения в новом году урожайности полей, приплода скота. Основные обрядовые действия приходятся на первый день праздника. Дергание овец за ноги должен  обеспечить плодовитость овец. В каждом доме в честь праздника Шорыкйол и «хозяина» дома кудорт проводят семейные мол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42600" y="64296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яются обряды, связанные с разведением скота. В первый день совершают подворный обход дети и девушки-участницы обряда Удырсий* (Девичий пир). Они поздравляют домохозяев с приходом Нового года и желают благополучной семейной и хозяйственной жизни, приплода овец. Хозяева угощают их ритуальным супом из конопляных семян (кынешур), орешками и сладостями. Вечером по домам выходит группа ряженых во главе со стариком Василием и его старухой — Васликува-кугы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429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воспринимаются  марийцами как предвестники будущего, т.к. предсказывают о будущей жизни, урожае, прибавлении семейства, увеличении поголовья домашнего скота. Другие дни праздника проходят в веселом времяпрепровождении. Разделившись на группы по возрасту и полу, сельские жители собираются в доме «шорыкйол порт», специально нанятый на период праздни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они устраивают  различные представления, играют в традиционные игры, например, «Сокыртага», «Нийкучен», девушки гадают, пожилые рассказывают сказки, истории из жиз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ремя праздника соблюдались некоторые запреты: остерегались стирать белье, шить и вышивать, не выполнялись тяжелые виды работ. Существенную роль играла обильная обрядовая еда, она предполагала достаток на предстоящий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680" y="85716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,татары, тоже участвуем на этом праздн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нас, у татар , празднуют «Сабантуй», а у них празднуют «Семык». Это один  из больших праздников марийского народа. И каждый год «Семык» празднуют в разном районе, в 2011 году праздновали в Кукморском районе, в прошлом году в Елабужском районе, а уж в этом году праздник был у нас, в Актанышском районе, в селе Мари-Суксы.  На этот праздник приезжают марийцы и  из республики Мари- Эль, из Удмурт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их много праздников и обычаев, не все как у нас, но есть и общие черты Татарские народные праздники восхищают чувством благодарности и почтения людей к природе, к обычаям предков, друг к др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7168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-22 марта празднуют в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атарста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азахстане, Киргизии и др. странах и субъектах РФ замечательный весенний праздник - Навруз (науруз, наурыз, нооруз). Навруз – это первый день Нового года по восточному календарю, праздник весны, день весеннего равноденствия. Если вдуматься, навруз – самый логичный Новый год из всех национальных, он начинается с возрождения жизни на земле – весны.. Название в переводе с языка фарси означает "новый день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Объект 3" descr=""/>
          <p:cNvPicPr/>
          <p:nvPr/>
        </p:nvPicPr>
        <p:blipFill>
          <a:blip r:embed="rId1"/>
          <a:stretch/>
        </p:blipFill>
        <p:spPr>
          <a:xfrm>
            <a:off x="727200" y="563400"/>
            <a:ext cx="3956040" cy="26496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"/>
          <p:cNvPicPr/>
          <p:nvPr/>
        </p:nvPicPr>
        <p:blipFill>
          <a:blip r:embed="rId2"/>
          <a:stretch/>
        </p:blipFill>
        <p:spPr>
          <a:xfrm>
            <a:off x="4352760" y="3357720"/>
            <a:ext cx="4435560" cy="32256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" descr=""/>
          <p:cNvPicPr/>
          <p:nvPr/>
        </p:nvPicPr>
        <p:blipFill>
          <a:blip r:embed="rId3"/>
          <a:srcRect l="0" t="0" r="20" b="-422"/>
          <a:stretch/>
        </p:blipFill>
        <p:spPr>
          <a:xfrm>
            <a:off x="900000" y="3405240"/>
            <a:ext cx="3311640" cy="29764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"/>
          <p:cNvPicPr/>
          <p:nvPr/>
        </p:nvPicPr>
        <p:blipFill>
          <a:blip r:embed="rId4"/>
          <a:stretch/>
        </p:blipFill>
        <p:spPr>
          <a:xfrm>
            <a:off x="4729320" y="349200"/>
            <a:ext cx="3957480" cy="28638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дновременно и праздник весны, и встреча Нового года. По традиции в Навруз готовят праздничный стол, на котором обязательно должны быть семь блюд, название которых начинается с буквы "с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щение детей к культуре татарского и марийского народов, развитие прикладных умений и навыков, способности к творческому взаимодействию с социум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дачи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вать у детей интерес к истории и народным традициям Татарстана;  раскрыть значение национальных традиций (проведение праздников, игр и др.) для формирования культуры, нравственных каче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5651640" y="4307040"/>
            <a:ext cx="2720880" cy="2212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837000"/>
            <a:ext cx="7831440" cy="2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ГА БОТКАС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га боткасы. Дословно он переводиться как «Пора варить кашу». Его празднуют ранней весной, когда начинает сходить снег. Татарские праздники и традиции часто вовлекают в празднование детей, и именно этот праздник есть одним из таких. Дети ходили в своем конце деревни по домам и просили у хозяек продукты на кашу и хором говорили разные стихи с пожеланиями и просьбами, а хозяйки давали им за это крупу, яйца и ма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сбора всего необходимого детки отправлялись на поляну, где разводили костер и готовили кашу. Естественно, они это делали не сами, им помогали несколько пожилых женщин. Готовой кашей угощали всех, кто пришел на праздник. После трапезы дети играли в различные игры, пели песни и танцевали. Этот праздник был ознаменованием того, что скоро наступит Сабанту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42960" y="35712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бантуй остается повсеместным и любимым весенним праздником татар. Это очень красивый, добрый и мудрый праздник. Он включает в себя различные обряды и иг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ловно «сабантуй» означает «Праздник Плуга» (сабан - плуг и туй – праздник). Раньше он праздновался перед началом весенних полевых работ, в апреле, сейчас сабантуй устраивают в июне – по окончании с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ылые времена к сабантую готовились долго и тщательно – девушки ткали, шили, вышивали национальным узором платки, полотенца, рубашки; каждой хотелось, чтобы, именно ее творение стало наградой самому сильному джигиту - победителю в национальной борьбе или в скач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молодые люди ходили по домам и собирали подарки, пели песни, шутили. Подарки привязывали к длинному шесту, иногда джигиты обвязывали себя собранными полотенцами и не снимали их до конца церемо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ремя сабантуя избирался совет из уважаемых аксакалов – к ним переходила вся власть в деревне, они назначали жюри для награждения победителей, следили за порядком во время состяз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бантуй начинается с самого утра. Женщины надевают свои самые красивые украшения, в гривы лошадей вплетают ленточки, подвешивают к дуге колокольчики. Все наряжаются и собираются на майдане – большом л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лечений на сабантуе великое множество. Главное - это, конечно же, национальная борьба курэ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Объект 4" descr=""/>
          <p:cNvPicPr/>
          <p:nvPr/>
        </p:nvPicPr>
        <p:blipFill>
          <a:blip r:embed="rId1"/>
          <a:stretch/>
        </p:blipFill>
        <p:spPr>
          <a:xfrm>
            <a:off x="817560" y="479520"/>
            <a:ext cx="3608280" cy="240804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4683240" y="441360"/>
            <a:ext cx="3732120" cy="2486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" descr=""/>
          <p:cNvPicPr/>
          <p:nvPr/>
        </p:nvPicPr>
        <p:blipFill>
          <a:blip r:embed="rId3"/>
          <a:stretch/>
        </p:blipFill>
        <p:spPr>
          <a:xfrm>
            <a:off x="817560" y="3581280"/>
            <a:ext cx="3906720" cy="2703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"/>
          <p:cNvPicPr/>
          <p:nvPr/>
        </p:nvPicPr>
        <p:blipFill>
          <a:blip r:embed="rId4"/>
          <a:stretch/>
        </p:blipFill>
        <p:spPr>
          <a:xfrm>
            <a:off x="4859280" y="3603600"/>
            <a:ext cx="3732120" cy="26049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71320" y="428760"/>
            <a:ext cx="81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недели за две до сабантуя претенденты на победу в этом состязании переставали выходить на полевые работы и ели сколько душе угодно свежих яиц, масла, меда, набирались сил, чтобы защищать честь родной деревни. Для победы в курэш требуется немало силы, хитрости и ловкости. Схватка происходит по строгим правилам: противники обматывают друг друга широкими поясами, задача заключается в том, чтобы подвесить противника на своем кушаке в воздухе, а затем положить его на лопа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бедитель национальной борьбы – абсолютный батыр - получает в награду живого барана и с ним на плечах совершает круг почета. Правда, в последнее время барана часто заменяют каким-нибудь другим ценным призом – телевизором, холодильником, стиральной маши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Обоснование проблематики и социальной значимости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й проект направлен на то, чтобы татарский народ не забывал о национальных праздниках, которые праздновали наши деды и прадеды. Тем самым мы сможем чтить их память и продолжить их традиции, чтобы наши потомки помнили о н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8272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навыки работы в группе, выполнять различные роли, взаимодействовать с другими людь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оспитывать любовь и уважение к традициям народ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 способствовать формированию у обучающихся умений и навыков свободного общения на татарском язы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писание опыта работы в указанном направлении (за последние 3 год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 - подготов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этом этапе проводилось изучение проблемы, актуальности идеи проекта, изучение литературы по теме проекта, анкетирование, социологические опросы, в ходе которых выяснилось, что современные дети совсем не знают о народных традициях, играх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данном этапе мы определили тему проекта, поставили цель, сформулировали задачи, составили план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ЭТАП – ТЕХНОЛОГИЧЕСКИЙ (Выполнение запланированных тренировочных упражнений). На этом этапе выполнялись первичные наброски, изучались сами традиции, национальные праздники, составлялась программа праздников., подготовили консультантов-инструкторов, привлекались спонсоры для награждения побе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ЭТАП – ПРАКТИЧЕСКАЯ РЕАЛИЗАЦ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ли праздники :«Карга боткасы» , «Науруз», «Сабантуй». Участвовали в марийских праздниках: «Семык», «Маслениц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леница в Мари -Сук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238400" y="1639800"/>
            <a:ext cx="3404880" cy="2271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4248000" y="3605040"/>
            <a:ext cx="4162680" cy="2776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3168720" cy="2111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651640" y="3824280"/>
            <a:ext cx="2927160" cy="219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5037120" y="1628640"/>
            <a:ext cx="360684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1116000" y="3768840"/>
            <a:ext cx="3600360" cy="23907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здник -Шорыкйол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7200" y="206856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здник Науру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095640" cy="2405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42960" y="2858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Срок реализации,  календарный план проекта  -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19-2023 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Целевые группы проект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ники начальных класс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Ожидаемые количественные и качественные результаты проект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проект приведет к обогащению наших знаний об этнографии народов, повышению культурного уровня, информированности, зарождению чувства гордости, патриотизма за культуру своего народа,систематизации материала по этнографии  татарского  народа, 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лерантности в отношении к человеку другой национальности, заинтересованности в дальнейшем поиске материала, любви к родному народу и своей малой Родин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Бюджет проек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50000 ру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артнеры проект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еализуется совместно с родительским комитетом, к реализации проекта привлекаются: работники дома культуры села Татарские Суксы, и села Марийские Суксы ,ансамбль «Агидель» Актанышск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760" y="1000080"/>
            <a:ext cx="82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 ЭТАП - ПОИСКОВО-ИССЛЕДОВАТЕЛЬ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цели и задач, идеи проекта, аналитическая и диагностическ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 ЭТАП – ТЕХНОЛОГИЧЕ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ыполнение запланированных тренировочных упражнений). На этом этапе выполняются первичные наброски, изучаются сами традиции, национальные праздники, составляется программа праздников., готовятся консультанты-инструкторы, привлекаются спонсоры для награждения побе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АЛИЗАЦИЯ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формление афиши - приглашения на праздник «Сабантуй», подготовка необходимых снаряжений, места проведения праздника, порядка расположения. На территории Татарстана проживают люди  115 национальностей. Это национальное многообразие - настоящее богатство Татарстана. Ведь у каждого народа – своя культура, традиции, свой исторический опы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71320" y="2858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территории Татарстана проживают люди  115 национальностей. Это национальное многообразие - настоящее богатство Татарстана. Ведь у каждого народа – своя культура, традиции, свой исторический опы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живем в Актанышском районе Республики Татарстан. На сегодняшний день численность населения составляет 32 тыс. человек.  Из них татары-98,07%, марийцы-1,83%, русские-0,09%.В нашей местности живут и татары, и марийцы. Нас разделяет только центральная дорога. Мы живем в деревне Татарские Суксы, а через дорогу находится деревня Марийские Сук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Объект 3" descr=""/>
          <p:cNvPicPr/>
          <p:nvPr/>
        </p:nvPicPr>
        <p:blipFill>
          <a:blip r:embed="rId1"/>
          <a:stretch/>
        </p:blipFill>
        <p:spPr>
          <a:xfrm>
            <a:off x="971640" y="274680"/>
            <a:ext cx="4086000" cy="3100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600440" y="3009960"/>
            <a:ext cx="4086360" cy="348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"/>
          <p:cNvPicPr/>
          <p:nvPr/>
        </p:nvPicPr>
        <p:blipFill>
          <a:blip r:embed="rId3"/>
          <a:srcRect l="0" t="0" r="28" b="21"/>
          <a:stretch/>
        </p:blipFill>
        <p:spPr>
          <a:xfrm>
            <a:off x="971640" y="3375000"/>
            <a:ext cx="3628800" cy="320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4"/>
          <a:stretch/>
        </p:blipFill>
        <p:spPr>
          <a:xfrm>
            <a:off x="4917960" y="290520"/>
            <a:ext cx="3967200" cy="271944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429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живут марийцы.    Немного их, но они сохранили свой язык, свои традиции и обычаи. У каждого народа есть свои национальные праздники. Многие из этих праздников родились ещё в древности — несколько столетий или даже тысячу лет назад. Всё вокруг: деревни и города, вещи, одежда, профессии, природа- меняется, а народные праздники  продолжают жить. Ибо  праздники — это праздники сердца, души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изучили несколько народных праздиков марий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таких праздников -Шорыкйол . Этот праздник традиционно отмечается в период зимнего солнцестояния (22 декабря), после нарождения новой луны. Праздник начинается в пятницу и завершается через неделю. В дни праздника Шорыкйол проводятся всевозможные обряды, магические действия, гадания, игры и ряженья, мол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13</dc:creator>
  <dc:description/>
  <dc:language>en-US</dc:language>
  <cp:lastModifiedBy>Пользователь</cp:lastModifiedBy>
  <dcterms:modified xsi:type="dcterms:W3CDTF">2022-12-16T11:10:29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190000000000010292010207f7000400038000</vt:lpwstr>
  </property>
</Properties>
</file>