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1.jpeg" ContentType="image/jpeg"/>
  <Override PartName="/ppt/media/image9.jpeg" ContentType="image/jpeg"/>
  <Override PartName="/ppt/media/image10.gif" ContentType="image/gif"/>
  <Override PartName="/ppt/media/image7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8.gif" ContentType="image/gif"/>
  <Override PartName="/ppt/media/image16.gif" ContentType="image/gif"/>
  <Override PartName="/ppt/media/image2.png" ContentType="image/png"/>
  <Override PartName="/ppt/media/image14.gif" ContentType="image/gif"/>
  <Override PartName="/ppt/media/image17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880C-BBF1-4C4C-AFFD-4688C434E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B7C3-1CCF-4C3A-9AAE-9C2556EF4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507-900B-4FC9-97DF-86A54ED5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19A-EC5E-4822-9FEF-091EC17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72B-8067-4996-9DDE-79328503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47A-F908-4F07-8491-749F21DC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FFBF-7E37-49E6-8506-746EB5EB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2201-0996-4FD7-B1B1-0D60053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396-3CFB-4CED-8861-FA96C230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A8A5-43F8-4E3A-A88B-485514A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05F8-04CC-413E-B1F5-23E89F84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BB68-32CA-4A50-B23C-96F3004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F745-C675-4B6C-933C-E16E34B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6E7-1FA9-408D-8FF9-B30FBD86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E175-DED4-4470-81FA-550314A9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3E8C-705C-4644-B39F-34485D0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1AD3-ADAE-4939-997E-F29A250C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0B5-C286-4F11-B939-0261B2AF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CE45-42AC-482F-ABB8-DD59F438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EA43-0CDB-4322-BF73-8552E79E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20CC-BA8D-4C9E-AA8C-119E363E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7C08-1979-4D99-8B84-7850AE23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2D3D-ABD7-4AB1-AB9C-4631F7D0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D84E-D979-493B-8A80-69823E57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E30-C45E-4E81-8A50-87146AB4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8EB0-6830-4749-9049-12D40F3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80E9-9D0F-48F7-B046-B76BC39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07BB-88D9-4374-A743-FC661E1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42C6-F8E4-4487-9753-0A3459FC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F309-6F42-4D53-8455-D42757F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96FF-503A-409B-8CF1-0BE9AD09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C9AA-9AF0-4DA6-A51B-B3C18215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EFE7-7ED2-48FB-9480-B6EB9294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64F5-C999-463C-B285-63A2D6BB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AC26-018C-455E-AB26-4EF87643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7B5-89CA-4CFB-A57B-5BD104A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6E0E-2B36-4948-A622-3D6A9F47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2F61-D3B3-4808-B647-172EEDD3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B08E-F169-4AE9-BA6A-DA8871A8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A002-103B-4AE3-803D-96E0E72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6838-7C09-4C9C-80B4-45BEC98C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7175-75D8-47B8-83C7-C17A7A2F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7DE0-0A56-4CAF-94C4-71535254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00638-17B7-4DEC-98A6-0002C7F0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D0EA-3228-4286-B5C2-97D47823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4782-0EFB-4971-A1B0-75E50CC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0C2-8BFA-408C-8424-B4BB893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2F2D-798D-4225-A5EA-4B09A51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9CBC-F62D-4965-9DA9-3DB25D59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A2DF-CEA8-4F92-87C1-CE236082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DE14-B1CA-4B10-A60D-75D71B9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C43A-5021-4A86-8C76-57B3D62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AC1B0-EBBE-443F-BF5B-0A531120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80F0-699E-4BF7-BD92-065C60F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CB34E-8575-42CA-ADDB-C4DACA4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1C39-F607-4228-A083-E9678AA3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6FAEE-945E-41C1-8ACF-C52B873B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3A1-D4D5-4667-B748-8251C1F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4605-D355-4911-8F2D-03CAC9FF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B56D-63CE-441A-9EC5-6F236361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CB8A2-D2F1-4083-ACC2-42850FD6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8676D-7669-4F8B-8081-7436C261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997BF-F6F9-4E6A-AC16-4C2FDCC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FDEF-7D94-4AB5-8AC0-DFD61F3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DB42-CB77-4BE0-8FD4-D2AD0066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C6B6-56CF-4C7A-9DB9-09845CAC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D7ED-FD2C-46C1-AB1F-4CBBBE6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59EEA-1952-4A5B-ADF7-3916763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933-B525-40E9-B439-971A73D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4A203-01EB-4CCC-BF7D-6FA7E97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C18A-F5C1-426B-9E33-93953A19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60F0-E5C7-44FB-BF62-884A8AE0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68938-E435-4A7C-91CF-754C04B6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466E-CC2D-4F55-ACBE-5BB0D29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BC9CB-2307-44E9-B2A8-98DDD07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45300-1741-49C9-BBF0-B1A324D7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816A1-9143-463C-AA1A-D1FF84B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B6F02-E4FA-48FC-9227-CDDE144F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B65E0-604B-4A25-AA19-5ED484E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3D8-6685-4752-B740-81FD6AEF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B6236-BF09-4164-A087-32FE8DD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9CF1-54A1-4A8E-B617-C8FBC4CA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6D9A-DFAE-42C1-9895-29941794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8C495-5570-470D-9FD7-37D9FFFA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BF019-B9E8-45B3-B868-EAB7478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866-5745-4E75-8077-A61EA95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11F2-12EF-4AD6-85A7-544E736309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B27-5955-492B-AA2C-85B7B21D8F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3C6-5526-48C5-94D2-A4DAC83B6B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E2F3-2DB5-44D6-A9F0-3DCDBE6879E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C872-17AB-41E6-9AAC-D52E50BEFA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2289-32D9-45CD-BADC-6A7310207E2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ECA1-A433-4E52-9014-11EA79B8FB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Родительско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собрани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во 2 «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»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Corbel"/>
              </a:rPr>
              <a:t>        </a:t>
            </a:r>
            <a:r>
              <a:rPr b="1" i="1" lang="ru-RU" sz="4400" spc="-1" strike="noStrike">
                <a:solidFill>
                  <a:srgbClr val="3b1d15"/>
                </a:solidFill>
                <a:latin typeface="Corbel"/>
              </a:rPr>
              <a:t>«Нормы оценок во 2 классе. Первая оценка и как к ней относиться»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" name="TextBox 4"/>
          <p:cNvGrpSpPr/>
          <p:nvPr/>
        </p:nvGrpSpPr>
        <p:grpSpPr>
          <a:xfrm>
            <a:off x="1920960" y="5510160"/>
            <a:ext cx="7180200" cy="1255680"/>
            <a:chOff x="1920960" y="5510160"/>
            <a:chExt cx="7180200" cy="1255680"/>
          </a:xfrm>
        </p:grpSpPr>
        <p:pic>
          <p:nvPicPr>
            <p:cNvPr id="328" name="TextBox 4" descr=""/>
            <p:cNvPicPr/>
            <p:nvPr/>
          </p:nvPicPr>
          <p:blipFill>
            <a:blip r:embed="rId1"/>
            <a:stretch/>
          </p:blipFill>
          <p:spPr>
            <a:xfrm>
              <a:off x="1920960" y="5510160"/>
              <a:ext cx="71802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981080" y="5562720"/>
              <a:ext cx="6934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МКОУ СОШ №1г. Россош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Классный руководитель : </a:t>
              </a: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Старунова Зинаида Василье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6668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«2» плох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уровень выполнения требований ниже удовлетворительного: более 6 ошибок или 10 недочётов по текущему материалу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рушение логики, неполнота, нераскрытость  обсуждаемого вопроса, отсутствие аргументации и  лишь ошибочность её основных положе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 Ставится оценка и з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щее впечатление от письменной работ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Сущность её состоит в определении отношения учителя к внешнему виду работы (аккуратность, эстетическая привлекательность, чистота, каллиграфия и т.д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Нормы оценок в начальной школ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019920" y="2362320"/>
            <a:ext cx="2442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4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5 и более ошиб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4" descr="335ohp.jpg"/>
          <p:cNvPicPr/>
          <p:nvPr/>
        </p:nvPicPr>
        <p:blipFill>
          <a:blip r:embed="rId2"/>
          <a:stretch/>
        </p:blipFill>
        <p:spPr>
          <a:xfrm>
            <a:off x="1371600" y="114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12189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Грамматическое  зад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без ошибок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632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укоризненно выполненная работа, в которой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1-2 исправления или 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-3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4 ошибки и боле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работа без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3-5 ошиб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Контрольная работ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ошибочно выполнены все задания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правильно не менее 3/4 всех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не менее ½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ученик не справился с большинством зада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Письменная работа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содержащая только пример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вся работа выполнена безошибочно  и нет исправлений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допущены 1-2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orbel"/>
              </a:rPr>
              <a:t>«</a:t>
            </a:r>
            <a:r>
              <a:rPr b="1" i="1" lang="ru-RU" sz="3000" spc="-1" strike="noStrike">
                <a:solidFill>
                  <a:srgbClr val="00b050"/>
                </a:solidFill>
                <a:latin typeface="Corbel"/>
              </a:rPr>
              <a:t>3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3-4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f0"/>
                </a:solidFill>
                <a:latin typeface="Corbel"/>
              </a:rPr>
              <a:t>«2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5 и более вычислительных ошибок</a:t>
            </a:r>
            <a:r>
              <a:rPr b="1" i="1" lang="ru-RU" sz="3000" spc="-1" strike="noStrike">
                <a:solidFill>
                  <a:srgbClr val="00206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хотя бы одна ошибка в ходе решения задачи и 1 вычислительная ошибка или если вычислительных ошибок нет, но не решена 1 задача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а ошибка в ходе решения 2-х задач или 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483160"/>
            <a:ext cx="161748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Глобус"/>
          <p:cNvPicPr/>
          <p:nvPr/>
        </p:nvPicPr>
        <p:blipFill>
          <a:blip r:embed="rId1"/>
          <a:stretch/>
        </p:blipFill>
        <p:spPr>
          <a:xfrm>
            <a:off x="0" y="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6" descr="img1.jpg"/>
          <p:cNvPicPr/>
          <p:nvPr/>
        </p:nvPicPr>
        <p:blipFill>
          <a:blip r:embed="rId2"/>
          <a:stretch/>
        </p:blipFill>
        <p:spPr>
          <a:xfrm>
            <a:off x="1163520" y="457200"/>
            <a:ext cx="78598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680" y="12193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Комбинированная контрольная работ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(1 задача, примеры и задание другого вида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ы ошибки в ходе решения задачи при правильном выполнении всех заданий или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«2» - допущена ошибка в ходе решения задачи и хотя бы одна вычислительная ошибка или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010280" y="122400"/>
            <a:ext cx="1371600" cy="116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Математический 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5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4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«2» 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выполнена 1/2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Как воспринимать  отметки ребёнка? 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br>
              <a:rPr sz="3200"/>
            </a:br>
            <a:br>
              <a:rPr sz="3900"/>
            </a:b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286000" y="10663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05720" y="4435560"/>
            <a:ext cx="198108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ругайте своего ребёнка за плохую  отметку. </a:t>
            </a:r>
            <a:r>
              <a:rPr b="1" lang="ru-RU" sz="3200" spc="-1" strike="noStrike">
                <a:solidFill>
                  <a:srgbClr val="692aa2"/>
                </a:solidFill>
                <a:latin typeface="Corbel"/>
              </a:rPr>
              <a:t>Ему очень хочется быть в ваших глазах хорошим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ли быть хорошим не получается, ребёнок начинает </a:t>
            </a:r>
            <a:r>
              <a:rPr b="0" lang="ru-RU" sz="3200" spc="-1" strike="noStrike" u="sng">
                <a:solidFill>
                  <a:srgbClr val="c0654c"/>
                </a:solidFill>
                <a:uFillTx/>
                <a:latin typeface="Corbel"/>
              </a:rPr>
              <a:t>врать и изворачиваться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,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чтобы избежать наказа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4" descr="j0282745"/>
          <p:cNvPicPr/>
          <p:nvPr/>
        </p:nvPicPr>
        <p:blipFill>
          <a:blip r:embed="rId1"/>
          <a:stretch/>
        </p:blipFill>
        <p:spPr>
          <a:xfrm>
            <a:off x="6781680" y="243828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Сочувствуйте своему ребёнку, если он долго трудился, но результат его труда не выс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Объясните ему, что важен не только высокий результат. Больше важны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rbel"/>
              </a:rPr>
              <a:t>знания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, которые он сможет                       приобрести в результате                    ежедневного, упорного тру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4" descr="Копия (5) AG00315_"/>
          <p:cNvPicPr/>
          <p:nvPr/>
        </p:nvPicPr>
        <p:blipFill>
          <a:blip r:embed="rId1"/>
          <a:stretch/>
        </p:blipFill>
        <p:spPr>
          <a:xfrm>
            <a:off x="7543800" y="4597560"/>
            <a:ext cx="19670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6632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5" descr="AG00319_"/>
          <p:cNvPicPr/>
          <p:nvPr/>
        </p:nvPicPr>
        <p:blipFill>
          <a:blip r:embed="rId1"/>
          <a:stretch/>
        </p:blipFill>
        <p:spPr>
          <a:xfrm>
            <a:off x="5486400" y="4952880"/>
            <a:ext cx="338940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24.jpg"/>
          <p:cNvPicPr/>
          <p:nvPr/>
        </p:nvPicPr>
        <p:blipFill>
          <a:blip r:embed="rId2"/>
          <a:stretch/>
        </p:blipFill>
        <p:spPr>
          <a:xfrm>
            <a:off x="1371600" y="5257800"/>
            <a:ext cx="129528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1430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rbe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4" descr="j0336396"/>
          <p:cNvPicPr/>
          <p:nvPr/>
        </p:nvPicPr>
        <p:blipFill>
          <a:blip r:embed="rId1"/>
          <a:stretch/>
        </p:blipFill>
        <p:spPr>
          <a:xfrm>
            <a:off x="7772400" y="26668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66320" y="12189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емонстрируйте положительные результа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воего труд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чтобы ребёнку хотелось вам подражать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8" descr="Учитель"/>
          <p:cNvPicPr/>
          <p:nvPr/>
        </p:nvPicPr>
        <p:blipFill>
          <a:blip r:embed="rId1"/>
          <a:stretch/>
        </p:blipFill>
        <p:spPr>
          <a:xfrm>
            <a:off x="3505320" y="49528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572314"/>
                </a:solidFill>
                <a:latin typeface="Corbel"/>
              </a:rPr>
              <a:t>Как помочь ребёнку   в выполнении  домашних заданий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?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285640" y="3504960"/>
            <a:ext cx="4800600" cy="9903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ак правильно помогать ребёнку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402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409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417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431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436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47"/>
          <p:cNvSpPr/>
          <p:nvPr/>
        </p:nvSpPr>
        <p:spPr>
          <a:xfrm>
            <a:off x="3657600" y="243828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 только в том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8"/>
          <p:cNvSpPr/>
          <p:nvPr/>
        </p:nvSpPr>
        <p:spPr>
          <a:xfrm>
            <a:off x="6019920" y="23623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контролируйте выполнение всех заданий по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8" descr="Учитель"/>
          <p:cNvPicPr/>
          <p:nvPr/>
        </p:nvPicPr>
        <p:blipFill>
          <a:blip r:embed="rId1"/>
          <a:stretch/>
        </p:blipFill>
        <p:spPr>
          <a:xfrm>
            <a:off x="3897360" y="501804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4" descr="0012-012-Zapoved-professionala.jpg"/>
          <p:cNvPicPr/>
          <p:nvPr/>
        </p:nvPicPr>
        <p:blipFill>
          <a:blip r:embed="rId1"/>
          <a:stretch/>
        </p:blipFill>
        <p:spPr>
          <a:xfrm>
            <a:off x="990720" y="0"/>
            <a:ext cx="8127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«Как помочь ребенку   выполнить домашнее задание»</a:t>
            </a:r>
            <a:br>
              <a:rPr sz="48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90360" y="533520"/>
            <a:ext cx="784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бенок должен готовить домашнее зад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самостоятельно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Выясни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Настрой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итм выполнения домашнего задания            индивидуален для каждого ребенка.  Не следует ни торопиться, и ни затягиват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е обсуждайте с ребёнком то, что     задал учитель учить дома.  Он   руководствуется учебным планом и                     утверждённой школьной программой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5" descr="р19"/>
          <p:cNvPicPr/>
          <p:nvPr/>
        </p:nvPicPr>
        <p:blipFill>
          <a:blip r:embed="rId1"/>
          <a:stretch/>
        </p:blipFill>
        <p:spPr>
          <a:xfrm>
            <a:off x="7848720" y="2584440"/>
            <a:ext cx="9144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320040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Это надо помнить !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475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ыполнение каждого задания необходимо мотивировать применением его в будущем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 следует отвлекать ребенка, умственный труд требует сосредоточенност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5" name="Рисунок 4" descr="1september.jpg"/>
          <p:cNvPicPr/>
          <p:nvPr/>
        </p:nvPicPr>
        <p:blipFill>
          <a:blip r:embed="rId1"/>
          <a:stretch/>
        </p:blipFill>
        <p:spPr>
          <a:xfrm>
            <a:off x="7543800" y="1905120"/>
            <a:ext cx="1333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654c"/>
                </a:solidFill>
                <a:latin typeface="Corbel"/>
              </a:rPr>
              <a:t>Родители несут ответственность за воспитание детей, получение ими общего образовани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aa33"/>
                </a:solidFill>
                <a:latin typeface="Corbel"/>
              </a:rPr>
              <a:t>Статья 52 «Закон об образовании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67d42"/>
                </a:solidFill>
                <a:latin typeface="Corbe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5" descr="j0088510"/>
          <p:cNvPicPr/>
          <p:nvPr/>
        </p:nvPicPr>
        <p:blipFill>
          <a:blip r:embed="rId1"/>
          <a:stretch/>
        </p:blipFill>
        <p:spPr>
          <a:xfrm>
            <a:off x="6477120" y="4343400"/>
            <a:ext cx="2471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orbe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rbel"/>
              </a:rPr>
              <a:t>Не забывайте напоминать о школьных правилах и необходимости их соблюдать. </a:t>
            </a:r>
            <a:r>
              <a:rPr b="1" i="1" lang="ru-RU" sz="1800" spc="-1" strike="noStrike">
                <a:solidFill>
                  <a:srgbClr val="692aa2"/>
                </a:solidFill>
                <a:latin typeface="Corbel"/>
              </a:rPr>
              <a:t>Составьте вместе распорядок дня, а затем следите за его выполнением</a:t>
            </a:r>
            <a:r>
              <a:rPr b="0" i="1" lang="ru-RU" sz="1800" spc="-1" strike="noStrike">
                <a:solidFill>
                  <a:srgbClr val="692aa2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14440" y="151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Не пропускайте трудности. При необходимости обращайтесь за помощью к учителю; 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orbe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3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-360" y="5562360"/>
            <a:ext cx="8915400" cy="6858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Пусть эта картина будет только  для просмотра в «Галерее»!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rbe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838080" y="44197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f271c"/>
                    </a:gs>
                    <a:gs pos="100000">
                      <a:srgbClr val="3891a7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f271c"/>
                  </a:gs>
                  <a:gs pos="100000">
                    <a:srgbClr val="3891a7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66" name="Рисунок 6" descr="abe5211627d6bba72d1b53d15a7cd992_i-13.jpg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424008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7" descr="d4ca208fab.jpg"/>
          <p:cNvPicPr/>
          <p:nvPr/>
        </p:nvPicPr>
        <p:blipFill>
          <a:blip r:embed="rId2"/>
          <a:stretch/>
        </p:blipFill>
        <p:spPr>
          <a:xfrm>
            <a:off x="1523880" y="914400"/>
            <a:ext cx="2648160" cy="1752480"/>
          </a:xfrm>
          <a:prstGeom prst="rect">
            <a:avLst/>
          </a:prstGeom>
          <a:ln w="0">
            <a:noFill/>
          </a:ln>
        </p:spPr>
      </p:pic>
      <p:sp>
        <p:nvSpPr>
          <p:cNvPr id="468" name="TextBox 8"/>
          <p:cNvSpPr/>
          <p:nvPr/>
        </p:nvSpPr>
        <p:spPr>
          <a:xfrm>
            <a:off x="1219320" y="3276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П.Реше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295280" y="2286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Школьная отметка играет значительную роль в жизни вашего ребенка и вашей семьи; именно школьная отметка часто является яблоком раздора между членами семьи и мерилом ценностей в воспитании ребен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Рисунок 3" descr="5mlgaCqOvIA.jpg"/>
          <p:cNvPicPr/>
          <p:nvPr/>
        </p:nvPicPr>
        <p:blipFill>
          <a:blip r:embed="rId1"/>
          <a:stretch/>
        </p:blipFill>
        <p:spPr>
          <a:xfrm>
            <a:off x="3200400" y="4191120"/>
            <a:ext cx="35812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762120" y="533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ценка и отметк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– неотъемлемая часть учебного процесс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ценка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– это процесс оценивания в форме развёрнутого сужд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тметка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– это результат процесса оценивания, его условно-формальное отражение в балла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ценка и отметк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304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rbel"/>
              </a:rPr>
              <a:t>Положительные стороны отметок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    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видно, что удалось, а чего не удалось ребенку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1" lang="ru-RU" sz="2000" spc="-1" strike="noStrike">
                <a:solidFill>
                  <a:srgbClr val="7030a0"/>
                </a:solidFill>
                <a:latin typeface="Corbel"/>
              </a:rPr>
              <a:t>положительная оценка зачастую служит средством для дальнейшего более глубокого изучения материал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  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очень часто ребенок, стараясь получить более высокую оценку, прикладывает определенные волевые усилия к этому. И взрослые, видя это, говорят, что он использовал «свою силу воли» для этого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   </a:t>
            </a:r>
            <a:r>
              <a:rPr b="1" lang="ru-RU" sz="2000" spc="-1" strike="noStrike">
                <a:solidFill>
                  <a:srgbClr val="692aa2"/>
                </a:solidFill>
                <a:latin typeface="Corbel"/>
              </a:rPr>
              <a:t>получение хорошей оценки является получением одобрения со стороны взрослых и одноклассников, чувства удовлетворенности у самого ребенк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• 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олучая более высокую оценку по сравнению с ним самим, ребенок повышает свой «рейтинг» в глазах учителя и одноклассников (и не всегда это может быть отличная оценка. Зачастую получение «4» или «3» у слабоуспевающего ученика имеет такой же эффект как «5» -у отличника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5» отличн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отсутствие ошибок как по текущему, так и по предыдущему учебному материалу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е более одного недочёт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логичность и полнота излож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95280" y="114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4» хорош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наличие 2-3 ошибок, незначительные нарушения логики изложения материа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использование нерациональных приёмов решения учебной задач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еточности в изложени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447560" y="12189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3» удовлетворительн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остаточный минимальный уровень выполнения требований, предъявляемых к конкретной работе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4-6 ошибок по текуще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3-5 ошибок по пройденно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арушения логики изложения материал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полнота раскрытия вопрос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User</cp:lastModifiedBy>
  <dcterms:modified xsi:type="dcterms:W3CDTF">2022-12-01T22:48:29Z</dcterms:modified>
  <cp:revision>135</cp:revision>
  <dc:subject/>
  <dc:title>PowerPoint Template</dc:title>
</cp:coreProperties>
</file>