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1.jpeg" ContentType="image/jpeg"/>
  <Override PartName="/ppt/media/image9.jpeg" ContentType="image/jpeg"/>
  <Override PartName="/ppt/media/image10.gif" ContentType="image/gif"/>
  <Override PartName="/ppt/media/image7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3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8.gif" ContentType="image/gif"/>
  <Override PartName="/ppt/media/image16.gif" ContentType="image/gif"/>
  <Override PartName="/ppt/media/image2.png" ContentType="image/png"/>
  <Override PartName="/ppt/media/image14.gif" ContentType="image/gif"/>
  <Override PartName="/ppt/media/image17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7907-566C-49AC-B279-EB84491E4C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6E9E-4439-4B7F-BB47-A644FE503D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622-E060-4ED8-8F78-31755C13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5F5-155F-4EB6-AF8F-C62CD8BC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224-843B-455D-B75B-CDB9ED2F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8F6-21BA-44E4-A072-E8B842A9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C71A-B2BE-45F9-B0B2-58092D40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106A-7922-4F79-9A43-A7C2D9DD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A61E-B6DD-4122-9D72-FEFE0741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9B33-BC3A-4F64-95C1-7832A740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0C76-5F71-46A1-93E3-48F8C150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3AD6-5BA5-4845-A1C5-5D93C360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15B5-ADA5-44C5-85FA-978AB3B6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BE3-4564-4BB4-A1D6-1777547D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50F1-C27B-4746-8A1E-21809B9A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6590-F511-4C3A-88DD-CF626271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3FAB-09C5-4FF2-AC5F-A5BE0743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365C-2073-4710-9749-F4AF8B2B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FD69-1A3E-45FC-B205-CC1F0B82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FC0F-6733-42BA-B1B3-E8EA87F7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5B7F-6394-4C6C-8D1F-666BF27E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A8EA-DDE8-4331-ADA3-F34CE90B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3E25-F51B-48C4-A71F-0698CDD7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17959-1EFD-49AB-B9FE-3798B3FA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ED2-F069-43C4-BF44-5B054A6D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D5A1E-F855-4CB4-84F9-7194260E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74615-F75A-4BB0-8B0F-7281956C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C6F4-D88D-47D8-8E9A-934604D5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00B4-1B95-4E86-B1BB-A2E85659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91C4-04A3-430E-8970-6EFA145F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069E-C51F-4876-8290-ABC56551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29C3-5C69-4CE7-8C15-86D97460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2E4FE-E920-47B3-B4E4-B791E818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F5DD-B1B5-41C7-A2D9-ACC896CB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84E92-FED1-43F3-A795-01203F00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7D0-9A24-4621-A99B-0083B720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4DC54-3175-48BA-891F-A2161A32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6DF2C-7A1D-4930-BC98-1A7A73DB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DF26-B5EE-467E-9BE4-58CC92BE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78A5-20CA-4B5C-A824-2642CF3B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4A213-72F1-47DC-862B-883DB221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E5046-0488-42C5-A73B-06DAA2E7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BF1F-A76E-416C-877D-7E755026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780B1-CFA8-411E-B30E-16E23561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E6202-1296-41ED-80E0-95AEA08B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F29FF-5D3B-4582-8122-4F2D86D1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807-5236-451E-84BC-F92677F0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A0180-C494-450F-8D89-B68971EC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40907-6213-47AA-9838-94407CC5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6A86F-2140-4958-AD1A-DFC88F3C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2268D-68C5-413D-9567-831905E6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CEE01-9515-484B-8168-DF9D72ED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258D0-5969-4DB4-9ACD-AFAA774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53E5-4EDB-4DEF-A96D-37A1DC34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73C18-B67C-47D9-B0D3-D8B9F060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C3596-0EF9-4314-8EDA-6D63C625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8EFDA-C335-4145-8078-37543121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7BF-F358-4D76-A2B2-1B1341DC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B882F-C88A-46A9-BF38-133A3E51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319F2-207F-4CE5-99D0-7183BDF5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EF947-56F1-4918-B5EB-1548BAA0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10D9C-C40B-4991-A516-FF212B5E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5AAC-3D62-4DB9-B9AC-49B0C27D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6691F-014C-4A9B-AB7A-A21B67F2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9CB04-5B38-42F7-A834-F845E8F3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0B977-1FE5-40E4-8DF0-5707342D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AA21D-DBA4-40B1-9F0E-1FDB7BEA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74670-CE2A-44F3-84D2-B5792C9E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330-A7D8-4A11-9B79-8B0337F5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19911-2B3D-4C81-8B40-E5D0F984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6481E-8FF2-4637-AEB9-9C36D073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B7E26-8C58-42A1-91D1-69745C9A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048F3-73E0-4750-B9AC-6E189311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12306-4A2E-4DD3-8615-0C409AF9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08391-47F5-4ACB-A11B-70B2E9A7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16210-776C-4375-8421-9B22CDDE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41282-86A4-44DA-9D17-8241F12D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0AD43-CD73-47AF-91BC-F8B7FED2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50841-058A-47B5-ACB8-F97233D9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4D8-F6E8-4228-9B96-8D2004F4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19FDA-8915-49B6-A84A-1238A712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7707D-907A-49F5-AC74-9246F322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DD5BC-7ED8-47A6-A5DB-3D690985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20302-28CC-4117-9BB8-C0700BDF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6FC94-70CC-4200-A9B8-CD470F2F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224-E8CB-4D6E-9ADC-6AF23F1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C58F-C2E4-43FD-8E94-FF35F39DDE9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F53C-C0AF-4F07-BF5C-04D8AEAE4D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C534-603A-4E5F-99EB-D6191622FC4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946D-B6FD-4514-B530-B30F0D0D60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A597-0DCE-41E0-92D3-61D57C3FD95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90DA-FE01-4367-9ED2-5C265C341CE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B6C9-4BD2-498F-82F9-E65278EF895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Родительское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собрание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во 2 «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Б</a:t>
            </a: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» классе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Corbel"/>
              </a:rPr>
              <a:t>        </a:t>
            </a:r>
            <a:r>
              <a:rPr b="1" i="1" lang="ru-RU" sz="4400" spc="-1" strike="noStrike">
                <a:solidFill>
                  <a:srgbClr val="3b1d15"/>
                </a:solidFill>
                <a:latin typeface="Corbel"/>
              </a:rPr>
              <a:t>«Нормы оценок во 2 классе. Первая оценка и как к ней относиться»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" name="TextBox 4"/>
          <p:cNvGrpSpPr/>
          <p:nvPr/>
        </p:nvGrpSpPr>
        <p:grpSpPr>
          <a:xfrm>
            <a:off x="1920960" y="5510160"/>
            <a:ext cx="7180200" cy="1255680"/>
            <a:chOff x="1920960" y="5510160"/>
            <a:chExt cx="7180200" cy="1255680"/>
          </a:xfrm>
        </p:grpSpPr>
        <p:pic>
          <p:nvPicPr>
            <p:cNvPr id="328" name="TextBox 4" descr=""/>
            <p:cNvPicPr/>
            <p:nvPr/>
          </p:nvPicPr>
          <p:blipFill>
            <a:blip r:embed="rId1"/>
            <a:stretch/>
          </p:blipFill>
          <p:spPr>
            <a:xfrm>
              <a:off x="1920960" y="5510160"/>
              <a:ext cx="71802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981080" y="5562720"/>
              <a:ext cx="6934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МКОУ СОШ №1г. Россош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Классный руководитель : </a:t>
              </a: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Старунова Зинаида Василье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66680" y="9907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«2» плох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уровень выполнения требований ниже удовлетворительного: более 6 ошибок или 10 недочётов по текущему материалу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арушение логики, неполнота, нераскрытость  обсуждаемого вопроса, отсутствие аргументации и  лишь ошибочность её основных положени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 Ставится оценка и з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бщее впечатление от письменной работ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Сущность её состоит в определении отношения учителя к внешнему виду работы (аккуратность, эстетическая привлекательность, чистота, каллиграфия и т.д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86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Нормы оценок в начальной школе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019920" y="2362320"/>
            <a:ext cx="24429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90720" y="9907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не более 4-х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«2»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5 и более ошибо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4" descr="335ohp.jpg"/>
          <p:cNvPicPr/>
          <p:nvPr/>
        </p:nvPicPr>
        <p:blipFill>
          <a:blip r:embed="rId2"/>
          <a:stretch/>
        </p:blipFill>
        <p:spPr>
          <a:xfrm>
            <a:off x="1371600" y="11430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71600" y="12189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Грамматическое  задани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задание выполнено без ошибок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6320" y="12189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безукоризненно выполненная работа, в которой нет исправле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1-2 исправления или 1 ошибк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2-3 ошибк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«2»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4 ошибки и боле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работа без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2 ошибк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«2» - 3-5 ошибок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Контрольная работ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безошибочно выполнены все задания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выполнено правильно не менее 3/4 всех зада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выполнено не менее ½ зада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«2» - ученик не справился с большинством задани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Письменная работа,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содержащая только пример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- вся работа выполнена безошибочно  и нет исправлений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- допущены 1-2 вычислительные ошибки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orbel"/>
              </a:rPr>
              <a:t>«</a:t>
            </a:r>
            <a:r>
              <a:rPr b="1" i="1" lang="ru-RU" sz="3000" spc="-1" strike="noStrike">
                <a:solidFill>
                  <a:srgbClr val="00b050"/>
                </a:solidFill>
                <a:latin typeface="Corbel"/>
              </a:rPr>
              <a:t>3»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 - допущены 3-4 вычислительные ошибки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f0"/>
                </a:solidFill>
                <a:latin typeface="Corbel"/>
              </a:rPr>
              <a:t>«2»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 - допущены 5 и более вычислительных ошибок</a:t>
            </a:r>
            <a:r>
              <a:rPr b="1" i="1" lang="ru-RU" sz="3000" spc="-1" strike="noStrike">
                <a:solidFill>
                  <a:srgbClr val="00206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хотя бы одна ошибка в ходе решения задачи и 1 вычислительная ошибка или если вычислительных ошибок нет, но не решена 1 задача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допущена ошибка в ходе решения 2-х задач или 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483160"/>
            <a:ext cx="1617480" cy="13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Глобус"/>
          <p:cNvPicPr/>
          <p:nvPr/>
        </p:nvPicPr>
        <p:blipFill>
          <a:blip r:embed="rId1"/>
          <a:stretch/>
        </p:blipFill>
        <p:spPr>
          <a:xfrm>
            <a:off x="0" y="0"/>
            <a:ext cx="1238400" cy="1523880"/>
          </a:xfrm>
          <a:prstGeom prst="rect">
            <a:avLst/>
          </a:prstGeom>
          <a:ln w="0">
            <a:noFill/>
          </a:ln>
        </p:spPr>
      </p:pic>
      <p:pic>
        <p:nvPicPr>
          <p:cNvPr id="331" name="Содержимое 6" descr="img1.jpg"/>
          <p:cNvPicPr/>
          <p:nvPr/>
        </p:nvPicPr>
        <p:blipFill>
          <a:blip r:embed="rId2"/>
          <a:stretch/>
        </p:blipFill>
        <p:spPr>
          <a:xfrm>
            <a:off x="1163520" y="457200"/>
            <a:ext cx="78598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66680" y="12193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rbel"/>
              </a:rPr>
              <a:t>Комбинированная контрольная работа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(1 задача, примеры и задание другого вида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rbe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допущены ошибки в ходе решения задачи при правильном выполнении всех заданий или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«2» - допущена ошибка в ходе решения задачи и хотя бы одна вычислительная ошибка или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010280" y="122400"/>
            <a:ext cx="1371600" cy="116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Математический  диктан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вся работа выполнена безошибочно и нет исправле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не выполнена 1/5 часть примеров от их общего чис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не выполнена 1/4 часть примеров от их общего чис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«2» 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не выполнена 1/2 часть примеров от их общего чис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i="1" lang="ru-RU" sz="3900" spc="-1" strike="noStrike">
                <a:solidFill>
                  <a:srgbClr val="572314"/>
                </a:solidFill>
                <a:latin typeface="Corbel"/>
              </a:rPr>
              <a:t>         </a:t>
            </a:r>
            <a:r>
              <a:rPr b="0" i="1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Как воспринимать  отметки ребёнка? 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br>
              <a:rPr sz="3200"/>
            </a:br>
            <a:br>
              <a:rPr sz="3900"/>
            </a:b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286000" y="106632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0e04"/>
                </a:solidFill>
                <a:latin typeface="Corbe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05720" y="4435560"/>
            <a:ext cx="1981080" cy="16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Не ругайте своего ребёнка за плохую  отметку. </a:t>
            </a:r>
            <a:r>
              <a:rPr b="1" lang="ru-RU" sz="3200" spc="-1" strike="noStrike">
                <a:solidFill>
                  <a:srgbClr val="692aa2"/>
                </a:solidFill>
                <a:latin typeface="Corbel"/>
              </a:rPr>
              <a:t>Ему очень хочется быть в ваших глазах хорошим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Если быть хорошим не получается, ребёнок начинает </a:t>
            </a:r>
            <a:r>
              <a:rPr b="0" lang="ru-RU" sz="3200" spc="-1" strike="noStrike" u="sng">
                <a:solidFill>
                  <a:srgbClr val="c0654c"/>
                </a:solidFill>
                <a:uFillTx/>
                <a:latin typeface="Corbel"/>
              </a:rPr>
              <a:t>врать и изворачиваться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,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чтобы избежать наказа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4" descr="j0282745"/>
          <p:cNvPicPr/>
          <p:nvPr/>
        </p:nvPicPr>
        <p:blipFill>
          <a:blip r:embed="rId1"/>
          <a:stretch/>
        </p:blipFill>
        <p:spPr>
          <a:xfrm>
            <a:off x="6781680" y="243828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rbel"/>
              </a:rPr>
              <a:t>Сочувствуйте своему ребёнку, если он долго трудился, но результат его труда не высок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Corbel"/>
              </a:rPr>
              <a:t>Объясните ему, что важен не только высокий результат. Больше важны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orbel"/>
              </a:rPr>
              <a:t>знания</a:t>
            </a:r>
            <a:r>
              <a:rPr b="1" lang="ru-RU" sz="3200" spc="-1" strike="noStrike">
                <a:solidFill>
                  <a:srgbClr val="333399"/>
                </a:solidFill>
                <a:latin typeface="Corbel"/>
              </a:rPr>
              <a:t>, которые он сможет                       приобрести в результате                    ежедневного, упорного труд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4" descr="Копия (5) AG00315_"/>
          <p:cNvPicPr/>
          <p:nvPr/>
        </p:nvPicPr>
        <p:blipFill>
          <a:blip r:embed="rId1"/>
          <a:stretch/>
        </p:blipFill>
        <p:spPr>
          <a:xfrm>
            <a:off x="7543800" y="4597560"/>
            <a:ext cx="196704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66320" y="12193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Picture 5" descr="AG00319_"/>
          <p:cNvPicPr/>
          <p:nvPr/>
        </p:nvPicPr>
        <p:blipFill>
          <a:blip r:embed="rId1"/>
          <a:stretch/>
        </p:blipFill>
        <p:spPr>
          <a:xfrm>
            <a:off x="5486400" y="4952880"/>
            <a:ext cx="3389400" cy="160020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4" descr="24.jpg"/>
          <p:cNvPicPr/>
          <p:nvPr/>
        </p:nvPicPr>
        <p:blipFill>
          <a:blip r:embed="rId2"/>
          <a:stretch/>
        </p:blipFill>
        <p:spPr>
          <a:xfrm>
            <a:off x="1371600" y="5257800"/>
            <a:ext cx="1295280" cy="13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14300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rbe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4" descr="j0336396"/>
          <p:cNvPicPr/>
          <p:nvPr/>
        </p:nvPicPr>
        <p:blipFill>
          <a:blip r:embed="rId1"/>
          <a:stretch/>
        </p:blipFill>
        <p:spPr>
          <a:xfrm>
            <a:off x="7772400" y="266688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Как относиться к отметкам ребёнка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66320" y="12189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емонстрируйте положительные результат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своего труда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, чтобы ребёнку хотелось вам подражать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8" descr="Учитель"/>
          <p:cNvPicPr/>
          <p:nvPr/>
        </p:nvPicPr>
        <p:blipFill>
          <a:blip r:embed="rId1"/>
          <a:stretch/>
        </p:blipFill>
        <p:spPr>
          <a:xfrm>
            <a:off x="3505320" y="49528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572314"/>
                </a:solidFill>
                <a:latin typeface="Corbel"/>
              </a:rPr>
              <a:t>Как помочь ребёнку   в выполнении  домашних заданий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?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285640" y="3504960"/>
            <a:ext cx="4800600" cy="99036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ак правильно помогать ребёнку?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01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402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409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417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431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436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47"/>
          <p:cNvSpPr/>
          <p:nvPr/>
        </p:nvSpPr>
        <p:spPr>
          <a:xfrm>
            <a:off x="3657600" y="243828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ите только в том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8"/>
          <p:cNvSpPr/>
          <p:nvPr/>
        </p:nvSpPr>
        <p:spPr>
          <a:xfrm>
            <a:off x="6019920" y="23623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контролируйте выполнение всех заданий по предме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8" descr="Учитель"/>
          <p:cNvPicPr/>
          <p:nvPr/>
        </p:nvPicPr>
        <p:blipFill>
          <a:blip r:embed="rId1"/>
          <a:stretch/>
        </p:blipFill>
        <p:spPr>
          <a:xfrm>
            <a:off x="3897360" y="501804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одержимое 4" descr="0012-012-Zapoved-professionala.jpg"/>
          <p:cNvPicPr/>
          <p:nvPr/>
        </p:nvPicPr>
        <p:blipFill>
          <a:blip r:embed="rId1"/>
          <a:stretch/>
        </p:blipFill>
        <p:spPr>
          <a:xfrm>
            <a:off x="990720" y="0"/>
            <a:ext cx="8127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«Как помочь ребенку   выполнить домашнее задание»</a:t>
            </a:r>
            <a:br>
              <a:rPr sz="48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90360" y="533520"/>
            <a:ext cx="7848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ебенок должен готовить домашнее зада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самостоятельно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Выяснит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Настройт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итм выполнения домашнего задания            индивидуален для каждого ребенка.  Не следует ни торопиться, и ни затягивать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Не обсуждайте с ребёнком то, что     задал учитель учить дома.  Он   руководствуется учебным планом и                     утверждённой школьной программой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1" name="Picture 5" descr="р19"/>
          <p:cNvPicPr/>
          <p:nvPr/>
        </p:nvPicPr>
        <p:blipFill>
          <a:blip r:embed="rId1"/>
          <a:stretch/>
        </p:blipFill>
        <p:spPr>
          <a:xfrm>
            <a:off x="7848720" y="2584440"/>
            <a:ext cx="9144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1"/>
          <p:cNvSpPr/>
          <p:nvPr/>
        </p:nvSpPr>
        <p:spPr>
          <a:xfrm>
            <a:off x="3200400" y="380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rbel"/>
              </a:rPr>
              <a:t>Это надо помнить !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4475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ыполнение каждого задания необходимо мотивировать применением его в будущем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е следует отвлекать ребенка, умственный труд требует сосредоточенности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5" name="Рисунок 4" descr="1september.jpg"/>
          <p:cNvPicPr/>
          <p:nvPr/>
        </p:nvPicPr>
        <p:blipFill>
          <a:blip r:embed="rId1"/>
          <a:stretch/>
        </p:blipFill>
        <p:spPr>
          <a:xfrm>
            <a:off x="7543800" y="1905120"/>
            <a:ext cx="1333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144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654c"/>
                </a:solidFill>
                <a:latin typeface="Corbel"/>
              </a:rPr>
              <a:t>Родители несут ответственность за воспитание детей, получение ими общего образовани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4aa33"/>
                </a:solidFill>
                <a:latin typeface="Corbel"/>
              </a:rPr>
              <a:t>Статья 52 «Закон об образовании»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67d42"/>
                </a:solidFill>
                <a:latin typeface="Corbe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5" descr="j0088510"/>
          <p:cNvPicPr/>
          <p:nvPr/>
        </p:nvPicPr>
        <p:blipFill>
          <a:blip r:embed="rId1"/>
          <a:stretch/>
        </p:blipFill>
        <p:spPr>
          <a:xfrm>
            <a:off x="6477120" y="4343400"/>
            <a:ext cx="24717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200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70000" indent="-208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orbe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rbel"/>
              </a:rPr>
              <a:t>Не забывайте напоминать о школьных правилах и необходимости их соблюдать. </a:t>
            </a:r>
            <a:r>
              <a:rPr b="1" i="1" lang="ru-RU" sz="1800" spc="-1" strike="noStrike">
                <a:solidFill>
                  <a:srgbClr val="692aa2"/>
                </a:solidFill>
                <a:latin typeface="Corbel"/>
              </a:rPr>
              <a:t>Составьте вместе распорядок дня, а затем следите за его выполнением</a:t>
            </a:r>
            <a:r>
              <a:rPr b="0" i="1" lang="ru-RU" sz="1800" spc="-1" strike="noStrike">
                <a:solidFill>
                  <a:srgbClr val="692aa2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114440" y="151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c4853"/>
                </a:solidFill>
                <a:latin typeface="Corbe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Не пропускайте трудности. При необходимости обращайтесь за помощью к учителю; 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orbe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3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-360" y="5562360"/>
            <a:ext cx="8915400" cy="68580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Пусть эта картина будет только  для просмотра в «Галерее»!!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WordArt 3"/>
          <p:cNvSpPr txBox="1"/>
          <p:nvPr/>
        </p:nvSpPr>
        <p:spPr>
          <a:xfrm>
            <a:off x="838080" y="44197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f271c"/>
                    </a:gs>
                    <a:gs pos="100000">
                      <a:srgbClr val="3891a7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f271c"/>
                  </a:gs>
                  <a:gs pos="100000">
                    <a:srgbClr val="3891a7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466" name="Рисунок 6" descr="abe5211627d6bba72d1b53d15a7cd992_i-13.jpg"/>
          <p:cNvPicPr/>
          <p:nvPr/>
        </p:nvPicPr>
        <p:blipFill>
          <a:blip r:embed="rId1"/>
          <a:stretch/>
        </p:blipFill>
        <p:spPr>
          <a:xfrm>
            <a:off x="4876920" y="228600"/>
            <a:ext cx="3504960" cy="4240080"/>
          </a:xfrm>
          <a:prstGeom prst="rect">
            <a:avLst/>
          </a:prstGeom>
          <a:ln w="0">
            <a:noFill/>
          </a:ln>
        </p:spPr>
      </p:pic>
      <p:pic>
        <p:nvPicPr>
          <p:cNvPr id="467" name="Рисунок 7" descr="d4ca208fab.jpg"/>
          <p:cNvPicPr/>
          <p:nvPr/>
        </p:nvPicPr>
        <p:blipFill>
          <a:blip r:embed="rId2"/>
          <a:stretch/>
        </p:blipFill>
        <p:spPr>
          <a:xfrm>
            <a:off x="1523880" y="914400"/>
            <a:ext cx="2648160" cy="1752480"/>
          </a:xfrm>
          <a:prstGeom prst="rect">
            <a:avLst/>
          </a:prstGeom>
          <a:ln w="0">
            <a:noFill/>
          </a:ln>
        </p:spPr>
      </p:pic>
      <p:sp>
        <p:nvSpPr>
          <p:cNvPr id="468" name="TextBox 8"/>
          <p:cNvSpPr/>
          <p:nvPr/>
        </p:nvSpPr>
        <p:spPr>
          <a:xfrm>
            <a:off x="1219320" y="3276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.П.Реше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295280" y="22860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Школьная отметка играет значительную роль в жизни вашего ребенка и вашей семьи; именно школьная отметка часто является яблоком раздора между членами семьи и мерилом ценностей в воспитании ребен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Рисунок 3" descr="5mlgaCqOvIA.jpg"/>
          <p:cNvPicPr/>
          <p:nvPr/>
        </p:nvPicPr>
        <p:blipFill>
          <a:blip r:embed="rId1"/>
          <a:stretch/>
        </p:blipFill>
        <p:spPr>
          <a:xfrm>
            <a:off x="3200400" y="4191120"/>
            <a:ext cx="35812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762120" y="533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</a:t>
            </a:r>
            <a:r>
              <a:rPr b="1" lang="ru-RU" sz="3200" spc="-1" strike="noStrike" u="sng">
                <a:solidFill>
                  <a:srgbClr val="e81ea0"/>
                </a:solidFill>
                <a:uFillTx/>
                <a:latin typeface="Corbel"/>
              </a:rPr>
              <a:t>Оценка и отметка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– неотъемлемая часть учебного процесс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1" lang="ru-RU" sz="3200" spc="-1" strike="noStrike" u="sng">
                <a:solidFill>
                  <a:srgbClr val="e81ea0"/>
                </a:solidFill>
                <a:uFillTx/>
                <a:latin typeface="Corbel"/>
              </a:rPr>
              <a:t>Оценка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– это процесс оценивания в форме развёрнутого суждени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  </a:t>
            </a:r>
            <a:r>
              <a:rPr b="1" lang="ru-RU" sz="3200" spc="-1" strike="noStrike" u="sng">
                <a:solidFill>
                  <a:srgbClr val="e81ea0"/>
                </a:solidFill>
                <a:uFillTx/>
                <a:latin typeface="Corbel"/>
              </a:rPr>
              <a:t>Отметка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– это результат процесса оценивания, его условно-формальное отражение в балла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9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Оценка и отметк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95280" y="304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rbel"/>
              </a:rPr>
              <a:t>Положительные стороны отметок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•    </a:t>
            </a: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видно, что удалось, а чего не удалось ребенку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1" lang="ru-RU" sz="2000" spc="-1" strike="noStrike">
                <a:solidFill>
                  <a:srgbClr val="7030a0"/>
                </a:solidFill>
                <a:latin typeface="Corbel"/>
              </a:rPr>
              <a:t>положительная оценка зачастую служит средством для дальнейшего более глубокого изучения материала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•  </a:t>
            </a: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очень часто ребенок, стараясь получить более высокую оценку, прикладывает определенные волевые усилия к этому. И взрослые, видя это, говорят, что он использовал «свою силу воли» для этого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•   </a:t>
            </a:r>
            <a:r>
              <a:rPr b="1" lang="ru-RU" sz="2000" spc="-1" strike="noStrike">
                <a:solidFill>
                  <a:srgbClr val="692aa2"/>
                </a:solidFill>
                <a:latin typeface="Corbel"/>
              </a:rPr>
              <a:t>получение хорошей оценки является получением одобрения со стороны взрослых и одноклассников, чувства удовлетворенности у самого ребенка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• </a:t>
            </a: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 </a:t>
            </a: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получая более высокую оценку по сравнению с ним самим, ребенок повышает свой «рейтинг» в глазах учителя и одноклассников (и не всегда это может быть отличная оценка. Зачастую получение «4» или «3» у слабоуспевающего ученика имеет такой же эффект как «5» -у отличника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90720" y="1447560"/>
            <a:ext cx="794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32d2e"/>
                </a:solidFill>
                <a:latin typeface="Arial"/>
                <a:ea typeface="Arial"/>
              </a:rPr>
              <a:t>«5» отличн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отсутствие ошибок как по текущему, так и по предыдущему учебному материалу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е более одного недочёт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логичность и полнота изложени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95280" y="114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32d2e"/>
                </a:solidFill>
                <a:latin typeface="Arial"/>
                <a:ea typeface="Arial"/>
              </a:rPr>
              <a:t>«4» хорош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наличие 2-3 ошибок, незначительные нарушения логики изложения материа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использование нерациональных приёмов решения учебной задач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отдельные неточности в изложении учебного материал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447560" y="12189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3» удовлетворительн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достаточный минимальный уровень выполнения требований, предъявляемых к конкретной работе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не более 4-6 ошибок по текущему материалу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не более 3-5 ошибок по пройденному материалу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отдельные нарушения логики изложения материал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неполнота раскрытия вопрос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User</cp:lastModifiedBy>
  <dcterms:modified xsi:type="dcterms:W3CDTF">2022-12-01T22:48:29Z</dcterms:modified>
  <cp:revision>135</cp:revision>
  <dc:subject/>
  <dc:title>PowerPoint Template</dc:title>
</cp:coreProperties>
</file>