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3B8-E4CC-44B6-B1AC-DBE5E584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8F3-9AD3-4B9F-895E-CB20B64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7CF-43F4-40EE-94C4-D2A0BB5D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3B6-18E2-443B-A00B-E7073E67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5EA-4B2F-4DB4-8531-0529D9C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07A-3B03-4480-BD1F-FFF396B2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830-AE54-491D-8678-C38A289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6E8-7D99-4A87-A678-718C8A2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509-B659-4A95-8058-DE72127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F2E-4FDB-4CAB-941F-224D865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180-3B22-4550-85C6-A224EE5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7B8-2DE4-4879-A0F9-5EAAC44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3CE0-777A-4F1D-90E2-8D209119FC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492360" y="580536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74396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РМ «Рузаевский техникум железнодорожного и городского транспор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А. П. Байкузов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ассажирские  станции, их виды и назначение»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Безбородова Н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Arial"/>
              </a:rPr>
              <a:t>Технические средства вокз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00360" y="1071720"/>
            <a:ext cx="62294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На вокзале для высокой комфортности и быстроты обслуживания пассажиров, имеются устройств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Багажные помещения и камеры хранения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(расположены на первом этаже пассажирского здания),имеют со стороны привокзальной площади подъезд для авто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Билетные кассы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на вокзале проектируют группой, объединенной по категории пассажиров, направлениям следования или видам вагонов,в билетных кассах устанавливают рабочие столы для оформления билетов, билетно-кассовые терминалы, шкафы для хранения билетов.  В билетных кассах применяется система АСУ «Экспресс - 3» которая обеспечивают предварительную суточную и текущую продажу билетов через рабочие, служебные и административные термин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 Рабочие терминалы </a:t>
            </a:r>
            <a:r>
              <a:rPr b="0" lang="ru-RU" sz="1600" spc="-1" strike="noStrike">
                <a:solidFill>
                  <a:srgbClr val="ecfaf7"/>
                </a:solidFill>
                <a:latin typeface="Arial"/>
              </a:rPr>
              <a:t>используют для оформления проездных документов, служебные – для контроля за работой системы, получения финансовых и служебных справок, административные – для корректировки организационных функций, изменения нормативно – справочн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0"/>
          <p:cNvSpPr/>
          <p:nvPr/>
        </p:nvSpPr>
        <p:spPr>
          <a:xfrm>
            <a:off x="3492360" y="580536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лассификация пассажирских станций по характеру выполняемой работ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ассажирских станций по конструкции схе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Технологический процесс работы станц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стройства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ация парков 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пециализация путей пассажирской станци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Вокзал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Технические средства вокзалов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2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Классификация пассажирских станций по характеру выполняем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99840" y="1142640"/>
            <a:ext cx="6643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– раздельные пункты железных дорог, где производят операции с пассажирскими поездами и вагонами. пассаж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о характеру выполняемой работы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ассажирские-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(собственно пассажирские, специализированные), имеющие вокзал, приемо-отправочные парки, платформы для посадки и высад­ки пассажиров, переходные тоннели и мостики, в некоторых случаях почтово-багажные устр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хнические -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имеющие пути и устройства для экипировки, переформиро­вания, ремонта, дезинфекции и отстоя пассажирских составов, вагоноре­монтные и деповские устр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ъединен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выполняющие все виды работ по пассажирскому движе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онные -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устраиваемые на участках со значительным пригородным дви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Классификация пассажирских станций по конструкции сх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28920" y="928440"/>
            <a:ext cx="6929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о конструкции схем в зависимости от расположения приемо-отправочных путей</a:t>
            </a:r>
            <a:r>
              <a:rPr b="0" i="1" lang="ru-RU" sz="18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пассажирские станции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квозные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через которые поезда могут следовать на проход, что обеспечи­вает большую пропускную способность ста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упиковые 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на которых приемо-отправочные пути заканчиваются тупиками. На таких станциях все передвижения осуществляются со значительным количеством возвратных заездов и «режущих» маршрутов, что сни­жает пропускную способ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мбинированные</a:t>
            </a: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 - имеющие сквозные и тупиковые приемо-отправочные пути. На такой станции тупиковые пути используются обычно для местных или пригородных поездов, обращающихся на одном направ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Технологический процесс работы ста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480" y="1499760"/>
            <a:ext cx="6357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Технологический процесс</a:t>
            </a:r>
            <a:r>
              <a:rPr b="0" i="1" lang="ru-RU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работы пассажирской станции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производственно-эксплуатационную характеристику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технологию обработки поездов и вагон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организацию маневров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планирование и руководство работой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технические нормы и показатели работы стан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-организацию работы станции в зимних условиях; анализ работы станции; план развития 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В разделе «Производственно-эксплуатационная характеристика станции» содержатся сведения о типе станции, наличии, расположении и назначении парков, ремонтно-экипировочном и локомотивном депо, служебно-технических зданиях, устройствах СЦБ и свя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Устройства пассажирской ста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28560" y="1142640"/>
            <a:ext cx="6715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ассажирское здание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(вокзал) со всеми необходимыми помещениями для полного и высококачественного обслуживания пассажиров, а также технические здания или помещения в здании вокзала для работников ста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ассажирские платформы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для удобной и безопасной посадки-высадки пассажиров; платформы для перемещения почты, багажа и грузобагажа;  -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ходы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между зданием вокзала и пассажирскими платформами и между отдельными платформ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утевое развитие </a:t>
            </a: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для приема и отправления поездов, для стоянки отцеп­ляемых вагонов (служебных, багажных, почтовых и др.), для производства маневров и для отстоя составов там, где это требуется по условиям движения поез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fa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Специализация парков  пассажирско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71480" y="1071720"/>
            <a:ext cx="6429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Для правильного распределения работы необходимо произвести специализацию пар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распределить  пути в каждом парке по видам работ (прием и отправление поезд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закрепить за отдельными путями определенные номера дальних, местных и  пригородных поез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На пассажирских станциях с наличием нескольких парков закрепление возмо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каждого из них для приема и отправления поездов одного на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- за отдельными парками приема и отправления поездов по видам сообщ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Arial"/>
              </a:rPr>
              <a:t>Если на собственно пассажирской станции имеется один приемо-отправочный парк, то может быть разделение всех путей на две группы: одной для четного, а другой для нечетного напр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8362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Специализация путей пассажирско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0200" y="1071720"/>
            <a:ext cx="6500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Специализация путей по видам сообщений дает возможность дальним, местным и пригородным пассажирам легко ориентироваться при посадке, создает поточность их движения, что особенно важно при значительных размерах пригородных перевозок, а также сокращает операции по перестановке составов с путей приема на пути от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При зонном движении пригородных поездов целесообразно пути специализировать по зонам, так как это представляет дополнительные удобства для пассажи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faf7"/>
                </a:solidFill>
                <a:latin typeface="Arial"/>
              </a:rPr>
              <a:t>На пассажирских станциях должны быть выделены ходовые пути для пропуска поездных и маневровых локомотивов, отстоя служебных вагонов и вагонов, подготовленных для прицепки к транзитным поездам, а также для багажных и почтовых  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Arial"/>
              </a:rPr>
              <a:t>Вокз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0200" y="999720"/>
            <a:ext cx="6500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В зависимости от вместимости вокзалы делятся на три клас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особо большие (единовременная вместимость свыше     1500 пассажиров) и большие (700—1500 пассажир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средние (200—700 пассажир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— малые (25—200 пассажиров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Железнодорожные вокзалы в зависимости от расположения пассажирского здания и перронных путей дел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 на вокзалы с расположением пассажирского здания сбоку от сквозных перронных пу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островные — с расположением здания между перронными путями и параллельно и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тупиковые — с расположением здания перпендикулярно к тупиковым перронным путям, сбоку путей П- или Г-образ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-комбинированные, сочетающие в себе черты двух или трех указанных выше тип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cfa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ecfaf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реподаватель</cp:lastModifiedBy>
  <dcterms:modified xsi:type="dcterms:W3CDTF">2022-12-17T08:53:12Z</dcterms:modified>
  <cp:revision>809</cp:revision>
  <dc:subject/>
  <dc:title>Diapositiva 1</dc:title>
</cp:coreProperties>
</file>