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CA5-E36D-4AEB-9B93-26E4C6FC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05F-1FDF-4DD8-AFF2-6170D0BF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5DD-E7A1-473D-8971-DC2E427C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174-F738-48CA-82F1-3E14F679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DEF6-BE77-4EF6-B434-8CE0D822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FAD2-70DB-4B1A-85EA-25BBF0F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3C62-E1C2-436F-B901-4B0E400F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E53-E30B-454F-ABE3-00C944B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DEF9-8DA0-4777-AB84-93C6DE0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D6C-BC6E-4565-BDA1-D258F2E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D87-D744-4A13-9645-44D69D2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17A-155F-481E-BB8F-0E0F390E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CCC-45FF-425A-A88D-508BE33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7C3B-F348-4594-9419-DEFD963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AF93-46ED-474B-83D1-4017A06E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11F7-8030-4323-A324-1793A406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5943-4A00-40E2-B872-264A706B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9C7-E01D-4295-8C1B-7854D73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407-71B6-4C8F-AB24-32CAED5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52D-F809-4B88-B1D4-C7E1DEAB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0DD-F703-41E5-B416-012A45DE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B62-7A3C-4BD3-9832-ADE7D93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5D6-4E17-4B50-9862-6278117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7F1-4A91-465D-BACB-FB4379A7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4C4A-9085-4056-BB94-887B5F8A4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FEC-04F4-494B-AC4F-CDA47DF4A2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Фразеологизмы русского язык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5640" y="4508280"/>
            <a:ext cx="62960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тель: Германова Л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2565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удь что буде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 к любому результа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Бельчонок, разумеется, не рассчитал: допрыгнуть до опушки с берёзы он не мог. Просто, видно, бельчонок с отчаяния прыгнул: будь что будет!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Биа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том возгласе очень эмоционально выражено полная готовность ко всему, что бы ни случилось. Это достигается формой повелительного наклонения – будь! «Пусть будет что будет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пасть в немилост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сть в немилость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ть добрые отношения со стороны своих друз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 в классе появилась новенькая разряженная девочка, 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се другие дево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пали вдруг в неми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рни от принцес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отводят глаз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. Успе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милость означает доброе, внимательное отношение, а немилость значит, что такого отношения уже не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2205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ей душо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й душо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любить, верить, переживать). Очень горячо и искренн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машка росла в саду и радовалась всему: и солнцу, и травке, и птичкам. Но вот жаворонок, который всегда так весело пел, попал в клетку- и так грустна стала его песня. «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омашке всей душой хотелось помощь пленнице, но как это сделать? И она совсем перестала замечать, как хорошо вокруг, как греет солнце, как блестят её белые лепестки; она думала только о бедной птичке и о том, что ничем не может ей помощь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Андерс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будто простое и понятное выражение. Но интересно задуматься над многозначным слов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уша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ь именно в нем заключается смысл выражения.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уш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есь выступает в прямом значении «мир человеческих чувств, переживаний, настроений». И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се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ут очень уместно: разве можно любить, переживать, например, половиной души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49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тречать в шты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стречать в штыки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кого – то или что – то). Принимать враждебно, не соглашатьс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ак образно с помощью этого  выражения показан трудный путь пограничника, который мчится на вороном коне, чтобы задержать врага на границе!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Хлещет всё яростн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ождь проливно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квозь зарос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чится вперед воро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 лес не пускае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стречает в штык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олючих кус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ыставляет полки.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 Барт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с превращается здесь в живое существо, которое враждебно встречает пограничника, строя преграды на его пу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тык в этом выражении выступает как символ сопротивления, несогласия, поэтому и используется в речи для выражения яростного несогласия с каким – либо предложением, делом, мыслью, идеей. Например, Петька, естественно, принял в штыки наше предложение пойти в лыжный поход: на лыжах он не ходо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637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 три ручь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7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Слёзы)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три ручья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ько плака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подействовала на всех песня про кузнечика, «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что … даже сами певцы не выдержали и горько заплакали. Всем было жалко бедного кузнечика, которого съела прожорливая лягушка. Слёзы текли из глаз в три ручь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. Н. Нос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ручья используются в этом выражении как образы преувелич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ть понятие «фразеологизмы» русского языка, проследить историю их появления в язык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е интересы и навыки дет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уважение, чувство гордости за богатство и разнообразие русского язы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997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ыходить из терпени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ходить из терпения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нь рассердиться, не выдержать напряжения, труд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ут учительница пе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сто вышла из терпе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бежать хотела вон… .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Марш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рпе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ит то же, что глагол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рпеть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.е. «уметь стойко переносить трудности, неприятности». Например, нельзя выходить из терпения, если не получается задач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92000" y="2781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олосы дыбом встал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лосы дыбом встал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встают). Когда становится очень страшн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жас пришел извозчик Семён, когда сосед Аким запросил с него огромную сумму денег за сломанную ось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 бедного Семёна волосы дыбом с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и обе руки полезли в затылок, … он думал, что съехался с православным, что Господь послал ему помощь, а не беду, что тот отдаст ось как следует, за свои деньги, по – христиански – не разживаться же чужой бедой, а тут вышло не то.»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Да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образное выражение вошло в нашу речь на основе наблюдений за животными. Все видели, как поднимается шерсть у кошек, собак при появлении опас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де раки зимую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раки зимую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знать, показать). Претерпеть настоящие трудности или испытать наказ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пугает Витя Малеев девочку – первоклассницу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а, - говорю, - у нас в 4 классе не то, что у вас. Вот перейдёшь в 4 класс, тогда узнаешь, где раки зимуют!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. Н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почему именно раки? Известно, что раки вырывают глубокие норы на дне, в песке, камнях и забиваются в них и зимой и летом. Найти эти норы и достать рака – настоящее наказание даже летом. Ну а зимой! Страшно подумать: ведь придется опуститься под лед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выражение одинаково используется в речи для характеристики как внутреннего, так и физического состояния чело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олова вскружилас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лова вскружилась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у кого – то). Кто – то слишком возомнил о себ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Жирафа – он ведь больше всех 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Боятся даже льв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Но не вскружил такой успе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Жирафу голов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Заходе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гадочное выражение. Ведь слово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голов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меет много значений. Интересно, о какой голове идет речь? В данном случае слово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голов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значает «ум, разум». Народная мудрость, рождая это выражение, как бы говорит, что «кружится ум» у такого человека – «неправильно он думает». Неумение правильно оценивать себя не только плохо характеризует человека, но и таит опасность. Все помнят, как пострадала ворона, возомнив, что может пе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ещуньина с похвал вскружилась голов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т радости в зобу дыханье сперло,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И на приветливы Лисицыны сл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рона каркнула во все воронье горло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ыр выпал – с ним была плутовка такова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. Кры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Жираф ведет себя умно, достойно, правильно, потому что голова (ум, сознание, разум) у него «не кружится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321264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ора с плеч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ра с плеч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валилась у кого – то). Кто – то очень волновался и наконец успокоил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заволновался милиционер Горшков, когда его вызвал к себе майор: думал, что выгонит он его из рядов героической милиции за работу в цирке. Но оказалось, что вызвал его майор для серьезного дела.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таких случаях говорят: гора с плеч свалилась. И если эту поговорку применить к Горшкову, то у него целый горный хребет с плеч свалился.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авыдыч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выражение построено на внутреннем сравнении: сильное волнение, тревога, беспокойство переносить человеком так же тяжело, как большая физическая тяжесть. Какое облегчение испытывает человек, сбросив, например, с плеч тяжелый рюкза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орудов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ы бумаги, руч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ваться некуд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ваться некуд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то выражение говорит о таком состоянии человека, когда он сознает, что должен поступить только так, а не инач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аком состоянии оказался мальчик Леша, когда однажды во время ледохода одноклассница Аглая стала уговаривать его прыгнуть на льдинку и назвала его трусом, так как он отказывался. 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Я почувствовал, что деваться мне некуда, что, если я и теперь откажусь, Аглая в самом деле примет меня за труса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. Сотни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000" y="349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лать нечего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лать нечего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другого выхода, иначе поступить нельз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выражение всегда носит огорчительный характер и свидетельствует о плохом положении человека, которое он все – таки должен терпеть, так как ничего не может сделать, чтобы помочь себе. Что мог сделать мальчик, которого товарищ бросил в беде? 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ли по лесу два товарища, и выскочил на них медведь. Один бросился бежать, влез на дерево и спрятался, а другой остался на дороге. Делать было ему нечего – он упал наземь и притворился мертвым»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Л. Толст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иву даватьс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ву даваться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удивляться. Всему удивлялся на корабле спасенный матросами негритенок Максимка. Так,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аксимка только диву давался, глядя, как все матросы дают горячую воду из кружек, закусывая сахаром и обливаясь потом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. Станюкови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агается, что это выражение является переделкой выражени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ву даваться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тором как бы два раза повторяется слов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в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 что – то невиданное, необычное), чтобы подчеркнуть необычность происходящего. В наших сказках часто встречаются подобные выражения – повторы: чудо чудное, диво дивно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892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ух захватывае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х захватывает (занимается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у кого – то). Становится тяжело дышать от большой радости или высо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помним, как чуть не задохнулся от радости и удивления царь Салтан, когда раскрылся обман Ткачихи с Боборихой и он увидел царицу и сын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Царь глядит и узнает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нем взыграло ретив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«Что я вижу? Что тако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?» - и дух в нем занял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 Пушк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что было с лягушкой – путешественницей, когда она поднялась в воздух с утками, уцепившись за прутик?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 лягушки захватило дух от страшной высоты»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Гарш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их выражениях слово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ух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еет значение «дыхание». В этом значении слово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ух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ы часто употребляем, когда хотим сказать, как устали от тяжелой работы или длительного бега: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Ух, устал, дай дух перевести»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е.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ай успокоиться дыханию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уша в пятки ушл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уша в пятки ушл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у кого – то). Кто – то очень испугал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помним одного «храброго» зайц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Родился зайчик в лесу и всего боялся. Треснет где – то сучок, вспорхнет птица, упадет с дерева ком снега – у зайчика душа в пятки!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. Мамин – Сибиря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уда это выражение? Может быть, когда пугаешься, хочется убежать куда – нибудь и спрятаться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2781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д занят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3357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еть за живо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Задеть за живое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( кого – либо). Взволновать или обидеть кого – то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 воспоминаниях о детстве Александра Сергеевича Пушкина встречается описание черт его характера: если «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над ним кто – нибудь посмеется, вот он весь покраснеет, губу надует, уйдет в свой угол, и весь вечер его со стула никто тогда не стащит: значит, его за живое задели, и он обиделся, сидит одинешенек…».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Е. Янькова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вою образность это выражение получило в переносном значении: «обидеть, т.е.  задеть самолюбие». А в первоначальном, прямом смысле имелось в виду «задеть за живое мясо», т.е. буквально поранить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3068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ирать нос кверху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ирать нос кверху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 перед кем – то). Очень зазнаваться и важнич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знайство – очень плохое качество в человеке. Таких людей не любят, с ними не дружат и нередко им приходится расплачиваться за свое поведение. Так случилось с вороной – зазнайкой из одной сказки. Однажды осенью заявила она своим подружкам, задрав нос кверху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Я не такая глупая, как вы! – Я полечу за море: там, говорят, зимы не бывает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летела и перед заморскими птицами снова разважничалась, заявив, что она полночный соловей.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Но, услышав ее «пение», птицы налетели на ворону и давай ее клевать, давай толкать! Чуть все перья не выдрали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говаривать зубы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говаривать зуб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кому – либо). Обманывать, отвлекая внимания от своего проступка посторонними разговор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Ты мне зубы не заговаривай, - невольно улыбнувшись, сказал старшина. – Ты мне лучше скажи, зачем столько гранат на пояс навесил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Гайд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аговорить (заговаривать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употребляться в переносном значении « заколдовать, отвести боль, беду». В старину врачи – самоучк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аговаривал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ную боль, как бы отводили ее, отвлекали больного от боли. Вот откуда в современно образном выражении значение «отвлекать от чего – либо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371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най наших!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най наших!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какие мы хорошие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 Зайка – зазнайка открыл окно, выбросил Лисе маленькую подушечку. – Лиса: Спасибо, Косой! Век не забуду! – Зайка – зазнайка: Знай наших! Мы, зайцы добрые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Михал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выражение сжато передает хвастливую мысль: « знай, что все наши такие хорошие». Однако хвастаться своими добрыми делами нехорошо, поэтому это выражение обычно говорится в шутку. Но зайка был зазнайка, поэтому говорил серьезн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падать в душу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адать в душу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 кому – то, что - ). Что – то производит сильное впечатле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хотники, страстно любившие природу, с таким увлечением рисовали картины приближающейся весны: как зазеленеют – луга, оденется лес, кусты и зальются соловьи, что «простые, но горячие слова западали мне (мальчику) глубоко в душу, потрясали какие – то неведомые струны и пробуждали какие – то неизвестные таинственные и сладкие чувства. С. Аксак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м выражении все дело в слове западать. Буквально оно значит ! войти внутрь», солнце западает за горизонт, отсюда как известно, одна из сторон света называется запа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шем же выражении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запада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меет переносное значение « укрепиться, запечатлеться в памяти, в душе» - ведь в душе остается надолго то, что понравилось, произвело впечат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упительная бесе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из вас знает что такое «крылатые фразы» русского язы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зеологизмы русского языка помогают ярко отразить внутреннее (психическое) состояние человека, мир его переживаний и характер его отношения с другими людь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ая ч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с вами разберем наиболее известные фразеологизмы русского язы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34900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з памят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з памят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кого – то любить). Любить глубоко и преда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ила – была в одной деревне маленькая девочка, такая хорошенькая, что лучше её и на свете не было. Мать любила её без памяти, а бабушка еще больше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. Перр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Немного странное выражение, не правда ли? Причем тут память, да еще и которой нет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- то и секрет этого выражения, что если любишь кого – то, то память как будто и не нужна: забыть того, кого любишь, невозможн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ыла не была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а не была!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ю попытку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чатся собаки за медвежон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вдруг на пути медвежонка скал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ут нечего думать, была не был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спел на скалу медвежонок залез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отя бы на время убежище есть.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Михал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вежонок не уверен, что успеет взобраться на скалу, но другого пути к спасению от собак у него не было, и он бросается на скалу. Вот в чем смысл этого выражения – это возглас отчаяни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35:04Z</dcterms:created>
  <dc:creator>1</dc:creator>
  <dc:description/>
  <dc:language>en-US</dc:language>
  <cp:lastModifiedBy>Алина</cp:lastModifiedBy>
  <dcterms:modified xsi:type="dcterms:W3CDTF">2022-12-17T07:10:02Z</dcterms:modified>
  <cp:revision>4</cp:revision>
  <dc:subject/>
  <dc:title>Фразеологизмы русского языка.</dc:title>
</cp:coreProperties>
</file>