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9C4D6-8A25-471F-B373-13D4E1EA8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C56B1-B41A-400F-8847-8A1ACA01C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9DCB8-7775-49A7-93D8-C898564EF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47205-44BE-4132-B57D-80FB54724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5821E-0F4E-4A1B-8ED6-A790C4E7B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AD935-92A1-452C-AA82-1C006C10B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F405C-5C7A-4D24-B60D-00A6A1554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1EF53-9A95-4D19-AEB1-68AF7F53D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D0CF4-81EE-491B-9068-C1116CB17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C869F-DDD1-47B8-8904-CA592B96C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1C175-1EAB-463F-99F5-A266226B1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7BD7C-9D96-4328-8B35-ECD728D22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999ED-D34B-48EA-8DC5-A3221FB99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05B2B-BBC4-4D9A-B0B1-B22C56CC1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F8EC3-FF18-4A86-B637-A33572F4D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2B9DF-670B-4C2D-AA91-B678F45B2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BDE5F-B99F-4F20-A95D-66F8FDFED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CC584-4FBB-472B-A5E7-7B3D31A1A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84DD7-10A4-4F08-A68D-C946702D5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8E13C-74CC-4AA8-AF8D-2199C1936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C0AD1-8D16-47E0-B06B-4B27504EB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2471D-164F-4298-A18C-88098B193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B5CF6-0330-4DD9-98B4-810BBED5A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5924D-E72C-4EEB-A84B-FF70A3973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0C09F-150C-4535-B36F-5C7BF090F3A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152A0-DF6A-44FF-AF44-818DAC830DE7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eec94"/>
                </a:solidFill>
                <a:latin typeface="Times New Roman"/>
              </a:rPr>
              <a:t>Фразеологизмы русского языка.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2555640" y="4508280"/>
            <a:ext cx="6296040" cy="69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оспитатель: Германова Л.В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692000" y="256536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Будь что будет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3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Готов к любому результату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«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Бельчонок, разумеется, не рассчитал: допрыгнуть до опушки с берёзы он не мог. Просто, видно, бельчонок с отчаяния прыгнул: будь что будет!»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.Бианк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 этом возгласе очень эмоционально выражено полная готовность ко всему, что бы ни случилось. Это достигается формой повелительного наклонения – будь! «Пусть будет что будет»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eec94"/>
                </a:solidFill>
                <a:latin typeface="Times New Roman"/>
              </a:rPr>
              <a:t>Впасть в немилость.</a:t>
            </a: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33 E">
                                      <p:cBhvr>
                                        <p:cTn id="59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Впасть в немилость.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терять добрые отношения со стороны своих друзей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огда в классе появилась новенькая разряженная девочка, то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Все другие девочк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Впали вдруг в немилость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Парни от принцессы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Не отводят глаз.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Э. Успенски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лово милость означает доброе, внимательное отношение, а немилость значит, что такого отношения уже нет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618920" y="22050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eec94"/>
                </a:solidFill>
                <a:latin typeface="Times New Roman"/>
              </a:rPr>
              <a:t>Всей душой</a:t>
            </a: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69 0 0.125 0.07467 0.125 0.16667 C 0.125 0.25867 0.069 0.33333 0 0.33333 C -0.069 0.33333 -0.125 0.25867 -0.125 0.16667 C -0.125 0.07467 -0.069 0 0 0 Z">
                                      <p:cBhvr>
                                        <p:cTn id="65" dur="2000" fill="hold"/>
                                        <p:tgtEl>
                                          <p:spTgt spid="1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Всей душой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(любить, верить, переживать). Очень горячо и искренне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Ромашка росла в саду и радовалась всему: и солнцу, и травке, и птичкам. Но вот жаворонок, который всегда так весело пел, попал в клетку- и так грустна стала его песня. « 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Ромашке всей душой хотелось помощь пленнице, но как это сделать? И она совсем перестала замечать, как хорошо вокруг, как греет солнце, как блестят её белые лепестки; она думала только о бедной птичке и о том, что ничем не может ей помощь».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Г. Андерсен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Как будто простое и понятное выражение. Но интересно задуматься над многозначным словом 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душа: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едь именно в нем заключается смысл выражения. Слово 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душа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здесь выступает в прямом значении «мир человеческих чувств, переживаний, настроений». И слово 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всей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тут очень уместно: разве можно любить, переживать, например, половиной души?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692000" y="2491920"/>
            <a:ext cx="701028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eec94"/>
                </a:solidFill>
                <a:latin typeface="Times New Roman"/>
              </a:rPr>
              <a:t>Встречать в штыки</a:t>
            </a: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1" dur="2000" fill="hold"/>
                                        <p:tgtEl>
                                          <p:spTgt spid="15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Встречать в штыки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(кого – то или что – то). Принимать враждебно, не соглашаться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Как образно с помощью этого  выражения показан трудный путь пограничника, который мчится на вороном коне, чтобы задержать врага на границе!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Times New Roman"/>
              </a:rPr>
              <a:t>Хлещет всё яростней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Times New Roman"/>
              </a:rPr>
              <a:t>Дождь проливной,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Times New Roman"/>
              </a:rPr>
              <a:t>Сквозь заросли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Times New Roman"/>
              </a:rPr>
              <a:t>Мчится вперед вороной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Times New Roman"/>
              </a:rPr>
              <a:t>А лес не пускает,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Times New Roman"/>
              </a:rPr>
              <a:t>Встречает в штыки,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Times New Roman"/>
              </a:rPr>
              <a:t>Колючих кустов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Times New Roman"/>
              </a:rPr>
              <a:t>Выставляет полки. 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А. Барто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Лес превращается здесь в живое существо, которое враждебно встречает пограничника, строя преграды на его пути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Штык в этом выражении выступает как символ сопротивления, несогласия, поэтому и используется в речи для выражения яростного несогласия с каким – либо предложением, делом, мыслью, идеей. Например, Петька, естественно, принял в штыки наше предложение пойти в лыжный поход: на лыжах он не ходок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692000" y="26370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eec94"/>
                </a:solidFill>
                <a:latin typeface="Times New Roman"/>
              </a:rPr>
              <a:t>В три ручья</a:t>
            </a: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path" presetID="1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3 -0.05067 0.075 -0.08267 0.125 -0.08267 C 0.175 -0.08267 0.22 -0.05067 0.25 0 C 0.22 0.05067 0.175 0.08267 0.125 0.08267 C 0.075 0.08267 0.03 0.05067 0 0 Z">
                                      <p:cBhvr>
                                        <p:cTn id="77" dur="2000" fill="hold"/>
                                        <p:tgtEl>
                                          <p:spTgt spid="1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(Слёзы)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В три ручья.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Горько плакать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Так подействовала на всех песня про кузнечика, «</a:t>
            </a:r>
            <a:r>
              <a:rPr b="0" i="1" lang="ru-RU" sz="3200" spc="-1" strike="noStrike">
                <a:solidFill>
                  <a:srgbClr val="ffffff"/>
                </a:solidFill>
                <a:latin typeface="Times New Roman"/>
              </a:rPr>
              <a:t>что … даже сами певцы не выдержали и горько заплакали. Всем было жалко бедного кузнечика, которого съела прожорливая лягушка. Слёзы текли из глаз в три ручья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». Н. Носов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Три ручья используются в этом выражении как образы преувеличения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Задачи: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Дать понятие «фразеологизмы» русского языка, проследить историю их появления в языке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Развивать познавательные интересы и навыки детей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оспитывать уважение, чувство гордости за богатство и разнообразие русского языка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692000" y="299736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eec94"/>
                </a:solidFill>
                <a:latin typeface="Times New Roman"/>
              </a:rPr>
              <a:t>Выходить из терпения</a:t>
            </a: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mph" presetID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indefinite"/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fontFamily</p:attrName>
                                        </p:attrNameLst>
                                      </p:cBhvr>
                                      <p:to>
                                        <p:strVal val="Times New Roma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Выходить из терпения.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чень рассердиться, не выдержать напряжения, трудностей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Тут учительница пень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Просто вышла из терпенья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Убежать хотела вон… .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. Маршак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лово 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терпение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значит то же, что глагол 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терпеть,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т.е. «уметь стойко переносить трудности, неприятности». Например, нельзя выходить из терпения, если не получается задачка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692000" y="278136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eec94"/>
                </a:solidFill>
                <a:latin typeface="Times New Roman"/>
              </a:rPr>
              <a:t>Волосы дыбом встали</a:t>
            </a: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Волосы дыбом встали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(встают). Когда становится очень страшно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 ужас пришел извозчик Семён, когда сосед Аким запросил с него огромную сумму денег за сломанную ось: «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У бедного Семёна волосы дыбом стали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 и обе руки полезли в затылок, … он думал, что съехался с православным, что Господь послал ему помощь, а не беду, что тот отдаст ось как следует, за свои деньги, по – христиански – не разживаться же чужой бедой, а тут вышло не то.»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.Даль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Это образное выражение вошло в нашу речь на основе наблюдений за животными. Все видели, как поднимается шерсть у кошек, собак при появлении опасности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692000" y="292428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eec94"/>
                </a:solidFill>
                <a:latin typeface="Times New Roman"/>
              </a:rPr>
              <a:t>Где раки зимуют</a:t>
            </a: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9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00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01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02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03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Где раки зимуют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(знать, показать). Претерпеть настоящие трудности или испытать наказание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Так пугает Витя Малеев девочку – первоклассницу: «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Да, - говорю, - у нас в 4 классе не то, что у вас. Вот перейдёшь в 4 класс, тогда узнаешь, где раки зимуют!»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Н. Носов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о почему именно раки? Известно, что раки вырывают глубокие норы на дне, в песке, камнях и забиваются в них и зимой и летом. Найти эти норы и достать рака – настоящее наказание даже летом. Ну а зимой! Страшно подумать: ведь придется опуститься под лед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Это выражение одинаково используется в речи для характеристики как внутреннего, так и физического состояния человека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692000" y="292428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eec94"/>
                </a:solidFill>
                <a:latin typeface="Times New Roman"/>
              </a:rPr>
              <a:t>Голова вскружилась</a:t>
            </a: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10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cc00"/>
                                      </p:to>
                                    </p:animClr>
                                    <p:animClr clrSpc="rgb">
                                      <p:cBhvr>
                                        <p:cTn id="11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cc00"/>
                                      </p:to>
                                    </p:animClr>
                                    <p:set>
                                      <p:cBhvr>
                                        <p:cTn id="11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11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Голова вскружилась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(у кого – то). Кто – то слишком возомнил о себе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Times New Roman"/>
              </a:rPr>
              <a:t>Жирафа – он ведь больше всех –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Times New Roman"/>
              </a:rPr>
              <a:t>Боятся даже львы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Times New Roman"/>
              </a:rPr>
              <a:t>Но не вскружил такой успех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Times New Roman"/>
              </a:rPr>
              <a:t>Жирафу головы.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Б. Заходер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Загадочное выражение. Ведь слово </a:t>
            </a:r>
            <a:r>
              <a:rPr b="0" i="1" lang="ru-RU" sz="1600" spc="-1" strike="noStrike">
                <a:solidFill>
                  <a:srgbClr val="ffffff"/>
                </a:solidFill>
                <a:latin typeface="Times New Roman"/>
              </a:rPr>
              <a:t>голова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имеет много значений. Интересно, о какой голове идет речь? В данном случае слово </a:t>
            </a:r>
            <a:r>
              <a:rPr b="0" i="1" lang="ru-RU" sz="1600" spc="-1" strike="noStrike">
                <a:solidFill>
                  <a:srgbClr val="ffffff"/>
                </a:solidFill>
                <a:latin typeface="Times New Roman"/>
              </a:rPr>
              <a:t>голова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означает «ум, разум». Народная мудрость, рождая это выражение, как бы говорит, что «кружится ум» у такого человека – «неправильно он думает». Неумение правильно оценивать себя не только плохо характеризует человека, но и таит опасность. Все помнят, как пострадала ворона, возомнив, что может петь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Times New Roman"/>
              </a:rPr>
              <a:t>Вещуньина с похвал вскружилась голова,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Times New Roman"/>
              </a:rPr>
              <a:t>От радости в зобу дыханье сперло, 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Times New Roman"/>
              </a:rPr>
              <a:t>И на приветливы Лисицыны слова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Times New Roman"/>
              </a:rPr>
              <a:t>Ворона каркнула во все воронье горло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Times New Roman"/>
              </a:rPr>
              <a:t>Сыр выпал – с ним была плутовка такова.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И. Крылов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Жираф ведет себя умно, достойно, правильно, потому что голова (ум, сознание, разум) у него «не кружится»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692000" y="3212640"/>
            <a:ext cx="701028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eec94"/>
                </a:solidFill>
                <a:latin typeface="Times New Roman"/>
              </a:rPr>
              <a:t>Гора с плеч</a:t>
            </a: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Гора с плеч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(свалилась у кого – то). Кто – то очень волновался и наконец успокоился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Так заволновался милиционер Горшков, когда его вызвал к себе майор: думал, что выгонит он его из рядов героической милиции за работу в цирке. Но оказалось, что вызвал его майор для серьезного дела. «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В таких случаях говорят: гора с плеч свалилась. И если эту поговорку применить к Горшкову, то у него целый горный хребет с плеч свалился.»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. Давыдыче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Это выражение построено на внутреннем сравнении: сильное волнение, тревога, беспокойство переносить человеком так же тяжело, как большая физическая тяжесть. Какое облегчение испытывает человек, сбросив, например, с плеч тяжелый рюкзак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Оборудование: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листы бумаги, ручки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692000" y="314172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eec94"/>
                </a:solidFill>
                <a:latin typeface="Times New Roman"/>
              </a:rPr>
              <a:t>Деваться некуда</a:t>
            </a: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9" dur="8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2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0" dur="8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2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1" dur="8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Деваться некуда.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Это выражение говорит о таком состоянии человека, когда он сознает, что должен поступить только так, а не иначе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 таком состоянии оказался мальчик Леша, когда однажды во время ледохода одноклассница Аглая стала уговаривать его прыгнуть на льдинку и назвала его трусом, так как он отказывался. «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Я почувствовал, что деваться мне некуда, что, если я и теперь откажусь, Аглая в самом деле примет меня за труса».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Ю. Сотник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692000" y="3499920"/>
            <a:ext cx="701028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eec94"/>
                </a:solidFill>
                <a:latin typeface="Times New Roman"/>
              </a:rPr>
              <a:t>Делать нечего</a:t>
            </a: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Делать нечего.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ет другого выхода, иначе поступить нельзя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Это выражение всегда носит огорчительный характер и свидетельствует о плохом положении человека, которое он все – таки должен терпеть, так как ничего не может сделать, чтобы помочь себе. Что мог сделать мальчик, которого товарищ бросил в беде? «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Шли по лесу два товарища, и выскочил на них медведь. Один бросился бежать, влез на дерево и спрятался, а другой остался на дороге. Делать было ему нечего – он упал наземь и притворился мертвым».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Л. Толстой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692000" y="314172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eec94"/>
                </a:solidFill>
                <a:latin typeface="Times New Roman"/>
              </a:rPr>
              <a:t>Диву даваться</a:t>
            </a: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Диву даваться.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чень удивляться. Всему удивлялся на корабле спасенный матросами негритенок Максимка. Так, «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Максимка только диву давался, глядя, как все матросы дают горячую воду из кружек, закусывая сахаром и обливаясь потом».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. Станюкович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едлагается, что это выражение является переделкой выражения 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диву даваться,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 котором как бы два раза повторяется слово 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диво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( что – то невиданное, необычное), чтобы подчеркнуть необычность происходящего. В наших сказках часто встречаются подобные выражения – повторы: чудо чудное, диво дивное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618920" y="292428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eec94"/>
                </a:solidFill>
                <a:latin typeface="Times New Roman"/>
              </a:rPr>
              <a:t>Дух захватывает</a:t>
            </a: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Дух захватывает (занимается)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( у кого – то). Становится тяжело дышать от большой радости или высоты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спомним, как чуть не задохнулся от радости и удивления царь Салтан, когда раскрылся обман Ткачихи с Боборихой и он увидел царицу и сына: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imes New Roman"/>
              </a:rPr>
              <a:t>Царь глядит и узнает…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imes New Roman"/>
              </a:rPr>
              <a:t>В нем взыграло ретиво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imes New Roman"/>
              </a:rPr>
              <a:t>«Что я вижу? Что такое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imes New Roman"/>
              </a:rPr>
              <a:t>Как?» - и дух в нем занялся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imes New Roman"/>
              </a:rPr>
              <a:t>               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А. Пушкин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А что было с лягушкой – путешественницей, когда она поднялась в воздух с утками, уцепившись за прутик? «</a:t>
            </a:r>
            <a:r>
              <a:rPr b="0" i="1" lang="ru-RU" sz="1800" spc="-1" strike="noStrike">
                <a:solidFill>
                  <a:srgbClr val="ffffff"/>
                </a:solidFill>
                <a:latin typeface="Times New Roman"/>
              </a:rPr>
              <a:t>У лягушки захватило дух от страшной высоты».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. Гаршин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 этих выражениях слово </a:t>
            </a:r>
            <a:r>
              <a:rPr b="0" i="1" lang="ru-RU" sz="1800" spc="-1" strike="noStrike">
                <a:solidFill>
                  <a:srgbClr val="ffffff"/>
                </a:solidFill>
                <a:latin typeface="Times New Roman"/>
              </a:rPr>
              <a:t>дух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имеет значение «дыхание». В этом значении слово </a:t>
            </a:r>
            <a:r>
              <a:rPr b="0" i="1" lang="ru-RU" sz="1800" spc="-1" strike="noStrike">
                <a:solidFill>
                  <a:srgbClr val="ffffff"/>
                </a:solidFill>
                <a:latin typeface="Times New Roman"/>
              </a:rPr>
              <a:t>дух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мы часто употребляем, когда хотим сказать, как устали от тяжелой работы или длительного бега: «</a:t>
            </a:r>
            <a:r>
              <a:rPr b="0" i="1" lang="ru-RU" sz="1800" spc="-1" strike="noStrike">
                <a:solidFill>
                  <a:srgbClr val="ffffff"/>
                </a:solidFill>
                <a:latin typeface="Times New Roman"/>
              </a:rPr>
              <a:t> Ух, устал, дай дух перевести»,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т.е. «</a:t>
            </a:r>
            <a:r>
              <a:rPr b="0" i="1" lang="ru-RU" sz="1800" spc="-1" strike="noStrike">
                <a:solidFill>
                  <a:srgbClr val="ffffff"/>
                </a:solidFill>
                <a:latin typeface="Times New Roman"/>
              </a:rPr>
              <a:t>Дай успокоиться дыханию»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692000" y="2852280"/>
            <a:ext cx="701028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eec94"/>
                </a:solidFill>
                <a:latin typeface="Times New Roman"/>
              </a:rPr>
              <a:t>Душа в пятки ушла</a:t>
            </a: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6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69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70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71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72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Душа в пятки ушла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( у кого – то). Кто – то очень испугался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спомним одного «храброго» зайца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«Родился зайчик в лесу и всего боялся. Треснет где – то сучок, вспорхнет птица, упадет с дерева ком снега – у зайчика душа в пятки!»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Д. Мамин – Сибиряк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ткуда это выражение? Может быть, когда пугаешься, хочется убежать куда – нибудь и спрятаться?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476000" y="278136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Ход занятия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13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692000" y="335772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eec94"/>
                </a:solidFill>
                <a:latin typeface="Times New Roman"/>
              </a:rPr>
              <a:t>Задеть за живое</a:t>
            </a: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ffff"/>
                </a:solidFill>
                <a:latin typeface="Times New Roman"/>
              </a:rPr>
              <a:t>Задеть за живое </a:t>
            </a:r>
            <a:r>
              <a:rPr b="0" lang="ru-RU" sz="2100" spc="-1" strike="noStrike">
                <a:solidFill>
                  <a:srgbClr val="ffffff"/>
                </a:solidFill>
                <a:latin typeface="Times New Roman"/>
              </a:rPr>
              <a:t>( кого – либо). Взволновать или обидеть кого – то. 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2100" spc="-1" strike="noStrike">
                <a:solidFill>
                  <a:srgbClr val="ffffff"/>
                </a:solidFill>
                <a:latin typeface="Times New Roman"/>
              </a:rPr>
              <a:t>В воспоминаниях о детстве Александра Сергеевича Пушкина встречается описание черт его характера: если «</a:t>
            </a:r>
            <a:r>
              <a:rPr b="0" i="1" lang="ru-RU" sz="2100" spc="-1" strike="noStrike">
                <a:solidFill>
                  <a:srgbClr val="ffffff"/>
                </a:solidFill>
                <a:latin typeface="Times New Roman"/>
              </a:rPr>
              <a:t>над ним кто – нибудь посмеется, вот он весь покраснеет, губу надует, уйдет в свой угол, и весь вечер его со стула никто тогда не стащит: значит, его за живое задели, и он обиделся, сидит одинешенек…». </a:t>
            </a:r>
            <a:r>
              <a:rPr b="0" lang="ru-RU" sz="2100" spc="-1" strike="noStrike">
                <a:solidFill>
                  <a:srgbClr val="ffffff"/>
                </a:solidFill>
                <a:latin typeface="Times New Roman"/>
              </a:rPr>
              <a:t>Е. Янькова. 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2100" spc="-1" strike="noStrike">
                <a:solidFill>
                  <a:srgbClr val="ffffff"/>
                </a:solidFill>
                <a:latin typeface="Times New Roman"/>
              </a:rPr>
              <a:t>Свою образность это выражение получило в переносном значении: «обидеть, т.е.  задеть самолюбие». А в первоначальном, прямом смысле имелось в виду «задеть за живое мясо», т.е. буквально поранить. 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692000" y="306864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eec94"/>
                </a:solidFill>
                <a:latin typeface="Times New Roman"/>
              </a:rPr>
              <a:t>Задирать нос кверху</a:t>
            </a: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189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76a03"/>
                                      </p:to>
                                    </p:animClr>
                                    <p:animClr clrSpc="rgb">
                                      <p:cBhvr>
                                        <p:cTn id="19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76a03"/>
                                      </p:to>
                                    </p:animClr>
                                    <p:set>
                                      <p:cBhvr>
                                        <p:cTn id="191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192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Задирать нос кверху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( перед кем – то). Очень зазнаваться и важничать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Зазнайство – очень плохое качество в человеке. Таких людей не любят, с ними не дружат и нередко им приходится расплачиваться за свое поведение. Так случилось с вороной – зазнайкой из одной сказки. Однажды осенью заявила она своим подружкам, задрав нос кверху: «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 Я не такая глупая, как вы! – Я полечу за море: там, говорят, зимы не бывает».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илетела и перед заморскими птицами снова разважничалась, заявив, что она полночный соловей. «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 Но, услышав ее «пение», птицы налетели на ворону и давай ее клевать, давай толкать! Чуть все перья не выдрали».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692000" y="314172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eec94"/>
                </a:solidFill>
                <a:latin typeface="Times New Roman"/>
              </a:rPr>
              <a:t>Заговаривать зубы</a:t>
            </a: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Заговаривать зубы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(кому – либо). Обманывать, отвлекая внимания от своего проступка посторонними разговорами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«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 Ты мне зубы не заговаривай, - невольно улыбнувшись, сказал старшина. – Ты мне лучше скажи, зачем столько гранат на пояс навесил».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А. Гайдар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лово 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заговорить (заговаривать)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может употребляться в переносном значении « заколдовать, отвести боль, беду». В старину врачи – самоучки 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заговаривали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зубную боль, как бы отводили ее, отвлекали больного от боли. Вот откуда в современно образном выражении значение «отвлекать от чего – либо»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92000" y="371628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eec94"/>
                </a:solidFill>
                <a:latin typeface="Times New Roman"/>
              </a:rPr>
              <a:t>Знай наших!</a:t>
            </a: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Знай наших!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от какие мы хорошие!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« Зайка – зазнайка открыл окно, выбросил Лисе маленькую подушечку. – Лиса: Спасибо, Косой! Век не забуду! – Зайка – зазнайка: Знай наших! Мы, зайцы добрые».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. Михалков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Это выражение сжато передает хвастливую мысль: « знай, что все наши такие хорошие». Однако хвастаться своими добрыми делами нехорошо, поэтому это выражение обычно говорится в шутку. Но зайка был зазнайка, поэтому говорил серьезно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692000" y="292428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eec94"/>
                </a:solidFill>
                <a:latin typeface="Times New Roman"/>
              </a:rPr>
              <a:t>Западать в душу</a:t>
            </a: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77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0" dur="770" fill="hold"/>
                                        <p:tgtEl>
                                          <p:spTgt spid="21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32" dur="77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4" dur="77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Западать в душу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( кому – то, что - ). Что – то производит сильное впечатление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Охотники, страстно любившие природу, с таким увлечением рисовали картины приближающейся весны: как зазеленеют – луга, оденется лес, кусты и зальются соловьи, что «простые, но горячие слова западали мне (мальчику) глубоко в душу, потрясали какие – то неведомые струны и пробуждали какие – то неизвестные таинственные и сладкие чувства. С. Аксаков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 этом выражении все дело в слове западать. Буквально оно значит ! войти внутрь», солнце западает за горизонт, отсюда как известно, одна из сторон света называется запад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 нашем же выражении слово 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западать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имеет переносное значение « укрепиться, запечатлеться в памяти, в душе» - ведь в душе остается надолго то, что понравилось, произвело впечатление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ступительная бесед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то из вас знает что такое «крылатые фразы» русского языка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Фразеологизмы русского языка помогают ярко отразить внутреннее (психическое) состояние человека, мир его переживаний и характер его отношения с другими людьми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сновная часть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Мы с вами разберем наиболее известные фразеологизмы русского язык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mph" presetID="5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indefinite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italic"/>
                                      </p:to>
                                    </p:set>
                                    <p:set>
                                      <p:cBhvr>
                                        <p:cTn id="20" dur="indefinite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1" dur="indefinite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mph" presetID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indefinite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Family</p:attrName>
                                        </p:attrNameLst>
                                      </p:cBhvr>
                                      <p:to>
                                        <p:strVal val="Times New Roma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mph" presetID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indefinite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Family</p:attrName>
                                        </p:attrNameLst>
                                      </p:cBhvr>
                                      <p:to>
                                        <p:strVal val="Times New Roma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mph" presetID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indefinite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Family</p:attrName>
                                        </p:attrNameLst>
                                      </p:cBhvr>
                                      <p:to>
                                        <p:strVal val="Times New Roma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692000" y="2349000"/>
            <a:ext cx="701028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Без памяти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Без памяти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(кого – то любить). Любить глубоко и преданно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«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Жила – была в одной деревне маленькая девочка, такая хорошенькая, что лучше её и на свете не было. Мать любила её без памяти, а бабушка еще больше».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Ш. Перро.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Немного странное выражение, не правда ли? Причем тут память, да еще и которой нет. 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 том - то и секрет этого выражения, что если любишь кого – то, то память как будто и не нужна: забыть того, кого любишь, невозможно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692000" y="24210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Была не была!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Была не была!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делаю попытку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Мчатся собаки за медвежонком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И вдруг на пути медвежонка скала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Тут нечего думать, была не была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Успел на скалу медвежонок залезть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Хотя бы на время убежище есть.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.Михалков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Медвежонок не уверен, что успеет взобраться на скалу, но другого пути к спасению от собак у него не было, и он бросается на скалу. Вот в чем смысл этого выражения – это возглас отчаяния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3T15:35:04Z</dcterms:created>
  <dc:creator>1</dc:creator>
  <dc:description/>
  <dc:language>en-US</dc:language>
  <cp:lastModifiedBy>Алина</cp:lastModifiedBy>
  <dcterms:modified xsi:type="dcterms:W3CDTF">2022-12-17T07:10:02Z</dcterms:modified>
  <cp:revision>4</cp:revision>
  <dc:subject/>
  <dc:title>Фразеологизмы русского языка.</dc:title>
</cp:coreProperties>
</file>