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91E-CDB4-401D-B470-4D1E3450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F51-94EB-45A7-88AF-5322C87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4A7-6FAA-4809-879F-E366B5E8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27D-6DA7-4627-8CBB-42F470E8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7BE-7061-44C1-91F0-10C4258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E2B-D8D8-4A07-AB82-22E20480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07D-04DD-4E7F-8D54-31D651AB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A01-ECC0-4E36-AD13-02C4A1E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E23-7C80-4C28-8B82-C79BB3E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E0F-353E-4E1B-9C92-94C3030A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F0C-6ADA-4A49-AEDC-B69291C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8A0-2C3D-4F17-8463-207AD8B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27B-CFAE-4D5A-B0AD-6AFDF0A4F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и новогодние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9f93f2565b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-98280" y="0"/>
            <a:ext cx="92772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-128520" y="-96840"/>
            <a:ext cx="92725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7252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-108000" y="-100080"/>
            <a:ext cx="9279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-90360" y="0"/>
            <a:ext cx="92772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0" y="-9360"/>
            <a:ext cx="91486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olga</cp:lastModifiedBy>
  <dcterms:modified xsi:type="dcterms:W3CDTF">2022-12-17T19:58:43Z</dcterms:modified>
  <cp:revision>14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