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4E9-95D8-4A87-AFA1-6E2EC73C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1AB-845F-4761-A9E5-3822644A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E4E-F48D-46F4-8ECF-2ED50341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D5A-87DD-4727-98C9-261C4CFA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56A-8B06-4396-B765-3F156305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DB3-2DF3-4167-9131-305EA131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11D-ABC6-4301-8224-B2D1FEF9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940-39F6-4DA1-BD5A-01485ED7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3DB-F475-4C07-AD6E-60624FE7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F52-5E71-4CDC-95F8-1EDAE2B0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414-4AC8-4C72-A02E-1D5C0E5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47F-CB59-4DBA-AFDE-20599284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0AA5-7890-4A16-AFBA-35C7653BAA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840" y="142884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7 КЛА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214200" y="157680"/>
            <a:ext cx="871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3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очитайте текст, определите тему и основную мысль текста, озаглавьте его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ставьте пропущенные буквы, обозначив данные орфограммы (выполните задание самостоя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Найдите  в тексте слова категории состояния. Какова их роль в тексте?  Подчеркните их как члены предложения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тре..о, прохладно и ясно. В лесу «лес шумит», и через шум слышна яркая летняя песенка подкрапив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Лес шумит только вверху, а в средн..м ярусе, в молодом осиннике, только др..жат и чуть слышно постукивают друг о друга нежные круглые листики. Внизу в травах полная тишина, и (в) ней, слышно, работа..т шмель. (М. Пришв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42960" y="214200"/>
            <a:ext cx="72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полним компетентностно-ориентированно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642960" y="723960"/>
            <a:ext cx="807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му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ставь, что ты готовишься к самостоятельной работе по теме «Слова категории состояния». Тебе нужно проверить уровень твоей под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ная формулиров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1) Прочитай внимательно предложения, найди в них слова категории состояния. 2) Подумай, что они обозначают. 3) Запиши слова категории состояния в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чник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В лесу тепло. 2. Зеленеет трава: такая яркая среди серых кустов! 3. Никакая усталость не могла победить радостного сознания, что я был сегодня свидетелем начала буйной весны с цветами и пеньем птиц. 4.  Мне грустно и легко. 5. По утрам было ещё темно. 6. В поселке спокой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00080" y="928800"/>
          <a:ext cx="7500960" cy="2454120"/>
        </p:xfrm>
        <a:graphic>
          <a:graphicData uri="http://schemas.openxmlformats.org/drawingml/2006/table">
            <a:tbl>
              <a:tblPr/>
              <a:tblGrid>
                <a:gridCol w="2098800"/>
                <a:gridCol w="54021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тегория состо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п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стно, лег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кой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84" name="TextBox 4"/>
          <p:cNvSpPr/>
          <p:nvPr/>
        </p:nvSpPr>
        <p:spPr>
          <a:xfrm>
            <a:off x="642960" y="2858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струмент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714240" y="393660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ритерии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0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1-2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3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4-6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857160" y="3571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ставим кластер «С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7"/>
          <p:cNvGrpSpPr/>
          <p:nvPr/>
        </p:nvGrpSpPr>
        <p:grpSpPr>
          <a:xfrm>
            <a:off x="2571480" y="1785240"/>
            <a:ext cx="4286880" cy="3500280"/>
            <a:chOff x="2571480" y="1785240"/>
            <a:chExt cx="4286880" cy="3500280"/>
          </a:xfrm>
        </p:grpSpPr>
        <p:grpSp>
          <p:nvGrpSpPr>
            <p:cNvPr id="89" name="Группа 24"/>
            <p:cNvGrpSpPr/>
            <p:nvPr/>
          </p:nvGrpSpPr>
          <p:grpSpPr>
            <a:xfrm>
              <a:off x="2713680" y="2571840"/>
              <a:ext cx="4069440" cy="2713680"/>
              <a:chOff x="2713680" y="2571840"/>
              <a:chExt cx="4069440" cy="2713680"/>
            </a:xfrm>
          </p:grpSpPr>
          <p:sp>
            <p:nvSpPr>
              <p:cNvPr id="90" name="Овал 5"/>
              <p:cNvSpPr/>
              <p:nvPr/>
            </p:nvSpPr>
            <p:spPr>
              <a:xfrm>
                <a:off x="3441240" y="2571840"/>
                <a:ext cx="2543040" cy="1809720"/>
              </a:xfrm>
              <a:prstGeom prst="ellipse">
                <a:avLst/>
              </a:prstGeom>
              <a:solidFill>
                <a:srgbClr val="dce6f2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СКС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1" name="Прямая со стрелкой 9"/>
              <p:cNvCxnSpPr/>
              <p:nvPr/>
            </p:nvCxnSpPr>
            <p:spPr>
              <a:xfrm>
                <a:off x="5765400" y="3970080"/>
                <a:ext cx="1018080" cy="11516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92" name="Прямая со стрелкой 14"/>
              <p:cNvCxnSpPr/>
              <p:nvPr/>
            </p:nvCxnSpPr>
            <p:spPr>
              <a:xfrm flipH="1">
                <a:off x="2713680" y="4134240"/>
                <a:ext cx="1091160" cy="11516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grpSp>
          <p:nvGrpSpPr>
            <p:cNvPr id="93" name="Группа 26"/>
            <p:cNvGrpSpPr/>
            <p:nvPr/>
          </p:nvGrpSpPr>
          <p:grpSpPr>
            <a:xfrm>
              <a:off x="2571480" y="1785240"/>
              <a:ext cx="4286880" cy="1088280"/>
              <a:chOff x="2571480" y="1785240"/>
              <a:chExt cx="4286880" cy="1088280"/>
            </a:xfrm>
          </p:grpSpPr>
          <p:cxnSp>
            <p:nvCxnSpPr>
              <p:cNvPr id="94" name="Прямая со стрелкой 7"/>
              <p:cNvCxnSpPr/>
              <p:nvPr/>
            </p:nvCxnSpPr>
            <p:spPr>
              <a:xfrm flipV="1">
                <a:off x="5623200" y="1785240"/>
                <a:ext cx="1235520" cy="10882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95" name="Прямая со стрелкой 18"/>
              <p:cNvCxnSpPr/>
              <p:nvPr/>
            </p:nvCxnSpPr>
            <p:spPr>
              <a:xfrm flipH="1" flipV="1">
                <a:off x="2571480" y="1868040"/>
                <a:ext cx="1235520" cy="10058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1143000" y="135720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УРОК!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4091040" cy="4949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3714840" y="285840"/>
            <a:ext cx="2357280" cy="32860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3"/>
          <a:stretch/>
        </p:blipFill>
        <p:spPr>
          <a:xfrm>
            <a:off x="6286680" y="285840"/>
            <a:ext cx="2571480" cy="32144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"/>
          <p:cNvPicPr/>
          <p:nvPr/>
        </p:nvPicPr>
        <p:blipFill>
          <a:blip r:embed="rId4"/>
          <a:stretch/>
        </p:blipFill>
        <p:spPr>
          <a:xfrm>
            <a:off x="3714840" y="3643200"/>
            <a:ext cx="2295360" cy="3019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"/>
          <p:cNvPicPr/>
          <p:nvPr/>
        </p:nvPicPr>
        <p:blipFill>
          <a:blip r:embed="rId5"/>
          <a:stretch/>
        </p:blipFill>
        <p:spPr>
          <a:xfrm>
            <a:off x="6357960" y="3643200"/>
            <a:ext cx="2428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428840" y="21420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57120" y="1643040"/>
            <a:ext cx="4714920" cy="71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значает признак предмета, признак признака, признак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57120" y="4071960"/>
            <a:ext cx="471492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? куда? отк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57120" y="3286080"/>
            <a:ext cx="471492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? с каких пор? до каких п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5643720" y="1571760"/>
            <a:ext cx="314316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? каким образо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5643720" y="785880"/>
            <a:ext cx="321444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ч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85840" y="785880"/>
            <a:ext cx="4786200" cy="71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стоятельная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357120" y="2500200"/>
            <a:ext cx="471492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? во сколько? на сколько? в какой мере? в какой степе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5715000" y="2428920"/>
            <a:ext cx="314316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5715000" y="4714920"/>
            <a:ext cx="314316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5715000" y="3929040"/>
            <a:ext cx="314316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стоя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5715000" y="3214800"/>
            <a:ext cx="314316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у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4208400" y="3571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2786040" y="1000080"/>
            <a:ext cx="38577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к говорил ТИХ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857680" y="4643280"/>
            <a:ext cx="37861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угом ТИХ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2857680" y="2000160"/>
            <a:ext cx="37861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СТРАШНО кричал от исп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2857680" y="2857680"/>
            <a:ext cx="3786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ВЕСЕЛО провели кани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2928960" y="3714840"/>
            <a:ext cx="3714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казывал ИНТЕРЕС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4208400" y="285840"/>
            <a:ext cx="12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928960" y="1071720"/>
            <a:ext cx="39290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ро ТИХ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3000240" y="1857240"/>
            <a:ext cx="38577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цо СТРАШНО от исп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3000240" y="2643120"/>
            <a:ext cx="3857760" cy="7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цо его ВЕСЕ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3000240" y="3571920"/>
            <a:ext cx="385776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чинение ИНТЕРЕС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3000240" y="4500720"/>
            <a:ext cx="38577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АШНО в лесу одн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3000240" y="5500800"/>
            <a:ext cx="38577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Мне ИНТЕРЕ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642960" y="214200"/>
            <a:ext cx="80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УЛИРУЕМ ЦЕЛЬ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500040" y="107172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ЗНАТЬ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Ь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ЬСЯ ОТЛИЧАТЬ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428760" y="12859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 истории ча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285840" y="1928880"/>
            <a:ext cx="528624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терм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тегория состоя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ёл в лингвистик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в Владими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ерба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частях 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сском язык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8 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Users\Сергей\Desktop\Vneseni_izmeneniya_v_normi_russkogo_yazika.jpg"/>
          <p:cNvPicPr/>
          <p:nvPr/>
        </p:nvPicPr>
        <p:blipFill>
          <a:blip r:embed="rId1"/>
          <a:stretch/>
        </p:blipFill>
        <p:spPr>
          <a:xfrm>
            <a:off x="5505480" y="1444680"/>
            <a:ext cx="3132000" cy="5761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 категории состоя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Не наречие, не краткое прилагательное…Что это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85840" y="392400"/>
            <a:ext cx="8572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1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очитайте текст, определите тему и основную мысль текста, озаглавьте его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ставьте пропущенные буквы, обозначив данные орфограммы (выполните задание самостоя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Найдите  в тексте слова категории состояния. Какова их роль в тексте?  Подчеркните их как члены предложения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Тихо. Между деревьями син..м столбом подымае(тся, ться)  прямой дым. Тепло, светло и так пр..красно, спокойно, как (не) бывает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А воробьи, живущие под окном, под наличниками, ведут себя оживле…о (по) весеннему, и у одного в носу был даже пух для гнезда.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шли же они себе место: им хорошо, и нам не м…шают! (М. Пришв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0" y="61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2 р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очитайте текст, определите тему и основную мысль текста, озаглавьте его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ставьте пропущенные буквы, обозначив данные орфограммы (выполните задание самостоя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Найдите  в тексте слова категории состояния. Какова их роль в тексте?  Подчеркните их как члены предложения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нежная п..роша. В лесу очень тихо и так тепло, что только вот (не) тает. Деревья окруже..ы снегом, ели повесили громадные тяжелые лапы, березы скл..нились и (не)которые даже согнулись макушками до самой земли и стали кружевными ар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к вот и у дерев..ев, как у людей: ни одна елка не склонится ни под какой тяжест..ю, разве что сломится, а береза чуть что – и склоняется. Ель царству..т со своей верхней мутовкой, а береза плач..т. (М. Пришв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7:21:04Z</dcterms:created>
  <dc:creator>Татьяна Валерьевна</dc:creator>
  <dc:description/>
  <dc:language>en-US</dc:language>
  <cp:lastModifiedBy>And</cp:lastModifiedBy>
  <dcterms:modified xsi:type="dcterms:W3CDTF">2022-12-13T16:34:55Z</dcterms:modified>
  <cp:revision>11</cp:revision>
  <dc:subject/>
  <dc:title>Слайд 1</dc:title>
</cp:coreProperties>
</file>