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175-FE6A-41AA-87F4-66E2DE92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58DA-901E-4C97-B20A-1B4A467A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4BA6-E3E0-4380-A135-FAEC5ACC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68FD-8D03-43D7-8B96-B0CB6CE7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18B-14A4-4062-AF8A-271A7C9B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23E8-E191-4B92-92FE-DCF2BDA9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A0F6-2439-434A-9481-22D560CA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5A9-5924-4E67-8E27-93F4E52F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6AA8-8E38-45AA-B52A-4A8ED7B8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8D9D-CAE8-40F2-A086-DF38B24B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B7C-3CBA-4F4D-AB5B-3E72C529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84EB-7E74-412D-AEBA-4B1895FA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D383-B472-4356-8B2B-057DE44C18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85840" y="1428840"/>
            <a:ext cx="86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РУССКОГО ЯЗЫ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7 КЛАСС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214200" y="157680"/>
            <a:ext cx="8715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3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рочитайте текст, определите тему и основную мысль текста, озаглавьте его (выполните задание в пар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ставьте пропущенные буквы, обозначив данные орфограммы (выполните задание самостоятель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Найдите  в тексте слова категории состояния. Какова их роль в тексте?  Подчеркните их как члены предложения (выполните задание в пар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Ветре..о, прохладно и ясно. В лесу «лес шумит», и через шум слышна яркая летняя песенка подкрапив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Лес шумит только вверху, а в средн..м ярусе, в молодом осиннике, только др..жат и чуть слышно постукивают друг о друга нежные круглые листики. Внизу в травах полная тишина, и (в) ней, слышно, работа..т шмель. (М. Пришв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642960" y="214200"/>
            <a:ext cx="72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полним компетентностно-ориентированное 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642960" y="723960"/>
            <a:ext cx="8072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иму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едставь, что ты готовишься к самостоятельной работе по теме «Слова категории состояния». Тебе нужно проверить уровень твоей подго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ная формулиров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1) Прочитай внимательно предложения, найди в них слова категории состояния. 2) Подумай, что они обозначают. 3) Запиши слова категории состояния в таб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точник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В лесу тепло. 2. Зеленеет трава: такая яркая среди серых кустов! 3. Никакая усталость не могла победить радостного сознания, что я был сегодня свидетелем начала буйной весны с цветами и пеньем птиц. 4.  Мне грустно и легко. 5. По утрам было ещё темно. 6. В поселке спокой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000080" y="928800"/>
          <a:ext cx="7500960" cy="2454120"/>
        </p:xfrm>
        <a:graphic>
          <a:graphicData uri="http://schemas.openxmlformats.org/drawingml/2006/table">
            <a:tbl>
              <a:tblPr/>
              <a:tblGrid>
                <a:gridCol w="2098800"/>
                <a:gridCol w="540216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тегория состоя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п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стно, лег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кой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  <p:sp>
        <p:nvSpPr>
          <p:cNvPr id="84" name="TextBox 4"/>
          <p:cNvSpPr/>
          <p:nvPr/>
        </p:nvSpPr>
        <p:spPr>
          <a:xfrm>
            <a:off x="642960" y="2858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струмент 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714240" y="3936600"/>
            <a:ext cx="742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Критерии оцен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0 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1-2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3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4-6 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857160" y="35712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ставим кластер «С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7"/>
          <p:cNvGrpSpPr/>
          <p:nvPr/>
        </p:nvGrpSpPr>
        <p:grpSpPr>
          <a:xfrm>
            <a:off x="2571480" y="1785240"/>
            <a:ext cx="4286880" cy="3500280"/>
            <a:chOff x="2571480" y="1785240"/>
            <a:chExt cx="4286880" cy="3500280"/>
          </a:xfrm>
        </p:grpSpPr>
        <p:grpSp>
          <p:nvGrpSpPr>
            <p:cNvPr id="89" name="Группа 24"/>
            <p:cNvGrpSpPr/>
            <p:nvPr/>
          </p:nvGrpSpPr>
          <p:grpSpPr>
            <a:xfrm>
              <a:off x="2713680" y="2571840"/>
              <a:ext cx="4069440" cy="2713680"/>
              <a:chOff x="2713680" y="2571840"/>
              <a:chExt cx="4069440" cy="2713680"/>
            </a:xfrm>
          </p:grpSpPr>
          <p:sp>
            <p:nvSpPr>
              <p:cNvPr id="90" name="Овал 5"/>
              <p:cNvSpPr/>
              <p:nvPr/>
            </p:nvSpPr>
            <p:spPr>
              <a:xfrm>
                <a:off x="3441240" y="2571840"/>
                <a:ext cx="2543040" cy="1809720"/>
              </a:xfrm>
              <a:prstGeom prst="ellipse">
                <a:avLst/>
              </a:prstGeom>
              <a:solidFill>
                <a:srgbClr val="dce6f2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СКС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1" name="Прямая со стрелкой 9"/>
              <p:cNvCxnSpPr/>
              <p:nvPr/>
            </p:nvCxnSpPr>
            <p:spPr>
              <a:xfrm>
                <a:off x="5765400" y="3970080"/>
                <a:ext cx="1018080" cy="115164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92" name="Прямая со стрелкой 14"/>
              <p:cNvCxnSpPr/>
              <p:nvPr/>
            </p:nvCxnSpPr>
            <p:spPr>
              <a:xfrm flipH="1">
                <a:off x="2713680" y="4134240"/>
                <a:ext cx="1091160" cy="115164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grpSp>
          <p:nvGrpSpPr>
            <p:cNvPr id="93" name="Группа 26"/>
            <p:cNvGrpSpPr/>
            <p:nvPr/>
          </p:nvGrpSpPr>
          <p:grpSpPr>
            <a:xfrm>
              <a:off x="2571480" y="1785240"/>
              <a:ext cx="4286880" cy="1088280"/>
              <a:chOff x="2571480" y="1785240"/>
              <a:chExt cx="4286880" cy="1088280"/>
            </a:xfrm>
          </p:grpSpPr>
          <p:cxnSp>
            <p:nvCxnSpPr>
              <p:cNvPr id="94" name="Прямая со стрелкой 7"/>
              <p:cNvCxnSpPr/>
              <p:nvPr/>
            </p:nvCxnSpPr>
            <p:spPr>
              <a:xfrm flipV="1">
                <a:off x="5623200" y="1785240"/>
                <a:ext cx="1235520" cy="10882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95" name="Прямая со стрелкой 18"/>
              <p:cNvCxnSpPr/>
              <p:nvPr/>
            </p:nvCxnSpPr>
            <p:spPr>
              <a:xfrm flipH="1" flipV="1">
                <a:off x="2571480" y="1868040"/>
                <a:ext cx="1235520" cy="100584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1143000" y="1357200"/>
            <a:ext cx="657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УРОК!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-152280" y="-152280"/>
            <a:ext cx="4091040" cy="49496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"/>
          <p:cNvPicPr/>
          <p:nvPr/>
        </p:nvPicPr>
        <p:blipFill>
          <a:blip r:embed="rId2"/>
          <a:stretch/>
        </p:blipFill>
        <p:spPr>
          <a:xfrm>
            <a:off x="3714840" y="285840"/>
            <a:ext cx="2357280" cy="32860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"/>
          <p:cNvPicPr/>
          <p:nvPr/>
        </p:nvPicPr>
        <p:blipFill>
          <a:blip r:embed="rId3"/>
          <a:stretch/>
        </p:blipFill>
        <p:spPr>
          <a:xfrm>
            <a:off x="6286680" y="285840"/>
            <a:ext cx="2571480" cy="32144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"/>
          <p:cNvPicPr/>
          <p:nvPr/>
        </p:nvPicPr>
        <p:blipFill>
          <a:blip r:embed="rId4"/>
          <a:stretch/>
        </p:blipFill>
        <p:spPr>
          <a:xfrm>
            <a:off x="3714840" y="3643200"/>
            <a:ext cx="2295360" cy="3019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"/>
          <p:cNvPicPr/>
          <p:nvPr/>
        </p:nvPicPr>
        <p:blipFill>
          <a:blip r:embed="rId5"/>
          <a:stretch/>
        </p:blipFill>
        <p:spPr>
          <a:xfrm>
            <a:off x="6357960" y="3643200"/>
            <a:ext cx="2428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1428840" y="21420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357120" y="1643040"/>
            <a:ext cx="4714920" cy="71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означает признак предмета, признак признака, признак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357120" y="4071960"/>
            <a:ext cx="4714920" cy="64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де? куда? отку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357120" y="3286080"/>
            <a:ext cx="4714920" cy="64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гда? с каких пор? до каких по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5643720" y="1571760"/>
            <a:ext cx="3143160" cy="64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? каким образом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5643720" y="785880"/>
            <a:ext cx="3214440" cy="64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ч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285840" y="785880"/>
            <a:ext cx="4786200" cy="71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стоятельная часть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357120" y="2500200"/>
            <a:ext cx="4714920" cy="64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лько? во сколько? на сколько? в какой мере? в какой степе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5715000" y="2428920"/>
            <a:ext cx="3143160" cy="64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измен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2"/>
          <p:cNvSpPr/>
          <p:nvPr/>
        </p:nvSpPr>
        <p:spPr>
          <a:xfrm>
            <a:off x="5715000" y="4714920"/>
            <a:ext cx="3143160" cy="64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чему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5715000" y="3929040"/>
            <a:ext cx="3143160" cy="64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стоя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4"/>
          <p:cNvSpPr/>
          <p:nvPr/>
        </p:nvSpPr>
        <p:spPr>
          <a:xfrm>
            <a:off x="5715000" y="3214800"/>
            <a:ext cx="3143160" cy="64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уе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4208400" y="3571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2786040" y="1000080"/>
            <a:ext cx="38577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ник говорил ТИХ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2857680" y="4643280"/>
            <a:ext cx="378612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Кругом ТИХ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2857680" y="2000160"/>
            <a:ext cx="378612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 СТРАШНО кричал от исп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2857680" y="2857680"/>
            <a:ext cx="37861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 ВЕСЕЛО провели канику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2928960" y="3714840"/>
            <a:ext cx="3714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казывал ИНТЕРЕС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4208400" y="285840"/>
            <a:ext cx="12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2928960" y="1071720"/>
            <a:ext cx="39290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тро ТИХ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3000240" y="1857240"/>
            <a:ext cx="38577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цо СТРАШНО от исп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3000240" y="2643120"/>
            <a:ext cx="3857760" cy="7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цо его ВЕСЕ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3000240" y="3571920"/>
            <a:ext cx="385776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чинение ИНТЕРЕС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8"/>
          <p:cNvSpPr/>
          <p:nvPr/>
        </p:nvSpPr>
        <p:spPr>
          <a:xfrm>
            <a:off x="3000240" y="4500720"/>
            <a:ext cx="38577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АШНО в лесу одн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3000240" y="5500800"/>
            <a:ext cx="38577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Мне ИНТЕРЕ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642960" y="214200"/>
            <a:ext cx="807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УЛИРУЕМ ЦЕЛЬ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500040" y="1071720"/>
            <a:ext cx="77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ЗНАТЬ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ИТЬ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ЬСЯ ОТЛИЧАТЬ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3"/>
          <p:cNvSpPr/>
          <p:nvPr/>
        </p:nvSpPr>
        <p:spPr>
          <a:xfrm>
            <a:off x="428760" y="128592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 истории части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285840" y="1928880"/>
            <a:ext cx="5286240" cy="39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терм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тегория состоя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ёл в лингвистик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в Владимир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ерба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ь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частях  реч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усском язык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28 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C:\Users\Сергей\Desktop\Vneseni_izmeneniya_v_normi_russkogo_yazika.jpg"/>
          <p:cNvPicPr/>
          <p:nvPr/>
        </p:nvPicPr>
        <p:blipFill>
          <a:blip r:embed="rId1"/>
          <a:stretch/>
        </p:blipFill>
        <p:spPr>
          <a:xfrm>
            <a:off x="5505480" y="1444680"/>
            <a:ext cx="3132000" cy="576108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ва категории состоя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Не наречие, не краткое прилагательное…Что это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85840" y="392400"/>
            <a:ext cx="8572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1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рочитайте текст, определите тему и основную мысль текста, озаглавьте его (выполните задание в пар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ставьте пропущенные буквы, обозначив данные орфограммы (выполните задание самостоятель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Найдите  в тексте слова категории состояния. Какова их роль в тексте?  Подчеркните их как члены предложения (выполните задание в пар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Тихо. Между деревьями син..м столбом подымае(тся, ться)  прямой дым. Тепло, светло и так пр..красно, спокойно, как (не) бывает в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А воробьи, живущие под окном, под наличниками, ведут себя оживле…о (по) весеннему, и у одного в носу был даже пух для гнезда.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шли же они себе место: им хорошо, и нам не м…шают! (М. Пришв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0" y="619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2 ря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рочитайте текст, определите тему и основную мысль текста, озаглавьте его (выполните задание в пар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ставьте пропущенные буквы, обозначив данные орфограммы (выполните задание самостоятель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Найдите  в тексте слова категории состояния. Какова их роль в тексте?  Подчеркните их как члены предложения (выполните задание в пар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Снежная п..роша. В лесу очень тихо и так тепло, что только вот (не) тает. Деревья окруже..ы снегом, ели повесили громадные тяжелые лапы, березы скл..нились и (не)которые даже согнулись макушками до самой земли и стали кружевными ар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Так вот и у дерев..ев, как у людей: ни одна елка не склонится ни под какой тяжест..ю, разве что сломится, а береза чуть что – и склоняется. Ель царству..т со своей верхней мутовкой, а береза плач..т. (М. Пришв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1T17:21:04Z</dcterms:created>
  <dc:creator>Татьяна Валерьевна</dc:creator>
  <dc:description/>
  <dc:language>en-US</dc:language>
  <cp:lastModifiedBy>And</cp:lastModifiedBy>
  <dcterms:modified xsi:type="dcterms:W3CDTF">2022-12-13T16:34:55Z</dcterms:modified>
  <cp:revision>11</cp:revision>
  <dc:subject/>
  <dc:title>Слайд 1</dc:title>
</cp:coreProperties>
</file>