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015-0B7D-4701-B554-9BB60E3D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357-285E-4935-AC6F-FC478DA6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505-9A19-4B2E-A488-41066FE9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9B6-FD3A-4F42-AA8F-3FDEFC9C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E2C0-30A1-4F3F-9810-8414BB37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A26-FC35-4F23-9602-3AEB838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881D-D953-40EC-A9A5-0599CF8D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575F-7F83-452E-8C25-0F4A8E3B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D324-FE25-4C6E-8613-44C8611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4E85-131A-4E33-BD69-4973E32D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7B78-2465-4A4F-87E6-C220903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2A3-981B-4962-8DD7-260B1B39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AC25-F726-4CB2-8F82-66EC0BBE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5879-10CB-4EE0-BA6D-D19FF27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2EDF-7B31-46D3-B000-D36FFA6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CFDA-3575-4B8C-8394-4EA5BC00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D798-7BD1-439C-BE22-27A3AD98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432-FD6F-43D2-A4A9-02A3D6D6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167-8DAB-43D6-B708-F5ADE130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00F-2503-4C9A-8FA1-2AFDFDD0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1C9-3C96-45CF-9DCB-50C3F3C5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90A-E7A8-42EA-8DA0-E5C32EF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A5E-6257-45FB-B0D1-D0387B9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3C8-1672-48FD-8538-9858480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37DA-4005-4669-B4FA-9F50BE8D48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3CE-7E8D-4721-9585-EA926ABC38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ecoportal.info/zhivotnye-krasnoj-knigi-rossii/" TargetMode="External"/><Relationship Id="rId2" Type="http://schemas.openxmlformats.org/officeDocument/2006/relationships/hyperlink" Target="https://givotniymir.ru/zhivotnye-krasnoj-knigi-rossi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37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САМЫЕ РЕДКИЕ ЖИВОТНЫЕ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РАСНОЙ КНИГИ 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Каждый день на Земле исчезают десятки представителей животного мира и растений…».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55640" y="5084640"/>
            <a:ext cx="7561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Учитель ГБОУ СОШ №313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олотых Е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нет –ресурс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1"/>
              </a:rPr>
              <a:t>https://ecoportal.info/zhivotnye-krasnoj-knigi-rossii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2"/>
              </a:rPr>
              <a:t>https://givotniymir.ru/zhivotnye-krasnoj-knigi-rossii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нежный барс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ий, малочисленный ви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асной книге РФ ему присвоена первая категория - «вид, находящийся под угрозой исчезновения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ая численность снежного барса в России, составляет не более 80-100 особ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0" descr="C:\Users\8\Desktop\Без названия.jpg"/>
          <p:cNvPicPr/>
          <p:nvPr/>
        </p:nvPicPr>
        <p:blipFill>
          <a:blip r:embed="rId1"/>
          <a:stretch/>
        </p:blipFill>
        <p:spPr>
          <a:xfrm>
            <a:off x="4599000" y="1700280"/>
            <a:ext cx="4545000" cy="340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Амурский тигр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ин из самых редких хищников планеты, самый крупный тигр в мире, единственный представитель вида, живущий в снега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урский тигров в нашей стране насчитывает  всего лишь около 450 особ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9" descr="C:\Users\8\Desktop\Без названия (1).jpg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3342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восточный леопард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 один из самых редких представителей семейства кошачьих в мир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г Приморского края – единственное место в России где обитает вид этого леопар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в Уссурийской тайге обитают около всего около 50 особей леопар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9" descr="C:\Users\8\Desktop\1388589974_1842794304.jpg"/>
          <p:cNvPicPr/>
          <p:nvPr/>
        </p:nvPicPr>
        <p:blipFill>
          <a:blip r:embed="rId1"/>
          <a:stretch/>
        </p:blipFill>
        <p:spPr>
          <a:xfrm>
            <a:off x="4527720" y="1844640"/>
            <a:ext cx="4616280" cy="307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алан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ан, или морская выдра — хищное морское млекопитающе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ан обладает рядом уникальных особенностей приспособления к морской среде об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 веке каланы были занесены в Красную книгу России, а также в охранные документы других стра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хота на каланов практически запрещена во всех регионах мир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http://beta.inosmi.ru/images/20035/85/200358526.jpg"/>
          <p:cNvPicPr/>
          <p:nvPr/>
        </p:nvPicPr>
        <p:blipFill>
          <a:blip r:embed="rId1"/>
          <a:stretch/>
        </p:blipFill>
        <p:spPr>
          <a:xfrm>
            <a:off x="4648320" y="252108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убр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убр является самым тяжелым и крупным наземным млекопитающим на европейском континен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Его длина составляет 330 см, высота до двух метров, а вес достигает 1 тонн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19-го века дикие зубры оставались, очевидно, лишь в двух регионах: на Кавказе и в Беловежской пуще. Количество зверей составляло около 500 и в течение века снижалос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ная книга относит данный вид к категории  — находящиеся под угрозой исчезнов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8" descr="http://beta.inosmi.ru/images/20035/85/200358561.jpg"/>
          <p:cNvPicPr/>
          <p:nvPr/>
        </p:nvPicPr>
        <p:blipFill>
          <a:blip r:embed="rId1"/>
          <a:stretch/>
        </p:blipFill>
        <p:spPr>
          <a:xfrm>
            <a:off x="4427640" y="1628640"/>
            <a:ext cx="4464000" cy="49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ошадь Пржевальского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ледние дикие лошади Пржевальского исчезли из природы в 1960-х годах, к тому времени они сохранялись только на границе Китая и Монгол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в мире насчитывается всего около двух тысяч особей, содержащихся в зоопарка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8" descr="http://beta.inosmi.ru/images/20035/81/200358120.jpg"/>
          <p:cNvPicPr/>
          <p:nvPr/>
        </p:nvPicPr>
        <p:blipFill>
          <a:blip r:embed="rId1"/>
          <a:stretch/>
        </p:blipFill>
        <p:spPr>
          <a:xfrm>
            <a:off x="4500720" y="1773360"/>
            <a:ext cx="46432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рый кит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ый кит занесен в Красную книгу Российской Федерации. Киты обитают в северной части Тихого океана, совершая регулярные сезонные перемещения (миграции). Эти морские животные - рекордсмены по дальности передвижений: за год кит проплывает в среднем 16 тысяч километров. При этом кит довольно не тороплив, его обычная скорость - 7-10 километров в час. Максимальная продолжительность жизни серого кита составляет 67 лет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http://beta.inosmi.ru/images/20035/88/200358821.jpg"/>
          <p:cNvPicPr/>
          <p:nvPr/>
        </p:nvPicPr>
        <p:blipFill>
          <a:blip r:embed="rId1"/>
          <a:stretch/>
        </p:blipFill>
        <p:spPr>
          <a:xfrm>
            <a:off x="4648320" y="1743120"/>
            <a:ext cx="4038480" cy="4244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Любовь к родной стране начинается с любви к природе»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аустовский Константин Георгиевич (1892-1968) – русский писат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06:46:53Z</dcterms:created>
  <dc:creator>WiZaRd</dc:creator>
  <dc:description/>
  <dc:language>en-US</dc:language>
  <cp:lastModifiedBy>Мария</cp:lastModifiedBy>
  <dcterms:modified xsi:type="dcterms:W3CDTF">2022-12-17T18:49:38Z</dcterms:modified>
  <cp:revision>11</cp:revision>
  <dc:subject/>
  <dc:title>Презентация на тему : Животные ,  занесенные в красную книгу</dc:title>
</cp:coreProperties>
</file>