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5F8-1969-4581-A94C-C6D62891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972-45B2-4EF1-9825-638E97B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E12-43E0-4809-8214-CDA11AA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70A-58D1-4647-A443-B0EBB33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264-21EA-42A5-8F24-A22C2971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0B9-0D46-476E-80E8-A619619C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2E52-1722-419F-819B-1146B5F3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B63-5D72-4BCD-AE7E-74385A8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BD9-CC0B-4B56-AB85-94E21BBD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CAA-D162-447F-85A7-689A1A0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DC9-016E-4AF5-933B-E655E14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696-E504-4CF1-A496-1FFCFF61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F48E-02CA-421B-A68C-F4A8E6C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08B4-BAB3-49C4-8ACA-557FFCA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F4EA-5280-49FF-91CB-FEBC0CF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973-09E3-484E-B1DE-48E0EC9F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8301-5768-45E0-A0C7-532AC69E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7A2-6182-4B04-9257-A92C1E0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B3F-7C0A-41D8-8CC0-03B9808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ADA-8F0C-4B44-A0A7-661F0949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0B2-955A-4468-980D-CCCCFD2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83A-7D2A-428C-8488-BBF33D9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823-DD4F-4059-BCA3-1026CE0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1C6-9485-4D63-A69C-682827D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855-2681-4223-AD1D-D0D10B413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725-D3B0-4450-9474-D932953071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coportal.info/zhivotnye-krasnoj-knigi-rossii/" TargetMode="External"/><Relationship Id="rId2" Type="http://schemas.openxmlformats.org/officeDocument/2006/relationships/hyperlink" Target="https://givotniymir.ru/zhivotnye-krasnoj-knigi-rossi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АМЫЕ РЕДКИЕ ЖИВОТНЫЕ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ОЙ КНИГИ 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Каждый день на Земле исчезают десятки представителей животного мира и растений…».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55640" y="5084640"/>
            <a:ext cx="7561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Учитель ГБОУ СОШ №313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олотых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нет –ресурс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/>
              </a:rPr>
              <a:t>https://ecoportal.info/zhivotnye-krasnoj-knigi-rossii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/>
              </a:rPr>
              <a:t>https://givotniymir.ru/zhivotnye-krasnoj-knigi-rossii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нежный барс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ий, малочисленный ви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асной книге РФ ему присвоена первая категория - «вид, находящийся под угрозой исчезновени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численность снежного барса в России, составляет не более 80-100 особ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0" descr="C:\Users\8\Desktop\Без названия.jpg"/>
          <p:cNvPicPr/>
          <p:nvPr/>
        </p:nvPicPr>
        <p:blipFill>
          <a:blip r:embed="rId1"/>
          <a:stretch/>
        </p:blipFill>
        <p:spPr>
          <a:xfrm>
            <a:off x="4599000" y="1700280"/>
            <a:ext cx="4545000" cy="340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Амурский тигр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ин из самых редких хищников планеты, самый крупный тигр в мире, единственный представитель вида, живущий в снег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урский тигров в нашей стране насчитывает  всего лишь около 450 особ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9" descr="C:\Users\8\Desktop\Без названия (1).jpg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334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восточный леопард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один из самых редких представителей семейства кошачьих в мир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г Приморского края – единственное место в России где обитает вид этого леопар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в Уссурийской тайге обитают около всего около 50 особей леопар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C:\Users\8\Desktop\1388589974_1842794304.jpg"/>
          <p:cNvPicPr/>
          <p:nvPr/>
        </p:nvPicPr>
        <p:blipFill>
          <a:blip r:embed="rId1"/>
          <a:stretch/>
        </p:blipFill>
        <p:spPr>
          <a:xfrm>
            <a:off x="4527720" y="1844640"/>
            <a:ext cx="4616280" cy="307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лан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ан, или морская выдра — хищное морское млекопитающе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ан обладает рядом уникальных особенностей приспособления к морской среде об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 веке каланы были занесены в Красную книгу России, а также в охранные документы других стра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хота на каланов практически запрещена во всех регионах мир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http://beta.inosmi.ru/images/20035/85/200358526.jpg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убр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убр является самым тяжелым и крупным наземным млекопитающим на европейском континен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Его длина составляет 330 см, высота до двух метров, а вес достигает 1 тонн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19-го века дикие зубры оставались, очевидно, лишь в двух регионах: на Кавказе и в Беловежской пуще. Количество зверей составляло около 500 и в течение века снижалос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книга относит данный вид к категории  — находящиеся под угрозой исчезнов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8" descr="http://beta.inosmi.ru/images/20035/85/200358561.jpg"/>
          <p:cNvPicPr/>
          <p:nvPr/>
        </p:nvPicPr>
        <p:blipFill>
          <a:blip r:embed="rId1"/>
          <a:stretch/>
        </p:blipFill>
        <p:spPr>
          <a:xfrm>
            <a:off x="4427640" y="1628640"/>
            <a:ext cx="4464000" cy="499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Лошадь Пржевальского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едние дикие лошади Пржевальского исчезли из природы в 1960-х годах, к тому времени они сохранялись только на границе Китая и Монгол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в мире насчитывается всего около двух тысяч особей, содержащихся в зоопарк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8" descr="http://beta.inosmi.ru/images/20035/81/200358120.jpg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рый кит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ый кит занесен в Красную книгу Российской Федерации. Киты обитают в северной части Тихого океана, совершая регулярные сезонные перемещения (миграции). Эти морские животные - рекордсмены по дальности передвижений: за год кит проплывает в среднем 16 тысяч километров. При этом кит довольно не тороплив, его обычная скорость - 7-10 километров в час. Максимальная продолжительность жизни серого кита составляет 67 лет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http://beta.inosmi.ru/images/20035/88/200358821.jpg"/>
          <p:cNvPicPr/>
          <p:nvPr/>
        </p:nvPicPr>
        <p:blipFill>
          <a:blip r:embed="rId1"/>
          <a:stretch/>
        </p:blipFill>
        <p:spPr>
          <a:xfrm>
            <a:off x="4648320" y="1743120"/>
            <a:ext cx="4038480" cy="424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Любовь к родной стране начинается с любви к природе»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аустовский Константин Георгиевич (1892-1968) – русский писа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06:46:53Z</dcterms:created>
  <dc:creator>WiZaRd</dc:creator>
  <dc:description/>
  <dc:language>en-US</dc:language>
  <cp:lastModifiedBy>Мария</cp:lastModifiedBy>
  <dcterms:modified xsi:type="dcterms:W3CDTF">2022-12-17T18:49:38Z</dcterms:modified>
  <cp:revision>11</cp:revision>
  <dc:subject/>
  <dc:title>Презентация на тему : Животные ,  занесенные в красную книгу</dc:title>
</cp:coreProperties>
</file>