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13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44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E60-EF7F-4FEE-B4FC-BE831EFC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FA3-41E6-47BE-8CBF-8D772985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A72-A227-49E9-B224-595F40A0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D05-A8AA-468B-ACAB-68F10078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832-7FEF-43DE-B945-AEDC3E2A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ADA-876E-428E-AAD1-584D319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A22-E62F-407F-92A8-7A96ABB2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1B6-52F0-4029-B12B-F0455939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D02-FCC2-458F-A9F0-D12E77BF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907-3596-4B4B-8171-616FA89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072-C9AC-495F-AB63-49F64B7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B2B-70F0-430A-9410-D05C2B40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3A79-EF5E-447D-92CF-A7A7DDE2D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jpeg"/><Relationship Id="rId3" Type="http://schemas.openxmlformats.org/officeDocument/2006/relationships/image" Target="../media/image19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7.jpeg"/><Relationship Id="rId6" Type="http://schemas.openxmlformats.org/officeDocument/2006/relationships/image" Target="../media/image32.jpeg"/><Relationship Id="rId7" Type="http://schemas.openxmlformats.org/officeDocument/2006/relationships/image" Target="../media/image1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1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3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36.jpeg"/><Relationship Id="rId4" Type="http://schemas.openxmlformats.org/officeDocument/2006/relationships/image" Target="../media/image21.jpeg"/><Relationship Id="rId5" Type="http://schemas.openxmlformats.org/officeDocument/2006/relationships/image" Target="../media/image12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6600"/>
                </a:solidFill>
                <a:latin typeface="Arial"/>
              </a:rPr>
              <a:t>Витами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это органические соединения различной химической природы, выполняющие ряд важнейших функций в живых органи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3280" y="4581360"/>
            <a:ext cx="446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Лат. </a:t>
            </a:r>
            <a:r>
              <a:rPr b="0" i="1" lang="en-US" sz="3600" spc="-1" strike="noStrike">
                <a:solidFill>
                  <a:srgbClr val="ff6600"/>
                </a:solidFill>
                <a:latin typeface="Arial"/>
              </a:rPr>
              <a:t>Vita – </a:t>
            </a: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«жиз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544500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Более 30 соеди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3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РР, никотиновая кислота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обмене веще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1976400" cy="1396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951200" cy="164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2989080" cy="2243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867280" y="3645000"/>
            <a:ext cx="2710080" cy="2044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мализует деятельность нервной системы, ответственную за психологическое самочув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279396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95640" y="4581360"/>
            <a:ext cx="2552760" cy="1803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948360" y="407664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3198960" cy="2128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632560" cy="3681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Н (В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синтезе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28608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697120" cy="190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2382840" cy="2003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ru-RU" sz="40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(фолиевая кисло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образовании эритроц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2637000" cy="1778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3557520" cy="213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689200" cy="1900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276720" y="2349360"/>
            <a:ext cx="178884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образовании 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ует в процессе кроветв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25905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64000" y="4076640"/>
            <a:ext cx="3287520" cy="2187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2565360" cy="1936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372360" y="1916280"/>
            <a:ext cx="166824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39640" y="4437000"/>
            <a:ext cx="3382920" cy="183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Жирорастворимые витам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32000" y="1484280"/>
            <a:ext cx="17413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987640" y="3645000"/>
            <a:ext cx="16970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59280" y="1413000"/>
            <a:ext cx="1486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12000" y="3573360"/>
            <a:ext cx="16160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тамин А (ретино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ст и развитие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аптация к темн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180972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24000" y="5013360"/>
            <a:ext cx="2113200" cy="15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416320" cy="176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1525320" cy="2305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308720" y="1125360"/>
            <a:ext cx="1573200" cy="237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877080" y="2708280"/>
            <a:ext cx="2062080" cy="196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484360" y="3141720"/>
            <a:ext cx="1970280" cy="139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4067280" y="4724280"/>
            <a:ext cx="2414520" cy="16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648560" cy="2360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тамин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(кальциферо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костей и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59280" y="3933720"/>
            <a:ext cx="2590560" cy="2187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72880" cy="230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427640" y="3933720"/>
            <a:ext cx="3341520" cy="2222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948360" y="3573360"/>
            <a:ext cx="1940040" cy="1482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5292720" y="1700280"/>
            <a:ext cx="2295360" cy="1701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88 г., Н.И.Лунин, русский врач, начало изучения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12 г., К.Функ, польский врач и биохимик, открытие первого вита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2535120" cy="331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254484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Витамин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3155400">
            <a:off x="2093400" y="1082520"/>
            <a:ext cx="5334120" cy="570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чает за свертывание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3670200" cy="2787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649680" cy="2425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050920" y="2708280"/>
            <a:ext cx="2802240" cy="1719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6201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Е (токоферо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яется главным питательным веществом-антиоксида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2243160" cy="1909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372360" y="2565360"/>
            <a:ext cx="2627280" cy="1822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227640" y="4365720"/>
            <a:ext cx="2590920" cy="2187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547640" y="4635360"/>
            <a:ext cx="3341880" cy="222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708360" y="3716280"/>
            <a:ext cx="2376360" cy="1679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2422440" cy="1827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447040" cy="2322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3399"/>
                </a:solidFill>
                <a:latin typeface="Arial"/>
              </a:rPr>
              <a:t>Заболевания, вызываемые недостатком или избытком витаминов в организ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Авитамино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е отсутствие в организме какого-либо вит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360" y="4437000"/>
            <a:ext cx="2603520" cy="1684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1560600" cy="2236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56000" y="1700280"/>
            <a:ext cx="1436400" cy="180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32360" y="1557360"/>
            <a:ext cx="214956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4360" y="2852640"/>
            <a:ext cx="1604880" cy="309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602136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х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итам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1440" y="60930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Цин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итамин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71240" y="357336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уриная слеп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итамин 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81440" y="56610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ери-б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итамин В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7800" y="40053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еллаг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итамин Р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Гиповитамино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чная недостаточность вит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ое недомо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страя утомля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ение раздраж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опротивляемости организма к инфек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образ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раничен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енная потребность в витаминах в период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ичные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Гипервитамино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потребление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оксикация (отравление орган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оупотребление пищевыми добавками и витаминами (занятие бодибилдинг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35280" y="3789360"/>
            <a:ext cx="29462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витам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51" name="_s57357"/>
            <p:cNvCxnSpPr>
              <a:stCxn id="52" idx="0"/>
              <a:endCxn id="53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57355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57351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0000"/>
                  </a:solidFill>
                  <a:latin typeface="Arial"/>
                </a:rPr>
                <a:t>витамин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7352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Водорастворим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(С, РР, В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7354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Жирорастворим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(А, </a:t>
              </a:r>
              <a:r>
                <a:rPr b="0" lang="en-US" sz="33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0" lang="ru-RU" sz="3300" spc="-1" strike="noStrike">
                  <a:solidFill>
                    <a:srgbClr val="ff0000"/>
                  </a:solidFill>
                  <a:latin typeface="Arial"/>
                </a:rPr>
                <a:t>, Е, К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Водорастворимые 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08360" y="1628640"/>
            <a:ext cx="15526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32000" y="3645000"/>
            <a:ext cx="18968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40360" y="3429000"/>
            <a:ext cx="15541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итамин С (аскорбиновая кисло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ает сопротивляемость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40360" y="4508640"/>
            <a:ext cx="264132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35280" y="4581360"/>
            <a:ext cx="2546280" cy="191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2612880" cy="196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940360" y="1413000"/>
            <a:ext cx="2747880" cy="206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732720" y="3860640"/>
            <a:ext cx="1931760" cy="257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348000" y="278136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364000" y="2924280"/>
            <a:ext cx="2573640" cy="1698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26360" cy="4282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8073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мализует деятельность нервной системы, ответственную за работу мыш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2697120" cy="1906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2167200" cy="1820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149560" cy="266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348000" y="4581360"/>
            <a:ext cx="2343240" cy="1714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588000" y="1341360"/>
            <a:ext cx="1887840" cy="1887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итамин В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219720" cy="361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35:25Z</dcterms:created>
  <dc:creator>user2</dc:creator>
  <dc:description/>
  <dc:language>en-US</dc:language>
  <cp:lastModifiedBy>home</cp:lastModifiedBy>
  <dcterms:modified xsi:type="dcterms:W3CDTF">2011-05-05T22:05:06Z</dcterms:modified>
  <cp:revision>4</cp:revision>
  <dc:subject/>
  <dc:title>Витамины</dc:title>
</cp:coreProperties>
</file>