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E38-1ABC-40A1-9712-2C9CF518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FA1-4397-4685-8B45-4C184B1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672-8001-449F-8D3F-484642E2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EC0-43AB-4085-81FD-BC3BFB82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9157-87FB-428A-BF3D-708B7104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B2C-E553-4134-B13C-483158B3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254B-FA14-4F31-9BE2-085972E8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602E-AAE0-4F76-AD38-2FDBB1E6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711C-D294-4F05-8D7E-07C70C0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E80-F8B2-4D1B-BADC-27351EF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A434-E797-4EF5-92B8-E4B8948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EE3-BC3D-43DB-91C7-CB18DC35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FED-9251-4BA2-A8C4-6372942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215-FAE4-4093-A10C-178BFA1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25A-8093-4E48-A26E-1791F52A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154E-B04C-4B24-A4C8-C7F06CDE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F59-B2A4-4FEE-9E9F-5F26825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3F2-63D3-490A-B808-36D977E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F8A-FCE3-41A4-9AEE-4A8C39B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ED5-3B5E-41BD-A813-45A9152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0AE-BDEF-4B92-8157-1B36515A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1EE-2F7B-40B4-A40B-8C907CB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409-82F5-42DB-A9E7-217B8C8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2A0-CE9F-4DA1-A06D-953CBD79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666C-9D12-484A-8912-9C0AA4487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anta_surprised"/>
          <p:cNvPicPr/>
          <p:nvPr/>
        </p:nvPicPr>
        <p:blipFill>
          <a:blip r:embed="rId3"/>
          <a:stretch/>
        </p:blipFill>
        <p:spPr>
          <a:xfrm>
            <a:off x="0" y="200160"/>
            <a:ext cx="3417840" cy="665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E45-506C-406C-B57B-3A082CA95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Times New Roman"/>
              </a:rPr>
              <a:t>Что за праздник Новый год?</a:t>
            </a:r>
            <a:endParaRPr b="1" i="1" lang="en-US" sz="6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Picture 5" descr="newy52"/>
          <p:cNvPicPr/>
          <p:nvPr/>
        </p:nvPicPr>
        <p:blipFill>
          <a:blip r:embed="rId1"/>
          <a:stretch/>
        </p:blipFill>
        <p:spPr>
          <a:xfrm>
            <a:off x="4114800" y="4495680"/>
            <a:ext cx="2664000" cy="1865520"/>
          </a:xfrm>
          <a:prstGeom prst="rect">
            <a:avLst/>
          </a:prstGeom>
          <a:ln w="0">
            <a:noFill/>
          </a:ln>
        </p:spPr>
      </p:pic>
      <p:pic>
        <p:nvPicPr>
          <p:cNvPr id="85" name="malenkoy_elochke_holodno_zimoy_r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2514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Подготовила : старший воспитатель МКДОУ д/с № 3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85ffe0"/>
                </a:solidFill>
                <a:latin typeface="Times New Roman"/>
              </a:rPr>
              <a:t>г. Новосибирска Ерсонина Е.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90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462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486400" cy="2367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746280" y="498600"/>
            <a:ext cx="664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5486400" cy="2686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45720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уда пришла традиция праздновать Новый Год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372200" cy="4851360"/>
          </a:xfrm>
          <a:prstGeom prst="rect">
            <a:avLst/>
          </a:prstGeom>
          <a:ln w="0">
            <a:noFill/>
          </a:ln>
        </p:spPr>
      </p:pic>
      <p:pic>
        <p:nvPicPr>
          <p:cNvPr id="93" name="02 the land of the blessed.mp3" descr=""/>
          <p:cNvPicPr/>
          <p:nvPr/>
        </p:nvPicPr>
        <p:blipFill>
          <a:blip r:embed="rId4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583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457200" y="1355040"/>
            <a:ext cx="5715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любят повторять, что Дед Мороз сказка и вымысел. Но на самом деле Дед Мороз – это реально существующая личность. Родиной которого считают российский город Великий Устюг. Дед Мороз живет в сосновом бору. Здесь стоит его великолепный узорчатый дом. В доме Деда Мороза есть его рабочий кабинет, спальня и гардеробная. В центре дома стоит сказочный трон Деда Мороза. В дом Деда Мороза можно приезжать круглый год. Когда приедете, то можете даже посидеть на его тро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arry_christmas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3"/>
          <p:cNvSpPr/>
          <p:nvPr/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Кто такой Дед Мороз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newy94"/>
          <p:cNvPicPr/>
          <p:nvPr/>
        </p:nvPicPr>
        <p:blipFill>
          <a:blip r:embed="rId2"/>
          <a:stretch/>
        </p:blipFill>
        <p:spPr>
          <a:xfrm>
            <a:off x="6019920" y="3809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1775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181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newy94"/>
          <p:cNvPicPr/>
          <p:nvPr/>
        </p:nvPicPr>
        <p:blipFill>
          <a:blip r:embed="rId2"/>
          <a:stretch/>
        </p:blipFill>
        <p:spPr>
          <a:xfrm>
            <a:off x="6477120" y="4191120"/>
            <a:ext cx="200016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ом Деда Мороза: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1" name="jingle_bells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2373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Наступающий 2023 год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год кролика и кота.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53240"/>
          </a:xfrm>
          <a:prstGeom prst="rect">
            <a:avLst/>
          </a:prstGeom>
          <a:ln w="0">
            <a:noFill/>
          </a:ln>
        </p:spPr>
      </p:pic>
      <p:pic>
        <p:nvPicPr>
          <p:cNvPr id="104" name="Chernikova_Larisa_-_14_-_Kot_i_Krolik[mp3lemon.net]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1839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ароит</dc:creator>
  <dc:description/>
  <dc:language>en-US</dc:language>
  <cp:lastModifiedBy>Чароит</cp:lastModifiedBy>
  <dcterms:modified xsi:type="dcterms:W3CDTF">2022-12-18T08:50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b0000000000010243100207f6000400038000</vt:lpwstr>
  </property>
  <property fmtid="{D5CDD505-2E9C-101B-9397-08002B2CF9AE}" pid="3" name="Version">
    <vt:r8>1</vt:r8>
  </property>
</Properties>
</file>