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image9.png" ContentType="image/png"/>
  <Override PartName="/ppt/media/image10.gif" ContentType="image/gif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9A68-E9CA-4F9B-B293-CDF5C770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02E1-D32A-413A-BB61-63B9A532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3515-ABA9-49CF-A1D6-1E109321B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3CE6-D832-444B-A7F5-014B060DA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82B9-3F10-47BD-889F-4EE0EA41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3D79-4EE0-4D9B-9A4F-1D166375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3505-DC1D-44B1-8D56-F102DC95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1771-B466-4A85-BA8F-49CAE064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FBE9-B491-426A-A9D7-31104DC5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3808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1DD5-3CC2-4CBD-B468-14FA0709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9FBA-7F05-4D79-9D1D-1F433A2A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103F-90CE-482A-BAE6-0F871B70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9216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B5E9-152E-4BAB-84F6-110B12AD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482D-4E36-4A74-AAF2-B7B8BC05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48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E9C9-390A-4CAB-A7ED-2D4367EE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9216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E956-7822-4E96-B975-6F5F45E1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48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6512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48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48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6512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B50E-8C22-4120-B843-FEF6E07D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7C72-081F-40E3-B402-421D4FFE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B645-C8D1-4079-A2C9-3BF48D13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0D2F-59D4-4626-B09C-31579CF7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3808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A9F7-1ABC-44E6-B676-3B350659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642A-8517-4C29-9F58-9736D759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6E0E-5E91-4D50-8B52-8D783AFF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63B9-2B84-4DA5-8667-E56DD267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2057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SzPct val="1799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SzPct val="15424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SzPct val="12855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SzPct val="12855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SzPct val="12855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SzPct val="12855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A1A4-4502-4C80-A894-76BDC8EAB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santa_surprised"/>
          <p:cNvPicPr/>
          <p:nvPr/>
        </p:nvPicPr>
        <p:blipFill>
          <a:blip r:embed="rId3"/>
          <a:stretch/>
        </p:blipFill>
        <p:spPr>
          <a:xfrm>
            <a:off x="0" y="200160"/>
            <a:ext cx="3417840" cy="6657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2057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SzPct val="1799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SzPct val="15424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SzPct val="12855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SzPct val="12855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SzPct val="12855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SzPct val="12855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1EBA-05D7-405F-B79B-DC37FB497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43200" y="228600"/>
            <a:ext cx="5867280" cy="419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66"/>
                </a:solidFill>
                <a:latin typeface="Times New Roman"/>
              </a:rPr>
              <a:t>Что за праздник Новый год?</a:t>
            </a:r>
            <a:endParaRPr b="1" i="1" lang="en-US" sz="6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4" name="Picture 5" descr="newy52"/>
          <p:cNvPicPr/>
          <p:nvPr/>
        </p:nvPicPr>
        <p:blipFill>
          <a:blip r:embed="rId1"/>
          <a:stretch/>
        </p:blipFill>
        <p:spPr>
          <a:xfrm>
            <a:off x="4114800" y="4495680"/>
            <a:ext cx="2664000" cy="1865520"/>
          </a:xfrm>
          <a:prstGeom prst="rect">
            <a:avLst/>
          </a:prstGeom>
          <a:ln w="0">
            <a:noFill/>
          </a:ln>
        </p:spPr>
      </p:pic>
      <p:pic>
        <p:nvPicPr>
          <p:cNvPr id="85" name="malenkoy_elochke_holodno_zimoy_r.mp3" descr=""/>
          <p:cNvPicPr/>
          <p:nvPr/>
        </p:nvPicPr>
        <p:blipFill>
          <a:blip r:embed="rId2"/>
          <a:stretch/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6" name="TextBox 6"/>
          <p:cNvSpPr/>
          <p:nvPr/>
        </p:nvSpPr>
        <p:spPr>
          <a:xfrm>
            <a:off x="2514600" y="3049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5ffe0"/>
                </a:solidFill>
                <a:latin typeface="Times New Roman"/>
              </a:rPr>
              <a:t>Подготовила : старший воспитатель МКДОУ д/с № 3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5ffe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85ffe0"/>
                </a:solidFill>
                <a:latin typeface="Times New Roman"/>
              </a:rPr>
              <a:t>г. Новосибирска Ерсонина Е.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90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746280" y="156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5486400" cy="2367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9"/>
          <p:cNvSpPr/>
          <p:nvPr/>
        </p:nvSpPr>
        <p:spPr>
          <a:xfrm>
            <a:off x="746280" y="498600"/>
            <a:ext cx="664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0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5486400" cy="26863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4"/>
          <p:cNvSpPr/>
          <p:nvPr/>
        </p:nvSpPr>
        <p:spPr>
          <a:xfrm>
            <a:off x="457200" y="3808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куда пришла традиция праздновать Новый Год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Содержимое 2" descr=""/>
          <p:cNvPicPr/>
          <p:nvPr/>
        </p:nvPicPr>
        <p:blipFill>
          <a:blip r:embed="rId3"/>
          <a:stretch/>
        </p:blipFill>
        <p:spPr>
          <a:xfrm>
            <a:off x="4267080" y="1676520"/>
            <a:ext cx="4372200" cy="4851360"/>
          </a:xfrm>
          <a:prstGeom prst="rect">
            <a:avLst/>
          </a:prstGeom>
          <a:ln w="0">
            <a:noFill/>
          </a:ln>
        </p:spPr>
      </p:pic>
      <p:pic>
        <p:nvPicPr>
          <p:cNvPr id="93" name="02 the land of the blessed.mp3" descr=""/>
          <p:cNvPicPr/>
          <p:nvPr/>
        </p:nvPicPr>
        <p:blipFill>
          <a:blip r:embed="rId4"/>
          <a:stretch/>
        </p:blipFill>
        <p:spPr>
          <a:xfrm>
            <a:off x="86104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415837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0"/>
          <p:cNvSpPr/>
          <p:nvPr/>
        </p:nvSpPr>
        <p:spPr>
          <a:xfrm>
            <a:off x="457200" y="1355040"/>
            <a:ext cx="5715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оторые любят повторять, что Дед Мороз сказка и вымысел. Но на самом деле Дед Мороз – это реально существующая личность. Родиной которого считают российский город Великий Устюг. Дед Мороз живет в сосновом бору. Здесь стоит его великолепный узорчатый дом. В доме Деда Мороза есть его рабочий кабинет, спальня и гардеробная. В центре дома стоит сказочный трон Деда Мороза. В дом Деда Мороза можно приезжать круглый год. Когда приедете, то можете даже посидеть на его трон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marry_christmas.mp3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3"/>
          <p:cNvSpPr/>
          <p:nvPr/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Кто такой Дед Мороз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newy94"/>
          <p:cNvPicPr/>
          <p:nvPr/>
        </p:nvPicPr>
        <p:blipFill>
          <a:blip r:embed="rId2"/>
          <a:stretch/>
        </p:blipFill>
        <p:spPr>
          <a:xfrm>
            <a:off x="6019920" y="3809880"/>
            <a:ext cx="200016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17756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6324480" cy="5181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newy94"/>
          <p:cNvPicPr/>
          <p:nvPr/>
        </p:nvPicPr>
        <p:blipFill>
          <a:blip r:embed="rId2"/>
          <a:stretch/>
        </p:blipFill>
        <p:spPr>
          <a:xfrm>
            <a:off x="6477120" y="4191120"/>
            <a:ext cx="2000160" cy="26668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Дом Деда Мороза:</a:t>
            </a: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1" name="jingle_bells.mp3" descr=""/>
          <p:cNvPicPr/>
          <p:nvPr/>
        </p:nvPicPr>
        <p:blipFill>
          <a:blip r:embed="rId3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123738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Наступающий 2023 год,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год кролика и кота.</a:t>
            </a:r>
            <a:endParaRPr b="1" i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5867280" cy="4953240"/>
          </a:xfrm>
          <a:prstGeom prst="rect">
            <a:avLst/>
          </a:prstGeom>
          <a:ln w="0">
            <a:noFill/>
          </a:ln>
        </p:spPr>
      </p:pic>
      <p:pic>
        <p:nvPicPr>
          <p:cNvPr id="104" name="Chernikova_Larisa_-_14_-_Kot_i_Krolik[mp3lemon.net].mp3" descr=""/>
          <p:cNvPicPr/>
          <p:nvPr/>
        </p:nvPicPr>
        <p:blipFill>
          <a:blip r:embed="rId2"/>
          <a:stretch/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318392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Чароит</dc:creator>
  <dc:description/>
  <dc:language>en-US</dc:language>
  <cp:lastModifiedBy>Чароит</cp:lastModifiedBy>
  <dcterms:modified xsi:type="dcterms:W3CDTF">2022-12-18T08:50:1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a0b0000000000010243100207f6000400038000</vt:lpwstr>
  </property>
  <property fmtid="{D5CDD505-2E9C-101B-9397-08002B2CF9AE}" pid="3" name="Version">
    <vt:r8>1</vt:r8>
  </property>
</Properties>
</file>