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8BCA-265D-48D0-91D1-9FB3D3B450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F65F-75A7-4AD0-8067-65C46AA12A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2C9C-55DB-4F01-9382-E4F5017AA5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9002-3553-4A9F-AB37-9AA9634C69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A4D0-0350-4DF8-BBCF-8F67C08F4F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7428-C6E0-4C81-AB8A-1AEB5E0811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6989-EAD0-4BF4-9BDB-2BE422EBD1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CEF6-4E61-418C-A299-784BF4D67C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3695-326C-4A88-B29D-4C24EB72D4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BF604-22C0-44CA-B637-9260499E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9B2D5-A8F9-4349-9E77-003BFB44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53441-37ED-4EC1-82F5-C763D7FD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95307-94C9-491E-8904-D9C9619D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5042-E669-42B8-8432-B326B9F4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F524-A83A-4708-A9EA-D3FF46D5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FAD6-3256-4EEB-B9C6-0A728CE0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3FAD-79F9-4A90-8633-5080A6FB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5840-A16E-4A72-A919-9206CB41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F018-ECA2-45BA-B4E0-5B344E3C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E647-D3A2-42E5-A9DA-1C469808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CDBF3-7179-4DFE-9313-0664A5D3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83AE-FA6D-45B2-AA76-D8798D46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B998-2433-4A3B-A2FF-F11D0B09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E8F2-1AD7-4C16-991E-6D9895FC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777E-9500-460D-8CC8-532CE38C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B66B-C894-4CAF-93BA-37CF1669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57EB7-39BE-46F2-BD18-E6EE416A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ED99A-C7D6-4DBA-A032-5C271A15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6C409-B024-4FDF-9F78-E87FF168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EFE2A-AB40-476F-A639-C495BBCF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AB7EE-C033-445C-8270-09085132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C7D0C-27E4-4B74-8EBC-57D45844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DC2B4-5B4E-404A-A864-B7D9D560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274B-672C-40CA-9CA8-D6BCD0ED9C5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FC05-2F3A-4613-AFFB-13763442E29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ФАКТОРЫ СПРО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Georgia"/>
              </a:rPr>
              <a:t>Что нужно знать для урока?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оотнесите экономические понятия и их опреде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197000"/>
          <a:ext cx="8147160" cy="5524560"/>
        </p:xfrm>
        <a:graphic>
          <a:graphicData uri="http://schemas.openxmlformats.org/drawingml/2006/table">
            <a:tbl>
              <a:tblPr/>
              <a:tblGrid>
                <a:gridCol w="3251160"/>
                <a:gridCol w="48960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Закон спроса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Зависимость между количеством товара, которое покупатели хотят и могут купить и ценами на этот товар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Спрос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Совокупный (общий) спрос всех покупателей на рынке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Индивидуальный спрос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. Количество товара, которое покупатели хотят и могут купить при определенной цене за определенное время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Рыночный спрос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. Спрос одного покупателя на рынке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. Величина спроса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Обратная зависимость между количеством товара и ценами на этот товар (при прочих равных условиях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95280" y="907920"/>
          <a:ext cx="8229600" cy="1879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10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еличина спрос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–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личество товара, которое покупатели хотят и могут купить при определенной цене за определенное время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прос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–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ависимость между количеством товара, которое покупатели хотят и могут купить и ценами на этот товар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2923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7"/>
          <p:cNvSpPr/>
          <p:nvPr/>
        </p:nvSpPr>
        <p:spPr>
          <a:xfrm>
            <a:off x="1763640" y="3429000"/>
            <a:ext cx="57168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8"/>
          <p:cNvSpPr/>
          <p:nvPr/>
        </p:nvSpPr>
        <p:spPr>
          <a:xfrm>
            <a:off x="1763640" y="4365720"/>
            <a:ext cx="57168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В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29"/>
          <p:cNvGrpSpPr/>
          <p:nvPr/>
        </p:nvGrpSpPr>
        <p:grpSpPr>
          <a:xfrm>
            <a:off x="2050920" y="2852640"/>
            <a:ext cx="4457880" cy="2857680"/>
            <a:chOff x="2050920" y="2852640"/>
            <a:chExt cx="4457880" cy="2857680"/>
          </a:xfrm>
        </p:grpSpPr>
        <p:sp>
          <p:nvSpPr>
            <p:cNvPr id="123" name="Line 130"/>
            <p:cNvSpPr/>
            <p:nvPr/>
          </p:nvSpPr>
          <p:spPr>
            <a:xfrm flipV="1">
              <a:off x="2622240" y="3052800"/>
              <a:ext cx="0" cy="22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31"/>
            <p:cNvSpPr/>
            <p:nvPr/>
          </p:nvSpPr>
          <p:spPr>
            <a:xfrm>
              <a:off x="2622240" y="53154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32"/>
            <p:cNvSpPr/>
            <p:nvPr/>
          </p:nvSpPr>
          <p:spPr>
            <a:xfrm>
              <a:off x="2050920" y="2971800"/>
              <a:ext cx="457200" cy="35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33"/>
            <p:cNvSpPr/>
            <p:nvPr/>
          </p:nvSpPr>
          <p:spPr>
            <a:xfrm>
              <a:off x="3193920" y="5353560"/>
              <a:ext cx="571320" cy="35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34"/>
            <p:cNvSpPr/>
            <p:nvPr/>
          </p:nvSpPr>
          <p:spPr>
            <a:xfrm>
              <a:off x="4565520" y="5353560"/>
              <a:ext cx="571320" cy="35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35"/>
            <p:cNvSpPr/>
            <p:nvPr/>
          </p:nvSpPr>
          <p:spPr>
            <a:xfrm>
              <a:off x="5823000" y="5353560"/>
              <a:ext cx="457200" cy="35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36"/>
            <p:cNvSpPr/>
            <p:nvPr/>
          </p:nvSpPr>
          <p:spPr>
            <a:xfrm flipV="1">
              <a:off x="3422520" y="3566880"/>
              <a:ext cx="0" cy="17863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37"/>
            <p:cNvSpPr/>
            <p:nvPr/>
          </p:nvSpPr>
          <p:spPr>
            <a:xfrm flipH="1">
              <a:off x="2620440" y="356688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38"/>
            <p:cNvSpPr/>
            <p:nvPr/>
          </p:nvSpPr>
          <p:spPr>
            <a:xfrm>
              <a:off x="2620440" y="45194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39"/>
            <p:cNvSpPr/>
            <p:nvPr/>
          </p:nvSpPr>
          <p:spPr>
            <a:xfrm>
              <a:off x="4908600" y="4519440"/>
              <a:ext cx="0" cy="8337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40"/>
            <p:cNvSpPr/>
            <p:nvPr/>
          </p:nvSpPr>
          <p:spPr>
            <a:xfrm>
              <a:off x="3079440" y="3090600"/>
              <a:ext cx="2857680" cy="1786320"/>
            </a:xfrm>
            <a:custGeom>
              <a:avLst/>
              <a:gdLst/>
              <a:ahLst/>
              <a:rect l="l" t="t" r="r" b="b"/>
              <a:pathLst>
                <a:path w="4500" h="2700">
                  <a:moveTo>
                    <a:pt x="0" y="0"/>
                  </a:moveTo>
                  <a:cubicBezTo>
                    <a:pt x="30" y="180"/>
                    <a:pt x="60" y="360"/>
                    <a:pt x="540" y="720"/>
                  </a:cubicBezTo>
                  <a:cubicBezTo>
                    <a:pt x="1020" y="1080"/>
                    <a:pt x="2220" y="1830"/>
                    <a:pt x="2880" y="2160"/>
                  </a:cubicBezTo>
                  <a:cubicBezTo>
                    <a:pt x="3540" y="2490"/>
                    <a:pt x="4020" y="2595"/>
                    <a:pt x="4500" y="27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41"/>
            <p:cNvSpPr/>
            <p:nvPr/>
          </p:nvSpPr>
          <p:spPr>
            <a:xfrm>
              <a:off x="3193920" y="2852640"/>
              <a:ext cx="571320" cy="35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42"/>
            <p:cNvSpPr/>
            <p:nvPr/>
          </p:nvSpPr>
          <p:spPr>
            <a:xfrm>
              <a:off x="5937480" y="4638960"/>
              <a:ext cx="571320" cy="35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43"/>
            <p:cNvSpPr/>
            <p:nvPr/>
          </p:nvSpPr>
          <p:spPr>
            <a:xfrm>
              <a:off x="3422520" y="3210120"/>
              <a:ext cx="571320" cy="35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44"/>
            <p:cNvSpPr/>
            <p:nvPr/>
          </p:nvSpPr>
          <p:spPr>
            <a:xfrm>
              <a:off x="4908600" y="4162680"/>
              <a:ext cx="571320" cy="35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45"/>
            <p:cNvSpPr/>
            <p:nvPr/>
          </p:nvSpPr>
          <p:spPr>
            <a:xfrm>
              <a:off x="2050920" y="5353560"/>
              <a:ext cx="571320" cy="35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22000" y="1628280"/>
            <a:ext cx="81579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ЦЕНОВЫ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НЕЦЕН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Georgia"/>
              </a:rPr>
              <a:t>ФАКТОРЫ С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 rot="1500000">
            <a:off x="2627280" y="836640"/>
            <a:ext cx="101520" cy="865080"/>
          </a:xfrm>
          <a:prstGeom prst="downArrow">
            <a:avLst>
              <a:gd name="adj1" fmla="val 50000"/>
              <a:gd name="adj2" fmla="val 21303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 rot="20100000">
            <a:off x="5795640" y="836640"/>
            <a:ext cx="101520" cy="861840"/>
          </a:xfrm>
          <a:prstGeom prst="downArrow">
            <a:avLst>
              <a:gd name="adj1" fmla="val 50000"/>
              <a:gd name="adj2" fmla="val 21223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539640" y="2205000"/>
            <a:ext cx="316872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зменяется цена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≠ cons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4842000" y="2168640"/>
            <a:ext cx="3600360" cy="13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Цена не изменяетс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 =  cons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7"/>
          <p:cNvSpPr/>
          <p:nvPr/>
        </p:nvSpPr>
        <p:spPr>
          <a:xfrm>
            <a:off x="792000" y="5273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4302000" y="4689360"/>
            <a:ext cx="44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9"/>
          <p:cNvSpPr/>
          <p:nvPr/>
        </p:nvSpPr>
        <p:spPr>
          <a:xfrm>
            <a:off x="1916280" y="5273640"/>
            <a:ext cx="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30"/>
          <p:cNvGrpSpPr/>
          <p:nvPr/>
        </p:nvGrpSpPr>
        <p:grpSpPr>
          <a:xfrm>
            <a:off x="162000" y="3338640"/>
            <a:ext cx="3816360" cy="3000960"/>
            <a:chOff x="162000" y="3338640"/>
            <a:chExt cx="3816360" cy="3000960"/>
          </a:xfrm>
        </p:grpSpPr>
        <p:sp>
          <p:nvSpPr>
            <p:cNvPr id="149" name="Line 31"/>
            <p:cNvSpPr/>
            <p:nvPr/>
          </p:nvSpPr>
          <p:spPr>
            <a:xfrm>
              <a:off x="809640" y="6073560"/>
              <a:ext cx="25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2"/>
            <p:cNvSpPr/>
            <p:nvPr/>
          </p:nvSpPr>
          <p:spPr>
            <a:xfrm flipV="1">
              <a:off x="809640" y="3481200"/>
              <a:ext cx="0" cy="25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33"/>
            <p:cNvSpPr/>
            <p:nvPr/>
          </p:nvSpPr>
          <p:spPr>
            <a:xfrm>
              <a:off x="162000" y="34099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34"/>
            <p:cNvSpPr/>
            <p:nvPr/>
          </p:nvSpPr>
          <p:spPr>
            <a:xfrm>
              <a:off x="3402360" y="585792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35"/>
            <p:cNvSpPr/>
            <p:nvPr/>
          </p:nvSpPr>
          <p:spPr>
            <a:xfrm>
              <a:off x="378000" y="600228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rc 36"/>
            <p:cNvSpPr/>
            <p:nvPr/>
          </p:nvSpPr>
          <p:spPr>
            <a:xfrm rot="11044800">
              <a:off x="1169640" y="3769920"/>
              <a:ext cx="1982880" cy="1871280"/>
            </a:xfrm>
            <a:custGeom>
              <a:avLst/>
              <a:gdLst/>
              <a:ahLst/>
              <a:rect l="l" t="t" r="r" b="b"/>
              <a:pathLst>
                <a:path fill="none" w="22026" h="21600">
                  <a:moveTo>
                    <a:pt x="0" y="4"/>
                  </a:moveTo>
                  <a:cubicBezTo>
                    <a:pt x="141" y="1"/>
                    <a:pt x="283" y="-1"/>
                    <a:pt x="426" y="0"/>
                  </a:cubicBezTo>
                  <a:cubicBezTo>
                    <a:pt x="12355" y="0"/>
                    <a:pt x="22026" y="9670"/>
                    <a:pt x="22026" y="21600"/>
                  </a:cubicBezTo>
                </a:path>
                <a:path stroke="0" w="22026" h="21600">
                  <a:moveTo>
                    <a:pt x="0" y="4"/>
                  </a:moveTo>
                  <a:cubicBezTo>
                    <a:pt x="141" y="1"/>
                    <a:pt x="283" y="-1"/>
                    <a:pt x="426" y="0"/>
                  </a:cubicBezTo>
                  <a:cubicBezTo>
                    <a:pt x="12355" y="0"/>
                    <a:pt x="22026" y="9670"/>
                    <a:pt x="22026" y="21600"/>
                  </a:cubicBezTo>
                  <a:lnTo>
                    <a:pt x="426" y="2160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37"/>
            <p:cNvSpPr/>
            <p:nvPr/>
          </p:nvSpPr>
          <p:spPr>
            <a:xfrm>
              <a:off x="1314720" y="3338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38"/>
            <p:cNvSpPr/>
            <p:nvPr/>
          </p:nvSpPr>
          <p:spPr>
            <a:xfrm>
              <a:off x="3259440" y="52815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40"/>
          <p:cNvSpPr/>
          <p:nvPr/>
        </p:nvSpPr>
        <p:spPr>
          <a:xfrm>
            <a:off x="1781280" y="612936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1"/>
          <p:cNvSpPr/>
          <p:nvPr/>
        </p:nvSpPr>
        <p:spPr>
          <a:xfrm>
            <a:off x="206280" y="4103640"/>
            <a:ext cx="505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2"/>
          <p:cNvSpPr/>
          <p:nvPr/>
        </p:nvSpPr>
        <p:spPr>
          <a:xfrm>
            <a:off x="792000" y="428472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3"/>
          <p:cNvSpPr/>
          <p:nvPr/>
        </p:nvSpPr>
        <p:spPr>
          <a:xfrm>
            <a:off x="1285920" y="428472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4"/>
          <p:cNvSpPr/>
          <p:nvPr/>
        </p:nvSpPr>
        <p:spPr>
          <a:xfrm>
            <a:off x="871560" y="612936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5"/>
          <p:cNvSpPr/>
          <p:nvPr/>
        </p:nvSpPr>
        <p:spPr>
          <a:xfrm flipV="1">
            <a:off x="657360" y="4463640"/>
            <a:ext cx="0" cy="63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6"/>
          <p:cNvSpPr/>
          <p:nvPr/>
        </p:nvSpPr>
        <p:spPr>
          <a:xfrm flipH="1">
            <a:off x="1375920" y="635472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7"/>
          <p:cNvSpPr/>
          <p:nvPr/>
        </p:nvSpPr>
        <p:spPr>
          <a:xfrm>
            <a:off x="1692360" y="3473280"/>
            <a:ext cx="2340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Изменилась </a:t>
            </a: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Величина спроса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48"/>
          <p:cNvGrpSpPr/>
          <p:nvPr/>
        </p:nvGrpSpPr>
        <p:grpSpPr>
          <a:xfrm>
            <a:off x="4257720" y="3249720"/>
            <a:ext cx="3463560" cy="3000960"/>
            <a:chOff x="4257720" y="3249720"/>
            <a:chExt cx="3463560" cy="3000960"/>
          </a:xfrm>
        </p:grpSpPr>
        <p:sp>
          <p:nvSpPr>
            <p:cNvPr id="166" name="Line 49"/>
            <p:cNvSpPr/>
            <p:nvPr/>
          </p:nvSpPr>
          <p:spPr>
            <a:xfrm>
              <a:off x="4845240" y="5984640"/>
              <a:ext cx="228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50"/>
            <p:cNvSpPr/>
            <p:nvPr/>
          </p:nvSpPr>
          <p:spPr>
            <a:xfrm flipV="1">
              <a:off x="4845240" y="3392280"/>
              <a:ext cx="0" cy="25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4257720" y="3321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52"/>
            <p:cNvSpPr/>
            <p:nvPr/>
          </p:nvSpPr>
          <p:spPr>
            <a:xfrm>
              <a:off x="7198560" y="5769000"/>
              <a:ext cx="52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53"/>
            <p:cNvSpPr/>
            <p:nvPr/>
          </p:nvSpPr>
          <p:spPr>
            <a:xfrm>
              <a:off x="4453560" y="5913360"/>
              <a:ext cx="26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rc 54"/>
            <p:cNvSpPr/>
            <p:nvPr/>
          </p:nvSpPr>
          <p:spPr>
            <a:xfrm rot="11044800">
              <a:off x="5172120" y="3681000"/>
              <a:ext cx="1799640" cy="1871280"/>
            </a:xfrm>
            <a:custGeom>
              <a:avLst/>
              <a:gdLst/>
              <a:ahLst/>
              <a:rect l="l" t="t" r="r" b="b"/>
              <a:pathLst>
                <a:path fill="none" w="22026" h="21600">
                  <a:moveTo>
                    <a:pt x="0" y="4"/>
                  </a:moveTo>
                  <a:cubicBezTo>
                    <a:pt x="141" y="1"/>
                    <a:pt x="283" y="-1"/>
                    <a:pt x="426" y="0"/>
                  </a:cubicBezTo>
                  <a:cubicBezTo>
                    <a:pt x="12355" y="0"/>
                    <a:pt x="22026" y="9670"/>
                    <a:pt x="22026" y="21600"/>
                  </a:cubicBezTo>
                </a:path>
                <a:path stroke="0" w="22026" h="21600">
                  <a:moveTo>
                    <a:pt x="0" y="4"/>
                  </a:moveTo>
                  <a:cubicBezTo>
                    <a:pt x="141" y="1"/>
                    <a:pt x="283" y="-1"/>
                    <a:pt x="426" y="0"/>
                  </a:cubicBezTo>
                  <a:cubicBezTo>
                    <a:pt x="12355" y="0"/>
                    <a:pt x="22026" y="9670"/>
                    <a:pt x="22026" y="21600"/>
                  </a:cubicBezTo>
                  <a:lnTo>
                    <a:pt x="426" y="2160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5"/>
            <p:cNvSpPr/>
            <p:nvPr/>
          </p:nvSpPr>
          <p:spPr>
            <a:xfrm>
              <a:off x="5303880" y="3249720"/>
              <a:ext cx="39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56"/>
            <p:cNvSpPr/>
            <p:nvPr/>
          </p:nvSpPr>
          <p:spPr>
            <a:xfrm>
              <a:off x="7068960" y="5192640"/>
              <a:ext cx="39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Line 57"/>
          <p:cNvSpPr/>
          <p:nvPr/>
        </p:nvSpPr>
        <p:spPr>
          <a:xfrm>
            <a:off x="4842000" y="4869000"/>
            <a:ext cx="76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8"/>
          <p:cNvSpPr/>
          <p:nvPr/>
        </p:nvSpPr>
        <p:spPr>
          <a:xfrm>
            <a:off x="5562720" y="4869000"/>
            <a:ext cx="0" cy="112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9"/>
          <p:cNvSpPr/>
          <p:nvPr/>
        </p:nvSpPr>
        <p:spPr>
          <a:xfrm>
            <a:off x="5067360" y="612936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0"/>
          <p:cNvSpPr/>
          <p:nvPr/>
        </p:nvSpPr>
        <p:spPr>
          <a:xfrm>
            <a:off x="5607000" y="6173640"/>
            <a:ext cx="674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1"/>
          <p:cNvSpPr/>
          <p:nvPr/>
        </p:nvSpPr>
        <p:spPr>
          <a:xfrm>
            <a:off x="6372360" y="608472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2"/>
          <p:cNvSpPr/>
          <p:nvPr/>
        </p:nvSpPr>
        <p:spPr>
          <a:xfrm flipV="1">
            <a:off x="6416640" y="4869000"/>
            <a:ext cx="0" cy="112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3"/>
          <p:cNvSpPr/>
          <p:nvPr/>
        </p:nvSpPr>
        <p:spPr>
          <a:xfrm flipH="1">
            <a:off x="5562720" y="4869000"/>
            <a:ext cx="853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65"/>
          <p:cNvSpPr/>
          <p:nvPr/>
        </p:nvSpPr>
        <p:spPr>
          <a:xfrm rot="10800000">
            <a:off x="5967360" y="3563640"/>
            <a:ext cx="1733760" cy="1888920"/>
          </a:xfrm>
          <a:custGeom>
            <a:avLst/>
            <a:gdLst/>
            <a:ahLst/>
            <a:rect l="l" t="t" r="r" b="b"/>
            <a:pathLst>
              <a:path fill="none" w="22220" h="21600">
                <a:moveTo>
                  <a:pt x="-1" y="8"/>
                </a:moveTo>
                <a:cubicBezTo>
                  <a:pt x="206" y="2"/>
                  <a:pt x="413" y="-1"/>
                  <a:pt x="620" y="0"/>
                </a:cubicBezTo>
                <a:cubicBezTo>
                  <a:pt x="12549" y="0"/>
                  <a:pt x="22220" y="9670"/>
                  <a:pt x="22220" y="21600"/>
                </a:cubicBezTo>
              </a:path>
              <a:path stroke="0" w="22220" h="21600">
                <a:moveTo>
                  <a:pt x="-1" y="8"/>
                </a:moveTo>
                <a:cubicBezTo>
                  <a:pt x="206" y="2"/>
                  <a:pt x="413" y="-1"/>
                  <a:pt x="620" y="0"/>
                </a:cubicBezTo>
                <a:cubicBezTo>
                  <a:pt x="12549" y="0"/>
                  <a:pt x="22220" y="9670"/>
                  <a:pt x="22220" y="21600"/>
                </a:cubicBezTo>
                <a:lnTo>
                  <a:pt x="620" y="21600"/>
                </a:lnTo>
                <a:lnTo>
                  <a:pt x="-1" y="8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6"/>
          <p:cNvSpPr/>
          <p:nvPr/>
        </p:nvSpPr>
        <p:spPr>
          <a:xfrm>
            <a:off x="6058080" y="320364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7"/>
          <p:cNvSpPr/>
          <p:nvPr/>
        </p:nvSpPr>
        <p:spPr>
          <a:xfrm>
            <a:off x="7721640" y="518472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8"/>
          <p:cNvSpPr/>
          <p:nvPr/>
        </p:nvSpPr>
        <p:spPr>
          <a:xfrm>
            <a:off x="162000" y="509436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9"/>
          <p:cNvSpPr/>
          <p:nvPr/>
        </p:nvSpPr>
        <p:spPr>
          <a:xfrm>
            <a:off x="6867360" y="3519360"/>
            <a:ext cx="1845000" cy="11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Изменилс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(увеличился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спрос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0"/>
          <p:cNvSpPr/>
          <p:nvPr/>
        </p:nvSpPr>
        <p:spPr>
          <a:xfrm>
            <a:off x="5337000" y="405936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1"/>
          <p:cNvSpPr/>
          <p:nvPr/>
        </p:nvSpPr>
        <p:spPr>
          <a:xfrm>
            <a:off x="5562720" y="450864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2"/>
          <p:cNvSpPr/>
          <p:nvPr/>
        </p:nvSpPr>
        <p:spPr>
          <a:xfrm>
            <a:off x="6237360" y="531972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3"/>
          <p:cNvSpPr/>
          <p:nvPr/>
        </p:nvSpPr>
        <p:spPr>
          <a:xfrm flipH="1" flipV="1">
            <a:off x="1467000" y="4329000"/>
            <a:ext cx="450720" cy="67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76280" y="1493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едпочтения покупателей (мод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оличество покупа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зменение дохода покупа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жидание изменения цен в будущ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Цены на взаимосвязанные това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Georgia"/>
              </a:rPr>
              <a:t>Неценовые факторы с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76280" y="458640"/>
            <a:ext cx="82296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Georgia"/>
              </a:rPr>
              <a:t>Цены на взаимосвязанные тов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3164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овары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мен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овары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ополн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6"/>
          <p:cNvGrpSpPr/>
          <p:nvPr/>
        </p:nvGrpSpPr>
        <p:grpSpPr>
          <a:xfrm>
            <a:off x="2816280" y="1089000"/>
            <a:ext cx="5626080" cy="2789280"/>
            <a:chOff x="2816280" y="1089000"/>
            <a:chExt cx="5626080" cy="2789280"/>
          </a:xfrm>
        </p:grpSpPr>
        <p:sp>
          <p:nvSpPr>
            <p:cNvPr id="195" name="Text Box 7"/>
            <p:cNvSpPr/>
            <p:nvPr/>
          </p:nvSpPr>
          <p:spPr>
            <a:xfrm>
              <a:off x="6014520" y="1119600"/>
              <a:ext cx="455040" cy="30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8"/>
            <p:cNvSpPr/>
            <p:nvPr/>
          </p:nvSpPr>
          <p:spPr>
            <a:xfrm>
              <a:off x="7645680" y="2700360"/>
              <a:ext cx="455040" cy="30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3776400" y="3041280"/>
              <a:ext cx="417240" cy="27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0"/>
            <p:cNvSpPr/>
            <p:nvPr/>
          </p:nvSpPr>
          <p:spPr>
            <a:xfrm>
              <a:off x="3321360" y="3041280"/>
              <a:ext cx="417240" cy="27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1"/>
            <p:cNvSpPr/>
            <p:nvPr/>
          </p:nvSpPr>
          <p:spPr>
            <a:xfrm>
              <a:off x="6811200" y="3041280"/>
              <a:ext cx="417240" cy="27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2"/>
            <p:cNvSpPr/>
            <p:nvPr/>
          </p:nvSpPr>
          <p:spPr>
            <a:xfrm>
              <a:off x="6204240" y="3041280"/>
              <a:ext cx="416880" cy="27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3"/>
            <p:cNvSpPr/>
            <p:nvPr/>
          </p:nvSpPr>
          <p:spPr>
            <a:xfrm>
              <a:off x="2828160" y="1771200"/>
              <a:ext cx="391320" cy="27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4"/>
            <p:cNvSpPr/>
            <p:nvPr/>
          </p:nvSpPr>
          <p:spPr>
            <a:xfrm>
              <a:off x="2828160" y="2298240"/>
              <a:ext cx="391320" cy="27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5"/>
            <p:cNvSpPr/>
            <p:nvPr/>
          </p:nvSpPr>
          <p:spPr>
            <a:xfrm>
              <a:off x="4838760" y="3041280"/>
              <a:ext cx="417240" cy="27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6"/>
            <p:cNvSpPr/>
            <p:nvPr/>
          </p:nvSpPr>
          <p:spPr>
            <a:xfrm>
              <a:off x="2816280" y="1212840"/>
              <a:ext cx="391320" cy="27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7"/>
            <p:cNvSpPr/>
            <p:nvPr/>
          </p:nvSpPr>
          <p:spPr>
            <a:xfrm>
              <a:off x="3199320" y="1293840"/>
              <a:ext cx="360" cy="176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8"/>
            <p:cNvSpPr/>
            <p:nvPr/>
          </p:nvSpPr>
          <p:spPr>
            <a:xfrm>
              <a:off x="3199320" y="3056040"/>
              <a:ext cx="191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9"/>
            <p:cNvSpPr/>
            <p:nvPr/>
          </p:nvSpPr>
          <p:spPr>
            <a:xfrm>
              <a:off x="3384360" y="1398600"/>
              <a:ext cx="1643760" cy="1425600"/>
            </a:xfrm>
            <a:custGeom>
              <a:avLst/>
              <a:gdLst/>
              <a:ahLst/>
              <a:rect l="l" t="t" r="r" b="b"/>
              <a:pathLst>
                <a:path w="2470" h="2622">
                  <a:moveTo>
                    <a:pt x="19" y="0"/>
                  </a:moveTo>
                  <a:cubicBezTo>
                    <a:pt x="9" y="195"/>
                    <a:pt x="0" y="390"/>
                    <a:pt x="76" y="627"/>
                  </a:cubicBezTo>
                  <a:cubicBezTo>
                    <a:pt x="152" y="864"/>
                    <a:pt x="276" y="1169"/>
                    <a:pt x="475" y="1425"/>
                  </a:cubicBezTo>
                  <a:cubicBezTo>
                    <a:pt x="674" y="1681"/>
                    <a:pt x="941" y="1967"/>
                    <a:pt x="1273" y="2166"/>
                  </a:cubicBezTo>
                  <a:cubicBezTo>
                    <a:pt x="1605" y="2365"/>
                    <a:pt x="2037" y="2493"/>
                    <a:pt x="2470" y="262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20"/>
            <p:cNvGrpSpPr/>
            <p:nvPr/>
          </p:nvGrpSpPr>
          <p:grpSpPr>
            <a:xfrm>
              <a:off x="5509440" y="1212840"/>
              <a:ext cx="2439720" cy="2107080"/>
              <a:chOff x="5509440" y="1212840"/>
              <a:chExt cx="2439720" cy="2107080"/>
            </a:xfrm>
          </p:grpSpPr>
          <p:sp>
            <p:nvSpPr>
              <p:cNvPr id="209" name="Text Box 21"/>
              <p:cNvSpPr/>
              <p:nvPr/>
            </p:nvSpPr>
            <p:spPr>
              <a:xfrm>
                <a:off x="7531920" y="3041280"/>
                <a:ext cx="417240" cy="27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22"/>
              <p:cNvSpPr/>
              <p:nvPr/>
            </p:nvSpPr>
            <p:spPr>
              <a:xfrm>
                <a:off x="5509440" y="1212840"/>
                <a:ext cx="391320" cy="27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Р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23"/>
              <p:cNvSpPr/>
              <p:nvPr/>
            </p:nvSpPr>
            <p:spPr>
              <a:xfrm>
                <a:off x="5892480" y="1293840"/>
                <a:ext cx="360" cy="176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24"/>
              <p:cNvSpPr/>
              <p:nvPr/>
            </p:nvSpPr>
            <p:spPr>
              <a:xfrm>
                <a:off x="5892480" y="3056040"/>
                <a:ext cx="191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5"/>
              <p:cNvSpPr/>
              <p:nvPr/>
            </p:nvSpPr>
            <p:spPr>
              <a:xfrm>
                <a:off x="6077520" y="1398600"/>
                <a:ext cx="1643760" cy="1425600"/>
              </a:xfrm>
              <a:custGeom>
                <a:avLst/>
                <a:gdLst/>
                <a:ahLst/>
                <a:rect l="l" t="t" r="r" b="b"/>
                <a:pathLst>
                  <a:path w="2470" h="2622">
                    <a:moveTo>
                      <a:pt x="19" y="0"/>
                    </a:moveTo>
                    <a:cubicBezTo>
                      <a:pt x="9" y="195"/>
                      <a:pt x="0" y="390"/>
                      <a:pt x="76" y="627"/>
                    </a:cubicBezTo>
                    <a:cubicBezTo>
                      <a:pt x="152" y="864"/>
                      <a:pt x="276" y="1169"/>
                      <a:pt x="475" y="1425"/>
                    </a:cubicBezTo>
                    <a:cubicBezTo>
                      <a:pt x="674" y="1681"/>
                      <a:pt x="941" y="1967"/>
                      <a:pt x="1273" y="2166"/>
                    </a:cubicBezTo>
                    <a:cubicBezTo>
                      <a:pt x="1605" y="2365"/>
                      <a:pt x="2037" y="2493"/>
                      <a:pt x="2470" y="26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Text Box 26"/>
            <p:cNvSpPr/>
            <p:nvPr/>
          </p:nvSpPr>
          <p:spPr>
            <a:xfrm>
              <a:off x="5331600" y="2049480"/>
              <a:ext cx="391320" cy="27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7"/>
            <p:cNvSpPr/>
            <p:nvPr/>
          </p:nvSpPr>
          <p:spPr>
            <a:xfrm>
              <a:off x="3207600" y="1894680"/>
              <a:ext cx="303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28"/>
            <p:cNvSpPr/>
            <p:nvPr/>
          </p:nvSpPr>
          <p:spPr>
            <a:xfrm>
              <a:off x="3207600" y="2421720"/>
              <a:ext cx="758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9"/>
            <p:cNvSpPr/>
            <p:nvPr/>
          </p:nvSpPr>
          <p:spPr>
            <a:xfrm>
              <a:off x="5900760" y="2173680"/>
              <a:ext cx="102384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30"/>
            <p:cNvSpPr/>
            <p:nvPr/>
          </p:nvSpPr>
          <p:spPr>
            <a:xfrm>
              <a:off x="3510720" y="1894680"/>
              <a:ext cx="0" cy="1146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31"/>
            <p:cNvSpPr/>
            <p:nvPr/>
          </p:nvSpPr>
          <p:spPr>
            <a:xfrm>
              <a:off x="3966120" y="2421720"/>
              <a:ext cx="0" cy="619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32"/>
            <p:cNvSpPr/>
            <p:nvPr/>
          </p:nvSpPr>
          <p:spPr>
            <a:xfrm>
              <a:off x="6393960" y="2173680"/>
              <a:ext cx="0" cy="867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3"/>
            <p:cNvSpPr/>
            <p:nvPr/>
          </p:nvSpPr>
          <p:spPr>
            <a:xfrm>
              <a:off x="6583680" y="1398600"/>
              <a:ext cx="1454040" cy="1270800"/>
            </a:xfrm>
            <a:custGeom>
              <a:avLst/>
              <a:gdLst/>
              <a:ahLst/>
              <a:rect l="l" t="t" r="r" b="b"/>
              <a:pathLst>
                <a:path w="2470" h="2622">
                  <a:moveTo>
                    <a:pt x="19" y="0"/>
                  </a:moveTo>
                  <a:cubicBezTo>
                    <a:pt x="9" y="195"/>
                    <a:pt x="0" y="390"/>
                    <a:pt x="76" y="627"/>
                  </a:cubicBezTo>
                  <a:cubicBezTo>
                    <a:pt x="152" y="864"/>
                    <a:pt x="276" y="1169"/>
                    <a:pt x="475" y="1425"/>
                  </a:cubicBezTo>
                  <a:cubicBezTo>
                    <a:pt x="674" y="1681"/>
                    <a:pt x="941" y="1967"/>
                    <a:pt x="1273" y="2166"/>
                  </a:cubicBezTo>
                  <a:cubicBezTo>
                    <a:pt x="1605" y="2365"/>
                    <a:pt x="2037" y="2493"/>
                    <a:pt x="2470" y="262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34"/>
            <p:cNvSpPr/>
            <p:nvPr/>
          </p:nvSpPr>
          <p:spPr>
            <a:xfrm flipV="1">
              <a:off x="3131640" y="1987200"/>
              <a:ext cx="0" cy="37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5"/>
            <p:cNvSpPr/>
            <p:nvPr/>
          </p:nvSpPr>
          <p:spPr>
            <a:xfrm>
              <a:off x="6469920" y="2948400"/>
              <a:ext cx="41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6"/>
            <p:cNvSpPr/>
            <p:nvPr/>
          </p:nvSpPr>
          <p:spPr>
            <a:xfrm flipH="1">
              <a:off x="3586320" y="2948400"/>
              <a:ext cx="30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6963120" y="2173680"/>
              <a:ext cx="0" cy="867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8"/>
            <p:cNvSpPr/>
            <p:nvPr/>
          </p:nvSpPr>
          <p:spPr>
            <a:xfrm>
              <a:off x="3510720" y="1089000"/>
              <a:ext cx="1137960" cy="34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39"/>
            <p:cNvSpPr/>
            <p:nvPr/>
          </p:nvSpPr>
          <p:spPr>
            <a:xfrm>
              <a:off x="6735600" y="1089000"/>
              <a:ext cx="1137960" cy="34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280200" y="186372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7152480" y="2607480"/>
              <a:ext cx="41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42"/>
            <p:cNvSpPr/>
            <p:nvPr/>
          </p:nvSpPr>
          <p:spPr>
            <a:xfrm>
              <a:off x="6621480" y="1305720"/>
              <a:ext cx="455040" cy="30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3"/>
            <p:cNvSpPr/>
            <p:nvPr/>
          </p:nvSpPr>
          <p:spPr>
            <a:xfrm>
              <a:off x="7987320" y="2390760"/>
              <a:ext cx="45504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4"/>
            <p:cNvSpPr/>
            <p:nvPr/>
          </p:nvSpPr>
          <p:spPr>
            <a:xfrm>
              <a:off x="3207600" y="3444480"/>
              <a:ext cx="4855320" cy="43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46"/>
          <p:cNvGrpSpPr/>
          <p:nvPr/>
        </p:nvGrpSpPr>
        <p:grpSpPr>
          <a:xfrm>
            <a:off x="2771640" y="3654360"/>
            <a:ext cx="5760720" cy="3014280"/>
            <a:chOff x="2771640" y="3654360"/>
            <a:chExt cx="5760720" cy="3014280"/>
          </a:xfrm>
        </p:grpSpPr>
        <p:sp>
          <p:nvSpPr>
            <p:cNvPr id="234" name="Text Box 47"/>
            <p:cNvSpPr/>
            <p:nvPr/>
          </p:nvSpPr>
          <p:spPr>
            <a:xfrm>
              <a:off x="6046560" y="3687480"/>
              <a:ext cx="46584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48"/>
            <p:cNvSpPr/>
            <p:nvPr/>
          </p:nvSpPr>
          <p:spPr>
            <a:xfrm>
              <a:off x="7716960" y="5396040"/>
              <a:ext cx="46584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49"/>
            <p:cNvSpPr/>
            <p:nvPr/>
          </p:nvSpPr>
          <p:spPr>
            <a:xfrm>
              <a:off x="3754800" y="5764680"/>
              <a:ext cx="42696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50"/>
            <p:cNvSpPr/>
            <p:nvPr/>
          </p:nvSpPr>
          <p:spPr>
            <a:xfrm>
              <a:off x="3288600" y="5764680"/>
              <a:ext cx="42696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51"/>
            <p:cNvSpPr/>
            <p:nvPr/>
          </p:nvSpPr>
          <p:spPr>
            <a:xfrm>
              <a:off x="6862320" y="5764680"/>
              <a:ext cx="42696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52"/>
            <p:cNvSpPr/>
            <p:nvPr/>
          </p:nvSpPr>
          <p:spPr>
            <a:xfrm>
              <a:off x="6240960" y="5764680"/>
              <a:ext cx="42696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3"/>
            <p:cNvSpPr/>
            <p:nvPr/>
          </p:nvSpPr>
          <p:spPr>
            <a:xfrm>
              <a:off x="2783520" y="4391640"/>
              <a:ext cx="400680" cy="30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54"/>
            <p:cNvSpPr/>
            <p:nvPr/>
          </p:nvSpPr>
          <p:spPr>
            <a:xfrm>
              <a:off x="2783520" y="4961160"/>
              <a:ext cx="400680" cy="30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55"/>
            <p:cNvSpPr/>
            <p:nvPr/>
          </p:nvSpPr>
          <p:spPr>
            <a:xfrm>
              <a:off x="4842360" y="5764680"/>
              <a:ext cx="42696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56"/>
            <p:cNvSpPr/>
            <p:nvPr/>
          </p:nvSpPr>
          <p:spPr>
            <a:xfrm>
              <a:off x="2771640" y="3788280"/>
              <a:ext cx="400680" cy="30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57"/>
            <p:cNvSpPr/>
            <p:nvPr/>
          </p:nvSpPr>
          <p:spPr>
            <a:xfrm>
              <a:off x="3164040" y="3875760"/>
              <a:ext cx="360" cy="19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58"/>
            <p:cNvSpPr/>
            <p:nvPr/>
          </p:nvSpPr>
          <p:spPr>
            <a:xfrm>
              <a:off x="3164040" y="5780520"/>
              <a:ext cx="19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59"/>
            <p:cNvSpPr/>
            <p:nvPr/>
          </p:nvSpPr>
          <p:spPr>
            <a:xfrm>
              <a:off x="3353400" y="3989160"/>
              <a:ext cx="1683000" cy="1540800"/>
            </a:xfrm>
            <a:custGeom>
              <a:avLst/>
              <a:gdLst/>
              <a:ahLst/>
              <a:rect l="l" t="t" r="r" b="b"/>
              <a:pathLst>
                <a:path w="2470" h="2622">
                  <a:moveTo>
                    <a:pt x="19" y="0"/>
                  </a:moveTo>
                  <a:cubicBezTo>
                    <a:pt x="9" y="195"/>
                    <a:pt x="0" y="390"/>
                    <a:pt x="76" y="627"/>
                  </a:cubicBezTo>
                  <a:cubicBezTo>
                    <a:pt x="152" y="864"/>
                    <a:pt x="276" y="1169"/>
                    <a:pt x="475" y="1425"/>
                  </a:cubicBezTo>
                  <a:cubicBezTo>
                    <a:pt x="674" y="1681"/>
                    <a:pt x="941" y="1967"/>
                    <a:pt x="1273" y="2166"/>
                  </a:cubicBezTo>
                  <a:cubicBezTo>
                    <a:pt x="1605" y="2365"/>
                    <a:pt x="2037" y="2493"/>
                    <a:pt x="2470" y="262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60"/>
            <p:cNvGrpSpPr/>
            <p:nvPr/>
          </p:nvGrpSpPr>
          <p:grpSpPr>
            <a:xfrm>
              <a:off x="5529600" y="3788280"/>
              <a:ext cx="2497680" cy="2277720"/>
              <a:chOff x="5529600" y="3788280"/>
              <a:chExt cx="2497680" cy="2277720"/>
            </a:xfrm>
          </p:grpSpPr>
          <p:sp>
            <p:nvSpPr>
              <p:cNvPr id="248" name="Text Box 61"/>
              <p:cNvSpPr/>
              <p:nvPr/>
            </p:nvSpPr>
            <p:spPr>
              <a:xfrm>
                <a:off x="7600320" y="5764680"/>
                <a:ext cx="426960" cy="301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62"/>
              <p:cNvSpPr/>
              <p:nvPr/>
            </p:nvSpPr>
            <p:spPr>
              <a:xfrm>
                <a:off x="5529600" y="3788280"/>
                <a:ext cx="400680" cy="30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Р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63"/>
              <p:cNvSpPr/>
              <p:nvPr/>
            </p:nvSpPr>
            <p:spPr>
              <a:xfrm>
                <a:off x="5922000" y="3875760"/>
                <a:ext cx="360" cy="19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64"/>
              <p:cNvSpPr/>
              <p:nvPr/>
            </p:nvSpPr>
            <p:spPr>
              <a:xfrm>
                <a:off x="5922000" y="5780520"/>
                <a:ext cx="196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65"/>
              <p:cNvSpPr/>
              <p:nvPr/>
            </p:nvSpPr>
            <p:spPr>
              <a:xfrm>
                <a:off x="6111360" y="3989160"/>
                <a:ext cx="1683000" cy="1540800"/>
              </a:xfrm>
              <a:custGeom>
                <a:avLst/>
                <a:gdLst/>
                <a:ahLst/>
                <a:rect l="l" t="t" r="r" b="b"/>
                <a:pathLst>
                  <a:path w="2470" h="2622">
                    <a:moveTo>
                      <a:pt x="19" y="0"/>
                    </a:moveTo>
                    <a:cubicBezTo>
                      <a:pt x="9" y="195"/>
                      <a:pt x="0" y="390"/>
                      <a:pt x="76" y="627"/>
                    </a:cubicBezTo>
                    <a:cubicBezTo>
                      <a:pt x="152" y="864"/>
                      <a:pt x="276" y="1169"/>
                      <a:pt x="475" y="1425"/>
                    </a:cubicBezTo>
                    <a:cubicBezTo>
                      <a:pt x="674" y="1681"/>
                      <a:pt x="941" y="1967"/>
                      <a:pt x="1273" y="2166"/>
                    </a:cubicBezTo>
                    <a:cubicBezTo>
                      <a:pt x="1605" y="2365"/>
                      <a:pt x="2037" y="2493"/>
                      <a:pt x="2470" y="26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Text Box 66"/>
            <p:cNvSpPr/>
            <p:nvPr/>
          </p:nvSpPr>
          <p:spPr>
            <a:xfrm>
              <a:off x="5347440" y="4692600"/>
              <a:ext cx="400680" cy="30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67"/>
            <p:cNvSpPr/>
            <p:nvPr/>
          </p:nvSpPr>
          <p:spPr>
            <a:xfrm>
              <a:off x="3172320" y="4525200"/>
              <a:ext cx="310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68"/>
            <p:cNvSpPr/>
            <p:nvPr/>
          </p:nvSpPr>
          <p:spPr>
            <a:xfrm>
              <a:off x="3172320" y="5094720"/>
              <a:ext cx="776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69"/>
            <p:cNvSpPr/>
            <p:nvPr/>
          </p:nvSpPr>
          <p:spPr>
            <a:xfrm>
              <a:off x="5930280" y="4826520"/>
              <a:ext cx="104868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70"/>
            <p:cNvSpPr/>
            <p:nvPr/>
          </p:nvSpPr>
          <p:spPr>
            <a:xfrm>
              <a:off x="3483000" y="4525200"/>
              <a:ext cx="0" cy="1239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71"/>
            <p:cNvSpPr/>
            <p:nvPr/>
          </p:nvSpPr>
          <p:spPr>
            <a:xfrm>
              <a:off x="3949200" y="5094720"/>
              <a:ext cx="0" cy="66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72"/>
            <p:cNvSpPr/>
            <p:nvPr/>
          </p:nvSpPr>
          <p:spPr>
            <a:xfrm>
              <a:off x="6435000" y="4826520"/>
              <a:ext cx="0" cy="937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73"/>
            <p:cNvSpPr/>
            <p:nvPr/>
          </p:nvSpPr>
          <p:spPr>
            <a:xfrm>
              <a:off x="6629400" y="3989160"/>
              <a:ext cx="1488960" cy="1373400"/>
            </a:xfrm>
            <a:custGeom>
              <a:avLst/>
              <a:gdLst/>
              <a:ahLst/>
              <a:rect l="l" t="t" r="r" b="b"/>
              <a:pathLst>
                <a:path w="2470" h="2622">
                  <a:moveTo>
                    <a:pt x="19" y="0"/>
                  </a:moveTo>
                  <a:cubicBezTo>
                    <a:pt x="9" y="195"/>
                    <a:pt x="0" y="390"/>
                    <a:pt x="76" y="627"/>
                  </a:cubicBezTo>
                  <a:cubicBezTo>
                    <a:pt x="152" y="864"/>
                    <a:pt x="276" y="1169"/>
                    <a:pt x="475" y="1425"/>
                  </a:cubicBezTo>
                  <a:cubicBezTo>
                    <a:pt x="674" y="1681"/>
                    <a:pt x="941" y="1967"/>
                    <a:pt x="1273" y="2166"/>
                  </a:cubicBezTo>
                  <a:cubicBezTo>
                    <a:pt x="1605" y="2365"/>
                    <a:pt x="2037" y="2493"/>
                    <a:pt x="2470" y="262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74"/>
            <p:cNvSpPr/>
            <p:nvPr/>
          </p:nvSpPr>
          <p:spPr>
            <a:xfrm flipV="1">
              <a:off x="3094560" y="4625640"/>
              <a:ext cx="0" cy="40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75"/>
            <p:cNvSpPr/>
            <p:nvPr/>
          </p:nvSpPr>
          <p:spPr>
            <a:xfrm>
              <a:off x="6512760" y="5663880"/>
              <a:ext cx="42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76"/>
            <p:cNvSpPr/>
            <p:nvPr/>
          </p:nvSpPr>
          <p:spPr>
            <a:xfrm flipH="1">
              <a:off x="3560040" y="5663880"/>
              <a:ext cx="31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77"/>
            <p:cNvSpPr/>
            <p:nvPr/>
          </p:nvSpPr>
          <p:spPr>
            <a:xfrm>
              <a:off x="7017840" y="4826520"/>
              <a:ext cx="0" cy="937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78"/>
            <p:cNvSpPr/>
            <p:nvPr/>
          </p:nvSpPr>
          <p:spPr>
            <a:xfrm>
              <a:off x="3483000" y="3654360"/>
              <a:ext cx="1165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79"/>
            <p:cNvSpPr/>
            <p:nvPr/>
          </p:nvSpPr>
          <p:spPr>
            <a:xfrm>
              <a:off x="6784920" y="3654360"/>
              <a:ext cx="1164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80"/>
            <p:cNvSpPr/>
            <p:nvPr/>
          </p:nvSpPr>
          <p:spPr>
            <a:xfrm>
              <a:off x="6318720" y="4491720"/>
              <a:ext cx="34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81"/>
            <p:cNvSpPr/>
            <p:nvPr/>
          </p:nvSpPr>
          <p:spPr>
            <a:xfrm>
              <a:off x="7211880" y="5295600"/>
              <a:ext cx="42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82"/>
            <p:cNvSpPr/>
            <p:nvPr/>
          </p:nvSpPr>
          <p:spPr>
            <a:xfrm>
              <a:off x="6668280" y="3888720"/>
              <a:ext cx="46620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83"/>
            <p:cNvSpPr/>
            <p:nvPr/>
          </p:nvSpPr>
          <p:spPr>
            <a:xfrm>
              <a:off x="8066520" y="5061240"/>
              <a:ext cx="46584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84"/>
            <p:cNvSpPr/>
            <p:nvPr/>
          </p:nvSpPr>
          <p:spPr>
            <a:xfrm>
              <a:off x="3172320" y="6199920"/>
              <a:ext cx="4971960" cy="46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6280" y="27900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97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250920" y="290520"/>
            <a:ext cx="8686800" cy="69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каких случаях слово “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прос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” должно быть заменено словами “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еличина спрос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”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) В результате снижения цен на цветы спрос на них увеличился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) Потребительские доходы снизятся, следовательно,  спрос на ювелирные изделия уменьшится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) В результате повышения стоимости стрижки волос спрос на услуги парикмахера упал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г) Цена на белый хлеб выросла, и из-за этого возрос спрос на черный хлеб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) Зима закончилась, поэтому спрос на зимние сапоги снизился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е) Цена на электроэнергию возрастает, поэтому население стало экономнее её использовать, т.е. спрос  уменьшается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ж) Цена на горные лыжи повысилась, из-за этого снизился спрос на лыжные ботинки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з) Население ожидает роста цен на холодильники, поэтому спрос на них повысился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1000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76280" y="4582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аких случаях слово “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ро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” должно быть заменено словами “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личина спрос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и увеличении цены на яблоки спрос на них меняетс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2. Спрос на мебель снизился, т.к. изменились доходы потребите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3. При увеличении спроса кривая спроса может сдвинуться ввер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4. Величина спроса от цены не зависи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5. Если изменяется цена на мотоциклы, то изменяется и величина спроса на мотороллер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6. При увеличении рождаемости скорее всего возрастет спрос на коляс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7. Спрос на мороженное летом выше, чем зим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8. Величина спроса на кроссовки увеличивается, если цена на них раст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484360" y="1828800"/>
            <a:ext cx="65073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Итоги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23:37:22Z</dcterms:created>
  <dc:creator>Света</dc:creator>
  <dc:description/>
  <dc:language>en-US</dc:language>
  <cp:lastModifiedBy>Язвенко</cp:lastModifiedBy>
  <dcterms:modified xsi:type="dcterms:W3CDTF">2019-02-08T09:03:39Z</dcterms:modified>
  <cp:revision>32</cp:revision>
  <dc:subject/>
  <dc:title>Задача на расчёт всех видов издержек и определение  эффективности деятельности фирмы.</dc:title>
</cp:coreProperties>
</file>