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82B-AD0B-4286-8EFC-B69215E640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866D-18A5-4839-B427-F90358E56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864-611C-4472-8FE4-A2D040C9D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FB1-9E7B-4F1F-9DC3-2D5AA41CF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606-B5D8-41B7-A083-E949167D1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1FB-01B5-4CDE-8BC4-EB01B4956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1DF-30F0-4DF6-BC20-8D77C1B2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ECE-8D23-4825-B2F7-2A6F0B825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903-8775-4807-804A-760FFA134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DD25-9121-49C3-AC61-085DC4CF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AE1D-3E4D-4CB0-8ED5-1D2D4842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EBC8-48C4-4768-9FE7-630AA93A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9267-8BDB-4036-96CD-82C5FAA7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B02-2422-4663-AEC7-F4366C87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B552-9136-43D8-AFAD-A2ECC6A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BD54-ABCF-4CEA-8B37-A8734794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009E-A916-4266-9FC2-EF62B3C5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CCC4-C663-4214-AB17-B1F07D8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C0A6-26E6-4F90-B22D-B37289B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CBC-286D-4ED8-BD6B-AF595FE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2841-8D6D-47E1-8E17-E464113C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7B53-1470-4712-BAB5-5DFD6AB9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CA9-BEF7-47F1-90C7-D8A12AE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338-0716-4C43-8AAE-1C382CE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631-6154-4886-B5C6-DF57752C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6A6-E549-40D4-9B61-ACDA23E6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3D24-7B27-47EA-9E78-CF2A23B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0A36-D6E1-4115-9C3E-2BA4EC5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84A4-0245-444E-8FEA-98403EF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001E-45EC-4B80-9877-F80D16FB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B59F-0D78-4361-85BE-EBD393C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58F9-0E83-4D6B-86C7-8801E3A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D159-28AF-4BA0-A569-EB8FE7E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3D33-404A-4A9C-8CD7-65AE04BB5A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E26-8B36-4454-AE51-4C6DABA710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ФАКТОРЫ С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Georgia"/>
              </a:rPr>
              <a:t>Что нужно знать для урока?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оотнесите экономические понятия и их опреде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197000"/>
          <a:ext cx="8147160" cy="5524560"/>
        </p:xfrm>
        <a:graphic>
          <a:graphicData uri="http://schemas.openxmlformats.org/drawingml/2006/table">
            <a:tbl>
              <a:tblPr/>
              <a:tblGrid>
                <a:gridCol w="3251160"/>
                <a:gridCol w="4896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Закон спрос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Зависимость между количеством товара, которое покупатели хотят и могут купить и ценами на этот товар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Совокупный (общий) спрос всех покупателей на рынк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Индивидуальный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Количество товара, которое покупатели хотят и могут купить при определенной цене за определенное врем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Рыночный спрос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Спрос одного покупателя на рынк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Величина спрос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Обратная зависимость между количеством товара и ценами на этот товар (при прочих равных условиях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907920"/>
          <a:ext cx="8229600" cy="1879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личина спро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личество товара, которое покупатели хотят и могут купить при определенной цене за определенное врем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ро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висимость между количеством товара, которое покупатели хотят и могут купить и ценами на этот товар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7"/>
          <p:cNvSpPr/>
          <p:nvPr/>
        </p:nvSpPr>
        <p:spPr>
          <a:xfrm>
            <a:off x="1763640" y="3429000"/>
            <a:ext cx="571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8"/>
          <p:cNvSpPr/>
          <p:nvPr/>
        </p:nvSpPr>
        <p:spPr>
          <a:xfrm>
            <a:off x="1763640" y="4365720"/>
            <a:ext cx="571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29"/>
          <p:cNvGrpSpPr/>
          <p:nvPr/>
        </p:nvGrpSpPr>
        <p:grpSpPr>
          <a:xfrm>
            <a:off x="2050920" y="2852640"/>
            <a:ext cx="4457880" cy="2857680"/>
            <a:chOff x="2050920" y="2852640"/>
            <a:chExt cx="4457880" cy="2857680"/>
          </a:xfrm>
        </p:grpSpPr>
        <p:sp>
          <p:nvSpPr>
            <p:cNvPr id="123" name="Line 130"/>
            <p:cNvSpPr/>
            <p:nvPr/>
          </p:nvSpPr>
          <p:spPr>
            <a:xfrm flipV="1">
              <a:off x="2622240" y="3052800"/>
              <a:ext cx="0" cy="22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1"/>
            <p:cNvSpPr/>
            <p:nvPr/>
          </p:nvSpPr>
          <p:spPr>
            <a:xfrm>
              <a:off x="2622240" y="5315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2"/>
            <p:cNvSpPr/>
            <p:nvPr/>
          </p:nvSpPr>
          <p:spPr>
            <a:xfrm>
              <a:off x="2050920" y="2971800"/>
              <a:ext cx="4572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3"/>
            <p:cNvSpPr/>
            <p:nvPr/>
          </p:nvSpPr>
          <p:spPr>
            <a:xfrm>
              <a:off x="31939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4"/>
            <p:cNvSpPr/>
            <p:nvPr/>
          </p:nvSpPr>
          <p:spPr>
            <a:xfrm>
              <a:off x="45655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5"/>
            <p:cNvSpPr/>
            <p:nvPr/>
          </p:nvSpPr>
          <p:spPr>
            <a:xfrm>
              <a:off x="5823000" y="5353560"/>
              <a:ext cx="4572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6"/>
            <p:cNvSpPr/>
            <p:nvPr/>
          </p:nvSpPr>
          <p:spPr>
            <a:xfrm flipV="1">
              <a:off x="3422520" y="3566880"/>
              <a:ext cx="0" cy="1786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7"/>
            <p:cNvSpPr/>
            <p:nvPr/>
          </p:nvSpPr>
          <p:spPr>
            <a:xfrm flipH="1">
              <a:off x="2620440" y="3566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8"/>
            <p:cNvSpPr/>
            <p:nvPr/>
          </p:nvSpPr>
          <p:spPr>
            <a:xfrm>
              <a:off x="2620440" y="4519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9"/>
            <p:cNvSpPr/>
            <p:nvPr/>
          </p:nvSpPr>
          <p:spPr>
            <a:xfrm>
              <a:off x="4908600" y="451944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0"/>
            <p:cNvSpPr/>
            <p:nvPr/>
          </p:nvSpPr>
          <p:spPr>
            <a:xfrm>
              <a:off x="3079440" y="3090600"/>
              <a:ext cx="2857680" cy="1786320"/>
            </a:xfrm>
            <a:custGeom>
              <a:avLst/>
              <a:gdLst/>
              <a:ahLst/>
              <a:rect l="l" t="t" r="r" b="b"/>
              <a:pathLst>
                <a:path w="4500" h="2700">
                  <a:moveTo>
                    <a:pt x="0" y="0"/>
                  </a:moveTo>
                  <a:cubicBezTo>
                    <a:pt x="30" y="180"/>
                    <a:pt x="60" y="360"/>
                    <a:pt x="540" y="720"/>
                  </a:cubicBezTo>
                  <a:cubicBezTo>
                    <a:pt x="1020" y="1080"/>
                    <a:pt x="2220" y="1830"/>
                    <a:pt x="2880" y="2160"/>
                  </a:cubicBezTo>
                  <a:cubicBezTo>
                    <a:pt x="3540" y="2490"/>
                    <a:pt x="4020" y="2595"/>
                    <a:pt x="4500" y="27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1"/>
            <p:cNvSpPr/>
            <p:nvPr/>
          </p:nvSpPr>
          <p:spPr>
            <a:xfrm>
              <a:off x="3193920" y="2852640"/>
              <a:ext cx="57132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2"/>
            <p:cNvSpPr/>
            <p:nvPr/>
          </p:nvSpPr>
          <p:spPr>
            <a:xfrm>
              <a:off x="5937480" y="46389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43"/>
            <p:cNvSpPr/>
            <p:nvPr/>
          </p:nvSpPr>
          <p:spPr>
            <a:xfrm>
              <a:off x="3422520" y="321012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44"/>
            <p:cNvSpPr/>
            <p:nvPr/>
          </p:nvSpPr>
          <p:spPr>
            <a:xfrm>
              <a:off x="4908600" y="416268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5"/>
            <p:cNvSpPr/>
            <p:nvPr/>
          </p:nvSpPr>
          <p:spPr>
            <a:xfrm>
              <a:off x="2050920" y="5353560"/>
              <a:ext cx="57132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22000" y="1628280"/>
            <a:ext cx="8157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НОВ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ЦЕ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ФАКТОРЫ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500000">
            <a:off x="2627280" y="836640"/>
            <a:ext cx="101520" cy="865080"/>
          </a:xfrm>
          <a:prstGeom prst="downArrow">
            <a:avLst>
              <a:gd name="adj1" fmla="val 50000"/>
              <a:gd name="adj2" fmla="val 21303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20100000">
            <a:off x="5795640" y="836640"/>
            <a:ext cx="101520" cy="861840"/>
          </a:xfrm>
          <a:prstGeom prst="downArrow">
            <a:avLst>
              <a:gd name="adj1" fmla="val 50000"/>
              <a:gd name="adj2" fmla="val 212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39640" y="2205000"/>
            <a:ext cx="316872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яется цен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≠ cons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842000" y="2168640"/>
            <a:ext cx="360036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на не изменяетс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 =  cons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792000" y="5273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4302000" y="4689360"/>
            <a:ext cx="4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1916280" y="527364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0"/>
          <p:cNvGrpSpPr/>
          <p:nvPr/>
        </p:nvGrpSpPr>
        <p:grpSpPr>
          <a:xfrm>
            <a:off x="162000" y="3338640"/>
            <a:ext cx="3816360" cy="3000960"/>
            <a:chOff x="162000" y="3338640"/>
            <a:chExt cx="3816360" cy="3000960"/>
          </a:xfrm>
        </p:grpSpPr>
        <p:sp>
          <p:nvSpPr>
            <p:cNvPr id="149" name="Line 31"/>
            <p:cNvSpPr/>
            <p:nvPr/>
          </p:nvSpPr>
          <p:spPr>
            <a:xfrm>
              <a:off x="809640" y="60735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V="1">
              <a:off x="809640" y="3481200"/>
              <a:ext cx="0" cy="25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3"/>
            <p:cNvSpPr/>
            <p:nvPr/>
          </p:nvSpPr>
          <p:spPr>
            <a:xfrm>
              <a:off x="162000" y="3409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4"/>
            <p:cNvSpPr/>
            <p:nvPr/>
          </p:nvSpPr>
          <p:spPr>
            <a:xfrm>
              <a:off x="3402360" y="5857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5"/>
            <p:cNvSpPr/>
            <p:nvPr/>
          </p:nvSpPr>
          <p:spPr>
            <a:xfrm>
              <a:off x="378000" y="6002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6"/>
            <p:cNvSpPr/>
            <p:nvPr/>
          </p:nvSpPr>
          <p:spPr>
            <a:xfrm rot="11044800">
              <a:off x="1169640" y="3769920"/>
              <a:ext cx="1982880" cy="1871280"/>
            </a:xfrm>
            <a:custGeom>
              <a:avLst/>
              <a:gdLst/>
              <a:ahLst/>
              <a:rect l="l" t="t" r="r" b="b"/>
              <a:pathLst>
                <a:path fill="none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</a:path>
                <a:path stroke="0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  <a:lnTo>
                    <a:pt x="426" y="2160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7"/>
            <p:cNvSpPr/>
            <p:nvPr/>
          </p:nvSpPr>
          <p:spPr>
            <a:xfrm>
              <a:off x="1314720" y="333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8"/>
            <p:cNvSpPr/>
            <p:nvPr/>
          </p:nvSpPr>
          <p:spPr>
            <a:xfrm>
              <a:off x="3259440" y="52815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40"/>
          <p:cNvSpPr/>
          <p:nvPr/>
        </p:nvSpPr>
        <p:spPr>
          <a:xfrm>
            <a:off x="178128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206280" y="410364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792000" y="42847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>
            <a:off x="1285920" y="4284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4"/>
          <p:cNvSpPr/>
          <p:nvPr/>
        </p:nvSpPr>
        <p:spPr>
          <a:xfrm>
            <a:off x="87156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5"/>
          <p:cNvSpPr/>
          <p:nvPr/>
        </p:nvSpPr>
        <p:spPr>
          <a:xfrm flipV="1">
            <a:off x="657360" y="446364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H="1">
            <a:off x="1375920" y="635472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1692360" y="3473280"/>
            <a:ext cx="234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зменилась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еличина спро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4257720" y="3249720"/>
            <a:ext cx="3463560" cy="3000960"/>
            <a:chOff x="4257720" y="3249720"/>
            <a:chExt cx="3463560" cy="3000960"/>
          </a:xfrm>
        </p:grpSpPr>
        <p:sp>
          <p:nvSpPr>
            <p:cNvPr id="166" name="Line 49"/>
            <p:cNvSpPr/>
            <p:nvPr/>
          </p:nvSpPr>
          <p:spPr>
            <a:xfrm>
              <a:off x="4845240" y="5984640"/>
              <a:ext cx="228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0"/>
            <p:cNvSpPr/>
            <p:nvPr/>
          </p:nvSpPr>
          <p:spPr>
            <a:xfrm flipV="1">
              <a:off x="4845240" y="3392280"/>
              <a:ext cx="0" cy="25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4257720" y="332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2"/>
            <p:cNvSpPr/>
            <p:nvPr/>
          </p:nvSpPr>
          <p:spPr>
            <a:xfrm>
              <a:off x="7198560" y="576900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3"/>
            <p:cNvSpPr/>
            <p:nvPr/>
          </p:nvSpPr>
          <p:spPr>
            <a:xfrm>
              <a:off x="4453560" y="591336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rc 54"/>
            <p:cNvSpPr/>
            <p:nvPr/>
          </p:nvSpPr>
          <p:spPr>
            <a:xfrm rot="11044800">
              <a:off x="5172120" y="3681000"/>
              <a:ext cx="1799640" cy="1871280"/>
            </a:xfrm>
            <a:custGeom>
              <a:avLst/>
              <a:gdLst/>
              <a:ahLst/>
              <a:rect l="l" t="t" r="r" b="b"/>
              <a:pathLst>
                <a:path fill="none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</a:path>
                <a:path stroke="0" w="22026" h="21600">
                  <a:moveTo>
                    <a:pt x="0" y="4"/>
                  </a:moveTo>
                  <a:cubicBezTo>
                    <a:pt x="141" y="1"/>
                    <a:pt x="283" y="-1"/>
                    <a:pt x="426" y="0"/>
                  </a:cubicBezTo>
                  <a:cubicBezTo>
                    <a:pt x="12355" y="0"/>
                    <a:pt x="22026" y="9670"/>
                    <a:pt x="22026" y="21600"/>
                  </a:cubicBezTo>
                  <a:lnTo>
                    <a:pt x="426" y="2160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5"/>
            <p:cNvSpPr/>
            <p:nvPr/>
          </p:nvSpPr>
          <p:spPr>
            <a:xfrm>
              <a:off x="5303880" y="324972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6"/>
            <p:cNvSpPr/>
            <p:nvPr/>
          </p:nvSpPr>
          <p:spPr>
            <a:xfrm>
              <a:off x="7068960" y="519264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57"/>
          <p:cNvSpPr/>
          <p:nvPr/>
        </p:nvSpPr>
        <p:spPr>
          <a:xfrm>
            <a:off x="4842000" y="4869000"/>
            <a:ext cx="76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5562720" y="486900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5067360" y="6129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0"/>
          <p:cNvSpPr/>
          <p:nvPr/>
        </p:nvSpPr>
        <p:spPr>
          <a:xfrm>
            <a:off x="5607000" y="6173640"/>
            <a:ext cx="67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6372360" y="60847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2"/>
          <p:cNvSpPr/>
          <p:nvPr/>
        </p:nvSpPr>
        <p:spPr>
          <a:xfrm flipV="1">
            <a:off x="6416640" y="486900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3"/>
          <p:cNvSpPr/>
          <p:nvPr/>
        </p:nvSpPr>
        <p:spPr>
          <a:xfrm flipH="1">
            <a:off x="5562720" y="486900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65"/>
          <p:cNvSpPr/>
          <p:nvPr/>
        </p:nvSpPr>
        <p:spPr>
          <a:xfrm rot="10800000">
            <a:off x="5967360" y="3563640"/>
            <a:ext cx="1733760" cy="1888920"/>
          </a:xfrm>
          <a:custGeom>
            <a:avLst/>
            <a:gdLst/>
            <a:ahLst/>
            <a:rect l="l" t="t" r="r" b="b"/>
            <a:pathLst>
              <a:path fill="none" w="22220" h="21600">
                <a:moveTo>
                  <a:pt x="-1" y="8"/>
                </a:moveTo>
                <a:cubicBezTo>
                  <a:pt x="206" y="2"/>
                  <a:pt x="413" y="-1"/>
                  <a:pt x="620" y="0"/>
                </a:cubicBezTo>
                <a:cubicBezTo>
                  <a:pt x="12549" y="0"/>
                  <a:pt x="22220" y="9670"/>
                  <a:pt x="22220" y="21600"/>
                </a:cubicBezTo>
              </a:path>
              <a:path stroke="0" w="22220" h="21600">
                <a:moveTo>
                  <a:pt x="-1" y="8"/>
                </a:moveTo>
                <a:cubicBezTo>
                  <a:pt x="206" y="2"/>
                  <a:pt x="413" y="-1"/>
                  <a:pt x="620" y="0"/>
                </a:cubicBezTo>
                <a:cubicBezTo>
                  <a:pt x="12549" y="0"/>
                  <a:pt x="22220" y="9670"/>
                  <a:pt x="22220" y="21600"/>
                </a:cubicBezTo>
                <a:lnTo>
                  <a:pt x="620" y="21600"/>
                </a:lnTo>
                <a:lnTo>
                  <a:pt x="-1" y="8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6058080" y="320364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7"/>
          <p:cNvSpPr/>
          <p:nvPr/>
        </p:nvSpPr>
        <p:spPr>
          <a:xfrm>
            <a:off x="7721640" y="5184720"/>
            <a:ext cx="5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162000" y="5094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6867360" y="3519360"/>
            <a:ext cx="18450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зменилс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увеличился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прос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0"/>
          <p:cNvSpPr/>
          <p:nvPr/>
        </p:nvSpPr>
        <p:spPr>
          <a:xfrm>
            <a:off x="5337000" y="405936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1"/>
          <p:cNvSpPr/>
          <p:nvPr/>
        </p:nvSpPr>
        <p:spPr>
          <a:xfrm>
            <a:off x="5562720" y="45086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2"/>
          <p:cNvSpPr/>
          <p:nvPr/>
        </p:nvSpPr>
        <p:spPr>
          <a:xfrm>
            <a:off x="6237360" y="53197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3"/>
          <p:cNvSpPr/>
          <p:nvPr/>
        </p:nvSpPr>
        <p:spPr>
          <a:xfrm flipH="1" flipV="1">
            <a:off x="1467000" y="4329000"/>
            <a:ext cx="45072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76280" y="1493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дпочтения покупателей (м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личество покуп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зменение дохода покуп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жидание изменения цен в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Цены на взаимосвязанные тов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Неценовые факторы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458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Цены на взаимосвязанны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1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вар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мен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вар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полн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2816280" y="1089000"/>
            <a:ext cx="5626080" cy="2789280"/>
            <a:chOff x="2816280" y="1089000"/>
            <a:chExt cx="5626080" cy="2789280"/>
          </a:xfrm>
        </p:grpSpPr>
        <p:sp>
          <p:nvSpPr>
            <p:cNvPr id="195" name="Text Box 7"/>
            <p:cNvSpPr/>
            <p:nvPr/>
          </p:nvSpPr>
          <p:spPr>
            <a:xfrm>
              <a:off x="6014520" y="111960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7645680" y="270036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77640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332136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681120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204240" y="3041280"/>
              <a:ext cx="41688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2828160" y="177120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828160" y="229824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4838760" y="3041280"/>
              <a:ext cx="417240" cy="27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2816280" y="121284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3199320" y="1293840"/>
              <a:ext cx="360" cy="17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3199320" y="3056040"/>
              <a:ext cx="191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3384360" y="1398600"/>
              <a:ext cx="1643760" cy="14256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0"/>
            <p:cNvGrpSpPr/>
            <p:nvPr/>
          </p:nvGrpSpPr>
          <p:grpSpPr>
            <a:xfrm>
              <a:off x="5509440" y="1212840"/>
              <a:ext cx="2439720" cy="2107080"/>
              <a:chOff x="5509440" y="1212840"/>
              <a:chExt cx="2439720" cy="2107080"/>
            </a:xfrm>
          </p:grpSpPr>
          <p:sp>
            <p:nvSpPr>
              <p:cNvPr id="209" name="Text Box 21"/>
              <p:cNvSpPr/>
              <p:nvPr/>
            </p:nvSpPr>
            <p:spPr>
              <a:xfrm>
                <a:off x="7531920" y="3041280"/>
                <a:ext cx="417240" cy="27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22"/>
              <p:cNvSpPr/>
              <p:nvPr/>
            </p:nvSpPr>
            <p:spPr>
              <a:xfrm>
                <a:off x="5509440" y="1212840"/>
                <a:ext cx="391320" cy="27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3"/>
              <p:cNvSpPr/>
              <p:nvPr/>
            </p:nvSpPr>
            <p:spPr>
              <a:xfrm>
                <a:off x="5892480" y="1293840"/>
                <a:ext cx="360" cy="17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4"/>
              <p:cNvSpPr/>
              <p:nvPr/>
            </p:nvSpPr>
            <p:spPr>
              <a:xfrm>
                <a:off x="5892480" y="3056040"/>
                <a:ext cx="191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6077520" y="1398600"/>
                <a:ext cx="1643760" cy="1425600"/>
              </a:xfrm>
              <a:custGeom>
                <a:avLst/>
                <a:gdLst/>
                <a:ahLst/>
                <a:rect l="l" t="t" r="r" b="b"/>
                <a:pathLst>
                  <a:path w="2470" h="2622">
                    <a:moveTo>
                      <a:pt x="19" y="0"/>
                    </a:moveTo>
                    <a:cubicBezTo>
                      <a:pt x="9" y="195"/>
                      <a:pt x="0" y="390"/>
                      <a:pt x="76" y="627"/>
                    </a:cubicBezTo>
                    <a:cubicBezTo>
                      <a:pt x="152" y="864"/>
                      <a:pt x="276" y="1169"/>
                      <a:pt x="475" y="1425"/>
                    </a:cubicBezTo>
                    <a:cubicBezTo>
                      <a:pt x="674" y="1681"/>
                      <a:pt x="941" y="1967"/>
                      <a:pt x="1273" y="2166"/>
                    </a:cubicBezTo>
                    <a:cubicBezTo>
                      <a:pt x="1605" y="2365"/>
                      <a:pt x="2037" y="2493"/>
                      <a:pt x="2470" y="26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 Box 26"/>
            <p:cNvSpPr/>
            <p:nvPr/>
          </p:nvSpPr>
          <p:spPr>
            <a:xfrm>
              <a:off x="5331600" y="2049480"/>
              <a:ext cx="391320" cy="27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3207600" y="1894680"/>
              <a:ext cx="3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3207600" y="2421720"/>
              <a:ext cx="75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5900760" y="2173680"/>
              <a:ext cx="10238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10720" y="1894680"/>
              <a:ext cx="0" cy="1146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>
              <a:off x="3966120" y="2421720"/>
              <a:ext cx="0" cy="61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6393960" y="2173680"/>
              <a:ext cx="0" cy="867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6583680" y="1398600"/>
              <a:ext cx="1454040" cy="12708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4"/>
            <p:cNvSpPr/>
            <p:nvPr/>
          </p:nvSpPr>
          <p:spPr>
            <a:xfrm flipV="1">
              <a:off x="3131640" y="1987200"/>
              <a:ext cx="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>
              <a:off x="6469920" y="294840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 flipH="1">
              <a:off x="3586320" y="2948400"/>
              <a:ext cx="3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6963120" y="2173680"/>
              <a:ext cx="0" cy="867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8"/>
            <p:cNvSpPr/>
            <p:nvPr/>
          </p:nvSpPr>
          <p:spPr>
            <a:xfrm>
              <a:off x="3510720" y="1089000"/>
              <a:ext cx="1137960" cy="34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6735600" y="1089000"/>
              <a:ext cx="1137960" cy="34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280200" y="18637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7152480" y="26074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2"/>
            <p:cNvSpPr/>
            <p:nvPr/>
          </p:nvSpPr>
          <p:spPr>
            <a:xfrm>
              <a:off x="6621480" y="1305720"/>
              <a:ext cx="455040" cy="30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3"/>
            <p:cNvSpPr/>
            <p:nvPr/>
          </p:nvSpPr>
          <p:spPr>
            <a:xfrm>
              <a:off x="7987320" y="2390760"/>
              <a:ext cx="45504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3207600" y="3444480"/>
              <a:ext cx="4855320" cy="43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6"/>
          <p:cNvGrpSpPr/>
          <p:nvPr/>
        </p:nvGrpSpPr>
        <p:grpSpPr>
          <a:xfrm>
            <a:off x="2771640" y="3654360"/>
            <a:ext cx="5760720" cy="3014280"/>
            <a:chOff x="2771640" y="3654360"/>
            <a:chExt cx="5760720" cy="3014280"/>
          </a:xfrm>
        </p:grpSpPr>
        <p:sp>
          <p:nvSpPr>
            <p:cNvPr id="234" name="Text Box 47"/>
            <p:cNvSpPr/>
            <p:nvPr/>
          </p:nvSpPr>
          <p:spPr>
            <a:xfrm>
              <a:off x="6046560" y="368748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8"/>
            <p:cNvSpPr/>
            <p:nvPr/>
          </p:nvSpPr>
          <p:spPr>
            <a:xfrm>
              <a:off x="7716960" y="539604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9"/>
            <p:cNvSpPr/>
            <p:nvPr/>
          </p:nvSpPr>
          <p:spPr>
            <a:xfrm>
              <a:off x="375480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0"/>
            <p:cNvSpPr/>
            <p:nvPr/>
          </p:nvSpPr>
          <p:spPr>
            <a:xfrm>
              <a:off x="328860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1"/>
            <p:cNvSpPr/>
            <p:nvPr/>
          </p:nvSpPr>
          <p:spPr>
            <a:xfrm>
              <a:off x="686232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2"/>
            <p:cNvSpPr/>
            <p:nvPr/>
          </p:nvSpPr>
          <p:spPr>
            <a:xfrm>
              <a:off x="624096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3"/>
            <p:cNvSpPr/>
            <p:nvPr/>
          </p:nvSpPr>
          <p:spPr>
            <a:xfrm>
              <a:off x="2783520" y="439164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4"/>
            <p:cNvSpPr/>
            <p:nvPr/>
          </p:nvSpPr>
          <p:spPr>
            <a:xfrm>
              <a:off x="2783520" y="496116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5"/>
            <p:cNvSpPr/>
            <p:nvPr/>
          </p:nvSpPr>
          <p:spPr>
            <a:xfrm>
              <a:off x="4842360" y="5764680"/>
              <a:ext cx="4269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6"/>
            <p:cNvSpPr/>
            <p:nvPr/>
          </p:nvSpPr>
          <p:spPr>
            <a:xfrm>
              <a:off x="2771640" y="378828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7"/>
            <p:cNvSpPr/>
            <p:nvPr/>
          </p:nvSpPr>
          <p:spPr>
            <a:xfrm>
              <a:off x="3164040" y="3875760"/>
              <a:ext cx="36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3164040" y="5780520"/>
              <a:ext cx="19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9"/>
            <p:cNvSpPr/>
            <p:nvPr/>
          </p:nvSpPr>
          <p:spPr>
            <a:xfrm>
              <a:off x="3353400" y="3989160"/>
              <a:ext cx="1683000" cy="15408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60"/>
            <p:cNvGrpSpPr/>
            <p:nvPr/>
          </p:nvGrpSpPr>
          <p:grpSpPr>
            <a:xfrm>
              <a:off x="5529600" y="3788280"/>
              <a:ext cx="2497680" cy="2277720"/>
              <a:chOff x="5529600" y="3788280"/>
              <a:chExt cx="2497680" cy="2277720"/>
            </a:xfrm>
          </p:grpSpPr>
          <p:sp>
            <p:nvSpPr>
              <p:cNvPr id="248" name="Text Box 61"/>
              <p:cNvSpPr/>
              <p:nvPr/>
            </p:nvSpPr>
            <p:spPr>
              <a:xfrm>
                <a:off x="7600320" y="5764680"/>
                <a:ext cx="426960" cy="30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62"/>
              <p:cNvSpPr/>
              <p:nvPr/>
            </p:nvSpPr>
            <p:spPr>
              <a:xfrm>
                <a:off x="5529600" y="3788280"/>
                <a:ext cx="400680" cy="30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63"/>
              <p:cNvSpPr/>
              <p:nvPr/>
            </p:nvSpPr>
            <p:spPr>
              <a:xfrm>
                <a:off x="5922000" y="3875760"/>
                <a:ext cx="36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64"/>
              <p:cNvSpPr/>
              <p:nvPr/>
            </p:nvSpPr>
            <p:spPr>
              <a:xfrm>
                <a:off x="5922000" y="5780520"/>
                <a:ext cx="196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5"/>
              <p:cNvSpPr/>
              <p:nvPr/>
            </p:nvSpPr>
            <p:spPr>
              <a:xfrm>
                <a:off x="6111360" y="3989160"/>
                <a:ext cx="1683000" cy="1540800"/>
              </a:xfrm>
              <a:custGeom>
                <a:avLst/>
                <a:gdLst/>
                <a:ahLst/>
                <a:rect l="l" t="t" r="r" b="b"/>
                <a:pathLst>
                  <a:path w="2470" h="2622">
                    <a:moveTo>
                      <a:pt x="19" y="0"/>
                    </a:moveTo>
                    <a:cubicBezTo>
                      <a:pt x="9" y="195"/>
                      <a:pt x="0" y="390"/>
                      <a:pt x="76" y="627"/>
                    </a:cubicBezTo>
                    <a:cubicBezTo>
                      <a:pt x="152" y="864"/>
                      <a:pt x="276" y="1169"/>
                      <a:pt x="475" y="1425"/>
                    </a:cubicBezTo>
                    <a:cubicBezTo>
                      <a:pt x="674" y="1681"/>
                      <a:pt x="941" y="1967"/>
                      <a:pt x="1273" y="2166"/>
                    </a:cubicBezTo>
                    <a:cubicBezTo>
                      <a:pt x="1605" y="2365"/>
                      <a:pt x="2037" y="2493"/>
                      <a:pt x="2470" y="26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66"/>
            <p:cNvSpPr/>
            <p:nvPr/>
          </p:nvSpPr>
          <p:spPr>
            <a:xfrm>
              <a:off x="5347440" y="4692600"/>
              <a:ext cx="400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3172320" y="4525200"/>
              <a:ext cx="310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>
              <a:off x="3172320" y="509472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5930280" y="4826520"/>
              <a:ext cx="10486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3483000" y="4525200"/>
              <a:ext cx="0" cy="123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71"/>
            <p:cNvSpPr/>
            <p:nvPr/>
          </p:nvSpPr>
          <p:spPr>
            <a:xfrm>
              <a:off x="3949200" y="5094720"/>
              <a:ext cx="0" cy="66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6435000" y="4826520"/>
              <a:ext cx="0" cy="93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3"/>
            <p:cNvSpPr/>
            <p:nvPr/>
          </p:nvSpPr>
          <p:spPr>
            <a:xfrm>
              <a:off x="6629400" y="3989160"/>
              <a:ext cx="1488960" cy="1373400"/>
            </a:xfrm>
            <a:custGeom>
              <a:avLst/>
              <a:gdLst/>
              <a:ahLst/>
              <a:rect l="l" t="t" r="r" b="b"/>
              <a:pathLst>
                <a:path w="2470" h="2622">
                  <a:moveTo>
                    <a:pt x="19" y="0"/>
                  </a:moveTo>
                  <a:cubicBezTo>
                    <a:pt x="9" y="195"/>
                    <a:pt x="0" y="390"/>
                    <a:pt x="76" y="627"/>
                  </a:cubicBezTo>
                  <a:cubicBezTo>
                    <a:pt x="152" y="864"/>
                    <a:pt x="276" y="1169"/>
                    <a:pt x="475" y="1425"/>
                  </a:cubicBezTo>
                  <a:cubicBezTo>
                    <a:pt x="674" y="1681"/>
                    <a:pt x="941" y="1967"/>
                    <a:pt x="1273" y="2166"/>
                  </a:cubicBezTo>
                  <a:cubicBezTo>
                    <a:pt x="1605" y="2365"/>
                    <a:pt x="2037" y="2493"/>
                    <a:pt x="2470" y="2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4"/>
            <p:cNvSpPr/>
            <p:nvPr/>
          </p:nvSpPr>
          <p:spPr>
            <a:xfrm flipV="1">
              <a:off x="3094560" y="4625640"/>
              <a:ext cx="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>
              <a:off x="6512760" y="566388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6"/>
            <p:cNvSpPr/>
            <p:nvPr/>
          </p:nvSpPr>
          <p:spPr>
            <a:xfrm flipH="1">
              <a:off x="3560040" y="5663880"/>
              <a:ext cx="31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7"/>
            <p:cNvSpPr/>
            <p:nvPr/>
          </p:nvSpPr>
          <p:spPr>
            <a:xfrm>
              <a:off x="7017840" y="4826520"/>
              <a:ext cx="0" cy="93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8"/>
            <p:cNvSpPr/>
            <p:nvPr/>
          </p:nvSpPr>
          <p:spPr>
            <a:xfrm>
              <a:off x="3483000" y="3654360"/>
              <a:ext cx="116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784920" y="3654360"/>
              <a:ext cx="1164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6318720" y="4491720"/>
              <a:ext cx="3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7211880" y="529560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2"/>
            <p:cNvSpPr/>
            <p:nvPr/>
          </p:nvSpPr>
          <p:spPr>
            <a:xfrm>
              <a:off x="6668280" y="3888720"/>
              <a:ext cx="46620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3"/>
            <p:cNvSpPr/>
            <p:nvPr/>
          </p:nvSpPr>
          <p:spPr>
            <a:xfrm>
              <a:off x="8066520" y="5061240"/>
              <a:ext cx="4658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4"/>
            <p:cNvSpPr/>
            <p:nvPr/>
          </p:nvSpPr>
          <p:spPr>
            <a:xfrm>
              <a:off x="3172320" y="6199920"/>
              <a:ext cx="4971960" cy="46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0920" y="290520"/>
            <a:ext cx="8686800" cy="69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аких случаях слово “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” должно быть заменено словами “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еличина спрос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”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В результате снижения цен на цветы спрос на них увелич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Потребительские доходы снизятся, следовательно,  спрос на ювелирные изделия уменьшится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 результате повышения стоимости стрижки волос спрос на услуги парикмахера упа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) Цена на белый хлеб выросла, и из-за этого возрос спрос на черный хлеб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) Зима закончилась, поэтому спрос на зимние сапоги сниз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) Цена на электроэнергию возрастает, поэтому население стало экономнее её использовать, т.е. спрос  уменьшает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) Цена на горные лыжи повысилась, из-за этого снизился спрос на лыжные ботинк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) Население ожидает роста цен на холодильники, поэтому спрос на них повысился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6280" y="458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их случаях слово 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 должно быть заменено словами 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 увеличении цены на яблоки спрос на них меня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Спрос на мебель снизился, т.к. изменились доходы потреб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При увеличении спроса кривая спроса может сдвинуться ввер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Величина спроса от цены не завис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. Если изменяется цена на мотоциклы, то изменяется и величина спроса на моторолл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. При увеличении рождаемости скорее всего возрастет спрос на коля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. Спрос на мороженное летом выше, чем зи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. Величина спроса на кроссовки увеличивается, если цена на них раст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84360" y="1828800"/>
            <a:ext cx="6507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тог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23:37:22Z</dcterms:created>
  <dc:creator>Света</dc:creator>
  <dc:description/>
  <dc:language>en-US</dc:language>
  <cp:lastModifiedBy>Язвенко</cp:lastModifiedBy>
  <dcterms:modified xsi:type="dcterms:W3CDTF">2019-02-08T09:03:39Z</dcterms:modified>
  <cp:revision>32</cp:revision>
  <dc:subject/>
  <dc:title>Задача на расчёт всех видов издержек и определение  эффективности деятельности фирмы.</dc:title>
</cp:coreProperties>
</file>