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4.jpeg" ContentType="image/jpeg"/>
  <Override PartName="/ppt/media/image23.jpeg" ContentType="image/jpeg"/>
  <Override PartName="/ppt/media/image4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36.png" ContentType="image/png"/>
  <Override PartName="/ppt/media/image12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54.png" ContentType="image/png"/>
  <Override PartName="/ppt/media/image47.jpeg" ContentType="image/jpeg"/>
  <Override PartName="/ppt/media/image41.png" ContentType="image/png"/>
  <Override PartName="/ppt/media/image48.jpeg" ContentType="image/jpeg"/>
  <Override PartName="/ppt/media/image53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31.png" ContentType="image/png"/>
  <Override PartName="/ppt/media/image37.jpeg" ContentType="image/jpeg"/>
  <Override PartName="/ppt/media/image33.jpeg" ContentType="image/jpeg"/>
  <Override PartName="/ppt/media/image32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7.png" ContentType="image/png"/>
  <Override PartName="/ppt/media/image3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24C0D-FBD9-419F-9A0E-CDD27A9E2B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B061C-F258-4EE5-9060-ADB09597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C2D71-8EAD-4E79-A5ED-F1A752B2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CE6B3-7BB7-489F-8908-D74F3EFE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560" y="-174636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486D9-3164-4F3B-8F28-8F9DEC70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709A5-3C30-4F15-8904-C63F59C2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B5B64-6C20-4859-B650-9B508466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E5FDA-001D-466F-9643-477A3E2D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A7C84-8439-4B7F-B7C2-7DE9AEE6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1F81C-05B8-4E37-A2F6-F34BCDF4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236FE-018B-4455-A75A-803628544F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5DD1C-CDD4-461A-8F6A-8D6865DE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46F27-E4DD-4E1E-AAF4-8F5771DF92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B49DB-74EB-41D9-B00F-C387070967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-32688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1DC62-C756-4E48-942B-1D0B9547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548E5-0357-4863-BCCE-E66A0E2A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087E8-6F3F-40BC-AFFB-036214A1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0414F-E16E-4172-BE00-2786663D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560" y="-174636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23091-FC91-4265-8F4C-65E97181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D9402-01F0-4F71-B965-7EB064F1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-32688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105A5-FFF8-4C46-85BA-A6838570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18AEC-EE9D-480C-A5CE-47E09777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3A201-C528-4FD9-ADE1-3AB807B0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70802-8183-4017-ACD3-42986A93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451AD-95F0-416C-ADB8-12345636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454F0-33F0-4B1E-AADA-FA8404D56B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EE21-A4F4-44EC-BA48-281DBC1AD0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-32688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24D9-6630-4B89-9CD8-310F33CE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B15C-6540-4CE9-A6AE-AE7FD2AB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C268-FA2B-4A09-84F1-87B2A94C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E463-F888-4B9E-A831-6E0EC668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F640E-E0A8-4B8C-A66F-4726D6B1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560" y="-174636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5BEE-235B-4BC3-B952-D241F62A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04F1-BD4E-4701-A35F-7999F337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6C43-4CDA-4868-91F0-9A139BB7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7DA4-7C9A-4075-B9D8-2DC610DB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3E29-524B-4419-A9BB-8632BF15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27A9-93FF-445A-A88B-2A23D14D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4DBC-420A-438A-AEBE-3AE66E92FB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04048-E0C2-4564-BDDF-738F8C6547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-32688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B67AEF-5027-45F6-B995-EC10C40C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6BCBBB-6E47-411E-B3EF-CB5EA3C8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0DC04-A079-4F1D-8362-CC04D60C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E8897C-C95C-4E5A-8C63-D53D3CF9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ED6F76-BC55-4596-961F-CF9F7B89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560" y="-174636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52E32-C2FD-4C32-8F78-6437FC89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43DFB9-24F2-4AB3-B577-1B063F0E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719816-1B97-4419-A9C9-BE81FC3B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E9B8AF-D678-40BA-B8AB-9A735494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93E00-E03A-4E3D-BAD8-4E515B1C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525A48-23C0-4E2E-9C94-DEAF1F9D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04353C-CF03-4877-8F8D-0D75DDBD05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144F3C-0604-4326-83BA-C5892D92DE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47C05-B6A4-463A-A7F3-9B33993F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560" y="-32688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2654D9-7D7F-4681-9740-6E423550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1FA207-F494-4C8F-9DE4-6B976ED1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5BEF58-2DFF-4DD5-94C8-5F30E6F2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94CF32-DE1A-4835-9B42-74A1DFA8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560" y="-174636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585702-B3F9-44EC-AE16-40F49FAF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DCFF4B-F2EC-4CA7-890A-90279CAD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2DA190-89C6-46F3-86B6-D3F1BA8E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8B0C66-11B3-411C-B1E1-C0172924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BEE5B0-89D8-42C6-8B6E-9878A29C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47F520-B97F-4681-948E-B065EFF7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-174636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06EE6-9388-4269-BE26-BA6EA19D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C33A88-F6C5-4CB5-A1C5-4E0B67E63E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37472-949A-47D3-A995-0848E8F996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560" y="-32688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65CB9-39B3-461E-B088-5F778990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D3615-FCC2-4541-8FEB-C47A9B28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720D6-0137-4A29-8F3B-E3699C4C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05EB0-A12B-486E-9008-164C47F9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560" y="-174636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AE0AF-A3E7-4880-9C88-32537031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39795-8AE3-47E4-B8EA-DDE77231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13980-24B5-41F2-B2B8-E1ABA4A8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03C31-EA3E-460E-AF8F-2DE54BFF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4BB22-84B9-416B-9A8E-96B3D1EA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43703-06AA-472C-9B3F-A9E90F46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5BA21-49D8-477E-86F9-F33507CF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4B6B4-66C6-450A-AA18-D4F205BA39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22F996-8E1C-4734-82B3-35672DC276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560" y="-32688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B2943C-5D10-4B95-9A2B-3BEE98F7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677F83-3319-41E0-AF93-7886CEDE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67DA07-2396-4558-960E-16D8C963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1717F0-E6AB-4439-A79F-AF4C3042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560" y="-174636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968AB9-0DAB-4CF0-AD85-65D896FB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4A8390-8EE8-4065-B658-5FD15F26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65E19-766D-40FC-B569-58D03437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0A0F89-DD07-4AF6-B6DB-CACEB0A3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12146A-968A-4C85-9E84-6FDBC611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F3230C-5B5A-4109-802B-EE6E11BD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47B24D-92AC-4318-9B0D-FEFBABCE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30BA1E-86D9-4AA4-B3EB-D2215DBC8D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DC147F-EB41-4038-BF26-EC61CC3591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560" y="-32688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B71DF8-7E8B-4ED0-B74F-E1F44D67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1D2CEF-8674-434B-8364-F6E0BB6F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487680-EDB4-4435-BC5D-19CAEB8B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8BAC2C-13EE-4537-8B1F-3D9CFF00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27956-919A-49CE-957D-4B55B17B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560" y="-174636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2C92D4-6A0A-411A-A7EA-D31156BE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EE467F-10A1-4FC1-AB33-8AEFF6E1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6B200D-45C7-4D6E-A461-525A82C1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22021B-4B67-4DA4-BEE6-1A0ACA5B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D8B247-EF44-45A3-A78B-70B7A662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3FCB22-26B0-44E6-90B8-27572A50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F347B4-5742-4735-95F8-42D182C274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14472-A955-40C8-9052-8D2887ACA8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560" y="-326880"/>
            <a:ext cx="86850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37267-7E52-4D7B-9D9A-7EB453AB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9F3E4-B793-4935-8C38-2BCE94C0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12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fld id="{51035964-6D99-4498-B7B2-066044D3DE8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" name="Picture 10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Group 12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12" name="Picture 13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Text Box 14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506520" y="5340240"/>
            <a:ext cx="8642160" cy="22320"/>
            <a:chOff x="506520" y="5340240"/>
            <a:chExt cx="8642160" cy="22320"/>
          </a:xfrm>
        </p:grpSpPr>
        <p:pic>
          <p:nvPicPr>
            <p:cNvPr id="51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3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12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229240" y="6473520"/>
            <a:ext cx="757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DD7CC54-B050-4E8D-95C7-D2A76A9401F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5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4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8" name="Picture 5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101" name="Picture 8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9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12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3520"/>
            <a:ext cx="757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879089C-7EA9-4096-B721-B9BD422D74D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"/>
          <p:cNvGrpSpPr/>
          <p:nvPr/>
        </p:nvGrpSpPr>
        <p:grpSpPr>
          <a:xfrm>
            <a:off x="506520" y="3432240"/>
            <a:ext cx="8642160" cy="22320"/>
            <a:chOff x="506520" y="3432240"/>
            <a:chExt cx="8642160" cy="22320"/>
          </a:xfrm>
        </p:grpSpPr>
        <p:pic>
          <p:nvPicPr>
            <p:cNvPr id="145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3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12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7DB3E45-2844-484E-9B9E-01AFE33C018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1"/>
          <p:cNvGrpSpPr/>
          <p:nvPr/>
        </p:nvGrpSpPr>
        <p:grpSpPr>
          <a:xfrm>
            <a:off x="506520" y="6010200"/>
            <a:ext cx="8642160" cy="23760"/>
            <a:chOff x="506520" y="6010200"/>
            <a:chExt cx="8642160" cy="23760"/>
          </a:xfrm>
        </p:grpSpPr>
        <p:pic>
          <p:nvPicPr>
            <p:cNvPr id="189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21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3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12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9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229600" y="6476760"/>
            <a:ext cx="7603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21E41A5-C9C0-4F03-AD32-6BC97A4FDCA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12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AA78D02-401D-4D2C-8746-CD3678E4872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"/>
          <p:cNvGrpSpPr/>
          <p:nvPr/>
        </p:nvGrpSpPr>
        <p:grpSpPr>
          <a:xfrm>
            <a:off x="506520" y="5840280"/>
            <a:ext cx="8642160" cy="22320"/>
            <a:chOff x="506520" y="5840280"/>
            <a:chExt cx="8642160" cy="22320"/>
          </a:xfrm>
        </p:grpSpPr>
        <p:pic>
          <p:nvPicPr>
            <p:cNvPr id="274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3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12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4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337A911-3912-4CFA-BEB3-21B1CA91F2E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12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AD327FA-EDB0-4C4D-AE0A-F8775306C02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12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1240" indent="5500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673D6F6-2161-4E91-91A6-A3C802FDB21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" descr=""/>
          <p:cNvPicPr/>
          <p:nvPr/>
        </p:nvPicPr>
        <p:blipFill>
          <a:blip r:embed="rId1"/>
          <a:stretch/>
        </p:blipFill>
        <p:spPr>
          <a:xfrm>
            <a:off x="3932280" y="176040"/>
            <a:ext cx="4595760" cy="16034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2"/>
          <p:cNvSpPr/>
          <p:nvPr/>
        </p:nvSpPr>
        <p:spPr>
          <a:xfrm>
            <a:off x="4143240" y="4786200"/>
            <a:ext cx="4286520" cy="1285920"/>
          </a:xfrm>
          <a:prstGeom prst="rect">
            <a:avLst/>
          </a:prstGeom>
          <a:gradFill rotWithShape="0">
            <a:gsLst>
              <a:gs pos="0">
                <a:srgbClr val="fcf2eb"/>
              </a:gs>
              <a:gs pos="100000">
                <a:srgbClr val="f2d9c6"/>
              </a:gs>
            </a:gsLst>
            <a:lin ang="5400000"/>
          </a:gradFill>
          <a:ln w="11520">
            <a:solidFill>
              <a:srgbClr val="c3986d"/>
            </a:solidFill>
            <a:miter/>
          </a:ln>
          <a:effectLst>
            <a:outerShdw dist="24840" dir="5400000" blurRad="0" rotWithShape="0">
              <a:srgbClr val="7e572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443329"/>
                </a:solidFill>
                <a:latin typeface="Aharoni"/>
              </a:rPr>
              <a:t>The towns of Great Brit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428760" y="142920"/>
            <a:ext cx="3143160" cy="6072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"/>
          <p:cNvPicPr/>
          <p:nvPr/>
        </p:nvPicPr>
        <p:blipFill>
          <a:blip r:embed="rId3"/>
          <a:stretch/>
        </p:blipFill>
        <p:spPr>
          <a:xfrm>
            <a:off x="4429080" y="1419120"/>
            <a:ext cx="306540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1" descr=""/>
          <p:cNvPicPr/>
          <p:nvPr/>
        </p:nvPicPr>
        <p:blipFill>
          <a:blip r:embed="rId1"/>
          <a:stretch/>
        </p:blipFill>
        <p:spPr>
          <a:xfrm>
            <a:off x="573120" y="291960"/>
            <a:ext cx="8351640" cy="1109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"/>
          <p:cNvPicPr/>
          <p:nvPr/>
        </p:nvPicPr>
        <p:blipFill>
          <a:blip r:embed="rId2"/>
          <a:stretch/>
        </p:blipFill>
        <p:spPr>
          <a:xfrm>
            <a:off x="1071720" y="1143000"/>
            <a:ext cx="7127640" cy="22860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" descr=""/>
          <p:cNvPicPr/>
          <p:nvPr/>
        </p:nvPicPr>
        <p:blipFill>
          <a:blip r:embed="rId3"/>
          <a:stretch/>
        </p:blipFill>
        <p:spPr>
          <a:xfrm>
            <a:off x="2428920" y="3500280"/>
            <a:ext cx="4051080" cy="30355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4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6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6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5000760" y="330120"/>
            <a:ext cx="3990960" cy="59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Medium"/>
              </a:rPr>
              <a:t>В Ливерпуле имеется 2 профессиональных футбольных команды, Ливерпуль и Эверт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There are 2 professional football team in the city of Liverpool, Liverpool FC and Everton F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3571920" cy="26780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3" descr=""/>
          <p:cNvPicPr/>
          <p:nvPr/>
        </p:nvPicPr>
        <p:blipFill>
          <a:blip r:embed="rId2"/>
          <a:stretch/>
        </p:blipFill>
        <p:spPr>
          <a:xfrm>
            <a:off x="1285920" y="35002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" descr=""/>
          <p:cNvPicPr/>
          <p:nvPr/>
        </p:nvPicPr>
        <p:blipFill>
          <a:blip r:embed="rId1"/>
          <a:stretch/>
        </p:blipFill>
        <p:spPr>
          <a:xfrm>
            <a:off x="506520" y="171360"/>
            <a:ext cx="7991280" cy="7858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"/>
          <p:cNvPicPr/>
          <p:nvPr/>
        </p:nvPicPr>
        <p:blipFill>
          <a:blip r:embed="rId2"/>
          <a:stretch/>
        </p:blipFill>
        <p:spPr>
          <a:xfrm>
            <a:off x="357120" y="857160"/>
            <a:ext cx="7929720" cy="22860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" descr=""/>
          <p:cNvPicPr/>
          <p:nvPr/>
        </p:nvPicPr>
        <p:blipFill>
          <a:blip r:embed="rId3"/>
          <a:stretch/>
        </p:blipFill>
        <p:spPr>
          <a:xfrm>
            <a:off x="5929200" y="3357720"/>
            <a:ext cx="3110040" cy="20714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"/>
          <p:cNvPicPr/>
          <p:nvPr/>
        </p:nvPicPr>
        <p:blipFill>
          <a:blip r:embed="rId4"/>
          <a:stretch/>
        </p:blipFill>
        <p:spPr>
          <a:xfrm>
            <a:off x="428760" y="3500280"/>
            <a:ext cx="1793880" cy="26672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5" descr=""/>
          <p:cNvPicPr/>
          <p:nvPr/>
        </p:nvPicPr>
        <p:blipFill>
          <a:blip r:embed="rId5"/>
          <a:stretch/>
        </p:blipFill>
        <p:spPr>
          <a:xfrm>
            <a:off x="2643120" y="3500280"/>
            <a:ext cx="3143160" cy="2357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6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6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1" descr=""/>
          <p:cNvPicPr/>
          <p:nvPr/>
        </p:nvPicPr>
        <p:blipFill>
          <a:blip r:embed="rId1"/>
          <a:stretch/>
        </p:blipFill>
        <p:spPr>
          <a:xfrm>
            <a:off x="360360" y="176040"/>
            <a:ext cx="4565520" cy="11098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" descr=""/>
          <p:cNvPicPr/>
          <p:nvPr/>
        </p:nvPicPr>
        <p:blipFill>
          <a:blip r:embed="rId2"/>
          <a:stretch/>
        </p:blipFill>
        <p:spPr>
          <a:xfrm>
            <a:off x="357120" y="1000080"/>
            <a:ext cx="3810240" cy="22860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"/>
          <p:cNvPicPr/>
          <p:nvPr/>
        </p:nvPicPr>
        <p:blipFill>
          <a:blip r:embed="rId3"/>
          <a:stretch/>
        </p:blipFill>
        <p:spPr>
          <a:xfrm>
            <a:off x="5072040" y="357120"/>
            <a:ext cx="3181320" cy="23814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"/>
          <p:cNvPicPr/>
          <p:nvPr/>
        </p:nvPicPr>
        <p:blipFill>
          <a:blip r:embed="rId4"/>
          <a:stretch/>
        </p:blipFill>
        <p:spPr>
          <a:xfrm>
            <a:off x="6000840" y="2857680"/>
            <a:ext cx="2681280" cy="35715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5" descr=""/>
          <p:cNvPicPr/>
          <p:nvPr/>
        </p:nvPicPr>
        <p:blipFill>
          <a:blip r:embed="rId5"/>
          <a:stretch/>
        </p:blipFill>
        <p:spPr>
          <a:xfrm>
            <a:off x="1000080" y="3643200"/>
            <a:ext cx="4143600" cy="25322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5786280" y="285840"/>
            <a:ext cx="3071880" cy="60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90000" tIns="0" bIns="46800" anchor="t">
            <a:normAutofit fontScale="99000"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Medium"/>
              </a:rPr>
              <a:t>В Кембридже есть несколько музее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re are several museums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 Cambridge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 rot="21060000">
            <a:off x="293760" y="375840"/>
            <a:ext cx="3197160" cy="22003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3" descr=""/>
          <p:cNvPicPr/>
          <p:nvPr/>
        </p:nvPicPr>
        <p:blipFill>
          <a:blip r:embed="rId2"/>
          <a:stretch/>
        </p:blipFill>
        <p:spPr>
          <a:xfrm rot="720000">
            <a:off x="4420800" y="1378080"/>
            <a:ext cx="2598840" cy="29764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" descr=""/>
          <p:cNvPicPr/>
          <p:nvPr/>
        </p:nvPicPr>
        <p:blipFill>
          <a:blip r:embed="rId3"/>
          <a:stretch/>
        </p:blipFill>
        <p:spPr>
          <a:xfrm>
            <a:off x="428760" y="3357720"/>
            <a:ext cx="3287520" cy="25714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1" descr=""/>
          <p:cNvPicPr/>
          <p:nvPr/>
        </p:nvPicPr>
        <p:blipFill>
          <a:blip r:embed="rId1"/>
          <a:stretch/>
        </p:blipFill>
        <p:spPr>
          <a:xfrm>
            <a:off x="506520" y="244440"/>
            <a:ext cx="8283600" cy="85896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2"/>
          <p:cNvSpPr/>
          <p:nvPr/>
        </p:nvSpPr>
        <p:spPr>
          <a:xfrm>
            <a:off x="5786280" y="857160"/>
            <a:ext cx="314352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90000" tIns="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Medium"/>
              </a:rPr>
              <a:t>Белфаст — главный город  и порт Северной Ирланди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Belfast is the main city and port of Northern Irelan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Picture 3" descr=""/>
          <p:cNvPicPr/>
          <p:nvPr/>
        </p:nvPicPr>
        <p:blipFill>
          <a:blip r:embed="rId2"/>
          <a:stretch/>
        </p:blipFill>
        <p:spPr>
          <a:xfrm>
            <a:off x="357120" y="1285920"/>
            <a:ext cx="5396040" cy="19382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" descr=""/>
          <p:cNvPicPr/>
          <p:nvPr/>
        </p:nvPicPr>
        <p:blipFill>
          <a:blip r:embed="rId3"/>
          <a:stretch/>
        </p:blipFill>
        <p:spPr>
          <a:xfrm>
            <a:off x="5857920" y="2643120"/>
            <a:ext cx="2622600" cy="15001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5" descr=""/>
          <p:cNvPicPr/>
          <p:nvPr/>
        </p:nvPicPr>
        <p:blipFill>
          <a:blip r:embed="rId4"/>
          <a:stretch/>
        </p:blipFill>
        <p:spPr>
          <a:xfrm>
            <a:off x="142920" y="3857760"/>
            <a:ext cx="2149560" cy="15714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6" descr=""/>
          <p:cNvPicPr/>
          <p:nvPr/>
        </p:nvPicPr>
        <p:blipFill>
          <a:blip r:embed="rId5"/>
          <a:stretch/>
        </p:blipFill>
        <p:spPr>
          <a:xfrm>
            <a:off x="2928960" y="4643280"/>
            <a:ext cx="267480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" descr=""/>
          <p:cNvPicPr/>
          <p:nvPr/>
        </p:nvPicPr>
        <p:blipFill>
          <a:blip r:embed="rId1"/>
          <a:stretch/>
        </p:blipFill>
        <p:spPr>
          <a:xfrm>
            <a:off x="506520" y="171360"/>
            <a:ext cx="8356320" cy="86544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2"/>
          <p:cNvSpPr/>
          <p:nvPr/>
        </p:nvSpPr>
        <p:spPr>
          <a:xfrm>
            <a:off x="6072120" y="642960"/>
            <a:ext cx="2857680" cy="56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90000" tIns="0" bIns="46800" anchor="t">
            <a:norm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4e3b30"/>
                </a:solidFill>
                <a:latin typeface="Franklin Gothic Medium"/>
              </a:rPr>
              <a:t>Абердин — главный морской и рыболовецкий порт, третий по величине город в северо-восточной части Шотландии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4e3b30"/>
                </a:solidFill>
                <a:latin typeface="Franklin Gothic Book"/>
              </a:rPr>
              <a:t>Aberdeen - the main sea and the fishing port, the third largest city in the North-Eastern part of Scotlan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Picture 3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2571840" cy="19285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" descr=""/>
          <p:cNvPicPr/>
          <p:nvPr/>
        </p:nvPicPr>
        <p:blipFill>
          <a:blip r:embed="rId3"/>
          <a:stretch/>
        </p:blipFill>
        <p:spPr>
          <a:xfrm>
            <a:off x="3429000" y="13572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5" descr=""/>
          <p:cNvPicPr/>
          <p:nvPr/>
        </p:nvPicPr>
        <p:blipFill>
          <a:blip r:embed="rId4"/>
          <a:stretch/>
        </p:blipFill>
        <p:spPr>
          <a:xfrm>
            <a:off x="6215040" y="3143160"/>
            <a:ext cx="2214720" cy="13226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6" descr=""/>
          <p:cNvPicPr/>
          <p:nvPr/>
        </p:nvPicPr>
        <p:blipFill>
          <a:blip r:embed="rId5"/>
          <a:stretch/>
        </p:blipFill>
        <p:spPr>
          <a:xfrm>
            <a:off x="214200" y="3714840"/>
            <a:ext cx="2525760" cy="22860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7" descr=""/>
          <p:cNvPicPr/>
          <p:nvPr/>
        </p:nvPicPr>
        <p:blipFill>
          <a:blip r:embed="rId6"/>
          <a:stretch/>
        </p:blipFill>
        <p:spPr>
          <a:xfrm>
            <a:off x="3000240" y="357192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1"/>
          <a:stretch/>
        </p:blipFill>
        <p:spPr>
          <a:xfrm>
            <a:off x="628560" y="920880"/>
            <a:ext cx="4235400" cy="802800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2"/>
          <p:cNvSpPr/>
          <p:nvPr/>
        </p:nvSpPr>
        <p:spPr>
          <a:xfrm>
            <a:off x="5389560" y="142920"/>
            <a:ext cx="342900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90000" tIns="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Arial"/>
              </a:rPr>
              <a:t>Лондон — столица Соединенного королевства Великобритании и Северной Ирланди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Medium"/>
              </a:rPr>
              <a:t>London is the capital of United Kingdom Great Britain and Northern 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6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6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5572080" y="500040"/>
            <a:ext cx="342900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Arial"/>
              </a:rPr>
              <a:t>Население около 7 млн. жителей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population is about 7 million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 rot="21120000">
            <a:off x="569880" y="571680"/>
            <a:ext cx="3643200" cy="28335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"/>
          <p:cNvPicPr/>
          <p:nvPr/>
        </p:nvPicPr>
        <p:blipFill>
          <a:blip r:embed="rId2"/>
          <a:stretch/>
        </p:blipFill>
        <p:spPr>
          <a:xfrm rot="780000">
            <a:off x="1837800" y="2990520"/>
            <a:ext cx="2876760" cy="33764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4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4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1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3214800" cy="2411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"/>
          <p:cNvPicPr/>
          <p:nvPr/>
        </p:nvPicPr>
        <p:blipFill>
          <a:blip r:embed="rId2"/>
          <a:stretch/>
        </p:blipFill>
        <p:spPr>
          <a:xfrm>
            <a:off x="2357280" y="1428840"/>
            <a:ext cx="4152960" cy="273672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3"/>
          <p:cNvSpPr/>
          <p:nvPr/>
        </p:nvSpPr>
        <p:spPr>
          <a:xfrm>
            <a:off x="3786120" y="214200"/>
            <a:ext cx="4929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90000" tIns="0" bIns="46800" anchor="t">
            <a:normAutofit fontScale="82000"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4e3b30"/>
                </a:solidFill>
                <a:latin typeface="Franklin Gothic Medium"/>
              </a:rPr>
              <a:t>В городе действует старейший в Европе метрополитен (с 1863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3"/>
          <a:stretch/>
        </p:blipFill>
        <p:spPr>
          <a:xfrm>
            <a:off x="5286240" y="3143160"/>
            <a:ext cx="3505320" cy="250056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5"/>
          <p:cNvSpPr/>
          <p:nvPr/>
        </p:nvSpPr>
        <p:spPr>
          <a:xfrm>
            <a:off x="500040" y="600084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The city has the oldest in Europe metro (from 186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1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animClr clrSpc="rgb">
                                      <p:cBhvr>
                                        <p:cTn id="36" dur="1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set>
                                      <p:cBhvr>
                                        <p:cTn id="37" dur="1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animClr clrSpc="rgb">
                                      <p:cBhvr>
                                        <p:cTn id="47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set>
                                      <p:cBhvr>
                                        <p:cTn id="48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1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animClr clrSpc="rgb">
                                      <p:cBhvr>
                                        <p:cTn id="58" dur="1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set>
                                      <p:cBhvr>
                                        <p:cTn id="59" dur="1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357120" y="3500280"/>
            <a:ext cx="311940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en-US" sz="6000" spc="-1" strike="noStrike">
                <a:solidFill>
                  <a:srgbClr val="4e3b30"/>
                </a:solidFill>
                <a:latin typeface="Bauhaus 93"/>
              </a:rPr>
              <a:t>Double Decker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3268800" cy="23670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"/>
          <p:cNvPicPr/>
          <p:nvPr/>
        </p:nvPicPr>
        <p:blipFill>
          <a:blip r:embed="rId2"/>
          <a:stretch/>
        </p:blipFill>
        <p:spPr>
          <a:xfrm>
            <a:off x="4214880" y="285840"/>
            <a:ext cx="3425760" cy="18572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"/>
          <p:cNvPicPr/>
          <p:nvPr/>
        </p:nvPicPr>
        <p:blipFill>
          <a:blip r:embed="rId3"/>
          <a:stretch/>
        </p:blipFill>
        <p:spPr>
          <a:xfrm>
            <a:off x="3786120" y="2714760"/>
            <a:ext cx="4977000" cy="33145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003 0.00139 C 0.13403 -0.08796 0.08403 -0.16528 0.01701 -0.1706 C -0.04705 -0.17731 -0.10694 -0.11736 -0.11094 -0.03056 C -0.11597 0.04931 -0.07396 0.12407 -0.01389 0.1294 C 0.04097 0.13333 0.09306 0.08403 0.09705 0.00949 C 0.10104 -0.05856 0.06597 -0.12269 0.0151 -0.12801 C -0.03194 -0.13194 -0.07604 -0.09051 -0.07899 -0.02801 C -0.08194 0.02801 -0.05399 0.08264 -0.01198 0.08542 C 0.02604 0.08935 0.06198 0.05741 0.0651 0.00671 C 0.06701 -0.03866 0.04601 -0.08264 0.01302 -0.08519 C -0.01597 -0.08796 -0.04497 -0.06389 -0.04705 -0.02523 C -0.04896 0.0081 -0.03403 0.04005 -0.0099 0.04282 C 0.01007 0.04537 0.03108 0.03079 0.03212 0.00417 C 0.03403 -0.01736 0.02604 -0.04005 0.01111 -0.04259 C -0.00104 -0.04259 -0.01302 -0.03727 -0.01493 -0.02269 C -0.01597 -0.01319 -0.01389 -0.00394 -0.00799 1.11022 -16 C -0.00503 0.00139 -0.00295 0.00139 2.77778 -7 1.11022 -16">
                                      <p:cBhvr>
                                        <p:cTn id="70" dur="3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6286680" y="2786040"/>
            <a:ext cx="2261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90000" tIns="0" bIns="46800" anchor="t">
            <a:normAutofit fontScale="86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Medium"/>
              </a:rPr>
              <a:t>Также в Лондоне имеется общественный водный транспор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571680" y="214200"/>
            <a:ext cx="3544560" cy="23576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"/>
          <p:cNvPicPr/>
          <p:nvPr/>
        </p:nvPicPr>
        <p:blipFill>
          <a:blip r:embed="rId2"/>
          <a:stretch/>
        </p:blipFill>
        <p:spPr>
          <a:xfrm>
            <a:off x="5429160" y="285840"/>
            <a:ext cx="3429000" cy="21430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"/>
          <p:cNvPicPr/>
          <p:nvPr/>
        </p:nvPicPr>
        <p:blipFill>
          <a:blip r:embed="rId3"/>
          <a:stretch/>
        </p:blipFill>
        <p:spPr>
          <a:xfrm rot="21300000">
            <a:off x="2450880" y="2916000"/>
            <a:ext cx="3120840" cy="234144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5"/>
          <p:cNvSpPr/>
          <p:nvPr/>
        </p:nvSpPr>
        <p:spPr>
          <a:xfrm>
            <a:off x="642960" y="5500800"/>
            <a:ext cx="70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Also in London there is a public water trans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1"/>
          <p:cNvSpPr/>
          <p:nvPr/>
        </p:nvSpPr>
        <p:spPr>
          <a:xfrm>
            <a:off x="642960" y="285840"/>
            <a:ext cx="4214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90000" tIns="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Знаменитые улицы гор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3000600" cy="2000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"/>
          <p:cNvPicPr/>
          <p:nvPr/>
        </p:nvPicPr>
        <p:blipFill>
          <a:blip r:embed="rId2"/>
          <a:stretch/>
        </p:blipFill>
        <p:spPr>
          <a:xfrm>
            <a:off x="1571760" y="3714840"/>
            <a:ext cx="3917880" cy="2787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3"/>
          <a:stretch/>
        </p:blipFill>
        <p:spPr>
          <a:xfrm>
            <a:off x="5643720" y="357120"/>
            <a:ext cx="3136680" cy="49291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1" descr=""/>
          <p:cNvPicPr/>
          <p:nvPr/>
        </p:nvPicPr>
        <p:blipFill>
          <a:blip r:embed="rId1"/>
          <a:stretch/>
        </p:blipFill>
        <p:spPr>
          <a:xfrm>
            <a:off x="500040" y="428760"/>
            <a:ext cx="4143240" cy="27860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"/>
          <p:cNvPicPr/>
          <p:nvPr/>
        </p:nvPicPr>
        <p:blipFill>
          <a:blip r:embed="rId2"/>
          <a:stretch/>
        </p:blipFill>
        <p:spPr>
          <a:xfrm>
            <a:off x="1143000" y="392904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"/>
          <p:cNvPicPr/>
          <p:nvPr/>
        </p:nvPicPr>
        <p:blipFill>
          <a:blip r:embed="rId3"/>
          <a:stretch/>
        </p:blipFill>
        <p:spPr>
          <a:xfrm>
            <a:off x="5286240" y="1928880"/>
            <a:ext cx="333072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1" descr=""/>
          <p:cNvPicPr/>
          <p:nvPr/>
        </p:nvPicPr>
        <p:blipFill>
          <a:blip r:embed="rId1"/>
          <a:stretch/>
        </p:blipFill>
        <p:spPr>
          <a:xfrm>
            <a:off x="1646280" y="225360"/>
            <a:ext cx="6003720" cy="11098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"/>
          <p:cNvPicPr/>
          <p:nvPr/>
        </p:nvPicPr>
        <p:blipFill>
          <a:blip r:embed="rId2"/>
          <a:stretch/>
        </p:blipFill>
        <p:spPr>
          <a:xfrm>
            <a:off x="428760" y="1214280"/>
            <a:ext cx="4000320" cy="19796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" descr=""/>
          <p:cNvPicPr/>
          <p:nvPr/>
        </p:nvPicPr>
        <p:blipFill>
          <a:blip r:embed="rId3"/>
          <a:stretch/>
        </p:blipFill>
        <p:spPr>
          <a:xfrm>
            <a:off x="357120" y="3500280"/>
            <a:ext cx="4246560" cy="27766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"/>
          <p:cNvPicPr/>
          <p:nvPr/>
        </p:nvPicPr>
        <p:blipFill>
          <a:blip r:embed="rId4"/>
          <a:stretch/>
        </p:blipFill>
        <p:spPr>
          <a:xfrm>
            <a:off x="5214960" y="1357200"/>
            <a:ext cx="3643200" cy="24289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"/>
          <p:cNvPicPr/>
          <p:nvPr/>
        </p:nvPicPr>
        <p:blipFill>
          <a:blip r:embed="rId5"/>
          <a:stretch/>
        </p:blipFill>
        <p:spPr>
          <a:xfrm>
            <a:off x="5072040" y="4071960"/>
            <a:ext cx="3289320" cy="21970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6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6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7:43:41Z</dcterms:created>
  <dc:creator>CSKA</dc:creator>
  <dc:description/>
  <dc:language>en-US</dc:language>
  <cp:lastModifiedBy>/ /</cp:lastModifiedBy>
  <dcterms:modified xsi:type="dcterms:W3CDTF">2022-12-18T11:35:20Z</dcterms:modified>
  <cp:revision>21</cp:revision>
  <dc:subject/>
  <dc:title>Города Великобритании</dc:title>
</cp:coreProperties>
</file>