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51.jpeg" ContentType="image/jpeg"/>
  <Override PartName="/ppt/media/image27.jpeg" ContentType="image/jpeg"/>
  <Override PartName="/ppt/media/image50.jpeg" ContentType="image/jpeg"/>
  <Override PartName="/ppt/media/image24.jpeg" ContentType="image/jpeg"/>
  <Override PartName="/ppt/media/image23.jpeg" ContentType="image/jpeg"/>
  <Override PartName="/ppt/media/image4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36.png" ContentType="image/png"/>
  <Override PartName="/ppt/media/image12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38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54.png" ContentType="image/png"/>
  <Override PartName="/ppt/media/image47.jpeg" ContentType="image/jpeg"/>
  <Override PartName="/ppt/media/image41.png" ContentType="image/png"/>
  <Override PartName="/ppt/media/image48.jpeg" ContentType="image/jpeg"/>
  <Override PartName="/ppt/media/image53.jpeg" ContentType="image/jpeg"/>
  <Override PartName="/ppt/media/image55.jpeg" ContentType="image/jpeg"/>
  <Override PartName="/ppt/media/image57.jpeg" ContentType="image/jpeg"/>
  <Override PartName="/ppt/media/image58.jpeg" ContentType="image/jpeg"/>
  <Override PartName="/ppt/media/image59.jpeg" ContentType="image/jpeg"/>
  <Override PartName="/ppt/media/image31.png" ContentType="image/png"/>
  <Override PartName="/ppt/media/image37.jpeg" ContentType="image/jpeg"/>
  <Override PartName="/ppt/media/image33.jpeg" ContentType="image/jpeg"/>
  <Override PartName="/ppt/media/image32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43.jpeg" ContentType="image/jpeg"/>
  <Override PartName="/ppt/media/image5.png" ContentType="image/png"/>
  <Override PartName="/ppt/media/image29.jpeg" ContentType="image/jpeg"/>
  <Override PartName="/ppt/media/image52.jpeg" ContentType="image/jpeg"/>
  <Override PartName="/ppt/media/image39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7.png" ContentType="image/png"/>
  <Override PartName="/ppt/media/image3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37E0F-4949-4B6A-B85C-EFD7705D96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A4207-35CC-4DF5-8F6E-8321B6B8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FDCB6-1970-42F3-A0E4-2A9E1FF6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92906-1754-4D58-8271-16C3BB3F8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560" y="-1746360"/>
            <a:ext cx="86850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C3223-3946-442A-AF7B-CDD031265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E4BB7-EEA3-463E-A42E-F1F50ABF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0C2DD-7C17-4E5C-8667-F7C26C7F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B61E4-6FCC-4131-8F29-F76835ED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F134B-1B3A-4946-AFCF-6FF0D7DD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1D8B0-2669-4AE8-B449-9DEF9DE8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F84EC-F00D-4A7D-AAFA-9874AD0306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261D0-7CAD-4BDC-9E95-80AEACAA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3689C-D36B-4E6E-B55F-011F3BFBD8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4F78F8-A771-4C58-9545-91A55DC5E9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560" y="-326880"/>
            <a:ext cx="86850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F2362-2C35-4CA2-816D-BAA2175F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E3A308-5BD5-4D34-A9A0-661A3A5C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C2499-B2EE-4CE5-B4DD-355D41AB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842FF9-6AD7-4613-B480-E35C3983F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560" y="-1746360"/>
            <a:ext cx="86850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F85464-40A9-493D-813F-4D0425CCA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3E237B-F2AB-4EA5-A3CB-DEBA2639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560" y="-326880"/>
            <a:ext cx="86850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AC6E2-3E35-4170-B426-B491B708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FFD19F-62A2-4652-9756-884D2481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6A0C38-63C6-4C00-A5A1-FC84737B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703089-2B2E-49C2-BA21-154C510F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10A374-C596-4BD1-A972-240BFFE9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E5CAE-7639-43CE-991D-A5F2FE9D11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F048-CE0B-4509-84C8-8D0C65E65E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560" y="-326880"/>
            <a:ext cx="86850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8C625-03CE-43D3-BA1C-0EA53DFD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EFE93-FAD9-403C-BEDB-F6A4F02B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08B2-39B7-43D9-92C9-CACF2E71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455F5-1CD6-4A8B-B688-5C29FB6F7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5F281-8645-45EA-A48E-026324E7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560" y="-1746360"/>
            <a:ext cx="86850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C15F-256D-4DB1-96FC-E90EAAB28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52763-B2E4-483C-9EA8-480EB027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7472-191A-40DC-8CAB-283AE6A6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0E12-0DB4-4ED8-94AF-D7C3F7C0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F4AB-3D33-4CC4-B688-17C4B3AF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153A-E954-4821-8697-27D31E49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A24A7-DC49-4349-B485-89BBF5F469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96DA5B-3845-4C75-B5EB-79F2E80B02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560" y="-326880"/>
            <a:ext cx="86850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B303D7-5D58-4ED7-BBBE-35407F24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843AE4-A728-40B4-B03A-E9A07078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8B496-C8ED-4CFA-A018-35AEFCB1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4C00E8-A34E-43DF-B52A-CFE8A62D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0C8570-6E66-4579-B819-437C2C7FB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560" y="-1746360"/>
            <a:ext cx="86850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311796-79B0-45BB-8579-7145660FD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DD72C0-33C3-478F-BD48-B8D216A1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8003CC-629B-4CFC-9B93-188B0A0B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CFC962-B907-4855-8D6D-D7FB1297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2CEFAB-C938-4ADA-A0E2-1013B4CF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4772E2-59C3-4FC6-AE09-ED529971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FE780F-FFC8-44C0-BA4B-1BE06DF238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2E8B32-ADED-4E4C-BEB1-B5CD348E7A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C8DC5-31C0-4A40-9B50-E7E4558D0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560" y="-326880"/>
            <a:ext cx="86850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CBEF31-B5F6-4387-B7DD-5E20590B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D58ECB-50A1-49A1-B324-3A5FFCA4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3F93DE-D1AB-4F70-9D55-0E270891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BFDDAC-1B1E-4724-9399-6D41CE6B9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560" y="-1746360"/>
            <a:ext cx="86850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2EEE61-7A33-4415-8188-C457C6FB6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FBB13C-299A-4C47-B0C5-AC5C573F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6DD2AD-D029-4013-B77D-ABBB2434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98CB31-5A68-4EB9-A16A-63857F44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7E159F-BA23-48BA-83FC-2F68D71D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5C84AE-0733-42E1-970E-E8D223BC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560" y="-1746360"/>
            <a:ext cx="86850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9C320-CA56-420A-9732-260AF929C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D49DFA-F935-4A82-834C-4CCFF8D86D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64341-AAB0-450D-B12B-E696058C1F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560" y="-326880"/>
            <a:ext cx="86850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B6359-8B05-49B2-8FFA-79852E16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74D74-01C6-4BE9-9C17-193D8FCF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D0841-6AD8-4FBA-87AA-63714B13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555D3-2CD4-4CD8-B690-FDDF3A5DA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560" y="-1746360"/>
            <a:ext cx="86850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19661-8FDA-4900-9E7A-F6188F9BC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2422C-F0B3-48CA-AC7D-16D8D2BD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A4918-CE07-4EF2-8F1F-8C072916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BA9E3-0ADC-4DCF-AEDF-BFC8B52F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B42E3-B87E-49C6-8F6C-4818581D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030DA-340E-4FC6-9AAB-07091C73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8F95E-1523-41DD-9DFE-2FE272DC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84FBF-6444-45A4-A5CA-E74EE9882A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7982F9-532C-4DD2-BD65-AAC148572B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560" y="-326880"/>
            <a:ext cx="86850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85167D-4305-4167-9F7D-F8BA81DC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EF94C1-7A13-4BEC-8440-3B0C449F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C86FB9-D877-432C-8CC0-3032DAC4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23E17D-EB75-4093-933A-162B52E4C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560" y="-1746360"/>
            <a:ext cx="86850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551E55-6BCC-488D-9CED-D5365A7E7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622C2F-DC03-4371-94CE-356EC8D2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8D35D-E662-4C89-92AB-1030FAD3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1BCD4E-2235-4C27-803F-6B82B376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07863E-38B3-4762-8770-EE41720A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E2F21F-2411-4EFF-AE05-65B2A546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4BC30F-0EE9-4231-BF86-17AD9B6F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BA8BFC-8E21-4B97-B052-0600A37016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C4262B-F4EC-4A47-B2A5-8CFACC94BC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560" y="-326880"/>
            <a:ext cx="86850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1AA718-FE8C-422B-B709-63ED3B7E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1EEEA1-4D98-48EF-9AA4-6EF71412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A5AF7B-91FA-48C6-A987-9C537FB1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706240-CF78-4C5B-A64B-3C92FEF47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D04E0-15EA-4DFB-B7A5-9E669F0B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560" y="-1746360"/>
            <a:ext cx="86850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0996CB-9A6B-4DF5-84BE-43DF69EA8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AEF3F2-4337-48A6-A83C-FDFA84D3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8B430D-3861-43CF-A6E7-D03601A5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81D6F2-04F7-4DE8-BA5B-1D1C6893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14752B-55A2-4FB8-B2C3-977D8883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08C2E7-6D0B-43AE-B93E-58986221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ED2E66-04A7-4148-A732-641DFE61E3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C8EEF-4FF9-4158-9A4A-4CED5B67E0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560" y="-326880"/>
            <a:ext cx="86850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80518-CF4D-4D67-8588-8D50B0B2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E6016-B404-456E-A0E0-A878B687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1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Text Box 3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12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8229600" y="6477120"/>
            <a:ext cx="760320" cy="2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fld id="{37135D2D-1B09-4EE8-91E3-D4F7F8F2D8F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9" name="Picture 10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Text Box 11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" name="Group 12"/>
          <p:cNvGrpSpPr/>
          <p:nvPr/>
        </p:nvGrpSpPr>
        <p:grpSpPr>
          <a:xfrm>
            <a:off x="506520" y="1047600"/>
            <a:ext cx="8642160" cy="24120"/>
            <a:chOff x="506520" y="1047600"/>
            <a:chExt cx="8642160" cy="24120"/>
          </a:xfrm>
        </p:grpSpPr>
        <p:pic>
          <p:nvPicPr>
            <p:cNvPr id="12" name="Picture 13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21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Text Box 14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"/>
          <p:cNvGrpSpPr/>
          <p:nvPr/>
        </p:nvGrpSpPr>
        <p:grpSpPr>
          <a:xfrm>
            <a:off x="506520" y="5340240"/>
            <a:ext cx="8642160" cy="22320"/>
            <a:chOff x="506520" y="5340240"/>
            <a:chExt cx="8642160" cy="22320"/>
          </a:xfrm>
        </p:grpSpPr>
        <p:pic>
          <p:nvPicPr>
            <p:cNvPr id="51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3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12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3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8229240" y="6473520"/>
            <a:ext cx="7570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21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21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7ABF4D9-AD30-4D5D-949B-2CC07F52102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1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95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3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4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98" name="Picture 5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6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7"/>
          <p:cNvGrpSpPr/>
          <p:nvPr/>
        </p:nvGrpSpPr>
        <p:grpSpPr>
          <a:xfrm>
            <a:off x="506520" y="1047600"/>
            <a:ext cx="8642160" cy="24120"/>
            <a:chOff x="506520" y="1047600"/>
            <a:chExt cx="8642160" cy="24120"/>
          </a:xfrm>
        </p:grpSpPr>
        <p:pic>
          <p:nvPicPr>
            <p:cNvPr id="101" name="Picture 8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21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9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12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5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8229240" y="6473520"/>
            <a:ext cx="7570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21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21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619B1B1-D666-454C-9D0A-255876F1072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1"/>
          <p:cNvGrpSpPr/>
          <p:nvPr/>
        </p:nvGrpSpPr>
        <p:grpSpPr>
          <a:xfrm>
            <a:off x="506520" y="3432240"/>
            <a:ext cx="8642160" cy="22320"/>
            <a:chOff x="506520" y="3432240"/>
            <a:chExt cx="8642160" cy="22320"/>
          </a:xfrm>
        </p:grpSpPr>
        <p:pic>
          <p:nvPicPr>
            <p:cNvPr id="145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3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12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229600" y="6477120"/>
            <a:ext cx="760320" cy="2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21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21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0F0A608-66CB-4A90-ABDF-CAF90520130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1"/>
          <p:cNvGrpSpPr/>
          <p:nvPr/>
        </p:nvGrpSpPr>
        <p:grpSpPr>
          <a:xfrm>
            <a:off x="506520" y="6010200"/>
            <a:ext cx="8642160" cy="23760"/>
            <a:chOff x="506520" y="6010200"/>
            <a:chExt cx="8642160" cy="23760"/>
          </a:xfrm>
        </p:grpSpPr>
        <p:pic>
          <p:nvPicPr>
            <p:cNvPr id="189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21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3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12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9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0"/>
          </p:nvPr>
        </p:nvSpPr>
        <p:spPr>
          <a:xfrm>
            <a:off x="8229600" y="6476760"/>
            <a:ext cx="7603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21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21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8008D2C-7723-4BC4-A3DB-BD1549A1261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12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1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2"/>
          </p:nvPr>
        </p:nvSpPr>
        <p:spPr>
          <a:xfrm>
            <a:off x="8229600" y="6477120"/>
            <a:ext cx="760320" cy="2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21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21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C605231-D1BF-4B78-82EF-528FE4701BF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1"/>
          <p:cNvGrpSpPr/>
          <p:nvPr/>
        </p:nvGrpSpPr>
        <p:grpSpPr>
          <a:xfrm>
            <a:off x="506520" y="5840280"/>
            <a:ext cx="8642160" cy="22320"/>
            <a:chOff x="506520" y="5840280"/>
            <a:chExt cx="8642160" cy="22320"/>
          </a:xfrm>
        </p:grpSpPr>
        <p:pic>
          <p:nvPicPr>
            <p:cNvPr id="274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Text Box 3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12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3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14"/>
          </p:nvPr>
        </p:nvSpPr>
        <p:spPr>
          <a:xfrm>
            <a:off x="8229600" y="6477120"/>
            <a:ext cx="760320" cy="2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21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21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F02A6C5-426E-422C-A1C8-CA5ACB140A6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12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5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sldNum" idx="16"/>
          </p:nvPr>
        </p:nvSpPr>
        <p:spPr>
          <a:xfrm>
            <a:off x="8229600" y="6477120"/>
            <a:ext cx="760320" cy="2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21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21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D2BFBCE-B1AE-4821-A7A9-AE84717E602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12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7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sldNum" idx="18"/>
          </p:nvPr>
        </p:nvSpPr>
        <p:spPr>
          <a:xfrm>
            <a:off x="8229600" y="6477120"/>
            <a:ext cx="760320" cy="2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21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21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0935139-38AD-4815-8BD0-E7353752B8E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image" Target="../media/image58.jpeg"/><Relationship Id="rId6" Type="http://schemas.openxmlformats.org/officeDocument/2006/relationships/image" Target="../media/image59.jpe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1" descr=""/>
          <p:cNvPicPr/>
          <p:nvPr/>
        </p:nvPicPr>
        <p:blipFill>
          <a:blip r:embed="rId1"/>
          <a:stretch/>
        </p:blipFill>
        <p:spPr>
          <a:xfrm>
            <a:off x="3932280" y="176040"/>
            <a:ext cx="4595760" cy="160344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2"/>
          <p:cNvSpPr/>
          <p:nvPr/>
        </p:nvSpPr>
        <p:spPr>
          <a:xfrm>
            <a:off x="4143240" y="4786200"/>
            <a:ext cx="4286520" cy="1285920"/>
          </a:xfrm>
          <a:prstGeom prst="rect">
            <a:avLst/>
          </a:prstGeom>
          <a:gradFill rotWithShape="0">
            <a:gsLst>
              <a:gs pos="0">
                <a:srgbClr val="fcf2eb"/>
              </a:gs>
              <a:gs pos="100000">
                <a:srgbClr val="f2d9c6"/>
              </a:gs>
            </a:gsLst>
            <a:lin ang="5400000"/>
          </a:gradFill>
          <a:ln w="11520">
            <a:solidFill>
              <a:srgbClr val="c3986d"/>
            </a:solidFill>
            <a:miter/>
          </a:ln>
          <a:effectLst>
            <a:outerShdw dist="24840" dir="5400000" blurRad="0" rotWithShape="0">
              <a:srgbClr val="7e572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443329"/>
                </a:solidFill>
                <a:latin typeface="Aharoni"/>
              </a:rPr>
              <a:t>The towns of Great Brit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Picture 3" descr=""/>
          <p:cNvPicPr/>
          <p:nvPr/>
        </p:nvPicPr>
        <p:blipFill>
          <a:blip r:embed="rId2"/>
          <a:stretch/>
        </p:blipFill>
        <p:spPr>
          <a:xfrm>
            <a:off x="428760" y="142920"/>
            <a:ext cx="3143160" cy="60721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"/>
          <p:cNvPicPr/>
          <p:nvPr/>
        </p:nvPicPr>
        <p:blipFill>
          <a:blip r:embed="rId3"/>
          <a:stretch/>
        </p:blipFill>
        <p:spPr>
          <a:xfrm>
            <a:off x="4429080" y="1419120"/>
            <a:ext cx="3065400" cy="28576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1" descr=""/>
          <p:cNvPicPr/>
          <p:nvPr/>
        </p:nvPicPr>
        <p:blipFill>
          <a:blip r:embed="rId1"/>
          <a:stretch/>
        </p:blipFill>
        <p:spPr>
          <a:xfrm>
            <a:off x="573120" y="291960"/>
            <a:ext cx="8351640" cy="11098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" descr=""/>
          <p:cNvPicPr/>
          <p:nvPr/>
        </p:nvPicPr>
        <p:blipFill>
          <a:blip r:embed="rId2"/>
          <a:stretch/>
        </p:blipFill>
        <p:spPr>
          <a:xfrm>
            <a:off x="1071720" y="1143000"/>
            <a:ext cx="7127640" cy="22860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3" descr=""/>
          <p:cNvPicPr/>
          <p:nvPr/>
        </p:nvPicPr>
        <p:blipFill>
          <a:blip r:embed="rId3"/>
          <a:stretch/>
        </p:blipFill>
        <p:spPr>
          <a:xfrm>
            <a:off x="2428920" y="3500280"/>
            <a:ext cx="4051080" cy="30355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4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6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6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8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"/>
          <p:cNvSpPr/>
          <p:nvPr/>
        </p:nvSpPr>
        <p:spPr>
          <a:xfrm>
            <a:off x="5000760" y="330120"/>
            <a:ext cx="3990960" cy="59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Medium"/>
              </a:rPr>
              <a:t>В Ливерпуле имеется 2 профессиональных футбольных команды, Ливерпуль и Эверто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There are 2 professional football team in the city of Liverpool, Liverpool FC and Everton F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Picture 2" descr=""/>
          <p:cNvPicPr/>
          <p:nvPr/>
        </p:nvPicPr>
        <p:blipFill>
          <a:blip r:embed="rId1"/>
          <a:stretch/>
        </p:blipFill>
        <p:spPr>
          <a:xfrm>
            <a:off x="428760" y="285840"/>
            <a:ext cx="3571920" cy="26780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3" descr=""/>
          <p:cNvPicPr/>
          <p:nvPr/>
        </p:nvPicPr>
        <p:blipFill>
          <a:blip r:embed="rId2"/>
          <a:stretch/>
        </p:blipFill>
        <p:spPr>
          <a:xfrm>
            <a:off x="1285920" y="350028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1" descr=""/>
          <p:cNvPicPr/>
          <p:nvPr/>
        </p:nvPicPr>
        <p:blipFill>
          <a:blip r:embed="rId1"/>
          <a:stretch/>
        </p:blipFill>
        <p:spPr>
          <a:xfrm>
            <a:off x="506520" y="171360"/>
            <a:ext cx="7991280" cy="7858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"/>
          <p:cNvPicPr/>
          <p:nvPr/>
        </p:nvPicPr>
        <p:blipFill>
          <a:blip r:embed="rId2"/>
          <a:stretch/>
        </p:blipFill>
        <p:spPr>
          <a:xfrm>
            <a:off x="357120" y="857160"/>
            <a:ext cx="7929720" cy="22860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3" descr=""/>
          <p:cNvPicPr/>
          <p:nvPr/>
        </p:nvPicPr>
        <p:blipFill>
          <a:blip r:embed="rId3"/>
          <a:stretch/>
        </p:blipFill>
        <p:spPr>
          <a:xfrm>
            <a:off x="5929200" y="3357720"/>
            <a:ext cx="3110040" cy="20714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4" descr=""/>
          <p:cNvPicPr/>
          <p:nvPr/>
        </p:nvPicPr>
        <p:blipFill>
          <a:blip r:embed="rId4"/>
          <a:stretch/>
        </p:blipFill>
        <p:spPr>
          <a:xfrm>
            <a:off x="428760" y="3500280"/>
            <a:ext cx="1793880" cy="26672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5" descr=""/>
          <p:cNvPicPr/>
          <p:nvPr/>
        </p:nvPicPr>
        <p:blipFill>
          <a:blip r:embed="rId5"/>
          <a:stretch/>
        </p:blipFill>
        <p:spPr>
          <a:xfrm>
            <a:off x="2643120" y="3500280"/>
            <a:ext cx="3143160" cy="23576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3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6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6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6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6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1" descr=""/>
          <p:cNvPicPr/>
          <p:nvPr/>
        </p:nvPicPr>
        <p:blipFill>
          <a:blip r:embed="rId1"/>
          <a:stretch/>
        </p:blipFill>
        <p:spPr>
          <a:xfrm>
            <a:off x="360360" y="176040"/>
            <a:ext cx="4565520" cy="11098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2" descr=""/>
          <p:cNvPicPr/>
          <p:nvPr/>
        </p:nvPicPr>
        <p:blipFill>
          <a:blip r:embed="rId2"/>
          <a:stretch/>
        </p:blipFill>
        <p:spPr>
          <a:xfrm>
            <a:off x="357120" y="1000080"/>
            <a:ext cx="3810240" cy="22860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3" descr=""/>
          <p:cNvPicPr/>
          <p:nvPr/>
        </p:nvPicPr>
        <p:blipFill>
          <a:blip r:embed="rId3"/>
          <a:stretch/>
        </p:blipFill>
        <p:spPr>
          <a:xfrm>
            <a:off x="5072040" y="357120"/>
            <a:ext cx="3181320" cy="23814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4" descr=""/>
          <p:cNvPicPr/>
          <p:nvPr/>
        </p:nvPicPr>
        <p:blipFill>
          <a:blip r:embed="rId4"/>
          <a:stretch/>
        </p:blipFill>
        <p:spPr>
          <a:xfrm>
            <a:off x="6000840" y="2857680"/>
            <a:ext cx="2681280" cy="357156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5" descr=""/>
          <p:cNvPicPr/>
          <p:nvPr/>
        </p:nvPicPr>
        <p:blipFill>
          <a:blip r:embed="rId5"/>
          <a:stretch/>
        </p:blipFill>
        <p:spPr>
          <a:xfrm>
            <a:off x="1000080" y="3643200"/>
            <a:ext cx="4143600" cy="25322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1"/>
          <p:cNvSpPr/>
          <p:nvPr/>
        </p:nvSpPr>
        <p:spPr>
          <a:xfrm>
            <a:off x="5786280" y="285840"/>
            <a:ext cx="3071880" cy="60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90000" tIns="0" bIns="46800" anchor="t">
            <a:normAutofit fontScale="99000"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Medium"/>
              </a:rPr>
              <a:t>В Кембридже есть несколько музее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here are several museums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in Cambridge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1" name="Picture 2" descr=""/>
          <p:cNvPicPr/>
          <p:nvPr/>
        </p:nvPicPr>
        <p:blipFill>
          <a:blip r:embed="rId1"/>
          <a:stretch/>
        </p:blipFill>
        <p:spPr>
          <a:xfrm rot="21060000">
            <a:off x="293760" y="375840"/>
            <a:ext cx="3197160" cy="220032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3" descr=""/>
          <p:cNvPicPr/>
          <p:nvPr/>
        </p:nvPicPr>
        <p:blipFill>
          <a:blip r:embed="rId2"/>
          <a:stretch/>
        </p:blipFill>
        <p:spPr>
          <a:xfrm rot="720000">
            <a:off x="4420800" y="1378080"/>
            <a:ext cx="2598840" cy="29764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4" descr=""/>
          <p:cNvPicPr/>
          <p:nvPr/>
        </p:nvPicPr>
        <p:blipFill>
          <a:blip r:embed="rId3"/>
          <a:stretch/>
        </p:blipFill>
        <p:spPr>
          <a:xfrm>
            <a:off x="428760" y="3357720"/>
            <a:ext cx="3287520" cy="25714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1" descr=""/>
          <p:cNvPicPr/>
          <p:nvPr/>
        </p:nvPicPr>
        <p:blipFill>
          <a:blip r:embed="rId1"/>
          <a:stretch/>
        </p:blipFill>
        <p:spPr>
          <a:xfrm>
            <a:off x="506520" y="244440"/>
            <a:ext cx="8283600" cy="858960"/>
          </a:xfrm>
          <a:prstGeom prst="rect">
            <a:avLst/>
          </a:prstGeom>
          <a:ln w="0">
            <a:noFill/>
          </a:ln>
        </p:spPr>
      </p:pic>
      <p:sp>
        <p:nvSpPr>
          <p:cNvPr id="455" name="Text Box 2"/>
          <p:cNvSpPr/>
          <p:nvPr/>
        </p:nvSpPr>
        <p:spPr>
          <a:xfrm>
            <a:off x="5786280" y="857160"/>
            <a:ext cx="3143520" cy="54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90000" tIns="0" bIns="46800"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Medium"/>
              </a:rPr>
              <a:t>Белфаст — главный город  и порт Северной Ирландии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Belfast is the main city and port of Northern Irelan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6" name="Picture 3" descr=""/>
          <p:cNvPicPr/>
          <p:nvPr/>
        </p:nvPicPr>
        <p:blipFill>
          <a:blip r:embed="rId2"/>
          <a:stretch/>
        </p:blipFill>
        <p:spPr>
          <a:xfrm>
            <a:off x="357120" y="1285920"/>
            <a:ext cx="5396040" cy="193824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4" descr=""/>
          <p:cNvPicPr/>
          <p:nvPr/>
        </p:nvPicPr>
        <p:blipFill>
          <a:blip r:embed="rId3"/>
          <a:stretch/>
        </p:blipFill>
        <p:spPr>
          <a:xfrm>
            <a:off x="5857920" y="2643120"/>
            <a:ext cx="2622600" cy="15001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5" descr=""/>
          <p:cNvPicPr/>
          <p:nvPr/>
        </p:nvPicPr>
        <p:blipFill>
          <a:blip r:embed="rId4"/>
          <a:stretch/>
        </p:blipFill>
        <p:spPr>
          <a:xfrm>
            <a:off x="142920" y="3857760"/>
            <a:ext cx="2149560" cy="15714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6" descr=""/>
          <p:cNvPicPr/>
          <p:nvPr/>
        </p:nvPicPr>
        <p:blipFill>
          <a:blip r:embed="rId5"/>
          <a:stretch/>
        </p:blipFill>
        <p:spPr>
          <a:xfrm>
            <a:off x="2928960" y="4643280"/>
            <a:ext cx="2674800" cy="17859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1" descr=""/>
          <p:cNvPicPr/>
          <p:nvPr/>
        </p:nvPicPr>
        <p:blipFill>
          <a:blip r:embed="rId1"/>
          <a:stretch/>
        </p:blipFill>
        <p:spPr>
          <a:xfrm>
            <a:off x="506520" y="171360"/>
            <a:ext cx="8356320" cy="865440"/>
          </a:xfrm>
          <a:prstGeom prst="rect">
            <a:avLst/>
          </a:prstGeom>
          <a:ln w="0">
            <a:noFill/>
          </a:ln>
        </p:spPr>
      </p:pic>
      <p:sp>
        <p:nvSpPr>
          <p:cNvPr id="461" name="Text Box 2"/>
          <p:cNvSpPr/>
          <p:nvPr/>
        </p:nvSpPr>
        <p:spPr>
          <a:xfrm>
            <a:off x="6072120" y="642960"/>
            <a:ext cx="2857680" cy="56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90000" tIns="0" bIns="46800" anchor="t">
            <a:norm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4e3b30"/>
                </a:solidFill>
                <a:latin typeface="Franklin Gothic Medium"/>
              </a:rPr>
              <a:t>Абердин — главный морской и рыболовецкий порт, третий по величине город в северо-восточной части Шотландии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1700" spc="-1" strike="noStrike">
                <a:solidFill>
                  <a:srgbClr val="4e3b30"/>
                </a:solidFill>
                <a:latin typeface="Franklin Gothic Book"/>
              </a:rPr>
              <a:t>Aberdeen - the main sea and the fishing port, the third largest city in the North-Eastern part of Scotland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2" name="Picture 3" descr=""/>
          <p:cNvPicPr/>
          <p:nvPr/>
        </p:nvPicPr>
        <p:blipFill>
          <a:blip r:embed="rId2"/>
          <a:stretch/>
        </p:blipFill>
        <p:spPr>
          <a:xfrm>
            <a:off x="214200" y="1071720"/>
            <a:ext cx="2571840" cy="192852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4" descr=""/>
          <p:cNvPicPr/>
          <p:nvPr/>
        </p:nvPicPr>
        <p:blipFill>
          <a:blip r:embed="rId3"/>
          <a:stretch/>
        </p:blipFill>
        <p:spPr>
          <a:xfrm>
            <a:off x="3429000" y="13572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5" descr=""/>
          <p:cNvPicPr/>
          <p:nvPr/>
        </p:nvPicPr>
        <p:blipFill>
          <a:blip r:embed="rId4"/>
          <a:stretch/>
        </p:blipFill>
        <p:spPr>
          <a:xfrm>
            <a:off x="6215040" y="3143160"/>
            <a:ext cx="2214720" cy="132264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6" descr=""/>
          <p:cNvPicPr/>
          <p:nvPr/>
        </p:nvPicPr>
        <p:blipFill>
          <a:blip r:embed="rId5"/>
          <a:stretch/>
        </p:blipFill>
        <p:spPr>
          <a:xfrm>
            <a:off x="214200" y="3714840"/>
            <a:ext cx="2525760" cy="22860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7" descr=""/>
          <p:cNvPicPr/>
          <p:nvPr/>
        </p:nvPicPr>
        <p:blipFill>
          <a:blip r:embed="rId6"/>
          <a:stretch/>
        </p:blipFill>
        <p:spPr>
          <a:xfrm>
            <a:off x="3000240" y="3571920"/>
            <a:ext cx="2667240" cy="20001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1"/>
          <a:stretch/>
        </p:blipFill>
        <p:spPr>
          <a:xfrm>
            <a:off x="628560" y="920880"/>
            <a:ext cx="4235400" cy="802800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2"/>
          <p:cNvSpPr/>
          <p:nvPr/>
        </p:nvSpPr>
        <p:spPr>
          <a:xfrm>
            <a:off x="5389560" y="142920"/>
            <a:ext cx="3429000" cy="60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90000" tIns="0" bIns="46800"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Arial"/>
              </a:rPr>
              <a:t>Лондон — столица Соединенного королевства Великобритании и Северной Ирланди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Medium"/>
              </a:rPr>
              <a:t>London is the capital of United Kingdom Great Britain and Northern Ire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6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6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1"/>
          <p:cNvSpPr/>
          <p:nvPr/>
        </p:nvSpPr>
        <p:spPr>
          <a:xfrm>
            <a:off x="5572080" y="500040"/>
            <a:ext cx="3429000" cy="59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Arial"/>
              </a:rPr>
              <a:t>Население около 7 млн. жителей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population is about 7 million peo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 rot="21120000">
            <a:off x="569880" y="571680"/>
            <a:ext cx="3643200" cy="28335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" descr=""/>
          <p:cNvPicPr/>
          <p:nvPr/>
        </p:nvPicPr>
        <p:blipFill>
          <a:blip r:embed="rId2"/>
          <a:stretch/>
        </p:blipFill>
        <p:spPr>
          <a:xfrm rot="780000">
            <a:off x="1837800" y="2990520"/>
            <a:ext cx="2876760" cy="33764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4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2000" fill="hold"/>
                                        <p:tgtEl>
                                          <p:spTgt spid="4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1" descr=""/>
          <p:cNvPicPr/>
          <p:nvPr/>
        </p:nvPicPr>
        <p:blipFill>
          <a:blip r:embed="rId1"/>
          <a:stretch/>
        </p:blipFill>
        <p:spPr>
          <a:xfrm>
            <a:off x="142920" y="142920"/>
            <a:ext cx="3214800" cy="24112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" descr=""/>
          <p:cNvPicPr/>
          <p:nvPr/>
        </p:nvPicPr>
        <p:blipFill>
          <a:blip r:embed="rId2"/>
          <a:stretch/>
        </p:blipFill>
        <p:spPr>
          <a:xfrm>
            <a:off x="2357280" y="1428840"/>
            <a:ext cx="4152960" cy="2736720"/>
          </a:xfrm>
          <a:prstGeom prst="rect">
            <a:avLst/>
          </a:prstGeom>
          <a:ln w="0">
            <a:noFill/>
          </a:ln>
        </p:spPr>
      </p:pic>
      <p:sp>
        <p:nvSpPr>
          <p:cNvPr id="410" name="Text Box 3"/>
          <p:cNvSpPr/>
          <p:nvPr/>
        </p:nvSpPr>
        <p:spPr>
          <a:xfrm>
            <a:off x="3786120" y="214200"/>
            <a:ext cx="4929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90000" tIns="0" bIns="46800" anchor="t">
            <a:normAutofit fontScale="82000"/>
          </a:bodyPr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4e3b30"/>
                </a:solidFill>
                <a:latin typeface="Franklin Gothic Medium"/>
              </a:rPr>
              <a:t>В городе действует старейший в Европе метрополитен (с 1863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Picture 4" descr=""/>
          <p:cNvPicPr/>
          <p:nvPr/>
        </p:nvPicPr>
        <p:blipFill>
          <a:blip r:embed="rId3"/>
          <a:stretch/>
        </p:blipFill>
        <p:spPr>
          <a:xfrm>
            <a:off x="5286240" y="3143160"/>
            <a:ext cx="3505320" cy="250056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5"/>
          <p:cNvSpPr/>
          <p:nvPr/>
        </p:nvSpPr>
        <p:spPr>
          <a:xfrm>
            <a:off x="500040" y="600084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The city has the oldest in Europe metro (from 186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1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644e"/>
                                      </p:to>
                                    </p:animClr>
                                    <p:animClr clrSpc="rgb">
                                      <p:cBhvr>
                                        <p:cTn id="36" dur="1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5644e"/>
                                      </p:to>
                                    </p:animClr>
                                    <p:set>
                                      <p:cBhvr>
                                        <p:cTn id="37" dur="1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1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644e"/>
                                      </p:to>
                                    </p:animClr>
                                    <p:animClr clrSpc="rgb">
                                      <p:cBhvr>
                                        <p:cTn id="47" dur="1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5644e"/>
                                      </p:to>
                                    </p:animClr>
                                    <p:set>
                                      <p:cBhvr>
                                        <p:cTn id="48" dur="1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1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644e"/>
                                      </p:to>
                                    </p:animClr>
                                    <p:animClr clrSpc="rgb">
                                      <p:cBhvr>
                                        <p:cTn id="58" dur="1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5644e"/>
                                      </p:to>
                                    </p:animClr>
                                    <p:set>
                                      <p:cBhvr>
                                        <p:cTn id="59" dur="1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1"/>
          <p:cNvSpPr/>
          <p:nvPr/>
        </p:nvSpPr>
        <p:spPr>
          <a:xfrm>
            <a:off x="357120" y="3500280"/>
            <a:ext cx="311940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en-US" sz="6000" spc="-1" strike="noStrike">
                <a:solidFill>
                  <a:srgbClr val="4e3b30"/>
                </a:solidFill>
                <a:latin typeface="Bauhaus 93"/>
              </a:rPr>
              <a:t>Double Decker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2" descr=""/>
          <p:cNvPicPr/>
          <p:nvPr/>
        </p:nvPicPr>
        <p:blipFill>
          <a:blip r:embed="rId1"/>
          <a:stretch/>
        </p:blipFill>
        <p:spPr>
          <a:xfrm>
            <a:off x="357120" y="357120"/>
            <a:ext cx="3268800" cy="23670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" descr=""/>
          <p:cNvPicPr/>
          <p:nvPr/>
        </p:nvPicPr>
        <p:blipFill>
          <a:blip r:embed="rId2"/>
          <a:stretch/>
        </p:blipFill>
        <p:spPr>
          <a:xfrm>
            <a:off x="4214880" y="285840"/>
            <a:ext cx="3425760" cy="18572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" descr=""/>
          <p:cNvPicPr/>
          <p:nvPr/>
        </p:nvPicPr>
        <p:blipFill>
          <a:blip r:embed="rId3"/>
          <a:stretch/>
        </p:blipFill>
        <p:spPr>
          <a:xfrm>
            <a:off x="3786120" y="2714760"/>
            <a:ext cx="4977000" cy="33145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003 0.00139 C 0.13403 -0.08796 0.08403 -0.16528 0.01701 -0.1706 C -0.04705 -0.17731 -0.10694 -0.11736 -0.11094 -0.03056 C -0.11597 0.04931 -0.07396 0.12407 -0.01389 0.1294 C 0.04097 0.13333 0.09306 0.08403 0.09705 0.00949 C 0.10104 -0.05856 0.06597 -0.12269 0.0151 -0.12801 C -0.03194 -0.13194 -0.07604 -0.09051 -0.07899 -0.02801 C -0.08194 0.02801 -0.05399 0.08264 -0.01198 0.08542 C 0.02604 0.08935 0.06198 0.05741 0.0651 0.00671 C 0.06701 -0.03866 0.04601 -0.08264 0.01302 -0.08519 C -0.01597 -0.08796 -0.04497 -0.06389 -0.04705 -0.02523 C -0.04896 0.0081 -0.03403 0.04005 -0.0099 0.04282 C 0.01007 0.04537 0.03108 0.03079 0.03212 0.00417 C 0.03403 -0.01736 0.02604 -0.04005 0.01111 -0.04259 C -0.00104 -0.04259 -0.01302 -0.03727 -0.01493 -0.02269 C -0.01597 -0.01319 -0.01389 -0.00394 -0.00799 1.11022 -16 C -0.00503 0.00139 -0.00295 0.00139 2.77778 -7 1.11022 -16">
                                      <p:cBhvr>
                                        <p:cTn id="70" dur="3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1"/>
          <p:cNvSpPr/>
          <p:nvPr/>
        </p:nvSpPr>
        <p:spPr>
          <a:xfrm>
            <a:off x="6286680" y="2786040"/>
            <a:ext cx="22618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90000" tIns="0" bIns="46800" anchor="t">
            <a:normAutofit fontScale="86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Medium"/>
              </a:rPr>
              <a:t>Также в Лондоне имеется общественный водный транспор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571680" y="214200"/>
            <a:ext cx="3544560" cy="23576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"/>
          <p:cNvPicPr/>
          <p:nvPr/>
        </p:nvPicPr>
        <p:blipFill>
          <a:blip r:embed="rId2"/>
          <a:stretch/>
        </p:blipFill>
        <p:spPr>
          <a:xfrm>
            <a:off x="5429160" y="285840"/>
            <a:ext cx="3429000" cy="21430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"/>
          <p:cNvPicPr/>
          <p:nvPr/>
        </p:nvPicPr>
        <p:blipFill>
          <a:blip r:embed="rId3"/>
          <a:stretch/>
        </p:blipFill>
        <p:spPr>
          <a:xfrm rot="21300000">
            <a:off x="2450880" y="2916000"/>
            <a:ext cx="3120840" cy="234144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5"/>
          <p:cNvSpPr/>
          <p:nvPr/>
        </p:nvSpPr>
        <p:spPr>
          <a:xfrm>
            <a:off x="642960" y="5500800"/>
            <a:ext cx="70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Also in London there is a public water trans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1"/>
          <p:cNvSpPr/>
          <p:nvPr/>
        </p:nvSpPr>
        <p:spPr>
          <a:xfrm>
            <a:off x="642960" y="285840"/>
            <a:ext cx="4214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90000" tIns="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Знаменитые улицы горо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214200" y="1428840"/>
            <a:ext cx="3000600" cy="20001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" descr=""/>
          <p:cNvPicPr/>
          <p:nvPr/>
        </p:nvPicPr>
        <p:blipFill>
          <a:blip r:embed="rId2"/>
          <a:stretch/>
        </p:blipFill>
        <p:spPr>
          <a:xfrm>
            <a:off x="1571760" y="3714840"/>
            <a:ext cx="3917880" cy="27874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"/>
          <p:cNvPicPr/>
          <p:nvPr/>
        </p:nvPicPr>
        <p:blipFill>
          <a:blip r:embed="rId3"/>
          <a:stretch/>
        </p:blipFill>
        <p:spPr>
          <a:xfrm>
            <a:off x="5643720" y="357120"/>
            <a:ext cx="3136680" cy="49291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1" descr=""/>
          <p:cNvPicPr/>
          <p:nvPr/>
        </p:nvPicPr>
        <p:blipFill>
          <a:blip r:embed="rId1"/>
          <a:stretch/>
        </p:blipFill>
        <p:spPr>
          <a:xfrm>
            <a:off x="500040" y="428760"/>
            <a:ext cx="4143240" cy="27860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"/>
          <p:cNvPicPr/>
          <p:nvPr/>
        </p:nvPicPr>
        <p:blipFill>
          <a:blip r:embed="rId2"/>
          <a:stretch/>
        </p:blipFill>
        <p:spPr>
          <a:xfrm>
            <a:off x="1143000" y="392904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3" descr=""/>
          <p:cNvPicPr/>
          <p:nvPr/>
        </p:nvPicPr>
        <p:blipFill>
          <a:blip r:embed="rId3"/>
          <a:stretch/>
        </p:blipFill>
        <p:spPr>
          <a:xfrm>
            <a:off x="5286240" y="1928880"/>
            <a:ext cx="3330720" cy="27860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1" descr=""/>
          <p:cNvPicPr/>
          <p:nvPr/>
        </p:nvPicPr>
        <p:blipFill>
          <a:blip r:embed="rId1"/>
          <a:stretch/>
        </p:blipFill>
        <p:spPr>
          <a:xfrm>
            <a:off x="1646280" y="225360"/>
            <a:ext cx="6003720" cy="11098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2" descr=""/>
          <p:cNvPicPr/>
          <p:nvPr/>
        </p:nvPicPr>
        <p:blipFill>
          <a:blip r:embed="rId2"/>
          <a:stretch/>
        </p:blipFill>
        <p:spPr>
          <a:xfrm>
            <a:off x="428760" y="1214280"/>
            <a:ext cx="4000320" cy="197964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3" descr=""/>
          <p:cNvPicPr/>
          <p:nvPr/>
        </p:nvPicPr>
        <p:blipFill>
          <a:blip r:embed="rId3"/>
          <a:stretch/>
        </p:blipFill>
        <p:spPr>
          <a:xfrm>
            <a:off x="357120" y="3500280"/>
            <a:ext cx="4246560" cy="27766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"/>
          <p:cNvPicPr/>
          <p:nvPr/>
        </p:nvPicPr>
        <p:blipFill>
          <a:blip r:embed="rId4"/>
          <a:stretch/>
        </p:blipFill>
        <p:spPr>
          <a:xfrm>
            <a:off x="5214960" y="1357200"/>
            <a:ext cx="3643200" cy="24289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5" descr=""/>
          <p:cNvPicPr/>
          <p:nvPr/>
        </p:nvPicPr>
        <p:blipFill>
          <a:blip r:embed="rId5"/>
          <a:stretch/>
        </p:blipFill>
        <p:spPr>
          <a:xfrm>
            <a:off x="5072040" y="4071960"/>
            <a:ext cx="3289320" cy="21970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6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6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8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8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6T17:43:41Z</dcterms:created>
  <dc:creator>CSKA</dc:creator>
  <dc:description/>
  <dc:language>en-US</dc:language>
  <cp:lastModifiedBy>/ /</cp:lastModifiedBy>
  <dcterms:modified xsi:type="dcterms:W3CDTF">2022-12-18T11:35:20Z</dcterms:modified>
  <cp:revision>21</cp:revision>
  <dc:subject/>
  <dc:title>Города Великобритании</dc:title>
</cp:coreProperties>
</file>