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6"/>
        <p:sld r:id="rId15"/>
        <p:sld r:id="rId11"/>
        <p:sld r:id="rId12"/>
      </p:sldLst>
    </p:custShow>
    <p:custShow name="Произвольный показ 2" id="1">
      <p:sldLst>
        <p:sld r:id="rId10"/>
        <p:sld r:id="rId11"/>
        <p:sld r:id="rId12"/>
      </p:sldLst>
    </p:custShow>
    <p:custShow name="Произвольный показ 3" id="2">
      <p:sldLst>
        <p:sld r:id="rId13"/>
        <p:sld r:id="rId14"/>
        <p:sld r:id="rId15"/>
        <p:sld r:id="rId16"/>
      </p:sldLst>
    </p:custShow>
    <p:custShow name="Произвольный показ 4" id="3">
      <p:sldLst>
        <p:sld r:id="rId17"/>
        <p:sld r:id="rId18"/>
        <p:sld r:id="rId19"/>
        <p:sld r:id="rId20"/>
        <p:sld r:id="rId22"/>
      </p:sldLst>
    </p:custShow>
    <p:custShow name="Произвольный показ 5" id="4">
      <p:sldLst>
        <p:sld r:id="rId23"/>
        <p:sld r:id="rId24"/>
        <p:sld r:id="rId25"/>
        <p:sld r:id="rId26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222-A5B2-42A5-BE24-33A93781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F20-3694-42FF-AC9C-B8C0F6F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8FF-F217-494B-9642-45E241A3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7E4-DBB4-44A6-AD3C-BD868BE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A0B-61F7-4E47-98FC-C32B990B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743-ADA2-4565-BAC7-5202962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04-5324-4B26-A8E5-D2E43970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AD8-ECF5-41FA-9120-09DE153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D13-8C29-4FB4-A88B-6C97BB4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0A3-709B-4E50-AECB-DCAFAAA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F58-C44A-4AD7-ADA2-07BC6480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EA2-7A2F-45EA-A84D-AF41EC7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E16-3226-4FED-9C71-20C38585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549360"/>
            <a:ext cx="777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best place in world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276640"/>
            <a:ext cx="684216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ond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66544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0920" y="5013360"/>
            <a:ext cx="88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re are the historical places as well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 the famous parks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yde Park with its Speaker's Corner is also here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1.60642 1.54352 E">
                                      <p:cBhvr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5084640"/>
            <a:ext cx="784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built 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70 for Samuel Barnard, a vice presid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the Paper Company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26920" y="69228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1700’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ift from Henry For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124000" y="404640"/>
            <a:ext cx="40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g 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2060640"/>
            <a:ext cx="896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 name Big Ben actually refers not to the clock-t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elf, but to the thirteen ton bell hung within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ll was named after the first commission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works, Sir Benjamin H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00520" cy="702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702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9280" y="1052640"/>
            <a:ext cx="87138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bell came originally from the old Palace of Westminster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was given to the Dean of St. Paul's by William III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565360"/>
            <a:ext cx="896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fore returning to Westminster to hang in i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sent home, it was refashioned in Whitechapel in 1858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4797360"/>
            <a:ext cx="8964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BC first broadcast the chimes o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1st December 1923 - there is a microphone in the turr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onnected to Broadcasting Hous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050920" y="47628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Ea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2997360"/>
            <a:ext cx="89647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the east the large area called the East En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is London’s poorest par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5229360"/>
            <a:ext cx="9144000" cy="97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very large riverside in the East E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ake London one of the three largest parts in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4797360"/>
            <a:ext cx="889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nearly a millennium ago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anded upon over the centuries sinc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Tower of London has protected the 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8920" y="404640"/>
            <a:ext cx="6337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9280" y="4221000"/>
            <a:ext cx="896472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has been the seat of British govern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living quarters of monarch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ite of renown political intrigu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repository of the Crown Jewel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258920" y="47628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79280" y="3933720"/>
            <a:ext cx="896472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 has stood over the River Tham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London since 1894 and is one of the finest bridges in the Worl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49360"/>
            <a:ext cx="82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London is the British capital and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one of the biggest cities in the world.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438200" y="333360"/>
            <a:ext cx="6353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extends over an area of abou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6 square kilometres in the heart 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4149720"/>
            <a:ext cx="896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is the financial centre of the UK with many bank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fices and Stock Exchange. But the Cit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s also a market for goods of almost every kind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rom all parts of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1557360"/>
            <a:ext cx="76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eums and art galle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56000" y="429264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ate Gal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don is very rich in museums and art galleries. If you are fond of painting you'll go to the Tate Galle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333360"/>
            <a:ext cx="889308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 rich sugar manufacturer Henry T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it in 189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920" y="549360"/>
            <a:ext cx="8605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re are about 300 oils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000 watercolours and drawing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ritish Museum is the largest and richest of its kind in the world.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ent building was built in 185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99736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y law a copy of every book, periodical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newspaper, published in Britai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t be presented in the British museum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39640" y="1197000"/>
            <a:ext cx="7839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collection is so vast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ly a very small percentage of it i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 show to the public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33336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famous places in the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95280" y="4653000"/>
            <a:ext cx="842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original Globe Theatre was buil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1599 by the playing compan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which Shakespeare belonge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0328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lobe Thea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476280"/>
            <a:ext cx="842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ondon is situated upon both banks of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iver Thames, it is the largest city in Britai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one of the largest in the worl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2276640"/>
            <a:ext cx="4433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 population is abou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 million people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979640" y="5805360"/>
            <a:ext cx="5589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24000" y="476280"/>
            <a:ext cx="849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athedral of Saint P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196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042920" y="5950080"/>
            <a:ext cx="266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iccadi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16360" y="537372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atue on bord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8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332000" y="57340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eopatra's Need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971640" y="5805360"/>
            <a:ext cx="727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Queen Victoria Memo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26920" y="2708280"/>
            <a:ext cx="749016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76440" y="6334200"/>
            <a:ext cx="66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oject by Kate Shabalina. 10 -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consists of three par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ity of London, the West E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East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832800">
            <a:off x="244080" y="3263400"/>
            <a:ext cx="2736720" cy="187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832800">
            <a:off x="2555640" y="1197000"/>
            <a:ext cx="3671640" cy="250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832800">
            <a:off x="6346800" y="3341160"/>
            <a:ext cx="2771640" cy="189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836640"/>
            <a:ext cx="676908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st places of 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5640" y="5373720"/>
            <a:ext cx="79358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26788 -1.53287 E">
                                      <p:cBhvr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92360" y="5877000"/>
            <a:ext cx="57657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Kensington Garde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1.59861 -1.64861 E">
                                      <p:cBhvr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835280" y="5516640"/>
            <a:ext cx="5446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.James's P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1.13403 1.22847 E">
                                      <p:cBhvr>
                                        <p:cTn id="14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0:09:28Z</dcterms:created>
  <dc:creator>Елена</dc:creator>
  <dc:description/>
  <dc:language>en-US</dc:language>
  <cp:lastModifiedBy>Elena</cp:lastModifiedBy>
  <dcterms:modified xsi:type="dcterms:W3CDTF">2007-10-30T14:38:2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27000000000001023620</vt:lpwstr>
  </property>
</Properties>
</file>