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11.jpeg" ContentType="image/jpeg"/>
  <Override PartName="/ppt/media/image6.png" ContentType="image/png"/>
  <Override PartName="/ppt/media/image12.jpeg" ContentType="image/jpeg"/>
  <Override PartName="/ppt/media/image4.gif" ContentType="image/gif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A11-F84A-4A8B-9AAC-B1B61F67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9AC-7AEA-45C2-BE34-7015631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0D0-BBC3-4BC0-BE9D-B06121B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3B2-E99F-4A25-957E-05386CEF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67E-476A-46A4-A4DD-15D2341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2B7-FC37-4BDE-AE33-437D7E9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E81-8420-4178-97AC-7FE9A66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D1F-F26B-468B-8448-F8DDAF5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7E7-DAC0-4C88-BAB3-A3DD534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C66-E49D-4C36-AA91-3F9F9D4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9E8-D218-493E-92F9-6D8D746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A31-88BF-4C54-805B-561286E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9CF92-FE0F-4B9C-8837-FDD0AF28F1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br>
              <a:rPr sz="66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Любимые сказ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52720" y="1749600"/>
            <a:ext cx="4016520" cy="4376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97528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: Высоцкая Ин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15920"/>
            <a:ext cx="8291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 algn="ctr"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силиса Прекрасная в трудную минуту обращалась за сов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1955880" cy="25653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11280" y="1413000"/>
            <a:ext cx="3809880" cy="1431720"/>
            <a:chOff x="611280" y="1413000"/>
            <a:chExt cx="3809880" cy="1431720"/>
          </a:xfrm>
        </p:grpSpPr>
        <p:sp>
          <p:nvSpPr>
            <p:cNvPr id="114" name=""/>
            <p:cNvSpPr/>
            <p:nvPr/>
          </p:nvSpPr>
          <p:spPr>
            <a:xfrm>
              <a:off x="2556000" y="1628640"/>
              <a:ext cx="18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 волшебной кни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11280" y="1413000"/>
              <a:ext cx="17906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003640" y="1341360"/>
            <a:ext cx="3573000" cy="1432080"/>
            <a:chOff x="5003640" y="1341360"/>
            <a:chExt cx="3573000" cy="1432080"/>
          </a:xfrm>
        </p:grpSpPr>
        <p:sp>
          <p:nvSpPr>
            <p:cNvPr id="117" name=""/>
            <p:cNvSpPr/>
            <p:nvPr/>
          </p:nvSpPr>
          <p:spPr>
            <a:xfrm>
              <a:off x="6877800" y="1581120"/>
              <a:ext cx="169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куколк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5003640" y="134136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611280" y="2924280"/>
            <a:ext cx="3258360" cy="1431720"/>
            <a:chOff x="611280" y="2924280"/>
            <a:chExt cx="3258360" cy="1431720"/>
          </a:xfrm>
        </p:grpSpPr>
        <p:sp>
          <p:nvSpPr>
            <p:cNvPr id="120" name=""/>
            <p:cNvSpPr/>
            <p:nvPr/>
          </p:nvSpPr>
          <p:spPr>
            <a:xfrm>
              <a:off x="2267280" y="3165480"/>
              <a:ext cx="160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кот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учёному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11280" y="292428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23" name=""/>
            <p:cNvSpPr/>
            <p:nvPr/>
          </p:nvSpPr>
          <p:spPr>
            <a:xfrm>
              <a:off x="6805440" y="3213000"/>
              <a:ext cx="240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К Бабе – Яг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7" dur="indefinite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dur="indefinite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66" dur="indefinite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dur="indefinite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75" dur="indefinite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dur="indefinite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84" dur="indefinite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сказке «Гуси-лебеди» девочка, разыскивая братца, сначала встретила на пу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95680" y="4221000"/>
            <a:ext cx="19526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84360" y="1413000"/>
            <a:ext cx="3665520" cy="1431720"/>
            <a:chOff x="684360" y="1413000"/>
            <a:chExt cx="3665520" cy="1431720"/>
          </a:xfrm>
        </p:grpSpPr>
        <p:sp>
          <p:nvSpPr>
            <p:cNvPr id="129" name=""/>
            <p:cNvSpPr/>
            <p:nvPr/>
          </p:nvSpPr>
          <p:spPr>
            <a:xfrm>
              <a:off x="2556000" y="1628640"/>
              <a:ext cx="17938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блоньку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4360" y="141300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5076720" y="2852640"/>
            <a:ext cx="3099960" cy="1432080"/>
            <a:chOff x="5076720" y="2852640"/>
            <a:chExt cx="3099960" cy="1432080"/>
          </a:xfrm>
        </p:grpSpPr>
        <p:sp>
          <p:nvSpPr>
            <p:cNvPr id="132" name=""/>
            <p:cNvSpPr/>
            <p:nvPr/>
          </p:nvSpPr>
          <p:spPr>
            <a:xfrm>
              <a:off x="6950520" y="3092400"/>
              <a:ext cx="12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ечку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5076720" y="28526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4932360" y="1413000"/>
            <a:ext cx="3446280" cy="1431720"/>
            <a:chOff x="4932360" y="1413000"/>
            <a:chExt cx="3446280" cy="1431720"/>
          </a:xfrm>
        </p:grpSpPr>
        <p:sp>
          <p:nvSpPr>
            <p:cNvPr id="135" name=""/>
            <p:cNvSpPr/>
            <p:nvPr/>
          </p:nvSpPr>
          <p:spPr>
            <a:xfrm>
              <a:off x="6586920" y="165420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Молочн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еку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46200" y="2852640"/>
            <a:ext cx="4206960" cy="1432080"/>
            <a:chOff x="646200" y="2852640"/>
            <a:chExt cx="4206960" cy="1432080"/>
          </a:xfrm>
        </p:grpSpPr>
        <p:sp>
          <p:nvSpPr>
            <p:cNvPr id="138" name=""/>
            <p:cNvSpPr/>
            <p:nvPr/>
          </p:nvSpPr>
          <p:spPr>
            <a:xfrm>
              <a:off x="2446200" y="3211560"/>
              <a:ext cx="240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Бабы – Яги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646200" y="285264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07" dur="indefinite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dur="indefinite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16" dur="indefinite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dur="indefinite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25" dur="indefinite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dur="indefinite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34" dur="indefinite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Битый небитого везет...». Из какой сказки эти сл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03600" y="4048200"/>
            <a:ext cx="19051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24000" y="1198440"/>
            <a:ext cx="3665520" cy="1432080"/>
            <a:chOff x="324000" y="1198440"/>
            <a:chExt cx="3665520" cy="1432080"/>
          </a:xfrm>
        </p:grpSpPr>
        <p:sp>
          <p:nvSpPr>
            <p:cNvPr id="144" name=""/>
            <p:cNvSpPr/>
            <p:nvPr/>
          </p:nvSpPr>
          <p:spPr>
            <a:xfrm>
              <a:off x="2195640" y="1414440"/>
              <a:ext cx="17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от и лиса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324000" y="119844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250920" y="2782800"/>
            <a:ext cx="4764600" cy="1432080"/>
            <a:chOff x="250920" y="2782800"/>
            <a:chExt cx="4764600" cy="1432080"/>
          </a:xfrm>
        </p:grpSpPr>
        <p:sp>
          <p:nvSpPr>
            <p:cNvPr id="147" name=""/>
            <p:cNvSpPr/>
            <p:nvPr/>
          </p:nvSpPr>
          <p:spPr>
            <a:xfrm>
              <a:off x="2125080" y="3070080"/>
              <a:ext cx="289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Лисичка – сестрич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и серый вол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250920" y="278280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5021280" y="1198440"/>
            <a:ext cx="4014720" cy="1432080"/>
            <a:chOff x="5021280" y="1198440"/>
            <a:chExt cx="4014720" cy="1432080"/>
          </a:xfrm>
        </p:grpSpPr>
        <p:sp>
          <p:nvSpPr>
            <p:cNvPr id="150" name=""/>
            <p:cNvSpPr/>
            <p:nvPr/>
          </p:nvSpPr>
          <p:spPr>
            <a:xfrm>
              <a:off x="6677280" y="1487520"/>
              <a:ext cx="235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Маша и медвед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5021280" y="11984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183280" y="2639880"/>
            <a:ext cx="4206960" cy="1432080"/>
            <a:chOff x="5183280" y="2639880"/>
            <a:chExt cx="4206960" cy="1432080"/>
          </a:xfrm>
        </p:grpSpPr>
        <p:sp>
          <p:nvSpPr>
            <p:cNvPr id="153" name=""/>
            <p:cNvSpPr/>
            <p:nvPr/>
          </p:nvSpPr>
          <p:spPr>
            <a:xfrm>
              <a:off x="6983280" y="2998800"/>
              <a:ext cx="240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олк и семеро козлят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5183280" y="263988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4726080"/>
            <a:ext cx="1765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7" dur="indefinite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dur="indefinite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6" dur="indefinite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dur="indefinite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75" dur="indefinite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dur="indefinite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4" dur="indefinite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3880" y="115560"/>
            <a:ext cx="8436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какой из этих сказок высмеивается жад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06920" y="4437000"/>
            <a:ext cx="18730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755640" y="1413000"/>
            <a:ext cx="3665520" cy="1431720"/>
            <a:chOff x="755640" y="1413000"/>
            <a:chExt cx="3665520" cy="1431720"/>
          </a:xfrm>
        </p:grpSpPr>
        <p:sp>
          <p:nvSpPr>
            <p:cNvPr id="159" name=""/>
            <p:cNvSpPr/>
            <p:nvPr/>
          </p:nvSpPr>
          <p:spPr>
            <a:xfrm>
              <a:off x="2627280" y="1628640"/>
              <a:ext cx="17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Хорошо, да худо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75564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611280" y="2997360"/>
            <a:ext cx="4205880" cy="1431720"/>
            <a:chOff x="611280" y="2997360"/>
            <a:chExt cx="4205880" cy="1431720"/>
          </a:xfrm>
        </p:grpSpPr>
        <p:sp>
          <p:nvSpPr>
            <p:cNvPr id="162" name=""/>
            <p:cNvSpPr/>
            <p:nvPr/>
          </p:nvSpPr>
          <p:spPr>
            <a:xfrm>
              <a:off x="2485800" y="3284640"/>
              <a:ext cx="23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аша из топор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611280" y="299736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932360" y="1413000"/>
            <a:ext cx="3874680" cy="1431720"/>
            <a:chOff x="4932360" y="1413000"/>
            <a:chExt cx="3874680" cy="1431720"/>
          </a:xfrm>
        </p:grpSpPr>
        <p:sp>
          <p:nvSpPr>
            <p:cNvPr id="165" name=""/>
            <p:cNvSpPr/>
            <p:nvPr/>
          </p:nvSpPr>
          <p:spPr>
            <a:xfrm>
              <a:off x="6588720" y="1701720"/>
              <a:ext cx="221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У страха гла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лик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68" name=""/>
            <p:cNvSpPr/>
            <p:nvPr/>
          </p:nvSpPr>
          <p:spPr>
            <a:xfrm>
              <a:off x="6805440" y="3213000"/>
              <a:ext cx="240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ак мужик гусей делил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10" dur="indefinite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dur="indefinite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19" dur="indefinite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28" dur="indefinite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dur="indefinite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7" dur="indefinite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8436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е вознаграждение за работу обещалось девушке в сказке «Как поп работницу нанимал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230328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755640" y="1413000"/>
            <a:ext cx="3665520" cy="1431720"/>
            <a:chOff x="755640" y="1413000"/>
            <a:chExt cx="3665520" cy="1431720"/>
          </a:xfrm>
        </p:grpSpPr>
        <p:sp>
          <p:nvSpPr>
            <p:cNvPr id="174" name=""/>
            <p:cNvSpPr/>
            <p:nvPr/>
          </p:nvSpPr>
          <p:spPr>
            <a:xfrm>
              <a:off x="2627280" y="1628640"/>
              <a:ext cx="17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месяц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75564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611280" y="2997360"/>
            <a:ext cx="3842640" cy="1431720"/>
            <a:chOff x="611280" y="2997360"/>
            <a:chExt cx="3842640" cy="1431720"/>
          </a:xfrm>
        </p:grpSpPr>
        <p:sp>
          <p:nvSpPr>
            <p:cNvPr id="177" name=""/>
            <p:cNvSpPr/>
            <p:nvPr/>
          </p:nvSpPr>
          <p:spPr>
            <a:xfrm>
              <a:off x="2485440" y="3284640"/>
              <a:ext cx="19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год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611280" y="299736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932360" y="1413000"/>
            <a:ext cx="4219200" cy="1431720"/>
            <a:chOff x="4932360" y="1413000"/>
            <a:chExt cx="4219200" cy="1431720"/>
          </a:xfrm>
        </p:grpSpPr>
        <p:sp>
          <p:nvSpPr>
            <p:cNvPr id="180" name=""/>
            <p:cNvSpPr/>
            <p:nvPr/>
          </p:nvSpPr>
          <p:spPr>
            <a:xfrm>
              <a:off x="6589080" y="1701720"/>
              <a:ext cx="256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неделю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83" name=""/>
            <p:cNvSpPr/>
            <p:nvPr/>
          </p:nvSpPr>
          <p:spPr>
            <a:xfrm>
              <a:off x="6805440" y="3213000"/>
              <a:ext cx="240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1 рубль в ден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63" dur="indefinite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dur="indefinite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dur="indefinite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dur="indefinite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1" dur="indefinite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dur="indefinite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90" dur="indefinite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4120920" cy="453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729144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333360"/>
            <a:ext cx="63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б в жизни человеком стать,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сь писать, учись читать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икак не может ученик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свете жить без добрых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360" y="2879640"/>
            <a:ext cx="30751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6676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6922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казка</a:t>
            </a: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- волшебный, фантаст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или авантюрный расска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Georgia"/>
              </a:rPr>
              <a:t>в котором много вымысла и есть элементы чудес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0"/>
            <a:ext cx="4118040" cy="14335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Comic Sans MS"/>
              </a:rPr>
              <a:t>С К А З К 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560000">
            <a:off x="274320" y="2485440"/>
            <a:ext cx="3827520" cy="1190520"/>
          </a:xfrm>
          <a:prstGeom prst="cloudCallout">
            <a:avLst>
              <a:gd name="adj1" fmla="val -59902"/>
              <a:gd name="adj2" fmla="val 131944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Comic Sans MS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160000">
            <a:off x="4479480" y="2417400"/>
            <a:ext cx="4448160" cy="1197000"/>
          </a:xfrm>
          <a:prstGeom prst="cloudCallout">
            <a:avLst>
              <a:gd name="adj1" fmla="val 47379"/>
              <a:gd name="adj2" fmla="val 10152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66ff"/>
                </a:solidFill>
                <a:latin typeface="Comic Sans MS"/>
              </a:rPr>
              <a:t>Литератур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4000" y="4349880"/>
            <a:ext cx="3814560" cy="1031760"/>
          </a:xfrm>
          <a:custGeom>
            <a:avLst/>
            <a:gdLst>
              <a:gd name="textAreaLeft" fmla="*/ 0 w 3814560"/>
              <a:gd name="textAreaRight" fmla="*/ 3814920 w 3814560"/>
              <a:gd name="textAreaTop" fmla="*/ 133560 h 1031760"/>
              <a:gd name="textAreaBottom" fmla="*/ 89820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волшебны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5624640"/>
            <a:ext cx="3535200" cy="996840"/>
          </a:xfrm>
          <a:custGeom>
            <a:avLst/>
            <a:gdLst>
              <a:gd name="textAreaLeft" fmla="*/ 0 w 3535200"/>
              <a:gd name="textAreaRight" fmla="*/ 3535560 w 3535200"/>
              <a:gd name="textAreaTop" fmla="*/ 129240 h 996840"/>
              <a:gd name="textAreaBottom" fmla="*/ 867600 h 996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бытовы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99160" y="5637240"/>
            <a:ext cx="3875040" cy="995400"/>
          </a:xfrm>
          <a:custGeom>
            <a:avLst/>
            <a:gdLst>
              <a:gd name="textAreaLeft" fmla="*/ 0 w 3875040"/>
              <a:gd name="textAreaRight" fmla="*/ 3875400 w 3875040"/>
              <a:gd name="textAreaTop" fmla="*/ 128880 h 995400"/>
              <a:gd name="textAreaBottom" fmla="*/ 866520 h 995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6640" rIns="11664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0066ff"/>
                </a:solidFill>
                <a:latin typeface="Comic Sans MS"/>
              </a:rPr>
              <a:t>о животны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522600" y="2570040"/>
            <a:ext cx="1549440" cy="174312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5196"/>
                </a:lnTo>
                <a:lnTo>
                  <a:pt x="12295" y="5196"/>
                </a:lnTo>
                <a:lnTo>
                  <a:pt x="12295" y="9305"/>
                </a:lnTo>
                <a:lnTo>
                  <a:pt x="16404" y="9305"/>
                </a:lnTo>
                <a:lnTo>
                  <a:pt x="16404" y="6500"/>
                </a:lnTo>
                <a:lnTo>
                  <a:pt x="21600" y="10800"/>
                </a:lnTo>
                <a:lnTo>
                  <a:pt x="16404" y="15100"/>
                </a:lnTo>
                <a:lnTo>
                  <a:pt x="16404" y="12295"/>
                </a:lnTo>
                <a:lnTo>
                  <a:pt x="5196" y="12295"/>
                </a:lnTo>
                <a:lnTo>
                  <a:pt x="5196" y="15100"/>
                </a:lnTo>
                <a:lnTo>
                  <a:pt x="0" y="10800"/>
                </a:lnTo>
                <a:lnTo>
                  <a:pt x="5196" y="6500"/>
                </a:lnTo>
                <a:lnTo>
                  <a:pt x="5196" y="9305"/>
                </a:lnTo>
                <a:lnTo>
                  <a:pt x="9305" y="9305"/>
                </a:lnTo>
                <a:lnTo>
                  <a:pt x="9305" y="5196"/>
                </a:lnTo>
                <a:lnTo>
                  <a:pt x="6500" y="5196"/>
                </a:lnTo>
                <a:close/>
              </a:path>
            </a:pathLst>
          </a:cu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8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765000"/>
            <a:ext cx="79246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жба заботой да подмогой крепка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0680" y="2349360"/>
            <a:ext cx="8923320" cy="52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рой яму другому, сам в неё попадёшь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3789360"/>
            <a:ext cx="742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т друга - ищи , а нашёл -береги.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2449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4437000"/>
            <a:ext cx="5114880" cy="1079640"/>
          </a:xfrm>
          <a:prstGeom prst="cloudCallout">
            <a:avLst>
              <a:gd name="adj1" fmla="val -65986"/>
              <a:gd name="adj2" fmla="val 22939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И  в  а  н</a:t>
            </a:r>
            <a:r>
              <a:rPr b="1" i="1" lang="ru-RU" sz="24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у  ш  к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3068640"/>
            <a:ext cx="5688000" cy="1079640"/>
          </a:xfrm>
          <a:prstGeom prst="cloudCallout">
            <a:avLst>
              <a:gd name="adj1" fmla="val -45981"/>
              <a:gd name="adj2" fmla="val 3176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Ч  у  к  о  в  с </a:t>
            </a:r>
            <a:r>
              <a:rPr b="1" i="1" lang="ru-RU" sz="24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  и  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луги Бабы 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то хотел погу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уху – цокотух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«Федорино гор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Айболит» - кто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Братец Алён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Рыжая героиня мно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333360"/>
            <a:ext cx="4176720" cy="1008000"/>
          </a:xfrm>
          <a:prstGeom prst="cloudCallout">
            <a:avLst>
              <a:gd name="adj1" fmla="val -74402"/>
              <a:gd name="adj2" fmla="val 41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 е б е д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700280"/>
            <a:ext cx="3670200" cy="1042920"/>
          </a:xfrm>
          <a:prstGeom prst="cloudCallout">
            <a:avLst>
              <a:gd name="adj1" fmla="val -71972"/>
              <a:gd name="adj2" fmla="val 8296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 а у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734080"/>
            <a:ext cx="3454560" cy="752400"/>
          </a:xfrm>
          <a:prstGeom prst="cloudCallout">
            <a:avLst>
              <a:gd name="adj1" fmla="val -78768"/>
              <a:gd name="adj2" fmla="val 56749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 и с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7761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в излюбленный прием русских народных ска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162864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27280" y="4149720"/>
            <a:ext cx="3888000" cy="25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24000" y="1125360"/>
            <a:ext cx="4097160" cy="1432080"/>
            <a:chOff x="324000" y="1125360"/>
            <a:chExt cx="4097160" cy="1432080"/>
          </a:xfrm>
        </p:grpSpPr>
        <p:sp>
          <p:nvSpPr>
            <p:cNvPr id="69" name=""/>
            <p:cNvSpPr/>
            <p:nvPr/>
          </p:nvSpPr>
          <p:spPr>
            <a:xfrm>
              <a:off x="2195640" y="1341360"/>
              <a:ext cx="222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16000" indent="-216000">
                <a:spcBef>
                  <a:spcPts val="1250"/>
                </a:spcBef>
                <a:tabLst>
                  <a:tab algn="l" pos="0"/>
                  <a:tab algn="l" pos="216000"/>
                  <a:tab algn="l" pos="663480"/>
                  <a:tab algn="l" pos="1112760"/>
                  <a:tab algn="l" pos="1562040"/>
                  <a:tab algn="l" pos="2011320"/>
                  <a:tab algn="l" pos="2460600"/>
                  <a:tab algn="l" pos="2909880"/>
                  <a:tab algn="l" pos="3359160"/>
                  <a:tab algn="l" pos="3808440"/>
                  <a:tab algn="l" pos="4257720"/>
                  <a:tab algn="l" pos="4707000"/>
                  <a:tab algn="l" pos="5156280"/>
                  <a:tab algn="l" pos="5605560"/>
                  <a:tab algn="l" pos="6054840"/>
                  <a:tab algn="l" pos="6504120"/>
                  <a:tab algn="l" pos="6953400"/>
                  <a:tab algn="l" pos="7402680"/>
                  <a:tab algn="l" pos="7851600"/>
                  <a:tab algn="l" pos="8300880"/>
                  <a:tab algn="l" pos="8750160"/>
                  <a:tab algn="l" pos="91994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укратное 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24000" y="112536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395280" y="2781360"/>
            <a:ext cx="4186800" cy="1431720"/>
            <a:chOff x="395280" y="2781360"/>
            <a:chExt cx="4186800" cy="1431720"/>
          </a:xfrm>
        </p:grpSpPr>
        <p:sp>
          <p:nvSpPr>
            <p:cNvPr id="72" name=""/>
            <p:cNvSpPr/>
            <p:nvPr/>
          </p:nvSpPr>
          <p:spPr>
            <a:xfrm>
              <a:off x="2269440" y="3021120"/>
              <a:ext cx="231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роекрат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395280" y="278136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572000" y="1197000"/>
            <a:ext cx="4598640" cy="1432080"/>
            <a:chOff x="4572000" y="1197000"/>
            <a:chExt cx="4598640" cy="1432080"/>
          </a:xfrm>
        </p:grpSpPr>
        <p:sp>
          <p:nvSpPr>
            <p:cNvPr id="75" name=""/>
            <p:cNvSpPr/>
            <p:nvPr/>
          </p:nvSpPr>
          <p:spPr>
            <a:xfrm>
              <a:off x="6228360" y="1438200"/>
              <a:ext cx="29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Четырехкрат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4572000" y="119700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4716360" y="2638440"/>
            <a:ext cx="4206960" cy="1432080"/>
            <a:chOff x="4716360" y="2638440"/>
            <a:chExt cx="4206960" cy="1432080"/>
          </a:xfrm>
        </p:grpSpPr>
        <p:sp>
          <p:nvSpPr>
            <p:cNvPr id="78" name=""/>
            <p:cNvSpPr/>
            <p:nvPr/>
          </p:nvSpPr>
          <p:spPr>
            <a:xfrm>
              <a:off x="6516720" y="2997360"/>
              <a:ext cx="24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ятикратное повтор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4716360" y="263844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236000" y="4724280"/>
            <a:ext cx="176508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07" dur="indefinite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6" dur="indefinite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dur="indefinite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25" dur="indefinite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dur="indefinite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7" dur="indefinite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какое время года происходили события в сказке «По щучьему веленью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95640" y="4154400"/>
            <a:ext cx="4105080" cy="27036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611280" y="1052640"/>
            <a:ext cx="3665520" cy="1431720"/>
            <a:chOff x="611280" y="1052640"/>
            <a:chExt cx="3665520" cy="1431720"/>
          </a:xfrm>
        </p:grpSpPr>
        <p:sp>
          <p:nvSpPr>
            <p:cNvPr id="84" name=""/>
            <p:cNvSpPr/>
            <p:nvPr/>
          </p:nvSpPr>
          <p:spPr>
            <a:xfrm>
              <a:off x="2482920" y="1268280"/>
              <a:ext cx="17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есн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611280" y="10526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859280" y="1197000"/>
            <a:ext cx="2902680" cy="1432080"/>
            <a:chOff x="4859280" y="1197000"/>
            <a:chExt cx="2902680" cy="1432080"/>
          </a:xfrm>
        </p:grpSpPr>
        <p:sp>
          <p:nvSpPr>
            <p:cNvPr id="87" name=""/>
            <p:cNvSpPr/>
            <p:nvPr/>
          </p:nvSpPr>
          <p:spPr>
            <a:xfrm>
              <a:off x="6733800" y="143676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Зи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4859280" y="119700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11280" y="2565360"/>
            <a:ext cx="2757960" cy="1432080"/>
            <a:chOff x="611280" y="2565360"/>
            <a:chExt cx="2757960" cy="1432080"/>
          </a:xfrm>
        </p:grpSpPr>
        <p:sp>
          <p:nvSpPr>
            <p:cNvPr id="90" name=""/>
            <p:cNvSpPr/>
            <p:nvPr/>
          </p:nvSpPr>
          <p:spPr>
            <a:xfrm>
              <a:off x="2268000" y="280656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Лет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11280" y="2565360"/>
              <a:ext cx="172224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16360" y="2712960"/>
            <a:ext cx="4206960" cy="1432080"/>
            <a:chOff x="4716360" y="2712960"/>
            <a:chExt cx="4206960" cy="1432080"/>
          </a:xfrm>
        </p:grpSpPr>
        <p:sp>
          <p:nvSpPr>
            <p:cNvPr id="93" name=""/>
            <p:cNvSpPr/>
            <p:nvPr/>
          </p:nvSpPr>
          <p:spPr>
            <a:xfrm>
              <a:off x="6516720" y="3071880"/>
              <a:ext cx="24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сень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4716360" y="271296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4799160"/>
            <a:ext cx="1765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57" dur="indefinite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dur="indefinite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6" dur="indefinite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dur="indefinite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5" dur="indefinite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dur="indefinite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4" dur="indefinite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872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6000" indent="-216000" algn="ctr"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да упала стрела старшего сына из сказки «Царевна-лягуш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459240"/>
            <a:ext cx="2714400" cy="32097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11280" y="2924280"/>
            <a:ext cx="3665520" cy="1431720"/>
            <a:chOff x="611280" y="2924280"/>
            <a:chExt cx="3665520" cy="1431720"/>
          </a:xfrm>
        </p:grpSpPr>
        <p:sp>
          <p:nvSpPr>
            <p:cNvPr id="99" name=""/>
            <p:cNvSpPr/>
            <p:nvPr/>
          </p:nvSpPr>
          <p:spPr>
            <a:xfrm>
              <a:off x="2482920" y="3139920"/>
              <a:ext cx="17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 болото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611280" y="292428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519120" y="1268280"/>
            <a:ext cx="4049280" cy="1432080"/>
            <a:chOff x="519120" y="1268280"/>
            <a:chExt cx="4049280" cy="1432080"/>
          </a:xfrm>
        </p:grpSpPr>
        <p:sp>
          <p:nvSpPr>
            <p:cNvPr id="102" name=""/>
            <p:cNvSpPr/>
            <p:nvPr/>
          </p:nvSpPr>
          <p:spPr>
            <a:xfrm>
              <a:off x="2392920" y="1508040"/>
              <a:ext cx="217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бояр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519120" y="1268280"/>
              <a:ext cx="1722600" cy="14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4932360" y="1413000"/>
            <a:ext cx="4031640" cy="1431720"/>
            <a:chOff x="4932360" y="1413000"/>
            <a:chExt cx="4031640" cy="1431720"/>
          </a:xfrm>
        </p:grpSpPr>
        <p:sp>
          <p:nvSpPr>
            <p:cNvPr id="105" name=""/>
            <p:cNvSpPr/>
            <p:nvPr/>
          </p:nvSpPr>
          <p:spPr>
            <a:xfrm>
              <a:off x="6588720" y="1654200"/>
              <a:ext cx="23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купе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4932360" y="1413000"/>
              <a:ext cx="1722600" cy="14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5005440" y="2854440"/>
            <a:ext cx="4206960" cy="1431720"/>
            <a:chOff x="5005440" y="2854440"/>
            <a:chExt cx="4206960" cy="1431720"/>
          </a:xfrm>
        </p:grpSpPr>
        <p:sp>
          <p:nvSpPr>
            <p:cNvPr id="108" name=""/>
            <p:cNvSpPr/>
            <p:nvPr/>
          </p:nvSpPr>
          <p:spPr>
            <a:xfrm>
              <a:off x="6805440" y="3213000"/>
              <a:ext cx="240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На цар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дв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5005440" y="2854440"/>
              <a:ext cx="1722240" cy="14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451640" y="4940280"/>
            <a:ext cx="17654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7" dur="indefinite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6" dur="indefinite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dur="indefinite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25" dur="indefinite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dur="indefinite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4" dur="indefinite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7T20:49:27Z</dcterms:created>
  <dc:creator/>
  <dc:description/>
  <dc:language>en-US</dc:language>
  <cp:lastModifiedBy/>
  <cp:revision>1</cp:revision>
  <dc:subject/>
  <dc:title>Вопросы про котов.</dc:title>
</cp:coreProperties>
</file>