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26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56.jpeg" ContentType="image/jpeg"/>
  <Override PartName="/ppt/media/image3.png" ContentType="image/png"/>
  <Override PartName="/ppt/media/image18.jpeg" ContentType="image/jpeg"/>
  <Override PartName="/ppt/media/image20.jpeg" ContentType="image/jpeg"/>
  <Override PartName="/ppt/media/image40.jpeg" ContentType="image/jpeg"/>
  <Override PartName="/ppt/media/image13.jpeg" ContentType="image/jpeg"/>
  <Override PartName="/ppt/media/image69.jpeg" ContentType="image/jpeg"/>
  <Override PartName="/ppt/media/image68.jpeg" ContentType="image/jpeg"/>
  <Override PartName="/ppt/media/image24.jpeg" ContentType="image/jpeg"/>
  <Override PartName="/ppt/media/image67.jpeg" ContentType="image/jpeg"/>
  <Override PartName="/ppt/media/image23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51.jpeg" ContentType="image/jpeg"/>
  <Override PartName="/ppt/media/image5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28.jpeg" ContentType="image/jpeg"/>
  <Override PartName="/ppt/media/image1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4AF-5CAB-4ED0-A087-333C35EC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5259-6A6B-420A-A413-51F7AAB0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B81C-7B8A-4ECF-B581-7EF548AF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6EA-7B0C-4CE7-A202-81742D6A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EA55-9D87-498B-82FA-DB03B2ED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AB11-F8C3-4DF0-BBE5-18ABCEC1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3D2-5478-49E7-BCEF-2B96DFFC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513C-5883-49A1-AF6A-9A78FE05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02FD-6E86-4167-9892-E5613DAE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C2D1-F68F-47A4-99E5-31449A8A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A5AE-CE30-4F01-9AD7-98A28060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4039-8188-4EA7-8C03-08B55BAA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FB1F-5413-4180-9E1D-6AFBD0572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фон2"/>
          <p:cNvPicPr/>
          <p:nvPr/>
        </p:nvPicPr>
        <p:blipFill>
          <a:blip r:embed="rId1"/>
          <a:stretch/>
        </p:blipFill>
        <p:spPr>
          <a:xfrm>
            <a:off x="11160" y="1440"/>
            <a:ext cx="91263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14240" y="1574640"/>
            <a:ext cx="7578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925560" y="2208240"/>
            <a:ext cx="709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79520" y="1941480"/>
            <a:ext cx="82105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Я МАЛАЯ РОДИНА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ВЕРНАЯ ЖЕМЧУЖИНА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S PMincho"/>
                <a:ea typeface="MS PMincho"/>
              </a:rPr>
              <a:t>КАРЕ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896000" y="4911840"/>
            <a:ext cx="3992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фон4"/>
          <p:cNvPicPr/>
          <p:nvPr/>
        </p:nvPicPr>
        <p:blipFill>
          <a:blip r:embed="rId1"/>
          <a:stretch/>
        </p:blipFill>
        <p:spPr>
          <a:xfrm>
            <a:off x="-4680" y="-30240"/>
            <a:ext cx="9234360" cy="6853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кивач"/>
          <p:cNvPicPr/>
          <p:nvPr/>
        </p:nvPicPr>
        <p:blipFill>
          <a:blip r:embed="rId2"/>
          <a:stretch/>
        </p:blipFill>
        <p:spPr>
          <a:xfrm>
            <a:off x="-41400" y="0"/>
            <a:ext cx="5680080" cy="6823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кивач 1"/>
          <p:cNvPicPr/>
          <p:nvPr/>
        </p:nvPicPr>
        <p:blipFill>
          <a:blip r:embed="rId3"/>
          <a:stretch/>
        </p:blipFill>
        <p:spPr>
          <a:xfrm>
            <a:off x="5638680" y="928800"/>
            <a:ext cx="3589560" cy="3259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кивач2"/>
          <p:cNvPicPr/>
          <p:nvPr/>
        </p:nvPicPr>
        <p:blipFill>
          <a:blip r:embed="rId4"/>
          <a:stretch/>
        </p:blipFill>
        <p:spPr>
          <a:xfrm>
            <a:off x="5638680" y="4189320"/>
            <a:ext cx="3591000" cy="2635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5638680" y="291960"/>
            <a:ext cx="35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ОПАД КИВ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фон4"/>
          <p:cNvPicPr/>
          <p:nvPr/>
        </p:nvPicPr>
        <p:blipFill>
          <a:blip r:embed="rId1"/>
          <a:stretch/>
        </p:blipFill>
        <p:spPr>
          <a:xfrm>
            <a:off x="-87480" y="-82440"/>
            <a:ext cx="9266400" cy="68799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547560" y="212760"/>
            <a:ext cx="863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а в Карелии достаточно мяг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kareliya_ZIMA"/>
          <p:cNvPicPr/>
          <p:nvPr/>
        </p:nvPicPr>
        <p:blipFill>
          <a:blip r:embed="rId2"/>
          <a:stretch/>
        </p:blipFill>
        <p:spPr>
          <a:xfrm>
            <a:off x="-54000" y="861840"/>
            <a:ext cx="4700520" cy="3461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Winter-in-karelia-2"/>
          <p:cNvPicPr/>
          <p:nvPr/>
        </p:nvPicPr>
        <p:blipFill>
          <a:blip r:embed="rId3"/>
          <a:stretch/>
        </p:blipFill>
        <p:spPr>
          <a:xfrm>
            <a:off x="-55440" y="4164120"/>
            <a:ext cx="4701960" cy="2633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6aea5150-3e03-4684-bd58-5fb7e835d566"/>
          <p:cNvPicPr/>
          <p:nvPr/>
        </p:nvPicPr>
        <p:blipFill>
          <a:blip r:embed="rId4"/>
          <a:stretch/>
        </p:blipFill>
        <p:spPr>
          <a:xfrm>
            <a:off x="4646520" y="861840"/>
            <a:ext cx="4497480" cy="59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фон4"/>
          <p:cNvPicPr/>
          <p:nvPr/>
        </p:nvPicPr>
        <p:blipFill>
          <a:blip r:embed="rId1"/>
          <a:stretch/>
        </p:blipFill>
        <p:spPr>
          <a:xfrm>
            <a:off x="-68400" y="-31680"/>
            <a:ext cx="9234720" cy="6854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663560" y="45864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249640" y="198360"/>
            <a:ext cx="412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т лето – прохладно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jmefrrdmugoq htlxzunrre"/>
          <p:cNvPicPr/>
          <p:nvPr/>
        </p:nvPicPr>
        <p:blipFill>
          <a:blip r:embed="rId2"/>
          <a:stretch/>
        </p:blipFill>
        <p:spPr>
          <a:xfrm>
            <a:off x="-68400" y="824040"/>
            <a:ext cx="5361120" cy="3976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summer"/>
          <p:cNvPicPr/>
          <p:nvPr/>
        </p:nvPicPr>
        <p:blipFill>
          <a:blip r:embed="rId3"/>
          <a:stretch/>
        </p:blipFill>
        <p:spPr>
          <a:xfrm>
            <a:off x="5116680" y="824040"/>
            <a:ext cx="4049640" cy="3976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images"/>
          <p:cNvPicPr/>
          <p:nvPr/>
        </p:nvPicPr>
        <p:blipFill>
          <a:blip r:embed="rId4"/>
          <a:stretch/>
        </p:blipFill>
        <p:spPr>
          <a:xfrm>
            <a:off x="2556000" y="4800600"/>
            <a:ext cx="425448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фон2"/>
          <p:cNvPicPr/>
          <p:nvPr/>
        </p:nvPicPr>
        <p:blipFill>
          <a:blip r:embed="rId1"/>
          <a:stretch/>
        </p:blipFill>
        <p:spPr>
          <a:xfrm>
            <a:off x="0" y="-4680"/>
            <a:ext cx="9112320" cy="68119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866880" y="2541600"/>
            <a:ext cx="741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ЖИВОТНЫЙ МИР КАРЕЛ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фон4"/>
          <p:cNvPicPr/>
          <p:nvPr/>
        </p:nvPicPr>
        <p:blipFill>
          <a:blip r:embed="rId1"/>
          <a:stretch/>
        </p:blipFill>
        <p:spPr>
          <a:xfrm>
            <a:off x="-68400" y="-31680"/>
            <a:ext cx="9234720" cy="68547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82440" y="806400"/>
            <a:ext cx="888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Животный мир Карелии во многом уникален. На всей территории республики водятся белка, заяц-беляк, лиси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ндатра, европейский боб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 меньшей вероятностью, но все же может встрет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урый медведь, барсук, рысь, енотовидная собака,на берегах водоемов — выдра, куница, нор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тречей с волком в Карелии никого не удивить – здесь нередки случаи, когда холодной зимой серые хищ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ходят в города. А кабаны и вовсе осенью приходят подкормиться прямо на огороды. Обычны в лесах Карел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о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рдость и краса Карелии - северный ол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фон4"/>
          <p:cNvPicPr/>
          <p:nvPr/>
        </p:nvPicPr>
        <p:blipFill>
          <a:blip r:embed="rId1"/>
          <a:stretch/>
        </p:blipFill>
        <p:spPr>
          <a:xfrm>
            <a:off x="-68400" y="-44280"/>
            <a:ext cx="9234720" cy="6854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karelian.ru/uploads/posts/2013-02/1361819257_3438.jpg"/>
          <p:cNvPicPr/>
          <p:nvPr/>
        </p:nvPicPr>
        <p:blipFill>
          <a:blip r:embed="rId2"/>
          <a:stretch/>
        </p:blipFill>
        <p:spPr>
          <a:xfrm>
            <a:off x="195120" y="333360"/>
            <a:ext cx="4499280" cy="269892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pic>
        <p:nvPicPr>
          <p:cNvPr id="96" name="Picture 4" descr="http://karelian.ru/uploads/posts/2013-02/1361819248_f542771f4fcb.jpg"/>
          <p:cNvPicPr/>
          <p:nvPr/>
        </p:nvPicPr>
        <p:blipFill>
          <a:blip r:embed="rId3"/>
          <a:stretch/>
        </p:blipFill>
        <p:spPr>
          <a:xfrm rot="481200">
            <a:off x="5204880" y="333000"/>
            <a:ext cx="3252960" cy="216684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pic>
        <p:nvPicPr>
          <p:cNvPr id="97" name="Picture 6" descr="http://karelian.ru/uploads/posts/2013-02/1361819284_80109072_ruys_lynx_canadensis.jpg"/>
          <p:cNvPicPr/>
          <p:nvPr/>
        </p:nvPicPr>
        <p:blipFill>
          <a:blip r:embed="rId4"/>
          <a:stretch/>
        </p:blipFill>
        <p:spPr>
          <a:xfrm rot="668400">
            <a:off x="4108320" y="2278080"/>
            <a:ext cx="2660760" cy="186048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pic>
        <p:nvPicPr>
          <p:cNvPr id="98" name="Picture 6" descr="reindeer2"/>
          <p:cNvPicPr/>
          <p:nvPr/>
        </p:nvPicPr>
        <p:blipFill>
          <a:blip r:embed="rId5"/>
          <a:stretch/>
        </p:blipFill>
        <p:spPr>
          <a:xfrm>
            <a:off x="5438880" y="4308480"/>
            <a:ext cx="3335400" cy="2502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80531"/>
          <p:cNvPicPr/>
          <p:nvPr/>
        </p:nvPicPr>
        <p:blipFill>
          <a:blip r:embed="rId6"/>
          <a:stretch/>
        </p:blipFill>
        <p:spPr>
          <a:xfrm>
            <a:off x="195120" y="3968640"/>
            <a:ext cx="4694400" cy="28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фон4"/>
          <p:cNvPicPr/>
          <p:nvPr/>
        </p:nvPicPr>
        <p:blipFill>
          <a:blip r:embed="rId1"/>
          <a:stretch/>
        </p:blipFill>
        <p:spPr>
          <a:xfrm>
            <a:off x="-55440" y="-49320"/>
            <a:ext cx="9232920" cy="6962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130320" y="112680"/>
            <a:ext cx="875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релии очень много хвойных деревьев, там м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ель, которой больше 17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релии растет береза, она всегда очень ценилась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е, из-за своей красоты и особой про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1310941"/>
          <p:cNvPicPr/>
          <p:nvPr/>
        </p:nvPicPr>
        <p:blipFill>
          <a:blip r:embed="rId2"/>
          <a:stretch/>
        </p:blipFill>
        <p:spPr>
          <a:xfrm>
            <a:off x="3362400" y="1662120"/>
            <a:ext cx="5713200" cy="4352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8_2"/>
          <p:cNvPicPr/>
          <p:nvPr/>
        </p:nvPicPr>
        <p:blipFill>
          <a:blip r:embed="rId3"/>
          <a:stretch/>
        </p:blipFill>
        <p:spPr>
          <a:xfrm>
            <a:off x="90360" y="1662120"/>
            <a:ext cx="3272040" cy="43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фон4"/>
          <p:cNvPicPr/>
          <p:nvPr/>
        </p:nvPicPr>
        <p:blipFill>
          <a:blip r:embed="rId1"/>
          <a:stretch/>
        </p:blipFill>
        <p:spPr>
          <a:xfrm>
            <a:off x="-68400" y="-31680"/>
            <a:ext cx="9234720" cy="6854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0" descr="http://vershinatur.com/upload/iblock/d5c/d5ca173d045a39ecf293265c73960317.jpg"/>
          <p:cNvPicPr/>
          <p:nvPr/>
        </p:nvPicPr>
        <p:blipFill>
          <a:blip r:embed="rId2"/>
          <a:stretch/>
        </p:blipFill>
        <p:spPr>
          <a:xfrm rot="20210400">
            <a:off x="669960" y="617400"/>
            <a:ext cx="3308400" cy="286560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pic>
        <p:nvPicPr>
          <p:cNvPr id="106" name="Picture 12" descr="http://i035.radikal.ru/1107/34/842056c5f34a.jpg"/>
          <p:cNvPicPr/>
          <p:nvPr/>
        </p:nvPicPr>
        <p:blipFill>
          <a:blip r:embed="rId3"/>
          <a:stretch/>
        </p:blipFill>
        <p:spPr>
          <a:xfrm rot="20671200">
            <a:off x="441000" y="3235320"/>
            <a:ext cx="2863800" cy="278136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sp>
        <p:nvSpPr>
          <p:cNvPr id="107" name="Text Box 5"/>
          <p:cNvSpPr/>
          <p:nvPr/>
        </p:nvSpPr>
        <p:spPr>
          <a:xfrm>
            <a:off x="3711600" y="138240"/>
            <a:ext cx="545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там можно найти м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морошку,чернику, голубику, бруснику, клюкву. И много раз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гри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http://s00.yaplakal.com/pics/pics_original/0/4/9/5800940.jpg"/>
          <p:cNvPicPr/>
          <p:nvPr/>
        </p:nvPicPr>
        <p:blipFill>
          <a:blip r:embed="rId4"/>
          <a:stretch/>
        </p:blipFill>
        <p:spPr>
          <a:xfrm>
            <a:off x="3713040" y="1822320"/>
            <a:ext cx="4167360" cy="238464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pic>
        <p:nvPicPr>
          <p:cNvPr id="109" name="Picture 10" descr="http://yumorlife.ru/files/1/images_106/image_124603.jpg"/>
          <p:cNvPicPr/>
          <p:nvPr/>
        </p:nvPicPr>
        <p:blipFill>
          <a:blip r:embed="rId5"/>
          <a:stretch/>
        </p:blipFill>
        <p:spPr>
          <a:xfrm rot="351600">
            <a:off x="6016320" y="4204800"/>
            <a:ext cx="2765520" cy="239868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pic>
        <p:nvPicPr>
          <p:cNvPr id="110" name="Picture 22" descr="http://pbs.twimg.com/media/BzVgkP5IgAA-w5d.jpg:large"/>
          <p:cNvPicPr/>
          <p:nvPr/>
        </p:nvPicPr>
        <p:blipFill>
          <a:blip r:embed="rId6"/>
          <a:stretch/>
        </p:blipFill>
        <p:spPr>
          <a:xfrm rot="376200">
            <a:off x="2805120" y="4206960"/>
            <a:ext cx="3211560" cy="240660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фон4"/>
          <p:cNvPicPr/>
          <p:nvPr/>
        </p:nvPicPr>
        <p:blipFill>
          <a:blip r:embed="rId1"/>
          <a:stretch/>
        </p:blipFill>
        <p:spPr>
          <a:xfrm>
            <a:off x="-30240" y="-57240"/>
            <a:ext cx="9232920" cy="68547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1784520" y="-57240"/>
            <a:ext cx="528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ЕМЫ КАРЕ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-30240" y="453960"/>
            <a:ext cx="887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ЕЖСКОЕ ОЗЕР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ерегу Онеги находится стол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елии – Петрозаводс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скачанные файлы"/>
          <p:cNvPicPr/>
          <p:nvPr/>
        </p:nvPicPr>
        <p:blipFill>
          <a:blip r:embed="rId2"/>
          <a:stretch/>
        </p:blipFill>
        <p:spPr>
          <a:xfrm>
            <a:off x="-30240" y="4923000"/>
            <a:ext cx="4361040" cy="1874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Онежское-озеро-7"/>
          <p:cNvPicPr/>
          <p:nvPr/>
        </p:nvPicPr>
        <p:blipFill>
          <a:blip r:embed="rId3"/>
          <a:stretch/>
        </p:blipFill>
        <p:spPr>
          <a:xfrm>
            <a:off x="4309920" y="2009880"/>
            <a:ext cx="4892760" cy="478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onezhskoe-ozero-1"/>
          <p:cNvPicPr/>
          <p:nvPr/>
        </p:nvPicPr>
        <p:blipFill>
          <a:blip r:embed="rId4"/>
          <a:stretch/>
        </p:blipFill>
        <p:spPr>
          <a:xfrm>
            <a:off x="-28440" y="2009880"/>
            <a:ext cx="4359240" cy="29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фон4"/>
          <p:cNvPicPr/>
          <p:nvPr/>
        </p:nvPicPr>
        <p:blipFill>
          <a:blip r:embed="rId1"/>
          <a:stretch/>
        </p:blipFill>
        <p:spPr>
          <a:xfrm>
            <a:off x="-28440" y="-55440"/>
            <a:ext cx="9232920" cy="6964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ostrov21"/>
          <p:cNvPicPr/>
          <p:nvPr/>
        </p:nvPicPr>
        <p:blipFill>
          <a:blip r:embed="rId2"/>
          <a:stretch/>
        </p:blipFill>
        <p:spPr>
          <a:xfrm>
            <a:off x="6148440" y="-87480"/>
            <a:ext cx="3054240" cy="306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Kizi5"/>
          <p:cNvPicPr/>
          <p:nvPr/>
        </p:nvPicPr>
        <p:blipFill>
          <a:blip r:embed="rId3"/>
          <a:stretch/>
        </p:blipFill>
        <p:spPr>
          <a:xfrm>
            <a:off x="-28440" y="2979720"/>
            <a:ext cx="9231120" cy="3929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s1200"/>
          <p:cNvPicPr/>
          <p:nvPr/>
        </p:nvPicPr>
        <p:blipFill>
          <a:blip r:embed="rId4"/>
          <a:stretch/>
        </p:blipFill>
        <p:spPr>
          <a:xfrm>
            <a:off x="-28440" y="-87480"/>
            <a:ext cx="3087720" cy="3067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1481258304261_Image00004"/>
          <p:cNvPicPr/>
          <p:nvPr/>
        </p:nvPicPr>
        <p:blipFill>
          <a:blip r:embed="rId5"/>
          <a:stretch/>
        </p:blipFill>
        <p:spPr>
          <a:xfrm>
            <a:off x="2733840" y="-87480"/>
            <a:ext cx="3414600" cy="3067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5684760" y="3300480"/>
            <a:ext cx="33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ТРОВ КИ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510497900115699400"/>
          <p:cNvPicPr/>
          <p:nvPr/>
        </p:nvPicPr>
        <p:blipFill>
          <a:blip r:embed="rId1"/>
          <a:stretch/>
        </p:blipFill>
        <p:spPr>
          <a:xfrm>
            <a:off x="-3240" y="-1440"/>
            <a:ext cx="913932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фон4"/>
          <p:cNvPicPr/>
          <p:nvPr/>
        </p:nvPicPr>
        <p:blipFill>
          <a:blip r:embed="rId1"/>
          <a:stretch/>
        </p:blipFill>
        <p:spPr>
          <a:xfrm>
            <a:off x="-68400" y="-31680"/>
            <a:ext cx="9234720" cy="6854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Ладожское-озеро-2"/>
          <p:cNvPicPr/>
          <p:nvPr/>
        </p:nvPicPr>
        <p:blipFill>
          <a:blip r:embed="rId2"/>
          <a:stretch/>
        </p:blipFill>
        <p:spPr>
          <a:xfrm>
            <a:off x="4902120" y="923760"/>
            <a:ext cx="4265640" cy="433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ladozhskoe_ozero_2"/>
          <p:cNvPicPr/>
          <p:nvPr/>
        </p:nvPicPr>
        <p:blipFill>
          <a:blip r:embed="rId3"/>
          <a:stretch/>
        </p:blipFill>
        <p:spPr>
          <a:xfrm>
            <a:off x="-66600" y="925560"/>
            <a:ext cx="4967280" cy="5897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скачанные файлы"/>
          <p:cNvPicPr/>
          <p:nvPr/>
        </p:nvPicPr>
        <p:blipFill>
          <a:blip r:embed="rId4"/>
          <a:stretch/>
        </p:blipFill>
        <p:spPr>
          <a:xfrm>
            <a:off x="4900680" y="5089680"/>
            <a:ext cx="4265640" cy="17334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1982880" y="285840"/>
            <a:ext cx="50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ДОЖСКОЕ ОЗ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фон4"/>
          <p:cNvPicPr/>
          <p:nvPr/>
        </p:nvPicPr>
        <p:blipFill>
          <a:blip r:embed="rId1"/>
          <a:stretch/>
        </p:blipFill>
        <p:spPr>
          <a:xfrm>
            <a:off x="-68400" y="-31680"/>
            <a:ext cx="9234720" cy="685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091b41a3b574f462cb446e0266c8592c"/>
          <p:cNvPicPr/>
          <p:nvPr/>
        </p:nvPicPr>
        <p:blipFill>
          <a:blip r:embed="rId2"/>
          <a:stretch/>
        </p:blipFill>
        <p:spPr>
          <a:xfrm>
            <a:off x="-66600" y="2754360"/>
            <a:ext cx="4711680" cy="4068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Valaam-1"/>
          <p:cNvPicPr/>
          <p:nvPr/>
        </p:nvPicPr>
        <p:blipFill>
          <a:blip r:embed="rId3"/>
          <a:stretch/>
        </p:blipFill>
        <p:spPr>
          <a:xfrm>
            <a:off x="4645080" y="-28440"/>
            <a:ext cx="4521240" cy="6851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valaam2"/>
          <p:cNvPicPr/>
          <p:nvPr/>
        </p:nvPicPr>
        <p:blipFill>
          <a:blip r:embed="rId4"/>
          <a:stretch/>
        </p:blipFill>
        <p:spPr>
          <a:xfrm>
            <a:off x="-66600" y="-30240"/>
            <a:ext cx="4711680" cy="285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5557680" y="773280"/>
            <a:ext cx="152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024160" y="19368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В ВАЛА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фон4"/>
          <p:cNvPicPr/>
          <p:nvPr/>
        </p:nvPicPr>
        <p:blipFill>
          <a:blip r:embed="rId1"/>
          <a:stretch/>
        </p:blipFill>
        <p:spPr>
          <a:xfrm>
            <a:off x="-96840" y="-68400"/>
            <a:ext cx="9231480" cy="7024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32"/>
          <p:cNvPicPr/>
          <p:nvPr/>
        </p:nvPicPr>
        <p:blipFill>
          <a:blip r:embed="rId2"/>
          <a:stretch/>
        </p:blipFill>
        <p:spPr>
          <a:xfrm>
            <a:off x="4514760" y="987480"/>
            <a:ext cx="4619880" cy="2666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210189_original"/>
          <p:cNvPicPr/>
          <p:nvPr/>
        </p:nvPicPr>
        <p:blipFill>
          <a:blip r:embed="rId3"/>
          <a:stretch/>
        </p:blipFill>
        <p:spPr>
          <a:xfrm>
            <a:off x="-95400" y="987480"/>
            <a:ext cx="4610160" cy="2666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morzhi"/>
          <p:cNvPicPr/>
          <p:nvPr/>
        </p:nvPicPr>
        <p:blipFill>
          <a:blip r:embed="rId4"/>
          <a:stretch/>
        </p:blipFill>
        <p:spPr>
          <a:xfrm>
            <a:off x="-95400" y="3654360"/>
            <a:ext cx="9230040" cy="33019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2701800" y="407880"/>
            <a:ext cx="152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854440" y="285840"/>
            <a:ext cx="35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Е М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фон4"/>
          <p:cNvPicPr/>
          <p:nvPr/>
        </p:nvPicPr>
        <p:blipFill>
          <a:blip r:embed="rId1"/>
          <a:stretch/>
        </p:blipFill>
        <p:spPr>
          <a:xfrm>
            <a:off x="-42840" y="-66600"/>
            <a:ext cx="9232920" cy="70228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2082960" y="157320"/>
            <a:ext cx="48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ЕЛЬСКИЕ  ИЗ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17331_600"/>
          <p:cNvPicPr/>
          <p:nvPr/>
        </p:nvPicPr>
        <p:blipFill>
          <a:blip r:embed="rId2"/>
          <a:stretch/>
        </p:blipFill>
        <p:spPr>
          <a:xfrm>
            <a:off x="-41400" y="1039680"/>
            <a:ext cx="4410360" cy="3110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53752862a5085"/>
          <p:cNvPicPr/>
          <p:nvPr/>
        </p:nvPicPr>
        <p:blipFill>
          <a:blip r:embed="rId3"/>
          <a:stretch/>
        </p:blipFill>
        <p:spPr>
          <a:xfrm>
            <a:off x="4368960" y="4149720"/>
            <a:ext cx="4767120" cy="2806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10.800x600"/>
          <p:cNvPicPr/>
          <p:nvPr/>
        </p:nvPicPr>
        <p:blipFill>
          <a:blip r:embed="rId4"/>
          <a:stretch/>
        </p:blipFill>
        <p:spPr>
          <a:xfrm>
            <a:off x="4368960" y="1039680"/>
            <a:ext cx="4767120" cy="3110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doc-16593-ph-gallery-16594-original"/>
          <p:cNvPicPr/>
          <p:nvPr/>
        </p:nvPicPr>
        <p:blipFill>
          <a:blip r:embed="rId5"/>
          <a:stretch/>
        </p:blipFill>
        <p:spPr>
          <a:xfrm>
            <a:off x="-41400" y="4149720"/>
            <a:ext cx="44103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фон4"/>
          <p:cNvPicPr/>
          <p:nvPr/>
        </p:nvPicPr>
        <p:blipFill>
          <a:blip r:embed="rId1"/>
          <a:stretch/>
        </p:blipFill>
        <p:spPr>
          <a:xfrm>
            <a:off x="-55440" y="-79200"/>
            <a:ext cx="9232920" cy="7022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etnomuzej"/>
          <p:cNvPicPr/>
          <p:nvPr/>
        </p:nvPicPr>
        <p:blipFill>
          <a:blip r:embed="rId2"/>
          <a:stretch/>
        </p:blipFill>
        <p:spPr>
          <a:xfrm>
            <a:off x="-55440" y="-79200"/>
            <a:ext cx="4395600" cy="327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img_4049"/>
          <p:cNvPicPr/>
          <p:nvPr/>
        </p:nvPicPr>
        <p:blipFill>
          <a:blip r:embed="rId3"/>
          <a:stretch/>
        </p:blipFill>
        <p:spPr>
          <a:xfrm>
            <a:off x="4340160" y="-77760"/>
            <a:ext cx="4837320" cy="3276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1337-3"/>
          <p:cNvPicPr/>
          <p:nvPr/>
        </p:nvPicPr>
        <p:blipFill>
          <a:blip r:embed="rId4"/>
          <a:stretch/>
        </p:blipFill>
        <p:spPr>
          <a:xfrm>
            <a:off x="4340160" y="3198960"/>
            <a:ext cx="4837320" cy="374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images"/>
          <p:cNvPicPr/>
          <p:nvPr/>
        </p:nvPicPr>
        <p:blipFill>
          <a:blip r:embed="rId5"/>
          <a:stretch/>
        </p:blipFill>
        <p:spPr>
          <a:xfrm>
            <a:off x="-55440" y="3197160"/>
            <a:ext cx="4395600" cy="37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фон4"/>
          <p:cNvPicPr/>
          <p:nvPr/>
        </p:nvPicPr>
        <p:blipFill>
          <a:blip r:embed="rId1"/>
          <a:stretch/>
        </p:blipFill>
        <p:spPr>
          <a:xfrm>
            <a:off x="25560" y="-104760"/>
            <a:ext cx="9239040" cy="70232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1600200" y="8568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ЕЛЬСКАЯ ВЫШИ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81080" y="785880"/>
            <a:ext cx="886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релии, как и по всей России, умение вышивать было обязательным для каждой женщины. В Заонежье, на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, умение вышивать у девушек приравнивалось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ю грамоты у парней. До наших дней дошли ста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е вышивки – полотенца, подзоры, столешники, детали народного бытового и праздничного костю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http://www.museum.ru/imgB.asp?41394"/>
          <p:cNvPicPr/>
          <p:nvPr/>
        </p:nvPicPr>
        <p:blipFill>
          <a:blip r:embed="rId2"/>
          <a:stretch/>
        </p:blipFill>
        <p:spPr>
          <a:xfrm>
            <a:off x="388800" y="3308400"/>
            <a:ext cx="3451320" cy="324972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pic>
        <p:nvPicPr>
          <p:cNvPr id="155" name="Picture 8" descr="http://vneshnii-oblik.ru/assets/images/8/img880.jpg"/>
          <p:cNvPicPr/>
          <p:nvPr/>
        </p:nvPicPr>
        <p:blipFill>
          <a:blip r:embed="rId3"/>
          <a:stretch/>
        </p:blipFill>
        <p:spPr>
          <a:xfrm>
            <a:off x="3840120" y="3133800"/>
            <a:ext cx="2666880" cy="3611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74e3776d7a28bbf2572f4226c9eb9e01"/>
          <p:cNvPicPr/>
          <p:nvPr/>
        </p:nvPicPr>
        <p:blipFill>
          <a:blip r:embed="rId4"/>
          <a:stretch/>
        </p:blipFill>
        <p:spPr>
          <a:xfrm>
            <a:off x="6507000" y="3135240"/>
            <a:ext cx="2757600" cy="36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фон4"/>
          <p:cNvPicPr/>
          <p:nvPr/>
        </p:nvPicPr>
        <p:blipFill>
          <a:blip r:embed="rId1"/>
          <a:stretch/>
        </p:blipFill>
        <p:spPr>
          <a:xfrm>
            <a:off x="-96840" y="-68400"/>
            <a:ext cx="9231480" cy="7024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doc-16686-ph-gallery-16699-original"/>
          <p:cNvPicPr/>
          <p:nvPr/>
        </p:nvPicPr>
        <p:blipFill>
          <a:blip r:embed="rId2"/>
          <a:stretch/>
        </p:blipFill>
        <p:spPr>
          <a:xfrm>
            <a:off x="-96840" y="-68400"/>
            <a:ext cx="5106960" cy="3205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08"/>
          <p:cNvPicPr/>
          <p:nvPr/>
        </p:nvPicPr>
        <p:blipFill>
          <a:blip r:embed="rId3"/>
          <a:stretch/>
        </p:blipFill>
        <p:spPr>
          <a:xfrm>
            <a:off x="5010120" y="-68400"/>
            <a:ext cx="4124520" cy="3205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b27"/>
          <p:cNvPicPr/>
          <p:nvPr/>
        </p:nvPicPr>
        <p:blipFill>
          <a:blip r:embed="rId4"/>
          <a:stretch/>
        </p:blipFill>
        <p:spPr>
          <a:xfrm>
            <a:off x="4197240" y="3116160"/>
            <a:ext cx="4937400" cy="3840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img_2209"/>
          <p:cNvPicPr/>
          <p:nvPr/>
        </p:nvPicPr>
        <p:blipFill>
          <a:blip r:embed="rId5"/>
          <a:stretch/>
        </p:blipFill>
        <p:spPr>
          <a:xfrm>
            <a:off x="-96840" y="4657680"/>
            <a:ext cx="4294080" cy="2298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414262"/>
          <p:cNvPicPr/>
          <p:nvPr/>
        </p:nvPicPr>
        <p:blipFill>
          <a:blip r:embed="rId6"/>
          <a:stretch/>
        </p:blipFill>
        <p:spPr>
          <a:xfrm>
            <a:off x="-96840" y="3137040"/>
            <a:ext cx="4294080" cy="15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фон2"/>
          <p:cNvPicPr/>
          <p:nvPr/>
        </p:nvPicPr>
        <p:blipFill>
          <a:blip r:embed="rId1"/>
          <a:stretch/>
        </p:blipFill>
        <p:spPr>
          <a:xfrm>
            <a:off x="-108000" y="7920"/>
            <a:ext cx="9252000" cy="6850080"/>
          </a:xfrm>
          <a:prstGeom prst="rect">
            <a:avLst/>
          </a:prstGeom>
          <a:ln w="0">
            <a:noFill/>
          </a:ln>
        </p:spPr>
      </p:pic>
      <p:sp>
        <p:nvSpPr>
          <p:cNvPr id="164" name="WordArt 3"/>
          <p:cNvSpPr txBox="1"/>
          <p:nvPr/>
        </p:nvSpPr>
        <p:spPr>
          <a:xfrm>
            <a:off x="744480" y="1125360"/>
            <a:ext cx="7994880" cy="265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Arial Black"/>
              </a:rPr>
              <a:t>спасибо за внимание!</a:t>
            </a:r>
            <a:endParaRPr b="1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фон4"/>
          <p:cNvPicPr/>
          <p:nvPr/>
        </p:nvPicPr>
        <p:blipFill>
          <a:blip r:embed="rId1"/>
          <a:stretch/>
        </p:blipFill>
        <p:spPr>
          <a:xfrm>
            <a:off x="-17640" y="25560"/>
            <a:ext cx="9234720" cy="6870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Государственный флаг Республики Карелия"/>
          <p:cNvPicPr/>
          <p:nvPr/>
        </p:nvPicPr>
        <p:blipFill>
          <a:blip r:embed="rId2"/>
          <a:stretch/>
        </p:blipFill>
        <p:spPr>
          <a:xfrm>
            <a:off x="311040" y="2009880"/>
            <a:ext cx="3641760" cy="2398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2647800" y="695160"/>
            <a:ext cx="43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ФЛАГ КАРЕЛ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952800" y="2009880"/>
            <a:ext cx="50068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742f"/>
                </a:solidFill>
                <a:latin typeface="Times New Roman"/>
                <a:ea typeface="Times New Roman"/>
              </a:rPr>
              <a:t>Зеле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и расти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Сини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озер и рек Карел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90f"/>
                </a:solidFill>
                <a:latin typeface="Times New Roman"/>
                <a:ea typeface="Times New Roman"/>
              </a:rPr>
              <a:t>Красны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 силы, мужеств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брости на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фон4"/>
          <p:cNvPicPr/>
          <p:nvPr/>
        </p:nvPicPr>
        <p:blipFill>
          <a:blip r:embed="rId1"/>
          <a:stretch/>
        </p:blipFill>
        <p:spPr>
          <a:xfrm>
            <a:off x="0" y="0"/>
            <a:ext cx="9240840" cy="692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http://nord-news.ru/img/newsimages/20130130/1_28e4a67867f9.jpg"/>
          <p:cNvPicPr/>
          <p:nvPr/>
        </p:nvPicPr>
        <p:blipFill>
          <a:blip r:embed="rId2"/>
          <a:stretch/>
        </p:blipFill>
        <p:spPr>
          <a:xfrm>
            <a:off x="193680" y="1514520"/>
            <a:ext cx="3260880" cy="37958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2793240" y="482760"/>
            <a:ext cx="416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ГЕРБ КАРЕЛ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454560" y="2271600"/>
            <a:ext cx="5787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олото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цвет верховенства, величия и богат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Центральный элемент герб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фигура мед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я. Медведь у карел особо почитался. В ф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ьклоре народа медведю отведе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начительное м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вершине герб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восьмиконечная золотая звезда, символ путеводной звезды на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фон4"/>
          <p:cNvPicPr/>
          <p:nvPr/>
        </p:nvPicPr>
        <p:blipFill>
          <a:blip r:embed="rId1"/>
          <a:stretch/>
        </p:blipFill>
        <p:spPr>
          <a:xfrm>
            <a:off x="-58680" y="-50760"/>
            <a:ext cx="9343800" cy="7007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81160" y="196920"/>
            <a:ext cx="9003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ТОЛИЦА РЕСПУБЛИКИ КАРЕЛИЯ -ГОРОД ПЕТРОЗАВОДС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gallery_2996_1248_678202"/>
          <p:cNvPicPr/>
          <p:nvPr/>
        </p:nvPicPr>
        <p:blipFill>
          <a:blip r:embed="rId2"/>
          <a:stretch/>
        </p:blipFill>
        <p:spPr>
          <a:xfrm>
            <a:off x="-58680" y="1660680"/>
            <a:ext cx="9369360" cy="52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фон4"/>
          <p:cNvPicPr/>
          <p:nvPr/>
        </p:nvPicPr>
        <p:blipFill>
          <a:blip r:embed="rId1"/>
          <a:stretch/>
        </p:blipFill>
        <p:spPr>
          <a:xfrm>
            <a:off x="0" y="0"/>
            <a:ext cx="9240840" cy="6921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petrozavodsk-424x280"/>
          <p:cNvPicPr/>
          <p:nvPr/>
        </p:nvPicPr>
        <p:blipFill>
          <a:blip r:embed="rId2"/>
          <a:stretch/>
        </p:blipFill>
        <p:spPr>
          <a:xfrm>
            <a:off x="0" y="0"/>
            <a:ext cx="5118120" cy="377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images"/>
          <p:cNvPicPr/>
          <p:nvPr/>
        </p:nvPicPr>
        <p:blipFill>
          <a:blip r:embed="rId3"/>
          <a:stretch/>
        </p:blipFill>
        <p:spPr>
          <a:xfrm>
            <a:off x="5118120" y="0"/>
            <a:ext cx="4122720" cy="377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87410"/>
          <p:cNvPicPr/>
          <p:nvPr/>
        </p:nvPicPr>
        <p:blipFill>
          <a:blip r:embed="rId4"/>
          <a:stretch/>
        </p:blipFill>
        <p:spPr>
          <a:xfrm>
            <a:off x="0" y="3767040"/>
            <a:ext cx="5118120" cy="315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ptz03"/>
          <p:cNvPicPr/>
          <p:nvPr/>
        </p:nvPicPr>
        <p:blipFill>
          <a:blip r:embed="rId5"/>
          <a:stretch/>
        </p:blipFill>
        <p:spPr>
          <a:xfrm>
            <a:off x="5119560" y="3774960"/>
            <a:ext cx="4148280" cy="31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фон2"/>
          <p:cNvPicPr/>
          <p:nvPr/>
        </p:nvPicPr>
        <p:blipFill>
          <a:blip r:embed="rId1"/>
          <a:stretch/>
        </p:blipFill>
        <p:spPr>
          <a:xfrm>
            <a:off x="0" y="-4680"/>
            <a:ext cx="9112320" cy="6811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2056320" y="2440080"/>
            <a:ext cx="537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ИРОДА КАРЕЛ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фон4"/>
          <p:cNvPicPr/>
          <p:nvPr/>
        </p:nvPicPr>
        <p:blipFill>
          <a:blip r:embed="rId1"/>
          <a:stretch/>
        </p:blipFill>
        <p:spPr>
          <a:xfrm>
            <a:off x="-15840" y="0"/>
            <a:ext cx="9232920" cy="68961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146160" y="185760"/>
            <a:ext cx="875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Карелии удивительно красива. В н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всё: чистые озёра и реки, скалы по берегам рек, густые лес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H-aG7MGU-Azmz48wAJCfQTJ66NY0VWTVgcDq0baawgcwMHqiY0lpFSU4fTykjMKZPCKedXwuBQONYQCyvhWiYB3teCCvzQkc0NVUJbG9agW41MprooKa0KFZTnslKvyx"/>
          <p:cNvPicPr/>
          <p:nvPr/>
        </p:nvPicPr>
        <p:blipFill>
          <a:blip r:embed="rId2"/>
          <a:stretch/>
        </p:blipFill>
        <p:spPr>
          <a:xfrm>
            <a:off x="-17640" y="1555920"/>
            <a:ext cx="4726080" cy="4270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H-aG7MGU-Azmz48wAJCfQWIeoobFimKDP5Jlp5B75OAgg3cUeTCMfkYuFB_Hp9XffZyYoj16PcGXTYCpOqLiUuisk2zAAq_XZ1-dCddjQTeU5Rxnwp1gJfQRtTDWrkaQ"/>
          <p:cNvPicPr/>
          <p:nvPr/>
        </p:nvPicPr>
        <p:blipFill>
          <a:blip r:embed="rId3"/>
          <a:stretch/>
        </p:blipFill>
        <p:spPr>
          <a:xfrm>
            <a:off x="4710240" y="2543040"/>
            <a:ext cx="450828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фон4"/>
          <p:cNvPicPr/>
          <p:nvPr/>
        </p:nvPicPr>
        <p:blipFill>
          <a:blip r:embed="rId1"/>
          <a:stretch/>
        </p:blipFill>
        <p:spPr>
          <a:xfrm>
            <a:off x="-42840" y="0"/>
            <a:ext cx="923436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H-aG7MGU-Azmz48wAJCfQWIeoobFimKDP5Jlp5B75OB5xWUKPXvJAiCDhCpH1KSYOSmvtC5XqWYP6U1zbfhQ9Ihj_7LZx1evc59NLZ8EjrE"/>
          <p:cNvPicPr/>
          <p:nvPr/>
        </p:nvPicPr>
        <p:blipFill>
          <a:blip r:embed="rId2"/>
          <a:stretch/>
        </p:blipFill>
        <p:spPr>
          <a:xfrm>
            <a:off x="-41400" y="0"/>
            <a:ext cx="4453200" cy="3365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-aG7MGU-Azmz48wAJCfQWIeoobFimKDP5Jlp5B75OAgg3cUeTCMfkYuFB_Hp9XfuRd5IxoCj93PCU-OoEgdddEcqRskRYGZ5gapVY6YnEk"/>
          <p:cNvPicPr/>
          <p:nvPr/>
        </p:nvPicPr>
        <p:blipFill>
          <a:blip r:embed="rId3"/>
          <a:stretch/>
        </p:blipFill>
        <p:spPr>
          <a:xfrm>
            <a:off x="4411800" y="0"/>
            <a:ext cx="4779720" cy="3367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H-aG7MGU-Azmz48wAJCfQWIeoobFimKDP5Jlp5B75OA1wsz-jPLRa_H2_109SVjGL9aI4kQILlZAS2HwNSexhMjpaXcZmLhQHOVvGMn2pKvuYfbL66v0nQCUFJNBhdyOk0Ub-Rvz4arhNF7J_uTMuw"/>
          <p:cNvPicPr/>
          <p:nvPr/>
        </p:nvPicPr>
        <p:blipFill>
          <a:blip r:embed="rId4"/>
          <a:stretch/>
        </p:blipFill>
        <p:spPr>
          <a:xfrm>
            <a:off x="4411800" y="3367080"/>
            <a:ext cx="4779720" cy="3492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-aG7MGU-Azmz48wAJCfQWIeoobFimKDP5Jlp5B75OAgg3cUeTCMfkYuFB_Hp9XffZyYoj16PcGXTYCpOqLiUkomV4a9RKjPhR8tZJ7DeVI"/>
          <p:cNvPicPr/>
          <p:nvPr/>
        </p:nvPicPr>
        <p:blipFill>
          <a:blip r:embed="rId5"/>
          <a:stretch/>
        </p:blipFill>
        <p:spPr>
          <a:xfrm>
            <a:off x="-41400" y="3370320"/>
            <a:ext cx="4453200" cy="3489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6T21:11:31Z</dcterms:created>
  <dc:creator>acer</dc:creator>
  <dc:description/>
  <dc:language>en-US</dc:language>
  <cp:lastModifiedBy>HOME</cp:lastModifiedBy>
  <dcterms:modified xsi:type="dcterms:W3CDTF">2022-12-18T07:55:26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4945</vt:lpwstr>
  </property>
</Properties>
</file>