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96F-41EC-41A6-B73D-F1CE8232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025-AF1D-4E30-B1B0-B2B59AC0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72B1D-EE63-439C-8D9B-72CF3A11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83F19-838C-4514-AF53-9EB3ACE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C824F-6CE0-454A-A2AE-2602D4C5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CF95C-8A44-4738-A705-AE380A6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7C543-EB4A-4BC1-B4D0-83C12B8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E67AF-8AE9-49C1-A7C2-52CCB78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2B5C9-A9C1-4F3A-8136-9AA62095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2A12-8245-44A9-92EB-18886FB9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F5C54-1452-4FF9-BAEE-00CA1A7A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E98F1-5585-49E7-ADBC-A60D104E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ECC-8039-45E7-A000-2457A3E3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C5089-E2CC-4245-840A-CECBF3EC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240AB-4540-464B-9D75-064FF54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F47F4-1798-448E-88E2-F6FBE981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E4E3-BE49-4D2A-9985-D360FD1D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B368-DF40-4BFC-871F-4034367D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6026D-1B83-4FFC-AFED-AAAB66B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27423-8BB3-4930-8915-854CBD4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75FF4-585D-474D-9333-615FDE4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0881C-0CEA-4CBF-9A94-30DC2941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CCF1B-BB4F-4EBC-B529-4A52AC2F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40D-C9B2-4379-B270-80C3CECF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F4DE7-7A52-455D-8D93-CD301DE6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62F-91BC-4A37-830E-71296ED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6C9-FD26-4A2F-9BBE-C5E657D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34D4-D14E-4FBC-99AF-323F726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2B36-59B3-4847-AC82-DC735646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B50-AA44-4CD7-AD03-5B91608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1696-A2E4-49BF-A516-A435AF7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3B78-4363-495A-BCBD-6D64DBE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FB3-EF60-49C3-BD4E-A9F3F98F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854C-B6FF-4804-BD6D-1E3FB35D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D14-12C3-46C8-A86E-A6689EE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3B4-C900-4776-BE1B-7CAE86B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31A8-FC36-47CE-A4B8-1DBCB05F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EE84-74F0-4290-A92D-1BC04F23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2E75-5F51-4B9C-AC19-577E96A3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FA38-F37F-411D-A144-FF95DC0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4E27-229D-499D-B9D0-80150735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2102-B7EC-4186-977C-EB28BF2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D3FB-1D4C-4EC0-930E-9BB323A2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A1C-8C35-4B00-8259-AD30307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8A1EF-87B9-4E0D-882F-D609E407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7CD2-F487-4EB2-AB36-F71AE905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6035-3887-4E57-B608-194BF7D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5AA7-7E2C-4565-B1F3-FF068F7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3B80-D219-4010-BE1B-5540028A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B0EA-5644-430B-AC33-31873772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846E-CE4D-40C4-9C76-69510B05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D1BF-D875-4962-8958-39274A95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BB07-86BA-4E7A-8577-29F8DD30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FE7F-6192-4F3E-A0AD-8AA5906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E4E-F6B9-4DCE-95E1-E8133F90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EAFF-ADF3-408B-806C-636AA95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767C4-18A7-481B-A8F8-EA320861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530C-4D82-4BF8-A074-B19B92DA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2221-16E0-4C19-857F-981BF50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A8F0-A9BC-44EB-A744-0218710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68AF-0103-40D6-9BF6-6A557AE1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C16D-09DF-4457-9D13-89C26421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9E57-6947-4953-A90A-24840DAD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BE83-857D-4064-9124-A0E7BCA8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C617A-5757-48A8-8B12-E49EB544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08E-EFFB-4922-BBF3-88BA7403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9EF54-77F8-4D7B-B12D-613587C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385C0-C7F7-4EB7-807D-87D8392D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C4CDD-EB8F-49AA-A311-487E22B2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62ED-D068-46A3-8CF6-3533F469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C2EF-274D-4D2D-9F47-8972DE51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5397-D8F0-4360-BFF7-55D9292B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6F41-D743-41C7-BF64-0ECDE69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98D8-77A4-484C-9506-8B0B226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EDA01-6FE2-439D-93DB-47D6952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360F-737E-412E-85BF-637920E2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818-26C2-49B3-9B3B-176D21C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96341-DD4C-4402-929F-0344C9BF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FC41-3506-4969-BC84-14579F32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0824-A91A-4BE7-A0E5-AD18AFD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9ACB-770C-4439-B047-E9B81AE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5F2A-95EA-4036-B79F-4020504F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3F71F-3863-426B-8679-9A4E4A3B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66C9-AB04-4805-BBFE-79972E1E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2C1AC-2354-45A6-BA22-64EA7EE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1EC9-FBE9-4C31-9E69-69E9261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C5A63-17ED-4597-AE8A-726A2F7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C1F-6903-4308-8E42-4A22DBC6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D617-416E-4443-B813-AFFD0A5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76E0A-9F19-4E97-923C-773E735B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BEEFA-4104-433C-B3EA-36FE4B13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2706-6A7D-43AF-9AB2-E0EC21B5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2493-5BAA-4403-88AE-1257FA7D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1FF1-7226-49B6-B757-4AEE629C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3C7C-86E4-42C6-9DE8-59EAAC7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5946-0CEB-4049-9397-7A86A1E6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22B5-5315-4E6F-B68A-400A8D2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3E6CB-E139-41ED-B4FF-8E2A8CEC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46A-A70B-4EEB-9045-E18AA6B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3DA5-ACE4-45FA-BC89-1D5EE234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F421-105D-4FD0-82F7-41F782B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5D80-5FBB-452B-8D28-60ECA7E2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6357-EA47-4189-A4EE-3B986587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FD90-54B7-4A79-B946-027D53B4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48949-1FF7-4F99-A32C-35AC6426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C6D8-85CB-4DAF-B8BA-195F5EB8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17284-7CA5-4BD4-9322-3DB0E3A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5E39-0280-4923-998B-9D87C56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0CBFC-83C7-4162-BD86-5F18FB2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09E-D210-446B-9FD9-9CDB1277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4485-F9DF-4DA4-84EF-A321B44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1D798-B698-41D1-8AE6-2CC29EB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05CA-09F1-470A-9118-1A3D00E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6513-13F3-417A-ACB0-BCDD446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959F-19EB-4CB2-938C-0B5338B7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4195-C085-48EA-BF7C-6D664B9D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8D47-B99E-4B91-8DF9-AAADA62E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91503-65F9-4927-97D9-FF00E88A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864C7-F9C7-4C23-9D1E-14D21006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6C11B-128C-49AF-B57D-507C2F9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6B1-63F2-4D91-8D42-F60E8D35E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5E5A-3AC3-4957-B462-AB3D55917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DF59-CC7E-4FD9-A9DA-7133E8C7FC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C9A-0425-4FF3-B2BD-04AA1454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4C3-E3A5-4380-AA69-97CA15192F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1DB-1639-4AA8-A14A-4FFDD323A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DCBA-28A5-40EA-9A95-79490CFE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6E08-7EBF-4F5D-9BF4-8D3D52D28E8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1DF-2CD0-4A48-8CD7-BEE8FF83296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47C-64F9-4FCB-9C41-C183E4308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434" name="Rectangle 3" descr=""/>
          <p:cNvPicPr/>
          <p:nvPr/>
        </p:nvPicPr>
        <p:blipFill>
          <a:blip r:embed="rId2"/>
          <a:stretch/>
        </p:blipFill>
        <p:spPr>
          <a:xfrm>
            <a:off x="536400" y="2193840"/>
            <a:ext cx="8156880" cy="18176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1403280" y="22082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Громкое чтение &amp;quot;Давайте знакомые книги откроем!!!&amp;quot; фотографии."/>
          <p:cNvPicPr/>
          <p:nvPr/>
        </p:nvPicPr>
        <p:blipFill>
          <a:blip r:embed="rId3"/>
          <a:stretch/>
        </p:blipFill>
        <p:spPr>
          <a:xfrm>
            <a:off x="1214280" y="2714760"/>
            <a:ext cx="4562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"/>
          <p:cNvSpPr/>
          <p:nvPr/>
        </p:nvSpPr>
        <p:spPr>
          <a:xfrm>
            <a:off x="6659640" y="2205000"/>
            <a:ext cx="2166840" cy="1625760"/>
          </a:xfrm>
          <a:prstGeom prst="roundRect">
            <a:avLst>
              <a:gd name="adj" fmla="val 12574"/>
            </a:avLst>
          </a:prstGeom>
          <a:solidFill>
            <a:srgbClr val="ff79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6659640" y="306864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ff79c2"/>
              </a:gs>
              <a:gs pos="100000">
                <a:srgbClr val="ffc8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5"/>
          <p:cNvGrpSpPr/>
          <p:nvPr/>
        </p:nvGrpSpPr>
        <p:grpSpPr>
          <a:xfrm>
            <a:off x="3276720" y="2205000"/>
            <a:ext cx="3166560" cy="1633680"/>
            <a:chOff x="3276720" y="2205000"/>
            <a:chExt cx="3166560" cy="1633680"/>
          </a:xfrm>
        </p:grpSpPr>
        <p:sp>
          <p:nvSpPr>
            <p:cNvPr id="474" name="AutoShape 6"/>
            <p:cNvSpPr/>
            <p:nvPr/>
          </p:nvSpPr>
          <p:spPr>
            <a:xfrm>
              <a:off x="3281040" y="2205000"/>
              <a:ext cx="3162240" cy="1633680"/>
            </a:xfrm>
            <a:prstGeom prst="roundRect">
              <a:avLst>
                <a:gd name="adj" fmla="val 12574"/>
              </a:avLst>
            </a:prstGeom>
            <a:solidFill>
              <a:srgbClr val="e4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7"/>
            <p:cNvSpPr/>
            <p:nvPr/>
          </p:nvSpPr>
          <p:spPr>
            <a:xfrm>
              <a:off x="3276720" y="3414960"/>
              <a:ext cx="3164760" cy="42120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e40059">
                    <a:alpha val="0"/>
                  </a:srgbClr>
                </a:gs>
                <a:gs pos="100000">
                  <a:srgbClr val="f49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8"/>
            <p:cNvSpPr/>
            <p:nvPr/>
          </p:nvSpPr>
          <p:spPr>
            <a:xfrm>
              <a:off x="3291480" y="2209320"/>
              <a:ext cx="3139200" cy="4208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f6aac8"/>
                </a:gs>
                <a:gs pos="100000">
                  <a:srgbClr val="e4005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9"/>
          <p:cNvGrpSpPr/>
          <p:nvPr/>
        </p:nvGrpSpPr>
        <p:grpSpPr>
          <a:xfrm>
            <a:off x="611280" y="2205000"/>
            <a:ext cx="2447640" cy="1622520"/>
            <a:chOff x="611280" y="2205000"/>
            <a:chExt cx="2447640" cy="1622520"/>
          </a:xfrm>
        </p:grpSpPr>
        <p:sp>
          <p:nvSpPr>
            <p:cNvPr id="478" name="AutoShape 10"/>
            <p:cNvSpPr/>
            <p:nvPr/>
          </p:nvSpPr>
          <p:spPr>
            <a:xfrm>
              <a:off x="614160" y="2205000"/>
              <a:ext cx="2444760" cy="1622520"/>
            </a:xfrm>
            <a:prstGeom prst="roundRect">
              <a:avLst>
                <a:gd name="adj" fmla="val 12574"/>
              </a:avLst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611280" y="3406680"/>
              <a:ext cx="2445840" cy="41760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388c">
                    <a:alpha val="0"/>
                  </a:srgbClr>
                </a:gs>
                <a:gs pos="100000">
                  <a:srgbClr val="ff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2"/>
            <p:cNvSpPr/>
            <p:nvPr/>
          </p:nvSpPr>
          <p:spPr>
            <a:xfrm>
              <a:off x="644040" y="2210040"/>
              <a:ext cx="2403360" cy="41760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bdd9"/>
                </a:gs>
                <a:gs pos="100000">
                  <a:srgbClr val="ff388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3"/>
          <p:cNvSpPr/>
          <p:nvPr/>
        </p:nvSpPr>
        <p:spPr>
          <a:xfrm>
            <a:off x="611280" y="2708280"/>
            <a:ext cx="2558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част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3276720" y="2708280"/>
            <a:ext cx="316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(не)счас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659640" y="2276640"/>
            <a:ext cx="19573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е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468360" y="494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является в слове пристав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3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4"/>
          <p:cNvSpPr/>
          <p:nvPr/>
        </p:nvSpPr>
        <p:spPr>
          <a:xfrm>
            <a:off x="900000" y="1484280"/>
            <a:ext cx="806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счастье – это горе, беда. Что-то очень неприятно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5"/>
          <p:cNvSpPr/>
          <p:nvPr/>
        </p:nvSpPr>
        <p:spPr>
          <a:xfrm>
            <a:off x="2987640" y="2997360"/>
            <a:ext cx="360360" cy="0"/>
          </a:xfrm>
          <a:prstGeom prst="line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6"/>
          <p:cNvSpPr/>
          <p:nvPr/>
        </p:nvSpPr>
        <p:spPr>
          <a:xfrm>
            <a:off x="6372360" y="2852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7"/>
          <p:cNvSpPr/>
          <p:nvPr/>
        </p:nvSpPr>
        <p:spPr>
          <a:xfrm>
            <a:off x="6372360" y="3068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8"/>
          <p:cNvSpPr/>
          <p:nvPr/>
        </p:nvSpPr>
        <p:spPr>
          <a:xfrm>
            <a:off x="39528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придает слову новый смысл, т.е. образует новое слово. Если с помощью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образуется новое слово, то чем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в нем являет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0"/>
          <p:cNvSpPr/>
          <p:nvPr/>
        </p:nvSpPr>
        <p:spPr>
          <a:xfrm>
            <a:off x="4643280" y="5084640"/>
            <a:ext cx="1297080" cy="0"/>
          </a:xfrm>
          <a:prstGeom prst="line">
            <a:avLst/>
          </a:prstGeom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41"/>
          <p:cNvSpPr/>
          <p:nvPr/>
        </p:nvSpPr>
        <p:spPr>
          <a:xfrm>
            <a:off x="5940360" y="5084640"/>
            <a:ext cx="0" cy="287640"/>
          </a:xfrm>
          <a:prstGeom prst="line">
            <a:avLst/>
          </a:prstGeom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42"/>
          <p:cNvSpPr/>
          <p:nvPr/>
        </p:nvSpPr>
        <p:spPr>
          <a:xfrm>
            <a:off x="468360" y="566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Как пишется</a:t>
            </a:r>
            <a:r>
              <a:rPr b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с существительными в этом случа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6659640" y="2205000"/>
            <a:ext cx="2166840" cy="1625760"/>
          </a:xfrm>
          <a:prstGeom prst="roundRect">
            <a:avLst>
              <a:gd name="adj" fmla="val 12574"/>
            </a:avLst>
          </a:prstGeom>
          <a:solidFill>
            <a:srgbClr val="ff79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659640" y="306864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ff79c2"/>
              </a:gs>
              <a:gs pos="100000">
                <a:srgbClr val="ffc8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3276720" y="2205000"/>
            <a:ext cx="3166560" cy="1633680"/>
            <a:chOff x="3276720" y="2205000"/>
            <a:chExt cx="3166560" cy="1633680"/>
          </a:xfrm>
        </p:grpSpPr>
        <p:sp>
          <p:nvSpPr>
            <p:cNvPr id="497" name="AutoShape 5"/>
            <p:cNvSpPr/>
            <p:nvPr/>
          </p:nvSpPr>
          <p:spPr>
            <a:xfrm>
              <a:off x="3281040" y="2205000"/>
              <a:ext cx="3162240" cy="1633680"/>
            </a:xfrm>
            <a:prstGeom prst="roundRect">
              <a:avLst>
                <a:gd name="adj" fmla="val 12574"/>
              </a:avLst>
            </a:prstGeom>
            <a:solidFill>
              <a:srgbClr val="e4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6"/>
            <p:cNvSpPr/>
            <p:nvPr/>
          </p:nvSpPr>
          <p:spPr>
            <a:xfrm>
              <a:off x="3276720" y="3414960"/>
              <a:ext cx="3164760" cy="42120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e40059">
                    <a:alpha val="0"/>
                  </a:srgbClr>
                </a:gs>
                <a:gs pos="100000">
                  <a:srgbClr val="f49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7"/>
            <p:cNvSpPr/>
            <p:nvPr/>
          </p:nvSpPr>
          <p:spPr>
            <a:xfrm>
              <a:off x="3291480" y="2209320"/>
              <a:ext cx="3139200" cy="4208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f6aac8"/>
                </a:gs>
                <a:gs pos="100000">
                  <a:srgbClr val="e4005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8"/>
          <p:cNvGrpSpPr/>
          <p:nvPr/>
        </p:nvGrpSpPr>
        <p:grpSpPr>
          <a:xfrm>
            <a:off x="611280" y="2205000"/>
            <a:ext cx="2447640" cy="1622520"/>
            <a:chOff x="611280" y="2205000"/>
            <a:chExt cx="2447640" cy="1622520"/>
          </a:xfrm>
        </p:grpSpPr>
        <p:sp>
          <p:nvSpPr>
            <p:cNvPr id="501" name="AutoShape 9"/>
            <p:cNvSpPr/>
            <p:nvPr/>
          </p:nvSpPr>
          <p:spPr>
            <a:xfrm>
              <a:off x="614160" y="2205000"/>
              <a:ext cx="2444760" cy="1622520"/>
            </a:xfrm>
            <a:prstGeom prst="roundRect">
              <a:avLst>
                <a:gd name="adj" fmla="val 12574"/>
              </a:avLst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611280" y="3406680"/>
              <a:ext cx="2445840" cy="41760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388c">
                    <a:alpha val="0"/>
                  </a:srgbClr>
                </a:gs>
                <a:gs pos="100000">
                  <a:srgbClr val="ff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1"/>
            <p:cNvSpPr/>
            <p:nvPr/>
          </p:nvSpPr>
          <p:spPr>
            <a:xfrm>
              <a:off x="644040" y="2210040"/>
              <a:ext cx="2403360" cy="41760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bdd9"/>
                </a:gs>
                <a:gs pos="100000">
                  <a:srgbClr val="ff388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Text Box 12"/>
          <p:cNvSpPr/>
          <p:nvPr/>
        </p:nvSpPr>
        <p:spPr>
          <a:xfrm>
            <a:off x="611280" y="2708280"/>
            <a:ext cx="2558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част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3419640" y="2708280"/>
            <a:ext cx="316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несчас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6659640" y="2276640"/>
            <a:ext cx="19573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е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Rectangle 16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508" name="Line 18"/>
          <p:cNvSpPr/>
          <p:nvPr/>
        </p:nvSpPr>
        <p:spPr>
          <a:xfrm>
            <a:off x="2987640" y="2997360"/>
            <a:ext cx="360360" cy="0"/>
          </a:xfrm>
          <a:prstGeom prst="line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9"/>
          <p:cNvSpPr/>
          <p:nvPr/>
        </p:nvSpPr>
        <p:spPr>
          <a:xfrm>
            <a:off x="6372360" y="2852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20"/>
          <p:cNvSpPr/>
          <p:nvPr/>
        </p:nvSpPr>
        <p:spPr>
          <a:xfrm>
            <a:off x="6372360" y="3068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395280" y="407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Сделайте вывод о написании не с существительными по второй части нашего рассу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5"/>
          <p:cNvSpPr/>
          <p:nvPr/>
        </p:nvSpPr>
        <p:spPr>
          <a:xfrm>
            <a:off x="539640" y="4869000"/>
            <a:ext cx="8425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с существительным пишется слитно, если существительное с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может быть заменено синонимом без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или близким по значению выражением. В этом случае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является в слове пристав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4" name="Прямоугольник 3"/>
          <p:cNvSpPr/>
          <p:nvPr/>
        </p:nvSpPr>
        <p:spPr>
          <a:xfrm>
            <a:off x="571680" y="27147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е было бы счастья, да несчастье (=горе) помог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ая соединительная линия 9"/>
          <p:cNvSpPr/>
          <p:nvPr/>
        </p:nvSpPr>
        <p:spPr>
          <a:xfrm>
            <a:off x="5857920" y="278604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ая соединительная линия 11"/>
          <p:cNvSpPr/>
          <p:nvPr/>
        </p:nvSpPr>
        <p:spPr>
          <a:xfrm flipH="1">
            <a:off x="6428880" y="27860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3"/>
          <p:cNvGrpSpPr/>
          <p:nvPr/>
        </p:nvGrpSpPr>
        <p:grpSpPr>
          <a:xfrm>
            <a:off x="6804000" y="2781360"/>
            <a:ext cx="2339280" cy="2278440"/>
            <a:chOff x="6804000" y="2781360"/>
            <a:chExt cx="2339280" cy="2278440"/>
          </a:xfrm>
        </p:grpSpPr>
        <p:pic>
          <p:nvPicPr>
            <p:cNvPr id="519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811920" y="2788200"/>
              <a:ext cx="2331360" cy="21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Oval 5"/>
            <p:cNvGrpSpPr/>
            <p:nvPr/>
          </p:nvGrpSpPr>
          <p:grpSpPr>
            <a:xfrm>
              <a:off x="6804000" y="2781360"/>
              <a:ext cx="2326680" cy="2160000"/>
              <a:chOff x="6804000" y="2781360"/>
              <a:chExt cx="2326680" cy="2160000"/>
            </a:xfrm>
          </p:grpSpPr>
          <p:pic>
            <p:nvPicPr>
              <p:cNvPr id="521" name="Oval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804000" y="2781360"/>
                <a:ext cx="2326680" cy="21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>
                <a:off x="7149960" y="3102840"/>
                <a:ext cx="1638000" cy="15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Freeform 6"/>
            <p:cNvSpPr/>
            <p:nvPr/>
          </p:nvSpPr>
          <p:spPr>
            <a:xfrm>
              <a:off x="7052760" y="2832120"/>
              <a:ext cx="1819080" cy="74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Group 7"/>
            <p:cNvGrpSpPr/>
            <p:nvPr/>
          </p:nvGrpSpPr>
          <p:grpSpPr>
            <a:xfrm>
              <a:off x="6982560" y="4249800"/>
              <a:ext cx="2035080" cy="810000"/>
              <a:chOff x="6982560" y="4249800"/>
              <a:chExt cx="2035080" cy="810000"/>
            </a:xfrm>
          </p:grpSpPr>
          <p:grpSp>
            <p:nvGrpSpPr>
              <p:cNvPr id="525" name="Group 8"/>
              <p:cNvGrpSpPr/>
              <p:nvPr/>
            </p:nvGrpSpPr>
            <p:grpSpPr>
              <a:xfrm>
                <a:off x="7333920" y="4249800"/>
                <a:ext cx="1683720" cy="750600"/>
                <a:chOff x="7333920" y="4249800"/>
                <a:chExt cx="1683720" cy="750600"/>
              </a:xfrm>
            </p:grpSpPr>
            <p:sp>
              <p:nvSpPr>
                <p:cNvPr id="526" name="AutoShape 9"/>
                <p:cNvSpPr/>
                <p:nvPr/>
              </p:nvSpPr>
              <p:spPr>
                <a:xfrm flipH="1" flipV="1" rot="3964800">
                  <a:off x="8261280" y="40111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10"/>
                <p:cNvSpPr/>
                <p:nvPr/>
              </p:nvSpPr>
              <p:spPr>
                <a:xfrm flipH="1" flipV="1" rot="4780200">
                  <a:off x="8071920" y="40867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11"/>
                <p:cNvSpPr/>
                <p:nvPr/>
              </p:nvSpPr>
              <p:spPr>
                <a:xfrm flipH="1" flipV="1" rot="5076000">
                  <a:off x="7954920" y="410400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12"/>
                <p:cNvSpPr/>
                <p:nvPr/>
              </p:nvSpPr>
              <p:spPr>
                <a:xfrm flipH="1" flipV="1" rot="5608200">
                  <a:off x="7815600" y="411984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13"/>
              <p:cNvGrpSpPr/>
              <p:nvPr/>
            </p:nvGrpSpPr>
            <p:grpSpPr>
              <a:xfrm>
                <a:off x="6982560" y="4270680"/>
                <a:ext cx="1681200" cy="789120"/>
                <a:chOff x="6982560" y="4270680"/>
                <a:chExt cx="1681200" cy="789120"/>
              </a:xfrm>
            </p:grpSpPr>
            <p:sp>
              <p:nvSpPr>
                <p:cNvPr id="531" name="AutoShape 14"/>
                <p:cNvSpPr/>
                <p:nvPr/>
              </p:nvSpPr>
              <p:spPr>
                <a:xfrm flipH="1" flipV="1" rot="5317800">
                  <a:off x="7907400" y="4122360"/>
                  <a:ext cx="2790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15"/>
                <p:cNvSpPr/>
                <p:nvPr/>
              </p:nvSpPr>
              <p:spPr>
                <a:xfrm flipH="1" flipV="1" rot="6133800">
                  <a:off x="7703640" y="41194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16"/>
                <p:cNvSpPr/>
                <p:nvPr/>
              </p:nvSpPr>
              <p:spPr>
                <a:xfrm flipH="1" flipV="1" rot="6429000">
                  <a:off x="7589520" y="4090680"/>
                  <a:ext cx="27936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17"/>
                <p:cNvSpPr/>
                <p:nvPr/>
              </p:nvSpPr>
              <p:spPr>
                <a:xfrm flipH="1" flipV="1" rot="6961200">
                  <a:off x="7454520" y="40510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5" name="Group 18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536" name="Freeform 19"/>
            <p:cNvSpPr/>
            <p:nvPr/>
          </p:nvSpPr>
          <p:spPr>
            <a:xfrm rot="16200000">
              <a:off x="5429160" y="4474080"/>
              <a:ext cx="1820880" cy="12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20"/>
            <p:cNvSpPr/>
            <p:nvPr/>
          </p:nvSpPr>
          <p:spPr>
            <a:xfrm rot="16200000">
              <a:off x="6243120" y="3284640"/>
              <a:ext cx="351360" cy="142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21"/>
            <p:cNvSpPr/>
            <p:nvPr/>
          </p:nvSpPr>
          <p:spPr>
            <a:xfrm flipH="1" rot="16200000">
              <a:off x="5439600" y="2251800"/>
              <a:ext cx="1820520" cy="12517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22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540" name="Oval 23"/>
            <p:cNvSpPr/>
            <p:nvPr/>
          </p:nvSpPr>
          <p:spPr>
            <a:xfrm>
              <a:off x="2703600" y="3843360"/>
              <a:ext cx="395640" cy="398520"/>
            </a:xfrm>
            <a:prstGeom prst="ellipse">
              <a:avLst/>
            </a:prstGeom>
            <a:gradFill rotWithShape="0">
              <a:gsLst>
                <a:gs pos="0">
                  <a:srgbClr val="a95081"/>
                </a:gs>
                <a:gs pos="50000">
                  <a:srgbClr val="ff79c2"/>
                </a:gs>
                <a:gs pos="100000">
                  <a:srgbClr val="a95081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Group 24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542" name="Group 25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543" name="Group 26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544" name="AutoShape 27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utoShape 28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AutoShape 29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AutoShape 30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Group 31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549" name="AutoShape 32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AutoShape 33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utoShape 34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AutoShape 35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3" name="Group 36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554" name="Group 37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555" name="AutoShape 38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AutoShape 39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AutoShape 40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AutoShape 41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Group 42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560" name="AutoShape 43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AutoShape 44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AutoShape 45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AutoShape 46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" name="Group 47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565" name="Group 48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566" name="Group 49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567" name="AutoShape 50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AutoShape 51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52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AutoShape 53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Group 54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572" name="AutoShape 55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AutoShape 56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AutoShape 57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AutoShape 58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6" name="Group 59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577" name="Group 60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578" name="AutoShape 61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AutoShape 62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AutoShape 63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AutoShape 64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Group 65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583" name="AutoShape 66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AutoShape 67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AutoShape 68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utoShape 69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587" name="AutoShape 70"/>
          <p:cNvCxnSpPr>
            <a:stCxn id="540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8" name="AutoShape 71"/>
          <p:cNvCxnSpPr>
            <a:stCxn id="540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89" name="Group 73"/>
          <p:cNvGrpSpPr/>
          <p:nvPr/>
        </p:nvGrpSpPr>
        <p:grpSpPr>
          <a:xfrm>
            <a:off x="3132000" y="1484280"/>
            <a:ext cx="2688840" cy="2304360"/>
            <a:chOff x="3132000" y="1484280"/>
            <a:chExt cx="2688840" cy="2304360"/>
          </a:xfrm>
        </p:grpSpPr>
        <p:sp>
          <p:nvSpPr>
            <p:cNvPr id="590" name="AutoShape 74"/>
            <p:cNvSpPr/>
            <p:nvPr/>
          </p:nvSpPr>
          <p:spPr>
            <a:xfrm>
              <a:off x="3132000" y="1484280"/>
              <a:ext cx="2688840" cy="2304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40059"/>
                </a:gs>
                <a:gs pos="100000">
                  <a:srgbClr val="9f003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1" name="Picture 75" descr="Picture4"/>
            <p:cNvPicPr/>
            <p:nvPr/>
          </p:nvPicPr>
          <p:blipFill>
            <a:blip r:embed="rId4"/>
            <a:stretch/>
          </p:blipFill>
          <p:spPr>
            <a:xfrm>
              <a:off x="3180240" y="1552680"/>
              <a:ext cx="777240" cy="145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Group 79"/>
          <p:cNvGrpSpPr/>
          <p:nvPr/>
        </p:nvGrpSpPr>
        <p:grpSpPr>
          <a:xfrm>
            <a:off x="3132000" y="4005360"/>
            <a:ext cx="2695320" cy="2242440"/>
            <a:chOff x="3132000" y="4005360"/>
            <a:chExt cx="2695320" cy="2242440"/>
          </a:xfrm>
        </p:grpSpPr>
        <p:sp>
          <p:nvSpPr>
            <p:cNvPr id="593" name="AutoShape 80"/>
            <p:cNvSpPr/>
            <p:nvPr/>
          </p:nvSpPr>
          <p:spPr>
            <a:xfrm>
              <a:off x="3132000" y="4005360"/>
              <a:ext cx="2695320" cy="22424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7bbfd"/>
                </a:gs>
                <a:gs pos="100000">
                  <a:srgbClr val="1083b1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4" name="Picture 81" descr="Picture4"/>
            <p:cNvPicPr/>
            <p:nvPr/>
          </p:nvPicPr>
          <p:blipFill>
            <a:blip r:embed="rId5"/>
            <a:stretch/>
          </p:blipFill>
          <p:spPr>
            <a:xfrm>
              <a:off x="3172680" y="4065840"/>
              <a:ext cx="779040" cy="14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Rectangle 82"/>
          <p:cNvSpPr/>
          <p:nvPr/>
        </p:nvSpPr>
        <p:spPr>
          <a:xfrm>
            <a:off x="3276720" y="1916280"/>
            <a:ext cx="247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слово б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употреб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84"/>
          <p:cNvSpPr/>
          <p:nvPr/>
        </p:nvSpPr>
        <p:spPr>
          <a:xfrm>
            <a:off x="3276720" y="4221000"/>
            <a:ext cx="2336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слово можно заменить синонимом без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ли близким по значению выра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85"/>
          <p:cNvSpPr/>
          <p:nvPr/>
        </p:nvSpPr>
        <p:spPr>
          <a:xfrm>
            <a:off x="152280" y="3267000"/>
            <a:ext cx="254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щест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иш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ит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86"/>
          <p:cNvSpPr/>
          <p:nvPr/>
        </p:nvSpPr>
        <p:spPr>
          <a:xfrm>
            <a:off x="7093080" y="3357720"/>
            <a:ext cx="1925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f75"/>
                </a:solidFill>
                <a:latin typeface="Arial Black"/>
                <a:ea typeface="Arial"/>
              </a:rPr>
              <a:t>Ненасть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f4f66"/>
                </a:solidFill>
                <a:latin typeface="Arial Black"/>
                <a:ea typeface="Arial"/>
              </a:rPr>
              <a:t>Несчасть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rc 87"/>
          <p:cNvSpPr/>
          <p:nvPr/>
        </p:nvSpPr>
        <p:spPr>
          <a:xfrm rot="267000">
            <a:off x="7308360" y="3136680"/>
            <a:ext cx="1006560" cy="361800"/>
          </a:xfrm>
          <a:prstGeom prst="pie">
            <a:avLst/>
          </a:prstGeom>
          <a:noFill/>
          <a:ln w="31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88"/>
          <p:cNvSpPr/>
          <p:nvPr/>
        </p:nvSpPr>
        <p:spPr>
          <a:xfrm>
            <a:off x="7164360" y="4149720"/>
            <a:ext cx="432000" cy="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89"/>
          <p:cNvSpPr/>
          <p:nvPr/>
        </p:nvSpPr>
        <p:spPr>
          <a:xfrm>
            <a:off x="7596360" y="4149720"/>
            <a:ext cx="0" cy="142920"/>
          </a:xfrm>
          <a:prstGeom prst="line">
            <a:avLst/>
          </a:prstGeom>
          <a:ln w="316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очитайте вслух третью пословицу. Какой смысл – отрицательный или утвердительный – вносит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в стоящее после нее существительное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3. (Не)пером пишут, а умом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носит отрицательный смыс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324000" y="4437000"/>
            <a:ext cx="85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отрицательный смысл, то она является отрицательной частицей и пишется с существительными раздельно. В предложении с отрицательной частице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скрытое или явное (с союзом а) противопост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-360" y="17715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Century Gothic"/>
              </a:rPr>
              <a:t>Кратко этот вывод можно изобразить следующим образ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2d2d2"/>
                </a:solidFill>
                <a:latin typeface="Century Gothic"/>
              </a:rPr>
              <a:t>  </a:t>
            </a:r>
            <a:r>
              <a:rPr b="0" lang="ru-RU" sz="5400" spc="-1" strike="noStrike">
                <a:solidFill>
                  <a:srgbClr val="d2d2d2"/>
                </a:solidFill>
                <a:latin typeface="Century Gothic"/>
              </a:rPr>
              <a:t>Не  пером пишут, а умом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Oval 7"/>
          <p:cNvSpPr/>
          <p:nvPr/>
        </p:nvSpPr>
        <p:spPr>
          <a:xfrm>
            <a:off x="6084720" y="4437000"/>
            <a:ext cx="719280" cy="720720"/>
          </a:xfrm>
          <a:prstGeom prst="ellipse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1403280" y="4365720"/>
            <a:ext cx="0" cy="792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1547640" y="4365720"/>
            <a:ext cx="0" cy="792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очитайте вслух четвертую пословицу. Какое слово стоит перед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4. Свой своему вовсе (не)брат. 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(</a:t>
            </a:r>
            <a:r>
              <a:rPr b="0" i="1" lang="ru-RU" sz="2400" spc="-1" strike="noStrike">
                <a:solidFill>
                  <a:srgbClr val="d2d2d2"/>
                </a:solidFill>
                <a:latin typeface="Century Gothic"/>
              </a:rPr>
              <a:t>современная пословица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24000" y="3789360"/>
            <a:ext cx="85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2d2d2"/>
                </a:solidFill>
                <a:latin typeface="Arial"/>
              </a:rPr>
              <a:t>Вовсе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Это, так называемое слово-«магнит», которое как бы притягивает частицу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к себе. Таких слов в русском языке нескольк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395280" y="5157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d2d2"/>
                </a:solidFill>
                <a:latin typeface="Arial"/>
              </a:rPr>
              <a:t>вовсе не, ничуть не, отнюдь не, нисколько не, совсем не, далеко не</a:t>
            </a: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d2d2"/>
                </a:solidFill>
                <a:latin typeface="Century Gothic"/>
              </a:rPr>
              <a:t>Свой своему вовсе не   брат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Прямая соединительная линия 7"/>
          <p:cNvSpPr/>
          <p:nvPr/>
        </p:nvSpPr>
        <p:spPr>
          <a:xfrm>
            <a:off x="4929120" y="3786120"/>
            <a:ext cx="207180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"/>
          <p:cNvGrpSpPr/>
          <p:nvPr/>
        </p:nvGrpSpPr>
        <p:grpSpPr>
          <a:xfrm>
            <a:off x="6804000" y="2781360"/>
            <a:ext cx="2339280" cy="2278440"/>
            <a:chOff x="6804000" y="2781360"/>
            <a:chExt cx="2339280" cy="2278440"/>
          </a:xfrm>
        </p:grpSpPr>
        <p:pic>
          <p:nvPicPr>
            <p:cNvPr id="620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811920" y="2788200"/>
              <a:ext cx="2331360" cy="21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Oval 5"/>
            <p:cNvGrpSpPr/>
            <p:nvPr/>
          </p:nvGrpSpPr>
          <p:grpSpPr>
            <a:xfrm>
              <a:off x="6804000" y="2781360"/>
              <a:ext cx="2326680" cy="2160000"/>
              <a:chOff x="6804000" y="2781360"/>
              <a:chExt cx="2326680" cy="2160000"/>
            </a:xfrm>
          </p:grpSpPr>
          <p:pic>
            <p:nvPicPr>
              <p:cNvPr id="622" name="Oval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804000" y="2781360"/>
                <a:ext cx="2326680" cy="21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7149960" y="3102840"/>
                <a:ext cx="1638000" cy="15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Freeform 6"/>
            <p:cNvSpPr/>
            <p:nvPr/>
          </p:nvSpPr>
          <p:spPr>
            <a:xfrm>
              <a:off x="7052760" y="2832120"/>
              <a:ext cx="1819080" cy="74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" name="Group 7"/>
            <p:cNvGrpSpPr/>
            <p:nvPr/>
          </p:nvGrpSpPr>
          <p:grpSpPr>
            <a:xfrm>
              <a:off x="6982560" y="4249800"/>
              <a:ext cx="2035080" cy="810000"/>
              <a:chOff x="6982560" y="4249800"/>
              <a:chExt cx="2035080" cy="810000"/>
            </a:xfrm>
          </p:grpSpPr>
          <p:grpSp>
            <p:nvGrpSpPr>
              <p:cNvPr id="626" name="Group 8"/>
              <p:cNvGrpSpPr/>
              <p:nvPr/>
            </p:nvGrpSpPr>
            <p:grpSpPr>
              <a:xfrm>
                <a:off x="7333920" y="4249800"/>
                <a:ext cx="1683720" cy="750600"/>
                <a:chOff x="7333920" y="4249800"/>
                <a:chExt cx="1683720" cy="750600"/>
              </a:xfrm>
            </p:grpSpPr>
            <p:sp>
              <p:nvSpPr>
                <p:cNvPr id="627" name="AutoShape 9"/>
                <p:cNvSpPr/>
                <p:nvPr/>
              </p:nvSpPr>
              <p:spPr>
                <a:xfrm flipH="1" flipV="1" rot="3964800">
                  <a:off x="8261280" y="40111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10"/>
                <p:cNvSpPr/>
                <p:nvPr/>
              </p:nvSpPr>
              <p:spPr>
                <a:xfrm flipH="1" flipV="1" rot="4780200">
                  <a:off x="8071920" y="40867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11"/>
                <p:cNvSpPr/>
                <p:nvPr/>
              </p:nvSpPr>
              <p:spPr>
                <a:xfrm flipH="1" flipV="1" rot="5076000">
                  <a:off x="7954920" y="410400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12"/>
                <p:cNvSpPr/>
                <p:nvPr/>
              </p:nvSpPr>
              <p:spPr>
                <a:xfrm flipH="1" flipV="1" rot="5608200">
                  <a:off x="7815600" y="411984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3"/>
              <p:cNvGrpSpPr/>
              <p:nvPr/>
            </p:nvGrpSpPr>
            <p:grpSpPr>
              <a:xfrm>
                <a:off x="6982560" y="4270680"/>
                <a:ext cx="1681200" cy="789120"/>
                <a:chOff x="6982560" y="4270680"/>
                <a:chExt cx="1681200" cy="789120"/>
              </a:xfrm>
            </p:grpSpPr>
            <p:sp>
              <p:nvSpPr>
                <p:cNvPr id="632" name="AutoShape 14"/>
                <p:cNvSpPr/>
                <p:nvPr/>
              </p:nvSpPr>
              <p:spPr>
                <a:xfrm flipH="1" flipV="1" rot="5317800">
                  <a:off x="7907400" y="4122360"/>
                  <a:ext cx="2790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15"/>
                <p:cNvSpPr/>
                <p:nvPr/>
              </p:nvSpPr>
              <p:spPr>
                <a:xfrm flipH="1" flipV="1" rot="6133800">
                  <a:off x="7703640" y="41194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16"/>
                <p:cNvSpPr/>
                <p:nvPr/>
              </p:nvSpPr>
              <p:spPr>
                <a:xfrm flipH="1" flipV="1" rot="6429000">
                  <a:off x="7589520" y="4090680"/>
                  <a:ext cx="27936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17"/>
                <p:cNvSpPr/>
                <p:nvPr/>
              </p:nvSpPr>
              <p:spPr>
                <a:xfrm flipH="1" flipV="1" rot="6961200">
                  <a:off x="7454520" y="40510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6" name="Group 18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637" name="Freeform 19"/>
            <p:cNvSpPr/>
            <p:nvPr/>
          </p:nvSpPr>
          <p:spPr>
            <a:xfrm rot="16200000">
              <a:off x="5429160" y="4474080"/>
              <a:ext cx="1820880" cy="12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 rot="16200000">
              <a:off x="6243120" y="3284640"/>
              <a:ext cx="351360" cy="142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 flipH="1" rot="16200000">
              <a:off x="5439600" y="2251800"/>
              <a:ext cx="1820520" cy="12517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Group 22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641" name="Oval 23"/>
            <p:cNvSpPr/>
            <p:nvPr/>
          </p:nvSpPr>
          <p:spPr>
            <a:xfrm>
              <a:off x="2703600" y="3843360"/>
              <a:ext cx="395640" cy="398520"/>
            </a:xfrm>
            <a:prstGeom prst="ellipse">
              <a:avLst/>
            </a:prstGeom>
            <a:gradFill rotWithShape="0">
              <a:gsLst>
                <a:gs pos="0">
                  <a:srgbClr val="a95081"/>
                </a:gs>
                <a:gs pos="50000">
                  <a:srgbClr val="ff79c2"/>
                </a:gs>
                <a:gs pos="100000">
                  <a:srgbClr val="a95081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" name="Group 24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643" name="Group 25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644" name="Group 26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645" name="AutoShape 27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utoShape 28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29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30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Group 31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650" name="AutoShape 32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33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34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35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4" name="Group 36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655" name="Group 37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656" name="AutoShape 38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39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40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41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42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661" name="AutoShape 43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44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45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46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Group 47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666" name="Group 48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667" name="Group 49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668" name="AutoShape 50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AutoShape 51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AutoShape 52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AutoShape 53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Group 54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673" name="AutoShape 55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AutoShape 56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57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AutoShape 58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7" name="Group 59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678" name="Group 60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679" name="AutoShape 61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AutoShape 62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AutoShape 63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64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Group 65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684" name="AutoShape 66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AutoShape 67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68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69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688" name="AutoShape 70"/>
          <p:cNvCxnSpPr>
            <a:stCxn id="641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AutoShape 71"/>
          <p:cNvCxnSpPr>
            <a:stCxn id="641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90" name="Group 72"/>
          <p:cNvGrpSpPr/>
          <p:nvPr/>
        </p:nvGrpSpPr>
        <p:grpSpPr>
          <a:xfrm>
            <a:off x="3132000" y="1844640"/>
            <a:ext cx="2688840" cy="1944360"/>
            <a:chOff x="3132000" y="1844640"/>
            <a:chExt cx="2688840" cy="1944360"/>
          </a:xfrm>
        </p:grpSpPr>
        <p:sp>
          <p:nvSpPr>
            <p:cNvPr id="691" name="AutoShape 73"/>
            <p:cNvSpPr/>
            <p:nvPr/>
          </p:nvSpPr>
          <p:spPr>
            <a:xfrm>
              <a:off x="3132000" y="1844640"/>
              <a:ext cx="2688840" cy="1944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40059"/>
                </a:gs>
                <a:gs pos="100000">
                  <a:srgbClr val="9f003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2" name="Picture 74" descr="Picture4"/>
            <p:cNvPicPr/>
            <p:nvPr/>
          </p:nvPicPr>
          <p:blipFill>
            <a:blip r:embed="rId4"/>
            <a:stretch/>
          </p:blipFill>
          <p:spPr>
            <a:xfrm>
              <a:off x="3180240" y="1902240"/>
              <a:ext cx="777240" cy="122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Group 75"/>
          <p:cNvGrpSpPr/>
          <p:nvPr/>
        </p:nvGrpSpPr>
        <p:grpSpPr>
          <a:xfrm>
            <a:off x="3132000" y="4005360"/>
            <a:ext cx="2695320" cy="2242440"/>
            <a:chOff x="3132000" y="4005360"/>
            <a:chExt cx="2695320" cy="2242440"/>
          </a:xfrm>
        </p:grpSpPr>
        <p:sp>
          <p:nvSpPr>
            <p:cNvPr id="694" name="AutoShape 76"/>
            <p:cNvSpPr/>
            <p:nvPr/>
          </p:nvSpPr>
          <p:spPr>
            <a:xfrm>
              <a:off x="3132000" y="4005360"/>
              <a:ext cx="2695320" cy="22424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7bbfd"/>
                </a:gs>
                <a:gs pos="100000">
                  <a:srgbClr val="1083b1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5" name="Picture 77" descr="Picture4"/>
            <p:cNvPicPr/>
            <p:nvPr/>
          </p:nvPicPr>
          <p:blipFill>
            <a:blip r:embed="rId5"/>
            <a:stretch/>
          </p:blipFill>
          <p:spPr>
            <a:xfrm>
              <a:off x="3172680" y="4065840"/>
              <a:ext cx="779040" cy="14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Rectangle 78"/>
          <p:cNvSpPr/>
          <p:nvPr/>
        </p:nvSpPr>
        <p:spPr>
          <a:xfrm>
            <a:off x="3203640" y="1916280"/>
            <a:ext cx="26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есть скрытое или явное противопоставление (с союзом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79"/>
          <p:cNvSpPr/>
          <p:nvPr/>
        </p:nvSpPr>
        <p:spPr>
          <a:xfrm>
            <a:off x="3276720" y="422100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есть слова- «магнит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леко не, вовсе не, ничуть не, отнюдь не, нисколько не, совсем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80"/>
          <p:cNvSpPr/>
          <p:nvPr/>
        </p:nvSpPr>
        <p:spPr>
          <a:xfrm>
            <a:off x="152280" y="3267000"/>
            <a:ext cx="254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щест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иш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ь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81"/>
          <p:cNvSpPr/>
          <p:nvPr/>
        </p:nvSpPr>
        <p:spPr>
          <a:xfrm>
            <a:off x="7113600" y="2916360"/>
            <a:ext cx="16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f75"/>
                </a:solidFill>
                <a:latin typeface="Arial Black"/>
                <a:ea typeface="Arial"/>
              </a:rPr>
              <a:t>Не пером, а у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f4f66"/>
                </a:solidFill>
                <a:latin typeface="Arial Black"/>
                <a:ea typeface="Arial"/>
              </a:rPr>
              <a:t>Вовсе не </a:t>
            </a:r>
            <a:r>
              <a:rPr b="1" lang="ru-RU" sz="2200" spc="-1" strike="noStrike">
                <a:solidFill>
                  <a:srgbClr val="4f2b38"/>
                </a:solidFill>
                <a:latin typeface="Arial Black"/>
                <a:ea typeface="Arial"/>
              </a:rPr>
              <a:t>б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Oval 2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Oval 3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Arial"/>
                <a:ea typeface="Arial"/>
              </a:rPr>
              <a:t>НЕ с существи-тель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5"/>
          <p:cNvSpPr/>
          <p:nvPr/>
        </p:nvSpPr>
        <p:spPr>
          <a:xfrm>
            <a:off x="5940360" y="4437000"/>
            <a:ext cx="2808360" cy="1944720"/>
          </a:xfrm>
          <a:prstGeom prst="ellipse">
            <a:avLst/>
          </a:prstGeom>
          <a:gradFill rotWithShape="0">
            <a:gsLst>
              <a:gs pos="0">
                <a:srgbClr val="e40059"/>
              </a:gs>
              <a:gs pos="100000">
                <a:srgbClr val="48001c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Oval 8"/>
          <p:cNvSpPr/>
          <p:nvPr/>
        </p:nvSpPr>
        <p:spPr>
          <a:xfrm>
            <a:off x="5867280" y="4365720"/>
            <a:ext cx="2978280" cy="211932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Oval 9"/>
          <p:cNvSpPr/>
          <p:nvPr/>
        </p:nvSpPr>
        <p:spPr>
          <a:xfrm>
            <a:off x="3246480" y="2738520"/>
            <a:ext cx="2481120" cy="248292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 flipV="1">
            <a:off x="2992320" y="4704840"/>
            <a:ext cx="48744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 flipV="1">
            <a:off x="2908440" y="4554000"/>
            <a:ext cx="48564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12"/>
          <p:cNvSpPr/>
          <p:nvPr/>
        </p:nvSpPr>
        <p:spPr>
          <a:xfrm flipV="1">
            <a:off x="5559480" y="3065040"/>
            <a:ext cx="48744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13"/>
          <p:cNvSpPr/>
          <p:nvPr/>
        </p:nvSpPr>
        <p:spPr>
          <a:xfrm flipV="1">
            <a:off x="5473800" y="2914200"/>
            <a:ext cx="48888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Oval 14"/>
          <p:cNvSpPr/>
          <p:nvPr/>
        </p:nvSpPr>
        <p:spPr>
          <a:xfrm>
            <a:off x="539640" y="4581360"/>
            <a:ext cx="2592360" cy="1800360"/>
          </a:xfrm>
          <a:prstGeom prst="ellipse">
            <a:avLst/>
          </a:prstGeom>
          <a:gradFill rotWithShape="0">
            <a:gsLst>
              <a:gs pos="0">
                <a:srgbClr val="17bbfd"/>
              </a:gs>
              <a:gs pos="100000">
                <a:srgbClr val="073b5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15" descr="cir_lighteffect0"/>
          <p:cNvPicPr/>
          <p:nvPr/>
        </p:nvPicPr>
        <p:blipFill>
          <a:blip r:embed="rId1"/>
          <a:stretch/>
        </p:blipFill>
        <p:spPr>
          <a:xfrm>
            <a:off x="250920" y="4292640"/>
            <a:ext cx="3097080" cy="2305080"/>
          </a:xfrm>
          <a:prstGeom prst="rect">
            <a:avLst/>
          </a:prstGeom>
          <a:ln w="0">
            <a:noFill/>
          </a:ln>
        </p:spPr>
      </p:pic>
      <p:sp>
        <p:nvSpPr>
          <p:cNvPr id="712" name="Oval 17"/>
          <p:cNvSpPr/>
          <p:nvPr/>
        </p:nvSpPr>
        <p:spPr>
          <a:xfrm>
            <a:off x="468360" y="4437000"/>
            <a:ext cx="2738520" cy="208764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Oval 18"/>
          <p:cNvSpPr/>
          <p:nvPr/>
        </p:nvSpPr>
        <p:spPr>
          <a:xfrm>
            <a:off x="468360" y="1700280"/>
            <a:ext cx="2374920" cy="1728720"/>
          </a:xfrm>
          <a:prstGeom prst="ellipse">
            <a:avLst/>
          </a:prstGeom>
          <a:gradFill rotWithShape="0">
            <a:gsLst>
              <a:gs pos="0">
                <a:srgbClr val="ff79c2"/>
              </a:gs>
              <a:gs pos="100000">
                <a:srgbClr val="76385a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Picture 19" descr="cir_lighteffect0"/>
          <p:cNvPicPr/>
          <p:nvPr/>
        </p:nvPicPr>
        <p:blipFill>
          <a:blip r:embed="rId2"/>
          <a:stretch/>
        </p:blipFill>
        <p:spPr>
          <a:xfrm>
            <a:off x="250920" y="1484280"/>
            <a:ext cx="2808360" cy="1873440"/>
          </a:xfrm>
          <a:prstGeom prst="rect">
            <a:avLst/>
          </a:prstGeom>
          <a:ln w="0">
            <a:noFill/>
          </a:ln>
        </p:spPr>
      </p:pic>
      <p:sp>
        <p:nvSpPr>
          <p:cNvPr id="715" name="Oval 21"/>
          <p:cNvSpPr/>
          <p:nvPr/>
        </p:nvSpPr>
        <p:spPr>
          <a:xfrm>
            <a:off x="324000" y="1557360"/>
            <a:ext cx="2657160" cy="201600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2"/>
          <p:cNvSpPr/>
          <p:nvPr/>
        </p:nvSpPr>
        <p:spPr>
          <a:xfrm>
            <a:off x="2879640" y="2957400"/>
            <a:ext cx="561960" cy="34308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3"/>
          <p:cNvSpPr/>
          <p:nvPr/>
        </p:nvSpPr>
        <p:spPr>
          <a:xfrm>
            <a:off x="2793960" y="3102120"/>
            <a:ext cx="563760" cy="342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24"/>
          <p:cNvSpPr/>
          <p:nvPr/>
        </p:nvSpPr>
        <p:spPr>
          <a:xfrm>
            <a:off x="5965920" y="1628640"/>
            <a:ext cx="2709720" cy="1871640"/>
          </a:xfrm>
          <a:prstGeom prst="ellipse">
            <a:avLst/>
          </a:prstGeom>
          <a:gradFill rotWithShape="0">
            <a:gsLst>
              <a:gs pos="0">
                <a:srgbClr val="ff388c"/>
              </a:gs>
              <a:gs pos="100000">
                <a:srgbClr val="51122c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25" descr="cir_lighteffect0"/>
          <p:cNvPicPr/>
          <p:nvPr/>
        </p:nvPicPr>
        <p:blipFill>
          <a:blip r:embed="rId3"/>
          <a:stretch/>
        </p:blipFill>
        <p:spPr>
          <a:xfrm>
            <a:off x="5651640" y="1341360"/>
            <a:ext cx="3240000" cy="2303640"/>
          </a:xfrm>
          <a:prstGeom prst="rect">
            <a:avLst/>
          </a:prstGeom>
          <a:ln w="0">
            <a:noFill/>
          </a:ln>
        </p:spPr>
      </p:pic>
      <p:sp>
        <p:nvSpPr>
          <p:cNvPr id="720" name="Oval 27"/>
          <p:cNvSpPr/>
          <p:nvPr/>
        </p:nvSpPr>
        <p:spPr>
          <a:xfrm>
            <a:off x="5862600" y="1484280"/>
            <a:ext cx="2957400" cy="216072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28"/>
          <p:cNvSpPr/>
          <p:nvPr/>
        </p:nvSpPr>
        <p:spPr>
          <a:xfrm>
            <a:off x="5643720" y="4419720"/>
            <a:ext cx="561960" cy="342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9"/>
          <p:cNvSpPr/>
          <p:nvPr/>
        </p:nvSpPr>
        <p:spPr>
          <a:xfrm>
            <a:off x="5557680" y="4564080"/>
            <a:ext cx="563760" cy="3445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30"/>
          <p:cNvSpPr/>
          <p:nvPr/>
        </p:nvSpPr>
        <p:spPr>
          <a:xfrm>
            <a:off x="3564000" y="13413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и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33"/>
          <p:cNvSpPr/>
          <p:nvPr/>
        </p:nvSpPr>
        <p:spPr>
          <a:xfrm>
            <a:off x="3635280" y="62373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дель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Rectangle 34" descr=""/>
          <p:cNvPicPr/>
          <p:nvPr/>
        </p:nvPicPr>
        <p:blipFill>
          <a:blip r:embed="rId4"/>
          <a:stretch/>
        </p:blipFill>
        <p:spPr>
          <a:xfrm>
            <a:off x="136512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35"/>
          <p:cNvSpPr/>
          <p:nvPr/>
        </p:nvSpPr>
        <p:spPr>
          <a:xfrm>
            <a:off x="611280" y="2205000"/>
            <a:ext cx="216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Arial"/>
              </a:rPr>
              <a:t>Без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Arial"/>
              </a:rPr>
              <a:t> не употреб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6"/>
          <p:cNvSpPr/>
          <p:nvPr/>
        </p:nvSpPr>
        <p:spPr>
          <a:xfrm flipH="1">
            <a:off x="2771640" y="162864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40"/>
          <p:cNvSpPr/>
          <p:nvPr/>
        </p:nvSpPr>
        <p:spPr>
          <a:xfrm>
            <a:off x="5867280" y="2060640"/>
            <a:ext cx="2952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  <a:ea typeface="Arial"/>
              </a:rPr>
              <a:t>Можно заменить синонимом без не или близким по значению выра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42"/>
          <p:cNvSpPr/>
          <p:nvPr/>
        </p:nvSpPr>
        <p:spPr>
          <a:xfrm>
            <a:off x="4859280" y="162864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43"/>
          <p:cNvSpPr/>
          <p:nvPr/>
        </p:nvSpPr>
        <p:spPr>
          <a:xfrm>
            <a:off x="395280" y="4941720"/>
            <a:ext cx="288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скрытое или явное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ротивопостав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союзом 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44"/>
          <p:cNvSpPr/>
          <p:nvPr/>
        </p:nvSpPr>
        <p:spPr>
          <a:xfrm flipH="1" flipV="1">
            <a:off x="3058920" y="6092640"/>
            <a:ext cx="93492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45"/>
          <p:cNvSpPr/>
          <p:nvPr/>
        </p:nvSpPr>
        <p:spPr>
          <a:xfrm>
            <a:off x="6227640" y="450864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ко 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все 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уть 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юдь не, нисколько не, совсем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Line 46"/>
          <p:cNvSpPr/>
          <p:nvPr/>
        </p:nvSpPr>
        <p:spPr>
          <a:xfrm flipV="1">
            <a:off x="5076720" y="6093000"/>
            <a:ext cx="10080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950760" y="109440"/>
            <a:ext cx="7785360" cy="8240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5760" y="1771560"/>
            <a:ext cx="83642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1. В…сеннее (не)настье – семь п…год на дв…р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2. (Не)было бы счастья, да (не)счастье пом…гл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3. (Не)пером пишут, а ум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4. Свой своему вовсе (не)брат. </a:t>
            </a:r>
            <a:r>
              <a:rPr b="0" lang="ru-RU" sz="2000" spc="-1" strike="noStrike">
                <a:solidFill>
                  <a:srgbClr val="d2d2d2"/>
                </a:solidFill>
                <a:latin typeface="Century Gothic"/>
              </a:rPr>
              <a:t>(</a:t>
            </a:r>
            <a:r>
              <a:rPr b="0" i="1" lang="ru-RU" sz="2000" spc="-1" strike="noStrike">
                <a:solidFill>
                  <a:srgbClr val="d2d2d2"/>
                </a:solidFill>
                <a:latin typeface="Century Gothic"/>
              </a:rPr>
              <a:t>современная пословица</a:t>
            </a:r>
            <a:r>
              <a:rPr b="0" lang="ru-RU" sz="2000" spc="-1" strike="noStrike">
                <a:solidFill>
                  <a:srgbClr val="d2d2d2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читайте пословицы, скажите, как вы понимаете их смыс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сскажите о написании слов с пропущенными буквами, сгруппировав их по орфограмма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скройте скобки перед словами той части речи, написание которой с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вам знаком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857160" y="1428840"/>
          <a:ext cx="8072640" cy="5608440"/>
        </p:xfrm>
        <a:graphic>
          <a:graphicData uri="http://schemas.openxmlformats.org/drawingml/2006/table">
            <a:tbl>
              <a:tblPr/>
              <a:tblGrid>
                <a:gridCol w="4035600"/>
                <a:gridCol w="4037040"/>
              </a:tblGrid>
              <a:tr h="56106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обывал я однажды в стран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Где исчезла частица 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осмотрел я вокруг с доуменьем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Что за лепое положени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Но кругом было тихо-тихо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кругом была разбериха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на взрачной клумбе у буд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Голубые цвели забуд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погода стояла нас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гуляла собака счас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, виляя хвостом уклюж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робегала пролазные луж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Мне навстречу без всякого стра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Шел умытый, причесанный рях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А за ряхой по травке свеж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Шли суразный дотепа и веж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навстречу всем утром ра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Улыбалась Царевна Смея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Очень жаль, что только во с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Есть страна без частицы 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Rectangle 2"/>
          <p:cNvSpPr/>
          <p:nvPr/>
        </p:nvSpPr>
        <p:spPr>
          <a:xfrm>
            <a:off x="0" y="174960"/>
            <a:ext cx="9144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Прослушайте стихотворение Б. Заходера о таких словах. Обратите внимание, что в стихотворении допущена одна неточность. Постарайтесь ее най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4680" y="47520"/>
            <a:ext cx="78408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ее най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"/>
          <p:cNvSpPr/>
          <p:nvPr/>
        </p:nvSpPr>
        <p:spPr>
          <a:xfrm>
            <a:off x="0" y="756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Выпишите словосочетание или предложение, которое относится к вашему зада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1 ряд –заменяется синоним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2 ряд – не употребля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3 ряд – имеет  противопост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99"/>
                </a:solidFill>
                <a:latin typeface="Century Gothic"/>
              </a:rPr>
              <a:t>На (не)счастье себе; тень (не)доумения; (не)погода задержала, а дела; (не) годы, а болезнь состарила; говорить (не)правду; завидует (не)друг; друг (не)ряха; (не)брежность в одежде; (не)работа сушит, а забот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.  (Не)место красит человека, 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2.  (Не)правдой ………….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3.  Дружба крепка (не) лестью, ……………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4.  Умный человек с одного слова поймет, …….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5.  (Не)друг поддакивает, ……………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Заголовок 1" descr=""/>
          <p:cNvPicPr/>
          <p:nvPr/>
        </p:nvPicPr>
        <p:blipFill>
          <a:blip r:embed="rId1"/>
          <a:stretch/>
        </p:blipFill>
        <p:spPr>
          <a:xfrm>
            <a:off x="950760" y="-85680"/>
            <a:ext cx="7785360" cy="1238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.  Не место красит человека, а человек мест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.  Неправдой не проживешь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3.  Дружба крепка не лестью, а правдой и честь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4.  Умный человек с одного слова поймет, а невежде и сто слов не поможе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5.  Недруг поддакивает, а друг спори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2"/>
          <p:cNvSpPr/>
          <p:nvPr/>
        </p:nvSpPr>
        <p:spPr>
          <a:xfrm>
            <a:off x="1322280" y="454644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1285920" y="4143240"/>
            <a:ext cx="6572160" cy="1357560"/>
          </a:xfrm>
          <a:prstGeom prst="roundRect">
            <a:avLst>
              <a:gd name="adj" fmla="val 16667"/>
            </a:avLst>
          </a:prstGeom>
          <a:solidFill>
            <a:srgbClr val="e4005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AutoShape 5"/>
          <p:cNvSpPr/>
          <p:nvPr/>
        </p:nvSpPr>
        <p:spPr>
          <a:xfrm>
            <a:off x="1285920" y="1500120"/>
            <a:ext cx="6580080" cy="1076400"/>
          </a:xfrm>
          <a:prstGeom prst="roundRect">
            <a:avLst>
              <a:gd name="adj" fmla="val 16667"/>
            </a:avLst>
          </a:prstGeom>
          <a:solidFill>
            <a:srgbClr val="ff7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Group 6"/>
          <p:cNvGrpSpPr/>
          <p:nvPr/>
        </p:nvGrpSpPr>
        <p:grpSpPr>
          <a:xfrm>
            <a:off x="1214280" y="2671920"/>
            <a:ext cx="5745240" cy="1184760"/>
            <a:chOff x="1214280" y="2671920"/>
            <a:chExt cx="5745240" cy="1184760"/>
          </a:xfrm>
        </p:grpSpPr>
        <p:sp>
          <p:nvSpPr>
            <p:cNvPr id="747" name="AutoShape 7"/>
            <p:cNvSpPr/>
            <p:nvPr/>
          </p:nvSpPr>
          <p:spPr>
            <a:xfrm>
              <a:off x="1214280" y="2857680"/>
              <a:ext cx="5745240" cy="927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40059"/>
                </a:gs>
                <a:gs pos="50000">
                  <a:srgbClr val="d20052"/>
                </a:gs>
                <a:gs pos="100000">
                  <a:srgbClr val="e40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Group 8"/>
            <p:cNvGrpSpPr/>
            <p:nvPr/>
          </p:nvGrpSpPr>
          <p:grpSpPr>
            <a:xfrm>
              <a:off x="1228320" y="2671920"/>
              <a:ext cx="5724000" cy="1184760"/>
              <a:chOff x="1228320" y="2671920"/>
              <a:chExt cx="5724000" cy="1184760"/>
            </a:xfrm>
          </p:grpSpPr>
          <p:sp>
            <p:nvSpPr>
              <p:cNvPr id="749" name="AutoShape 9"/>
              <p:cNvSpPr/>
              <p:nvPr/>
            </p:nvSpPr>
            <p:spPr>
              <a:xfrm>
                <a:off x="1228320" y="3307680"/>
                <a:ext cx="5724000" cy="549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0059">
                      <a:alpha val="0"/>
                    </a:srgbClr>
                  </a:gs>
                  <a:gs pos="100000">
                    <a:srgbClr val="face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AutoShape 10"/>
              <p:cNvSpPr/>
              <p:nvPr/>
            </p:nvSpPr>
            <p:spPr>
              <a:xfrm>
                <a:off x="1228320" y="2671920"/>
                <a:ext cx="5724000" cy="22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bd7e5"/>
                  </a:gs>
                  <a:gs pos="100000">
                    <a:srgbClr val="e4005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Group 16"/>
          <p:cNvGrpSpPr/>
          <p:nvPr/>
        </p:nvGrpSpPr>
        <p:grpSpPr>
          <a:xfrm>
            <a:off x="1143000" y="1071720"/>
            <a:ext cx="5597640" cy="401400"/>
            <a:chOff x="1143000" y="1071720"/>
            <a:chExt cx="5597640" cy="401400"/>
          </a:xfrm>
        </p:grpSpPr>
        <p:sp>
          <p:nvSpPr>
            <p:cNvPr id="752" name="AutoShape 17"/>
            <p:cNvSpPr/>
            <p:nvPr/>
          </p:nvSpPr>
          <p:spPr>
            <a:xfrm>
              <a:off x="1143000" y="1071720"/>
              <a:ext cx="559764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9c2"/>
                </a:gs>
                <a:gs pos="50000">
                  <a:srgbClr val="eb70b3"/>
                </a:gs>
                <a:gs pos="100000">
                  <a:srgbClr val="ff79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3" name="Group 18"/>
            <p:cNvGrpSpPr/>
            <p:nvPr/>
          </p:nvGrpSpPr>
          <p:grpSpPr>
            <a:xfrm>
              <a:off x="1156680" y="1083960"/>
              <a:ext cx="5576760" cy="371160"/>
              <a:chOff x="1156680" y="1083960"/>
              <a:chExt cx="5576760" cy="371160"/>
            </a:xfrm>
          </p:grpSpPr>
          <p:sp>
            <p:nvSpPr>
              <p:cNvPr id="754" name="AutoShape 19"/>
              <p:cNvSpPr/>
              <p:nvPr/>
            </p:nvSpPr>
            <p:spPr>
              <a:xfrm>
                <a:off x="1156680" y="1358280"/>
                <a:ext cx="55767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88c">
                      <a:alpha val="0"/>
                    </a:srgbClr>
                  </a:gs>
                  <a:gs pos="100000">
                    <a:srgbClr val="ffd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AutoShape 20"/>
              <p:cNvSpPr/>
              <p:nvPr/>
            </p:nvSpPr>
            <p:spPr>
              <a:xfrm>
                <a:off x="1156680" y="1083960"/>
                <a:ext cx="55767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3e5"/>
                  </a:gs>
                  <a:gs pos="100000">
                    <a:srgbClr val="ff388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Rectangle 21"/>
          <p:cNvSpPr/>
          <p:nvPr/>
        </p:nvSpPr>
        <p:spPr>
          <a:xfrm>
            <a:off x="1294920" y="1143000"/>
            <a:ext cx="43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кажите, над чем мы сегодня работ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1428840" y="2857680"/>
            <a:ext cx="525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ак, что мы сегодня рассмотрели? Вернемся к таблице, которую заполнили в начале ур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цель мы поставили перед собо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или мы на вопросы, которые задали в начале ур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их случаях Не с существительными пишется слитно? Раздельно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7"/>
          <p:cNvSpPr/>
          <p:nvPr/>
        </p:nvSpPr>
        <p:spPr>
          <a:xfrm>
            <a:off x="1357200" y="1785960"/>
            <a:ext cx="63374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ы познакомились с правописанием НЕ с именами существи- тельными, учились правильно писать существительные с 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Rectangle 28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Rectangle 4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8663040" cy="547524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981400" y="594396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390600" y="201600"/>
            <a:ext cx="8289720" cy="755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5760" y="1771560"/>
            <a:ext cx="83642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1. Весеннее (не)настье – семь погод на двор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2. Не было бы счастья, да (не)счастье помогл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3. (Не)пером пишут, а ум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4. Свой своему вовсе (не)брат. (</a:t>
            </a:r>
            <a:r>
              <a:rPr b="0" i="1" lang="ru-RU" sz="2000" spc="-1" strike="noStrike">
                <a:solidFill>
                  <a:srgbClr val="d2d2d2"/>
                </a:solidFill>
                <a:latin typeface="Century Gothic"/>
              </a:rPr>
              <a:t>современная пословица</a:t>
            </a: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азовите остальные слова с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из пословиц. Определите, к какой части речи они относятся. Сформулируйте тему сегодняшнего уро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950760" y="109440"/>
            <a:ext cx="7785360" cy="824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28400" y="1294920"/>
            <a:ext cx="8258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Что мы хотим узнать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ак пишется НЕ с существительными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каких случаях пишется слитно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каких случаях пишется раздельно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формулируйте цель нашего урока, опираясь на его тему. Используйте опорные слова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знакомиться с …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читься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-360" y="17715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Цель урока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1) познакомиться с правилом написания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с существительными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2) учиться правильно писать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с именами существительными.</a:t>
            </a:r>
            <a:r>
              <a:rPr b="0" lang="ru-RU" sz="2600" spc="-1" strike="noStrike">
                <a:solidFill>
                  <a:srgbClr val="d2d2d2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Century Gothic"/>
              </a:rPr>
              <a:t>Весеннее (</a:t>
            </a:r>
            <a:r>
              <a:rPr b="0" lang="ru-RU" sz="3200" spc="-1" strike="noStrike" u="sng">
                <a:solidFill>
                  <a:srgbClr val="d2d2d2"/>
                </a:solidFill>
                <a:uFillTx/>
                <a:latin typeface="Century Gothic"/>
              </a:rPr>
              <a:t>не)настье</a:t>
            </a:r>
            <a:r>
              <a:rPr b="0" lang="ru-RU" sz="3200" spc="-1" strike="noStrike">
                <a:solidFill>
                  <a:srgbClr val="d2d2d2"/>
                </a:solidFill>
                <a:latin typeface="Century Gothic"/>
              </a:rPr>
              <a:t> – семь погод на двор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зовите существительное с </a:t>
            </a: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з первой пословицы. Отнимите </a:t>
            </a: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от существительного 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(не)н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 Употребляется ли слово 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(не)н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без </a:t>
            </a: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? Объясните, почему вы так считаете. Сделайте вывод о написании таких с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>
            <a:off x="1322280" y="454644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1258920" y="2781360"/>
            <a:ext cx="6985080" cy="1871640"/>
          </a:xfrm>
          <a:prstGeom prst="roundRect">
            <a:avLst>
              <a:gd name="adj" fmla="val 16667"/>
            </a:avLst>
          </a:prstGeom>
          <a:solidFill>
            <a:srgbClr val="ff7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1332000" y="2852640"/>
            <a:ext cx="6840000" cy="1728000"/>
            <a:chOff x="1332000" y="2852640"/>
            <a:chExt cx="6840000" cy="1728000"/>
          </a:xfrm>
        </p:grpSpPr>
        <p:sp>
          <p:nvSpPr>
            <p:cNvPr id="449" name="AutoShape 17"/>
            <p:cNvSpPr/>
            <p:nvPr/>
          </p:nvSpPr>
          <p:spPr>
            <a:xfrm>
              <a:off x="1332000" y="2852640"/>
              <a:ext cx="6840000" cy="172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9c2"/>
                </a:gs>
                <a:gs pos="50000">
                  <a:srgbClr val="eb70b3"/>
                </a:gs>
                <a:gs pos="100000">
                  <a:srgbClr val="ff79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1348560" y="2906280"/>
              <a:ext cx="6814440" cy="1597680"/>
              <a:chOff x="1348560" y="2906280"/>
              <a:chExt cx="6814440" cy="1597680"/>
            </a:xfrm>
          </p:grpSpPr>
          <p:sp>
            <p:nvSpPr>
              <p:cNvPr id="451" name="AutoShape 19"/>
              <p:cNvSpPr/>
              <p:nvPr/>
            </p:nvSpPr>
            <p:spPr>
              <a:xfrm>
                <a:off x="1348560" y="4090320"/>
                <a:ext cx="6814440" cy="41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88c">
                      <a:alpha val="0"/>
                    </a:srgbClr>
                  </a:gs>
                  <a:gs pos="100000">
                    <a:srgbClr val="ffd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AutoShape 20"/>
              <p:cNvSpPr/>
              <p:nvPr/>
            </p:nvSpPr>
            <p:spPr>
              <a:xfrm>
                <a:off x="1348560" y="2906280"/>
                <a:ext cx="6814440" cy="414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3e5"/>
                  </a:gs>
                  <a:gs pos="100000">
                    <a:srgbClr val="ff388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Rectangle 24"/>
          <p:cNvSpPr/>
          <p:nvPr/>
        </p:nvSpPr>
        <p:spPr>
          <a:xfrm>
            <a:off x="1547640" y="3213000"/>
            <a:ext cx="6191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(не)насть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Rectangle 28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9"/>
          <p:cNvSpPr/>
          <p:nvPr/>
        </p:nvSpPr>
        <p:spPr>
          <a:xfrm>
            <a:off x="755640" y="1557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в этом случае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лов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3"/>
          <p:cNvSpPr/>
          <p:nvPr/>
        </p:nvSpPr>
        <p:spPr>
          <a:xfrm>
            <a:off x="1258920" y="2781360"/>
            <a:ext cx="6985080" cy="1871640"/>
          </a:xfrm>
          <a:prstGeom prst="roundRect">
            <a:avLst>
              <a:gd name="adj" fmla="val 16667"/>
            </a:avLst>
          </a:prstGeom>
          <a:solidFill>
            <a:srgbClr val="ff7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1332000" y="2852640"/>
            <a:ext cx="6840000" cy="1728000"/>
            <a:chOff x="1332000" y="2852640"/>
            <a:chExt cx="6840000" cy="1728000"/>
          </a:xfrm>
        </p:grpSpPr>
        <p:sp>
          <p:nvSpPr>
            <p:cNvPr id="458" name="AutoShape 5"/>
            <p:cNvSpPr/>
            <p:nvPr/>
          </p:nvSpPr>
          <p:spPr>
            <a:xfrm>
              <a:off x="1332000" y="2852640"/>
              <a:ext cx="6840000" cy="172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9c2"/>
                </a:gs>
                <a:gs pos="50000">
                  <a:srgbClr val="eb70b3"/>
                </a:gs>
                <a:gs pos="100000">
                  <a:srgbClr val="ff79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Group 6"/>
            <p:cNvGrpSpPr/>
            <p:nvPr/>
          </p:nvGrpSpPr>
          <p:grpSpPr>
            <a:xfrm>
              <a:off x="1348560" y="2906280"/>
              <a:ext cx="6814440" cy="1597680"/>
              <a:chOff x="1348560" y="2906280"/>
              <a:chExt cx="6814440" cy="1597680"/>
            </a:xfrm>
          </p:grpSpPr>
          <p:sp>
            <p:nvSpPr>
              <p:cNvPr id="460" name="AutoShape 7"/>
              <p:cNvSpPr/>
              <p:nvPr/>
            </p:nvSpPr>
            <p:spPr>
              <a:xfrm>
                <a:off x="1348560" y="4090320"/>
                <a:ext cx="6814440" cy="41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88c">
                      <a:alpha val="0"/>
                    </a:srgbClr>
                  </a:gs>
                  <a:gs pos="100000">
                    <a:srgbClr val="ffd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AutoShape 8"/>
              <p:cNvSpPr/>
              <p:nvPr/>
            </p:nvSpPr>
            <p:spPr>
              <a:xfrm>
                <a:off x="1348560" y="2906280"/>
                <a:ext cx="6814440" cy="414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3e5"/>
                  </a:gs>
                  <a:gs pos="100000">
                    <a:srgbClr val="ff388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Rectangle 9"/>
          <p:cNvSpPr/>
          <p:nvPr/>
        </p:nvSpPr>
        <p:spPr>
          <a:xfrm>
            <a:off x="1547640" y="3213000"/>
            <a:ext cx="6191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ненасть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Rectangle 10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1"/>
          <p:cNvSpPr/>
          <p:nvPr/>
        </p:nvSpPr>
        <p:spPr>
          <a:xfrm>
            <a:off x="755640" y="155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частью кор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84360" y="5373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исьме мы будем обозначать это т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rc 13"/>
          <p:cNvSpPr/>
          <p:nvPr/>
        </p:nvSpPr>
        <p:spPr>
          <a:xfrm flipV="1" rot="16213800">
            <a:off x="4246200" y="4762800"/>
            <a:ext cx="576000" cy="2950920"/>
          </a:xfrm>
          <a:prstGeom prst="pie">
            <a:avLst/>
          </a:prstGeom>
          <a:noFill/>
          <a:ln w="381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58 -0.40949 E">
                                      <p:cBhvr>
                                        <p:cTn id="55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Весеннее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Century Gothic"/>
              </a:rPr>
              <a:t>ненастье (не употр.без не-)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– семь погод на двор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-360" y="17715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зовите существительное с </a:t>
            </a:r>
            <a:r>
              <a:rPr b="1" i="1" lang="ru-RU" sz="26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з второй пословиц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Не было бы счастья, да (не)счастье помогло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равните слова </a:t>
            </a:r>
            <a:r>
              <a:rPr b="1" lang="ru-RU" sz="2400" spc="-1" strike="noStrike">
                <a:solidFill>
                  <a:srgbClr val="d2d2d2"/>
                </a:solidFill>
                <a:latin typeface="Century Gothic"/>
              </a:rPr>
              <a:t>сч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 </a:t>
            </a:r>
            <a:r>
              <a:rPr b="1" lang="ru-RU" sz="2400" spc="-1" strike="noStrike">
                <a:solidFill>
                  <a:srgbClr val="d2d2d2"/>
                </a:solidFill>
                <a:latin typeface="Century Gothic"/>
              </a:rPr>
              <a:t>(не)сч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 Замените слово </a:t>
            </a:r>
            <a:r>
              <a:rPr b="1" lang="ru-RU" sz="2400" spc="-1" strike="noStrike">
                <a:solidFill>
                  <a:srgbClr val="d2d2d2"/>
                </a:solidFill>
                <a:latin typeface="Century Gothic"/>
              </a:rPr>
              <a:t>(не)сч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синонимом без </a:t>
            </a:r>
            <a:r>
              <a:rPr b="1" i="1" lang="ru-RU" sz="26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ли близким по значению выражение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09:19:47Z</dcterms:created>
  <dc:creator>Козинцев А.В.</dc:creator>
  <dc:description/>
  <dc:language>en-US</dc:language>
  <cp:lastModifiedBy>1</cp:lastModifiedBy>
  <dcterms:modified xsi:type="dcterms:W3CDTF">2022-12-18T08:29:36Z</dcterms:modified>
  <cp:revision>56</cp:revision>
  <dc:subject>Правописание "не" с существительными</dc:subject>
  <dc:title>Урок русского языка</dc:title>
</cp:coreProperties>
</file>