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A20-8A27-42C2-894A-12E36CD4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958-45D4-46F5-ADEB-3F5CE378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73B8A-8D1D-4AEE-A0B5-D15BBCA2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F5094-A4F0-4A32-BDB0-F282CBCF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E2A3A-A22B-4AF5-BDFD-6AEEFD7B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DAE5D-D744-47C3-A21D-09DFA79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B0B54-B158-451B-8BFA-44027A29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55FB4-BC03-4DC4-B0FB-9A9359B3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0B64C-C009-4AB1-8001-01B4CE0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07B7C-2323-47FB-B8E6-5E7752BC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C0E94-2C30-425D-A750-8BAE6CB5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5C16D-0C02-4F70-A30F-424D9C69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A80-F5DD-4A35-8E5A-3DBDEF94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58BB9-7BDD-4503-AA32-A5221E7F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DA8E5-E61E-41B0-A33B-C4171D36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30E03-F9BC-4B31-A568-1EAF9EFF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E6C15-3F2A-4E20-99F4-54B38959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AC41F-1CC2-4F49-A26F-C91D6CB9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D6E20-0A86-4F66-8830-A4193D45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5A52D-199F-43AC-BD88-F90B1772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3B52F-7EE5-41D9-81F6-37EB4C2C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BEF56-6561-45A2-BACF-6B1C0680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FE3AF-77F0-4AA4-8852-52B69880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7AA-58AD-474E-AC7A-96037713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A73A9-3688-497D-9D93-B59FA7E7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BF44-882D-48D8-AEDB-7BD9D23F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074C-1691-43DE-B3F5-B751ACEA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2E05-B636-45E4-8B3A-4427910A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D962-BDCC-4C70-B796-2A590FB3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A0E0-12EF-4E04-8504-44E8D15F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EFBD-A41E-478D-B2B8-E8304802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836-F45C-4D55-BEA9-5AF343BD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05D-B173-43C0-B5EC-17807448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24AC-C308-4FC7-A36E-DA87064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99CD-BA1D-47B8-8991-95E77684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B97C-2DCE-45E5-B46E-D04EE898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F7DD-965A-4D38-8EBE-F0A4ABED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DF2D-611D-49B6-870E-E36C34CC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865B9-157A-426E-BFFE-299D6F6C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8735-6429-4953-8883-8B8C39DB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013C-A7D5-4BD2-AE0E-D0DCF667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88E8-766D-441D-BD20-75365AA8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1636-D5A2-49B9-902C-BFB86FE5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B70-CB87-45B6-A519-B6504F3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3CB0-299E-4B82-B083-32E243EF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48D1-A258-4ADA-811E-A043BF6C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5F0B-062A-4324-8E56-4362828A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3086-306F-43D4-973A-568C5EEC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8F13-C126-44EE-81AD-1CCB5E1B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B0E0D-6BE8-4888-857C-7278D565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1255-FF91-461E-BC75-39EBB45F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93E4-BB02-4C75-8830-32B1C9CE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D064-3CB1-42AF-9B10-9AC2C518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22C5-45E5-4159-A85B-4DE6800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592-D8F3-4DC1-AE03-5C29632B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6DCF-1979-4C32-B918-82BF52E2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CAB0-9F10-4E8E-8316-C9D63BA2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8432-70AA-4EC6-801F-84D6C97E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DB37-948E-42AF-864A-6CF31DC9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9A0E-9066-4EB9-8D8B-A4DEEE0F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4B89-A538-48F3-944F-5205E85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091FB-643A-4BAC-8BED-62D2E038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C255-8DA1-442A-ADAB-98C69F57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F418-AECC-4A39-B505-36B3EABA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90538-CC6B-4107-8393-B13247AD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5C6-7E24-4034-8A8D-6F143BB2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0406-6FB1-41D0-951C-0959603A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5491-8FF6-41BF-8AB4-E45D0E3C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C6E5-D1C8-49DF-B066-00D53F4E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05946-07A8-47E1-AA4C-A468D1FA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036B8-3972-4405-857E-6DC085F6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C431D-43E6-424B-8D50-B351098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B1444-BA89-4A7D-9FFD-BFA0BF46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96E3-A998-46FB-B0D3-0EF70D65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74700-54D5-48DC-9EAF-086524A3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C681A-C185-462D-813C-C2CCF48B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D54-A1E6-4FDB-8108-92A2792C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FF6B-12EB-40F0-98A4-3A9DE820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4F14F-DB50-4C2A-A189-8DF55475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1E1D-573B-4F28-8D1C-33DAD37F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8917B-1188-4B35-9236-96C01B9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9C1C-EE21-4975-AC53-51D646DB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6A9EB-1266-44A2-9A6D-44A86A9B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A1522-7B88-47B1-A8F7-A4A16032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B57DC-71C4-4E12-A08F-A611CC9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6B38-4738-4595-B43F-C2F71A55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6AA6-BF48-45C1-BB97-9B44B420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D67-AD27-4EB8-BC35-B52EFA1F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94AAE-C36B-404F-8253-50E1031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FADD-4896-4C84-8912-C64AC977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592D4-9A72-4C9A-A4D4-D376E063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ED70D-3476-4929-845E-E77DFDB7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ADF5E-BF39-45BE-AD81-FDE01FFF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82922-43FC-4BE5-BBAC-C20374C0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3395E-4A2A-42AC-B97D-B464D7C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229AB-7530-4F32-B51D-DB6834EC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AAC4F-3467-4115-A03D-CADB8569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29D33-AD13-47FF-91D1-82B6BA14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5EC-428C-40DF-942A-6059F64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97987-23E3-4DE7-B065-55327CF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CADD0-76C9-41E1-B489-9B1FD81D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DDEC5-6B96-4F6E-8D6F-6BC69E98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BFF9D-08EC-4182-9CAC-92845EBB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62156-B272-4190-BD0E-E16C3C46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EC41B-A1A5-4F5B-AD23-F9C0F85E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78E94-2719-4A9B-90E7-AAB81B91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2F9D9-A5B3-4713-876E-DD497C64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9EB37-EF74-40F1-AEEC-CDB00DC6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0E9E2-3BF7-4CC0-AA3D-71F836E5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65A-E887-4517-A9B0-13319A45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F4BA2-5744-4FA3-8BD8-0B83943B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B4269-8B86-4F49-B34E-E6E29E5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84F14-6037-403B-BBF8-0F8F2CDC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0B3BA-29D9-4062-B870-5264EEE1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091B8-CAF2-4A15-A3A4-53C968B0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B1C2-368F-4574-B747-1D129FBE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0903F-225B-47A5-B5A1-82499B98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FFAEA-9A09-45A3-A365-A4396677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2091B-7EBC-480E-9079-AF2A9E03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6D576-EC5B-4687-9F15-770CEFBA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7288-1B80-4E5F-84E4-46FCDF55F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82AA-6F2C-461E-9971-AFC79EB5CB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AB0D-5B27-4EDF-8104-3E8C1CEA40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58F5-8C62-4561-BEFB-F8DD7EFB7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DC4E-DBCF-4B4B-86CB-CD43E211B2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FFA2-10A3-4006-8D8A-BFBF456AF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E55C-12BD-460F-9FAE-2C2F0415D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8541-A9D9-4068-8342-90CDACF71D5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4673-4C44-4CD3-9B58-1EB200E9E80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10D3-8681-477A-86BF-F6D366F37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434" name="Rectangle 3" descr=""/>
          <p:cNvPicPr/>
          <p:nvPr/>
        </p:nvPicPr>
        <p:blipFill>
          <a:blip r:embed="rId2"/>
          <a:stretch/>
        </p:blipFill>
        <p:spPr>
          <a:xfrm>
            <a:off x="536400" y="2193840"/>
            <a:ext cx="8156880" cy="18176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6"/>
          <p:cNvSpPr/>
          <p:nvPr/>
        </p:nvSpPr>
        <p:spPr>
          <a:xfrm>
            <a:off x="4438800" y="6205680"/>
            <a:ext cx="74520" cy="1522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1403280" y="220824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7" descr="Громкое чтение &amp;quot;Давайте знакомые книги откроем!!!&amp;quot; фотографии."/>
          <p:cNvPicPr/>
          <p:nvPr/>
        </p:nvPicPr>
        <p:blipFill>
          <a:blip r:embed="rId3"/>
          <a:stretch/>
        </p:blipFill>
        <p:spPr>
          <a:xfrm>
            <a:off x="1214280" y="2714760"/>
            <a:ext cx="4562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"/>
          <p:cNvSpPr/>
          <p:nvPr/>
        </p:nvSpPr>
        <p:spPr>
          <a:xfrm>
            <a:off x="6659640" y="2205000"/>
            <a:ext cx="2166840" cy="1625760"/>
          </a:xfrm>
          <a:prstGeom prst="roundRect">
            <a:avLst>
              <a:gd name="adj" fmla="val 12574"/>
            </a:avLst>
          </a:prstGeom>
          <a:solidFill>
            <a:srgbClr val="ff79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3"/>
          <p:cNvSpPr/>
          <p:nvPr/>
        </p:nvSpPr>
        <p:spPr>
          <a:xfrm>
            <a:off x="6659640" y="306864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ff79c2"/>
              </a:gs>
              <a:gs pos="100000">
                <a:srgbClr val="ffc8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5"/>
          <p:cNvGrpSpPr/>
          <p:nvPr/>
        </p:nvGrpSpPr>
        <p:grpSpPr>
          <a:xfrm>
            <a:off x="3276720" y="2205000"/>
            <a:ext cx="3166560" cy="1633680"/>
            <a:chOff x="3276720" y="2205000"/>
            <a:chExt cx="3166560" cy="1633680"/>
          </a:xfrm>
        </p:grpSpPr>
        <p:sp>
          <p:nvSpPr>
            <p:cNvPr id="474" name="AutoShape 6"/>
            <p:cNvSpPr/>
            <p:nvPr/>
          </p:nvSpPr>
          <p:spPr>
            <a:xfrm>
              <a:off x="3281040" y="2205000"/>
              <a:ext cx="3162240" cy="1633680"/>
            </a:xfrm>
            <a:prstGeom prst="roundRect">
              <a:avLst>
                <a:gd name="adj" fmla="val 12574"/>
              </a:avLst>
            </a:prstGeom>
            <a:solidFill>
              <a:srgbClr val="e4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AutoShape 7"/>
            <p:cNvSpPr/>
            <p:nvPr/>
          </p:nvSpPr>
          <p:spPr>
            <a:xfrm>
              <a:off x="3276720" y="3414960"/>
              <a:ext cx="3164760" cy="42120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e40059">
                    <a:alpha val="0"/>
                  </a:srgbClr>
                </a:gs>
                <a:gs pos="100000">
                  <a:srgbClr val="f49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AutoShape 8"/>
            <p:cNvSpPr/>
            <p:nvPr/>
          </p:nvSpPr>
          <p:spPr>
            <a:xfrm>
              <a:off x="3291480" y="2209320"/>
              <a:ext cx="3139200" cy="4208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f6aac8"/>
                </a:gs>
                <a:gs pos="100000">
                  <a:srgbClr val="e4005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9"/>
          <p:cNvGrpSpPr/>
          <p:nvPr/>
        </p:nvGrpSpPr>
        <p:grpSpPr>
          <a:xfrm>
            <a:off x="611280" y="2205000"/>
            <a:ext cx="2447640" cy="1622520"/>
            <a:chOff x="611280" y="2205000"/>
            <a:chExt cx="2447640" cy="1622520"/>
          </a:xfrm>
        </p:grpSpPr>
        <p:sp>
          <p:nvSpPr>
            <p:cNvPr id="478" name="AutoShape 10"/>
            <p:cNvSpPr/>
            <p:nvPr/>
          </p:nvSpPr>
          <p:spPr>
            <a:xfrm>
              <a:off x="614160" y="2205000"/>
              <a:ext cx="2444760" cy="1622520"/>
            </a:xfrm>
            <a:prstGeom prst="roundRect">
              <a:avLst>
                <a:gd name="adj" fmla="val 12574"/>
              </a:avLst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11"/>
            <p:cNvSpPr/>
            <p:nvPr/>
          </p:nvSpPr>
          <p:spPr>
            <a:xfrm>
              <a:off x="611280" y="3406680"/>
              <a:ext cx="2445840" cy="41760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388c">
                    <a:alpha val="0"/>
                  </a:srgbClr>
                </a:gs>
                <a:gs pos="100000">
                  <a:srgbClr val="ff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AutoShape 12"/>
            <p:cNvSpPr/>
            <p:nvPr/>
          </p:nvSpPr>
          <p:spPr>
            <a:xfrm>
              <a:off x="644040" y="2210040"/>
              <a:ext cx="2403360" cy="41760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fbdd9"/>
                </a:gs>
                <a:gs pos="100000">
                  <a:srgbClr val="ff388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3"/>
          <p:cNvSpPr/>
          <p:nvPr/>
        </p:nvSpPr>
        <p:spPr>
          <a:xfrm>
            <a:off x="611280" y="2708280"/>
            <a:ext cx="2558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часть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3276720" y="2708280"/>
            <a:ext cx="3166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(не)счаст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6659640" y="2276640"/>
            <a:ext cx="19573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бе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468360" y="4941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1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является в слове пристав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3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24"/>
          <p:cNvSpPr/>
          <p:nvPr/>
        </p:nvSpPr>
        <p:spPr>
          <a:xfrm>
            <a:off x="900000" y="1484280"/>
            <a:ext cx="806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есчастье – это горе, беда. Что-то очень неприятно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25"/>
          <p:cNvSpPr/>
          <p:nvPr/>
        </p:nvSpPr>
        <p:spPr>
          <a:xfrm>
            <a:off x="2987640" y="2997360"/>
            <a:ext cx="360360" cy="0"/>
          </a:xfrm>
          <a:prstGeom prst="line">
            <a:avLst/>
          </a:prstGeom>
          <a:ln w="41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6"/>
          <p:cNvSpPr/>
          <p:nvPr/>
        </p:nvSpPr>
        <p:spPr>
          <a:xfrm>
            <a:off x="6372360" y="2852640"/>
            <a:ext cx="431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27"/>
          <p:cNvSpPr/>
          <p:nvPr/>
        </p:nvSpPr>
        <p:spPr>
          <a:xfrm>
            <a:off x="6372360" y="3068640"/>
            <a:ext cx="431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8"/>
          <p:cNvSpPr/>
          <p:nvPr/>
        </p:nvSpPr>
        <p:spPr>
          <a:xfrm>
            <a:off x="39528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1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придает слову новый смысл, т.е. образует новое слово. Если с помощью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образуется новое слово, то чем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в нем являетс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0"/>
          <p:cNvSpPr/>
          <p:nvPr/>
        </p:nvSpPr>
        <p:spPr>
          <a:xfrm>
            <a:off x="4643280" y="5084640"/>
            <a:ext cx="1297080" cy="0"/>
          </a:xfrm>
          <a:prstGeom prst="line">
            <a:avLst/>
          </a:prstGeom>
          <a:ln w="381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41"/>
          <p:cNvSpPr/>
          <p:nvPr/>
        </p:nvSpPr>
        <p:spPr>
          <a:xfrm>
            <a:off x="5940360" y="5084640"/>
            <a:ext cx="0" cy="287640"/>
          </a:xfrm>
          <a:prstGeom prst="line">
            <a:avLst/>
          </a:prstGeom>
          <a:ln w="381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42"/>
          <p:cNvSpPr/>
          <p:nvPr/>
        </p:nvSpPr>
        <p:spPr>
          <a:xfrm>
            <a:off x="468360" y="5661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Как пишется</a:t>
            </a:r>
            <a:r>
              <a:rPr b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с существительными в этом случа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/>
          <p:cNvSpPr/>
          <p:nvPr/>
        </p:nvSpPr>
        <p:spPr>
          <a:xfrm>
            <a:off x="6659640" y="2205000"/>
            <a:ext cx="2166840" cy="1625760"/>
          </a:xfrm>
          <a:prstGeom prst="roundRect">
            <a:avLst>
              <a:gd name="adj" fmla="val 12574"/>
            </a:avLst>
          </a:prstGeom>
          <a:solidFill>
            <a:srgbClr val="ff79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659640" y="306864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ff79c2"/>
              </a:gs>
              <a:gs pos="100000">
                <a:srgbClr val="ffc8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3276720" y="2205000"/>
            <a:ext cx="3166560" cy="1633680"/>
            <a:chOff x="3276720" y="2205000"/>
            <a:chExt cx="3166560" cy="1633680"/>
          </a:xfrm>
        </p:grpSpPr>
        <p:sp>
          <p:nvSpPr>
            <p:cNvPr id="497" name="AutoShape 5"/>
            <p:cNvSpPr/>
            <p:nvPr/>
          </p:nvSpPr>
          <p:spPr>
            <a:xfrm>
              <a:off x="3281040" y="2205000"/>
              <a:ext cx="3162240" cy="1633680"/>
            </a:xfrm>
            <a:prstGeom prst="roundRect">
              <a:avLst>
                <a:gd name="adj" fmla="val 12574"/>
              </a:avLst>
            </a:prstGeom>
            <a:solidFill>
              <a:srgbClr val="e4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6"/>
            <p:cNvSpPr/>
            <p:nvPr/>
          </p:nvSpPr>
          <p:spPr>
            <a:xfrm>
              <a:off x="3276720" y="3414960"/>
              <a:ext cx="3164760" cy="42120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e40059">
                    <a:alpha val="0"/>
                  </a:srgbClr>
                </a:gs>
                <a:gs pos="100000">
                  <a:srgbClr val="f49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7"/>
            <p:cNvSpPr/>
            <p:nvPr/>
          </p:nvSpPr>
          <p:spPr>
            <a:xfrm>
              <a:off x="3291480" y="2209320"/>
              <a:ext cx="3139200" cy="4208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f6aac8"/>
                </a:gs>
                <a:gs pos="100000">
                  <a:srgbClr val="e4005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8"/>
          <p:cNvGrpSpPr/>
          <p:nvPr/>
        </p:nvGrpSpPr>
        <p:grpSpPr>
          <a:xfrm>
            <a:off x="611280" y="2205000"/>
            <a:ext cx="2447640" cy="1622520"/>
            <a:chOff x="611280" y="2205000"/>
            <a:chExt cx="2447640" cy="1622520"/>
          </a:xfrm>
        </p:grpSpPr>
        <p:sp>
          <p:nvSpPr>
            <p:cNvPr id="501" name="AutoShape 9"/>
            <p:cNvSpPr/>
            <p:nvPr/>
          </p:nvSpPr>
          <p:spPr>
            <a:xfrm>
              <a:off x="614160" y="2205000"/>
              <a:ext cx="2444760" cy="1622520"/>
            </a:xfrm>
            <a:prstGeom prst="roundRect">
              <a:avLst>
                <a:gd name="adj" fmla="val 12574"/>
              </a:avLst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611280" y="3406680"/>
              <a:ext cx="2445840" cy="41760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388c">
                    <a:alpha val="0"/>
                  </a:srgbClr>
                </a:gs>
                <a:gs pos="100000">
                  <a:srgbClr val="ff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11"/>
            <p:cNvSpPr/>
            <p:nvPr/>
          </p:nvSpPr>
          <p:spPr>
            <a:xfrm>
              <a:off x="644040" y="2210040"/>
              <a:ext cx="2403360" cy="41760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fbdd9"/>
                </a:gs>
                <a:gs pos="100000">
                  <a:srgbClr val="ff388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Text Box 12"/>
          <p:cNvSpPr/>
          <p:nvPr/>
        </p:nvSpPr>
        <p:spPr>
          <a:xfrm>
            <a:off x="611280" y="2708280"/>
            <a:ext cx="2558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часть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3419640" y="2708280"/>
            <a:ext cx="3166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несчаст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6659640" y="2276640"/>
            <a:ext cx="19573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го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бе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Rectangle 16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508" name="Line 18"/>
          <p:cNvSpPr/>
          <p:nvPr/>
        </p:nvSpPr>
        <p:spPr>
          <a:xfrm>
            <a:off x="2987640" y="2997360"/>
            <a:ext cx="360360" cy="0"/>
          </a:xfrm>
          <a:prstGeom prst="line">
            <a:avLst/>
          </a:prstGeom>
          <a:ln w="41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9"/>
          <p:cNvSpPr/>
          <p:nvPr/>
        </p:nvSpPr>
        <p:spPr>
          <a:xfrm>
            <a:off x="6372360" y="2852640"/>
            <a:ext cx="431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20"/>
          <p:cNvSpPr/>
          <p:nvPr/>
        </p:nvSpPr>
        <p:spPr>
          <a:xfrm>
            <a:off x="6372360" y="3068640"/>
            <a:ext cx="431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395280" y="407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Сделайте вывод о написании не с существительными по второй части нашего рассу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25"/>
          <p:cNvSpPr/>
          <p:nvPr/>
        </p:nvSpPr>
        <p:spPr>
          <a:xfrm>
            <a:off x="539640" y="4869000"/>
            <a:ext cx="8425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с существительным пишется слитно, если существительное с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может быть заменено синонимом без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или близким по значению выражением. В этом случае </a:t>
            </a:r>
            <a:r>
              <a:rPr b="1" i="1" lang="ru-RU" sz="2400" spc="-1" strike="noStrike">
                <a:solidFill>
                  <a:srgbClr val="666666"/>
                </a:solidFill>
                <a:latin typeface="Arial"/>
                <a:ea typeface="Arial"/>
              </a:rPr>
              <a:t>не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Arial"/>
              </a:rPr>
              <a:t> является в слове пристав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4" name="Прямоугольник 3"/>
          <p:cNvSpPr/>
          <p:nvPr/>
        </p:nvSpPr>
        <p:spPr>
          <a:xfrm>
            <a:off x="571680" y="27147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е было бы счастья, да несчастье (=горе) помог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ая соединительная линия 9"/>
          <p:cNvSpPr/>
          <p:nvPr/>
        </p:nvSpPr>
        <p:spPr>
          <a:xfrm>
            <a:off x="5857920" y="2786040"/>
            <a:ext cx="57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ая соединительная линия 11"/>
          <p:cNvSpPr/>
          <p:nvPr/>
        </p:nvSpPr>
        <p:spPr>
          <a:xfrm flipH="1">
            <a:off x="6428880" y="27860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518" name="Group 3"/>
          <p:cNvGrpSpPr/>
          <p:nvPr/>
        </p:nvGrpSpPr>
        <p:grpSpPr>
          <a:xfrm>
            <a:off x="6804000" y="2781360"/>
            <a:ext cx="2339280" cy="2278440"/>
            <a:chOff x="6804000" y="2781360"/>
            <a:chExt cx="2339280" cy="2278440"/>
          </a:xfrm>
        </p:grpSpPr>
        <p:pic>
          <p:nvPicPr>
            <p:cNvPr id="519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811920" y="2788200"/>
              <a:ext cx="2331360" cy="214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Oval 5"/>
            <p:cNvGrpSpPr/>
            <p:nvPr/>
          </p:nvGrpSpPr>
          <p:grpSpPr>
            <a:xfrm>
              <a:off x="6804000" y="2781360"/>
              <a:ext cx="2326680" cy="2160000"/>
              <a:chOff x="6804000" y="2781360"/>
              <a:chExt cx="2326680" cy="2160000"/>
            </a:xfrm>
          </p:grpSpPr>
          <p:pic>
            <p:nvPicPr>
              <p:cNvPr id="521" name="Oval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804000" y="2781360"/>
                <a:ext cx="2326680" cy="21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"/>
              <p:cNvSpPr/>
              <p:nvPr/>
            </p:nvSpPr>
            <p:spPr>
              <a:xfrm>
                <a:off x="7149960" y="3102840"/>
                <a:ext cx="1638000" cy="15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3" name="Freeform 6"/>
            <p:cNvSpPr/>
            <p:nvPr/>
          </p:nvSpPr>
          <p:spPr>
            <a:xfrm>
              <a:off x="7052760" y="2832120"/>
              <a:ext cx="1819080" cy="74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4" name="Group 7"/>
            <p:cNvGrpSpPr/>
            <p:nvPr/>
          </p:nvGrpSpPr>
          <p:grpSpPr>
            <a:xfrm>
              <a:off x="6982560" y="4249800"/>
              <a:ext cx="2035080" cy="810000"/>
              <a:chOff x="6982560" y="4249800"/>
              <a:chExt cx="2035080" cy="810000"/>
            </a:xfrm>
          </p:grpSpPr>
          <p:grpSp>
            <p:nvGrpSpPr>
              <p:cNvPr id="525" name="Group 8"/>
              <p:cNvGrpSpPr/>
              <p:nvPr/>
            </p:nvGrpSpPr>
            <p:grpSpPr>
              <a:xfrm>
                <a:off x="7333920" y="4249800"/>
                <a:ext cx="1683720" cy="750600"/>
                <a:chOff x="7333920" y="4249800"/>
                <a:chExt cx="1683720" cy="750600"/>
              </a:xfrm>
            </p:grpSpPr>
            <p:sp>
              <p:nvSpPr>
                <p:cNvPr id="526" name="AutoShape 9"/>
                <p:cNvSpPr/>
                <p:nvPr/>
              </p:nvSpPr>
              <p:spPr>
                <a:xfrm flipH="1" flipV="1" rot="3964800">
                  <a:off x="8261280" y="4011120"/>
                  <a:ext cx="277200" cy="122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10"/>
                <p:cNvSpPr/>
                <p:nvPr/>
              </p:nvSpPr>
              <p:spPr>
                <a:xfrm flipH="1" flipV="1" rot="4780200">
                  <a:off x="8071920" y="4086720"/>
                  <a:ext cx="277200" cy="122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AutoShape 11"/>
                <p:cNvSpPr/>
                <p:nvPr/>
              </p:nvSpPr>
              <p:spPr>
                <a:xfrm flipH="1" flipV="1" rot="5076000">
                  <a:off x="7954920" y="4104000"/>
                  <a:ext cx="2772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AutoShape 12"/>
                <p:cNvSpPr/>
                <p:nvPr/>
              </p:nvSpPr>
              <p:spPr>
                <a:xfrm flipH="1" flipV="1" rot="5608200">
                  <a:off x="7815600" y="4119840"/>
                  <a:ext cx="2772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13"/>
              <p:cNvGrpSpPr/>
              <p:nvPr/>
            </p:nvGrpSpPr>
            <p:grpSpPr>
              <a:xfrm>
                <a:off x="6982560" y="4270680"/>
                <a:ext cx="1681200" cy="789120"/>
                <a:chOff x="6982560" y="4270680"/>
                <a:chExt cx="1681200" cy="789120"/>
              </a:xfrm>
            </p:grpSpPr>
            <p:sp>
              <p:nvSpPr>
                <p:cNvPr id="531" name="AutoShape 14"/>
                <p:cNvSpPr/>
                <p:nvPr/>
              </p:nvSpPr>
              <p:spPr>
                <a:xfrm flipH="1" flipV="1" rot="5317800">
                  <a:off x="7907400" y="4122360"/>
                  <a:ext cx="2790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15"/>
                <p:cNvSpPr/>
                <p:nvPr/>
              </p:nvSpPr>
              <p:spPr>
                <a:xfrm flipH="1" flipV="1" rot="6133800">
                  <a:off x="7703640" y="4119480"/>
                  <a:ext cx="27900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16"/>
                <p:cNvSpPr/>
                <p:nvPr/>
              </p:nvSpPr>
              <p:spPr>
                <a:xfrm flipH="1" flipV="1" rot="6429000">
                  <a:off x="7589520" y="4090680"/>
                  <a:ext cx="27936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17"/>
                <p:cNvSpPr/>
                <p:nvPr/>
              </p:nvSpPr>
              <p:spPr>
                <a:xfrm flipH="1" flipV="1" rot="6961200">
                  <a:off x="7454520" y="4051080"/>
                  <a:ext cx="27900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5" name="Group 18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536" name="Freeform 19"/>
            <p:cNvSpPr/>
            <p:nvPr/>
          </p:nvSpPr>
          <p:spPr>
            <a:xfrm rot="16200000">
              <a:off x="5429160" y="4474080"/>
              <a:ext cx="1820880" cy="12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20"/>
            <p:cNvSpPr/>
            <p:nvPr/>
          </p:nvSpPr>
          <p:spPr>
            <a:xfrm rot="16200000">
              <a:off x="6243120" y="3284640"/>
              <a:ext cx="351360" cy="1420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21"/>
            <p:cNvSpPr/>
            <p:nvPr/>
          </p:nvSpPr>
          <p:spPr>
            <a:xfrm flipH="1" rot="16200000">
              <a:off x="5439600" y="2251800"/>
              <a:ext cx="1820520" cy="12517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22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540" name="Oval 23"/>
            <p:cNvSpPr/>
            <p:nvPr/>
          </p:nvSpPr>
          <p:spPr>
            <a:xfrm>
              <a:off x="2703600" y="3843360"/>
              <a:ext cx="395640" cy="398520"/>
            </a:xfrm>
            <a:prstGeom prst="ellipse">
              <a:avLst/>
            </a:prstGeom>
            <a:gradFill rotWithShape="0">
              <a:gsLst>
                <a:gs pos="0">
                  <a:srgbClr val="a95081"/>
                </a:gs>
                <a:gs pos="50000">
                  <a:srgbClr val="ff79c2"/>
                </a:gs>
                <a:gs pos="100000">
                  <a:srgbClr val="a95081"/>
                </a:gs>
              </a:gsLst>
              <a:lin ang="27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Group 24"/>
            <p:cNvGrpSpPr/>
            <p:nvPr/>
          </p:nvGrpSpPr>
          <p:grpSpPr>
            <a:xfrm>
              <a:off x="2680560" y="4042800"/>
              <a:ext cx="334800" cy="217080"/>
              <a:chOff x="2680560" y="4042800"/>
              <a:chExt cx="334800" cy="217080"/>
            </a:xfrm>
          </p:grpSpPr>
          <p:grpSp>
            <p:nvGrpSpPr>
              <p:cNvPr id="542" name="Group 25"/>
              <p:cNvGrpSpPr/>
              <p:nvPr/>
            </p:nvGrpSpPr>
            <p:grpSpPr>
              <a:xfrm>
                <a:off x="2680560" y="4042800"/>
                <a:ext cx="334800" cy="217080"/>
                <a:chOff x="2680560" y="4042800"/>
                <a:chExt cx="334800" cy="217080"/>
              </a:xfrm>
            </p:grpSpPr>
            <p:grpSp>
              <p:nvGrpSpPr>
                <p:cNvPr id="543" name="Group 26"/>
                <p:cNvGrpSpPr/>
                <p:nvPr/>
              </p:nvGrpSpPr>
              <p:grpSpPr>
                <a:xfrm>
                  <a:off x="2716560" y="4108320"/>
                  <a:ext cx="298800" cy="148680"/>
                  <a:chOff x="2716560" y="4108320"/>
                  <a:chExt cx="298800" cy="148680"/>
                </a:xfrm>
              </p:grpSpPr>
              <p:sp>
                <p:nvSpPr>
                  <p:cNvPr id="544" name="AutoShape 27"/>
                  <p:cNvSpPr/>
                  <p:nvPr/>
                </p:nvSpPr>
                <p:spPr>
                  <a:xfrm flipH="1" flipV="1" rot="5374200">
                    <a:off x="2878200" y="40878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AutoShape 28"/>
                  <p:cNvSpPr/>
                  <p:nvPr/>
                </p:nvSpPr>
                <p:spPr>
                  <a:xfrm flipH="1" flipV="1" rot="6189600">
                    <a:off x="2841840" y="40878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AutoShape 29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AutoShape 30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Group 31"/>
                <p:cNvGrpSpPr/>
                <p:nvPr/>
              </p:nvGrpSpPr>
              <p:grpSpPr>
                <a:xfrm>
                  <a:off x="2680560" y="4042800"/>
                  <a:ext cx="271800" cy="217080"/>
                  <a:chOff x="2680560" y="4042800"/>
                  <a:chExt cx="271800" cy="217080"/>
                </a:xfrm>
              </p:grpSpPr>
              <p:sp>
                <p:nvSpPr>
                  <p:cNvPr id="549" name="AutoShape 32"/>
                  <p:cNvSpPr/>
                  <p:nvPr/>
                </p:nvSpPr>
                <p:spPr>
                  <a:xfrm flipH="1" flipV="1" rot="6727200">
                    <a:off x="2812320" y="4079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AutoShape 33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AutoShape 34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AutoShape 35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3" name="Group 36"/>
              <p:cNvGrpSpPr/>
              <p:nvPr/>
            </p:nvGrpSpPr>
            <p:grpSpPr>
              <a:xfrm>
                <a:off x="2707200" y="4064760"/>
                <a:ext cx="274320" cy="177840"/>
                <a:chOff x="2707200" y="4064760"/>
                <a:chExt cx="274320" cy="177840"/>
              </a:xfrm>
            </p:grpSpPr>
            <p:grpSp>
              <p:nvGrpSpPr>
                <p:cNvPr id="554" name="Group 37"/>
                <p:cNvGrpSpPr/>
                <p:nvPr/>
              </p:nvGrpSpPr>
              <p:grpSpPr>
                <a:xfrm>
                  <a:off x="2737080" y="4118400"/>
                  <a:ext cx="244440" cy="121320"/>
                  <a:chOff x="2737080" y="4118400"/>
                  <a:chExt cx="244440" cy="121320"/>
                </a:xfrm>
              </p:grpSpPr>
              <p:sp>
                <p:nvSpPr>
                  <p:cNvPr id="555" name="AutoShape 38"/>
                  <p:cNvSpPr/>
                  <p:nvPr/>
                </p:nvSpPr>
                <p:spPr>
                  <a:xfrm flipH="1" flipV="1" rot="5374200">
                    <a:off x="2869200" y="41025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AutoShape 39"/>
                  <p:cNvSpPr/>
                  <p:nvPr/>
                </p:nvSpPr>
                <p:spPr>
                  <a:xfrm flipH="1" flipV="1" rot="6189600">
                    <a:off x="2838960" y="41007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AutoShape 40"/>
                  <p:cNvSpPr/>
                  <p:nvPr/>
                </p:nvSpPr>
                <p:spPr>
                  <a:xfrm flipH="1" flipV="1" rot="6485400">
                    <a:off x="2823120" y="409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AutoShape 41"/>
                  <p:cNvSpPr/>
                  <p:nvPr/>
                </p:nvSpPr>
                <p:spPr>
                  <a:xfrm flipH="1" flipV="1" rot="7017600">
                    <a:off x="2803680" y="408924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Group 42"/>
                <p:cNvGrpSpPr/>
                <p:nvPr/>
              </p:nvGrpSpPr>
              <p:grpSpPr>
                <a:xfrm>
                  <a:off x="2707200" y="4064760"/>
                  <a:ext cx="222480" cy="177840"/>
                  <a:chOff x="2707200" y="4064760"/>
                  <a:chExt cx="222480" cy="177840"/>
                </a:xfrm>
              </p:grpSpPr>
              <p:sp>
                <p:nvSpPr>
                  <p:cNvPr id="560" name="AutoShape 43"/>
                  <p:cNvSpPr/>
                  <p:nvPr/>
                </p:nvSpPr>
                <p:spPr>
                  <a:xfrm flipH="1" flipV="1" rot="6727200">
                    <a:off x="281484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AutoShape 44"/>
                  <p:cNvSpPr/>
                  <p:nvPr/>
                </p:nvSpPr>
                <p:spPr>
                  <a:xfrm flipH="1" flipV="1" rot="7542600">
                    <a:off x="278820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AutoShape 45"/>
                  <p:cNvSpPr/>
                  <p:nvPr/>
                </p:nvSpPr>
                <p:spPr>
                  <a:xfrm flipH="1" flipV="1" rot="7838400">
                    <a:off x="277488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AutoShape 46"/>
                  <p:cNvSpPr/>
                  <p:nvPr/>
                </p:nvSpPr>
                <p:spPr>
                  <a:xfrm flipH="1" flipV="1" rot="8370600">
                    <a:off x="275904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4" name="Group 47"/>
            <p:cNvGrpSpPr/>
            <p:nvPr/>
          </p:nvGrpSpPr>
          <p:grpSpPr>
            <a:xfrm>
              <a:off x="2824200" y="3828960"/>
              <a:ext cx="308520" cy="252360"/>
              <a:chOff x="2824200" y="3828960"/>
              <a:chExt cx="308520" cy="252360"/>
            </a:xfrm>
          </p:grpSpPr>
          <p:grpSp>
            <p:nvGrpSpPr>
              <p:cNvPr id="565" name="Group 48"/>
              <p:cNvGrpSpPr/>
              <p:nvPr/>
            </p:nvGrpSpPr>
            <p:grpSpPr>
              <a:xfrm>
                <a:off x="2824200" y="3828960"/>
                <a:ext cx="308520" cy="252360"/>
                <a:chOff x="2824200" y="3828960"/>
                <a:chExt cx="308520" cy="252360"/>
              </a:xfrm>
            </p:grpSpPr>
            <p:grpSp>
              <p:nvGrpSpPr>
                <p:cNvPr id="566" name="Group 49"/>
                <p:cNvGrpSpPr/>
                <p:nvPr/>
              </p:nvGrpSpPr>
              <p:grpSpPr>
                <a:xfrm>
                  <a:off x="2824200" y="3828960"/>
                  <a:ext cx="289800" cy="183960"/>
                  <a:chOff x="2824200" y="3828960"/>
                  <a:chExt cx="289800" cy="183960"/>
                </a:xfrm>
              </p:grpSpPr>
              <p:sp>
                <p:nvSpPr>
                  <p:cNvPr id="567" name="AutoShape 50"/>
                  <p:cNvSpPr/>
                  <p:nvPr/>
                </p:nvSpPr>
                <p:spPr>
                  <a:xfrm flipH="1" flipV="1" rot="16891800">
                    <a:off x="2908080" y="378252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AutoShape 51"/>
                  <p:cNvSpPr/>
                  <p:nvPr/>
                </p:nvSpPr>
                <p:spPr>
                  <a:xfrm flipH="1" flipV="1" rot="17707200">
                    <a:off x="2943000" y="3791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AutoShape 52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AutoShape 53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Group 54"/>
                <p:cNvGrpSpPr/>
                <p:nvPr/>
              </p:nvGrpSpPr>
              <p:grpSpPr>
                <a:xfrm>
                  <a:off x="2892240" y="3830040"/>
                  <a:ext cx="240480" cy="251280"/>
                  <a:chOff x="2892240" y="3830040"/>
                  <a:chExt cx="240480" cy="251280"/>
                </a:xfrm>
              </p:grpSpPr>
              <p:sp>
                <p:nvSpPr>
                  <p:cNvPr id="572" name="AutoShape 55"/>
                  <p:cNvSpPr/>
                  <p:nvPr/>
                </p:nvSpPr>
                <p:spPr>
                  <a:xfrm flipH="1" flipV="1" rot="18244800">
                    <a:off x="2970000" y="380412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AutoShape 56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AutoShape 57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AutoShape 58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6" name="Group 59"/>
              <p:cNvGrpSpPr/>
              <p:nvPr/>
            </p:nvGrpSpPr>
            <p:grpSpPr>
              <a:xfrm>
                <a:off x="2857320" y="3849120"/>
                <a:ext cx="252360" cy="206280"/>
                <a:chOff x="2857320" y="3849120"/>
                <a:chExt cx="252360" cy="206280"/>
              </a:xfrm>
            </p:grpSpPr>
            <p:grpSp>
              <p:nvGrpSpPr>
                <p:cNvPr id="577" name="Group 60"/>
                <p:cNvGrpSpPr/>
                <p:nvPr/>
              </p:nvGrpSpPr>
              <p:grpSpPr>
                <a:xfrm>
                  <a:off x="2857320" y="3849120"/>
                  <a:ext cx="236520" cy="150840"/>
                  <a:chOff x="2857320" y="3849120"/>
                  <a:chExt cx="236520" cy="150840"/>
                </a:xfrm>
              </p:grpSpPr>
              <p:sp>
                <p:nvSpPr>
                  <p:cNvPr id="578" name="AutoShape 61"/>
                  <p:cNvSpPr/>
                  <p:nvPr/>
                </p:nvSpPr>
                <p:spPr>
                  <a:xfrm flipH="1" flipV="1" rot="16891800">
                    <a:off x="2926440" y="38109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AutoShape 62"/>
                  <p:cNvSpPr/>
                  <p:nvPr/>
                </p:nvSpPr>
                <p:spPr>
                  <a:xfrm flipH="1" flipV="1" rot="17707200">
                    <a:off x="2954880" y="38181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AutoShape 63"/>
                  <p:cNvSpPr/>
                  <p:nvPr/>
                </p:nvSpPr>
                <p:spPr>
                  <a:xfrm flipH="1" flipV="1" rot="18003000">
                    <a:off x="2969640" y="382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AutoShape 64"/>
                  <p:cNvSpPr/>
                  <p:nvPr/>
                </p:nvSpPr>
                <p:spPr>
                  <a:xfrm flipH="1" flipV="1" rot="18535200">
                    <a:off x="2986560" y="38368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Group 65"/>
                <p:cNvGrpSpPr/>
                <p:nvPr/>
              </p:nvGrpSpPr>
              <p:grpSpPr>
                <a:xfrm>
                  <a:off x="2913480" y="3849480"/>
                  <a:ext cx="196200" cy="205920"/>
                  <a:chOff x="2913480" y="3849480"/>
                  <a:chExt cx="196200" cy="205920"/>
                </a:xfrm>
              </p:grpSpPr>
              <p:sp>
                <p:nvSpPr>
                  <p:cNvPr id="583" name="AutoShape 66"/>
                  <p:cNvSpPr/>
                  <p:nvPr/>
                </p:nvSpPr>
                <p:spPr>
                  <a:xfrm flipH="1" flipV="1" rot="18244800">
                    <a:off x="297648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AutoShape 67"/>
                  <p:cNvSpPr/>
                  <p:nvPr/>
                </p:nvSpPr>
                <p:spPr>
                  <a:xfrm flipH="1" flipV="1" rot="19060800">
                    <a:off x="300024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AutoShape 68"/>
                  <p:cNvSpPr/>
                  <p:nvPr/>
                </p:nvSpPr>
                <p:spPr>
                  <a:xfrm flipH="1" flipV="1" rot="19356000">
                    <a:off x="301104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AutoShape 69"/>
                  <p:cNvSpPr/>
                  <p:nvPr/>
                </p:nvSpPr>
                <p:spPr>
                  <a:xfrm flipH="1" flipV="1" rot="19888200">
                    <a:off x="302328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587" name="AutoShape 70"/>
          <p:cNvCxnSpPr>
            <a:stCxn id="540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88" name="AutoShape 71"/>
          <p:cNvCxnSpPr>
            <a:stCxn id="540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589" name="Group 73"/>
          <p:cNvGrpSpPr/>
          <p:nvPr/>
        </p:nvGrpSpPr>
        <p:grpSpPr>
          <a:xfrm>
            <a:off x="3132000" y="1484280"/>
            <a:ext cx="2688840" cy="2304360"/>
            <a:chOff x="3132000" y="1484280"/>
            <a:chExt cx="2688840" cy="2304360"/>
          </a:xfrm>
        </p:grpSpPr>
        <p:sp>
          <p:nvSpPr>
            <p:cNvPr id="590" name="AutoShape 74"/>
            <p:cNvSpPr/>
            <p:nvPr/>
          </p:nvSpPr>
          <p:spPr>
            <a:xfrm>
              <a:off x="3132000" y="1484280"/>
              <a:ext cx="2688840" cy="2304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40059"/>
                </a:gs>
                <a:gs pos="100000">
                  <a:srgbClr val="9f003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1" name="Picture 75" descr="Picture4"/>
            <p:cNvPicPr/>
            <p:nvPr/>
          </p:nvPicPr>
          <p:blipFill>
            <a:blip r:embed="rId4"/>
            <a:stretch/>
          </p:blipFill>
          <p:spPr>
            <a:xfrm>
              <a:off x="3180240" y="1552680"/>
              <a:ext cx="777240" cy="145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Group 79"/>
          <p:cNvGrpSpPr/>
          <p:nvPr/>
        </p:nvGrpSpPr>
        <p:grpSpPr>
          <a:xfrm>
            <a:off x="3132000" y="4005360"/>
            <a:ext cx="2695320" cy="2242440"/>
            <a:chOff x="3132000" y="4005360"/>
            <a:chExt cx="2695320" cy="2242440"/>
          </a:xfrm>
        </p:grpSpPr>
        <p:sp>
          <p:nvSpPr>
            <p:cNvPr id="593" name="AutoShape 80"/>
            <p:cNvSpPr/>
            <p:nvPr/>
          </p:nvSpPr>
          <p:spPr>
            <a:xfrm>
              <a:off x="3132000" y="4005360"/>
              <a:ext cx="2695320" cy="22424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7bbfd"/>
                </a:gs>
                <a:gs pos="100000">
                  <a:srgbClr val="1083b1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4" name="Picture 81" descr="Picture4"/>
            <p:cNvPicPr/>
            <p:nvPr/>
          </p:nvPicPr>
          <p:blipFill>
            <a:blip r:embed="rId5"/>
            <a:stretch/>
          </p:blipFill>
          <p:spPr>
            <a:xfrm>
              <a:off x="3172680" y="4065840"/>
              <a:ext cx="779040" cy="141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5" name="Rectangle 82"/>
          <p:cNvSpPr/>
          <p:nvPr/>
        </p:nvSpPr>
        <p:spPr>
          <a:xfrm>
            <a:off x="3276720" y="1916280"/>
            <a:ext cx="247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ли слово бе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 употреб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84"/>
          <p:cNvSpPr/>
          <p:nvPr/>
        </p:nvSpPr>
        <p:spPr>
          <a:xfrm>
            <a:off x="3276720" y="4221000"/>
            <a:ext cx="2336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ли слово можно заменить синонимом без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ли близким по значению выра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85"/>
          <p:cNvSpPr/>
          <p:nvPr/>
        </p:nvSpPr>
        <p:spPr>
          <a:xfrm>
            <a:off x="152280" y="3267000"/>
            <a:ext cx="254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а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ществите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иш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ит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86"/>
          <p:cNvSpPr/>
          <p:nvPr/>
        </p:nvSpPr>
        <p:spPr>
          <a:xfrm>
            <a:off x="7093080" y="3357720"/>
            <a:ext cx="19256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f75"/>
                </a:solidFill>
                <a:latin typeface="Arial Black"/>
                <a:ea typeface="Arial"/>
              </a:rPr>
              <a:t>Ненасть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f4f66"/>
                </a:solidFill>
                <a:latin typeface="Arial Black"/>
                <a:ea typeface="Arial"/>
              </a:rPr>
              <a:t>Несчасть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rc 87"/>
          <p:cNvSpPr/>
          <p:nvPr/>
        </p:nvSpPr>
        <p:spPr>
          <a:xfrm rot="267000">
            <a:off x="7308360" y="3136680"/>
            <a:ext cx="1006560" cy="361800"/>
          </a:xfrm>
          <a:prstGeom prst="pie">
            <a:avLst/>
          </a:prstGeom>
          <a:noFill/>
          <a:ln w="3168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88"/>
          <p:cNvSpPr/>
          <p:nvPr/>
        </p:nvSpPr>
        <p:spPr>
          <a:xfrm>
            <a:off x="7164360" y="4149720"/>
            <a:ext cx="432000" cy="0"/>
          </a:xfrm>
          <a:prstGeom prst="line">
            <a:avLst/>
          </a:prstGeom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89"/>
          <p:cNvSpPr/>
          <p:nvPr/>
        </p:nvSpPr>
        <p:spPr>
          <a:xfrm>
            <a:off x="7596360" y="4149720"/>
            <a:ext cx="0" cy="142920"/>
          </a:xfrm>
          <a:prstGeom prst="line">
            <a:avLst/>
          </a:prstGeom>
          <a:ln w="316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87138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 algn="just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очитайте вслух третью пословицу. Какой смысл – отрицательный или утвердительный – вносит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в стоящее после нее существительное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3. (Не)пером пишут, а умом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24000" y="3789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носит отрицательный смыс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324000" y="4437000"/>
            <a:ext cx="85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отрицательный смысл, то она является отрицательной частицей и пишется с существительными раздельно. В предложении с отрицательной частице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ь скрытое или явное (с союзом а) противопоста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-360" y="1771560"/>
            <a:ext cx="88930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 algn="just">
              <a:spcBef>
                <a:spcPts val="79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Century Gothic"/>
              </a:rPr>
              <a:t>Кратко этот вывод можно изобразить следующим образо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2d2d2"/>
                </a:solidFill>
                <a:latin typeface="Century Gothic"/>
              </a:rPr>
              <a:t>  </a:t>
            </a:r>
            <a:r>
              <a:rPr b="0" lang="ru-RU" sz="5400" spc="-1" strike="noStrike">
                <a:solidFill>
                  <a:srgbClr val="d2d2d2"/>
                </a:solidFill>
                <a:latin typeface="Century Gothic"/>
              </a:rPr>
              <a:t>Не  пером пишут, а умом.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Oval 7"/>
          <p:cNvSpPr/>
          <p:nvPr/>
        </p:nvSpPr>
        <p:spPr>
          <a:xfrm>
            <a:off x="6084720" y="4437000"/>
            <a:ext cx="719280" cy="720720"/>
          </a:xfrm>
          <a:prstGeom prst="ellipse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1403280" y="4365720"/>
            <a:ext cx="0" cy="792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1547640" y="4365720"/>
            <a:ext cx="0" cy="792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87138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 algn="just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очитайте вслух четвертую пословицу. Какое слово стоит перед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4. Свой своему вовсе (не)брат. </a:t>
            </a:r>
            <a:r>
              <a:rPr b="0" lang="ru-RU" sz="2400" spc="-1" strike="noStrike">
                <a:solidFill>
                  <a:srgbClr val="d2d2d2"/>
                </a:solidFill>
                <a:latin typeface="Century Gothic"/>
              </a:rPr>
              <a:t>(</a:t>
            </a:r>
            <a:r>
              <a:rPr b="0" i="1" lang="ru-RU" sz="2400" spc="-1" strike="noStrike">
                <a:solidFill>
                  <a:srgbClr val="d2d2d2"/>
                </a:solidFill>
                <a:latin typeface="Century Gothic"/>
              </a:rPr>
              <a:t>современная пословица</a:t>
            </a:r>
            <a:r>
              <a:rPr b="0" lang="ru-RU" sz="2400" spc="-1" strike="noStrike">
                <a:solidFill>
                  <a:srgbClr val="d2d2d2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24000" y="3789360"/>
            <a:ext cx="856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2d2d2"/>
                </a:solidFill>
                <a:latin typeface="Arial"/>
              </a:rPr>
              <a:t>Вовсе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Это, так называемое слово-«магнит», которое как бы притягивает частицу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к себе. Таких слов в русском языке нескольк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395280" y="51577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d2d2"/>
                </a:solidFill>
                <a:latin typeface="Arial"/>
              </a:rPr>
              <a:t>вовсе не, ничуть не, отнюдь не, нисколько не, совсем не, далеко не</a:t>
            </a: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2d2d2"/>
                </a:solidFill>
                <a:latin typeface="Century Gothic"/>
              </a:rPr>
              <a:t>Свой своему вовсе не   брат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Прямая соединительная линия 7"/>
          <p:cNvSpPr/>
          <p:nvPr/>
        </p:nvSpPr>
        <p:spPr>
          <a:xfrm>
            <a:off x="4929120" y="3786120"/>
            <a:ext cx="207180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"/>
          <p:cNvGrpSpPr/>
          <p:nvPr/>
        </p:nvGrpSpPr>
        <p:grpSpPr>
          <a:xfrm>
            <a:off x="6804000" y="2781360"/>
            <a:ext cx="2339280" cy="2278440"/>
            <a:chOff x="6804000" y="2781360"/>
            <a:chExt cx="2339280" cy="2278440"/>
          </a:xfrm>
        </p:grpSpPr>
        <p:pic>
          <p:nvPicPr>
            <p:cNvPr id="620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811920" y="2788200"/>
              <a:ext cx="2331360" cy="214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1" name="Oval 5"/>
            <p:cNvGrpSpPr/>
            <p:nvPr/>
          </p:nvGrpSpPr>
          <p:grpSpPr>
            <a:xfrm>
              <a:off x="6804000" y="2781360"/>
              <a:ext cx="2326680" cy="2160000"/>
              <a:chOff x="6804000" y="2781360"/>
              <a:chExt cx="2326680" cy="2160000"/>
            </a:xfrm>
          </p:grpSpPr>
          <p:pic>
            <p:nvPicPr>
              <p:cNvPr id="622" name="Oval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804000" y="2781360"/>
                <a:ext cx="2326680" cy="21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7149960" y="3102840"/>
                <a:ext cx="1638000" cy="15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Freeform 6"/>
            <p:cNvSpPr/>
            <p:nvPr/>
          </p:nvSpPr>
          <p:spPr>
            <a:xfrm>
              <a:off x="7052760" y="2832120"/>
              <a:ext cx="1819080" cy="74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" name="Group 7"/>
            <p:cNvGrpSpPr/>
            <p:nvPr/>
          </p:nvGrpSpPr>
          <p:grpSpPr>
            <a:xfrm>
              <a:off x="6982560" y="4249800"/>
              <a:ext cx="2035080" cy="810000"/>
              <a:chOff x="6982560" y="4249800"/>
              <a:chExt cx="2035080" cy="810000"/>
            </a:xfrm>
          </p:grpSpPr>
          <p:grpSp>
            <p:nvGrpSpPr>
              <p:cNvPr id="626" name="Group 8"/>
              <p:cNvGrpSpPr/>
              <p:nvPr/>
            </p:nvGrpSpPr>
            <p:grpSpPr>
              <a:xfrm>
                <a:off x="7333920" y="4249800"/>
                <a:ext cx="1683720" cy="750600"/>
                <a:chOff x="7333920" y="4249800"/>
                <a:chExt cx="1683720" cy="750600"/>
              </a:xfrm>
            </p:grpSpPr>
            <p:sp>
              <p:nvSpPr>
                <p:cNvPr id="627" name="AutoShape 9"/>
                <p:cNvSpPr/>
                <p:nvPr/>
              </p:nvSpPr>
              <p:spPr>
                <a:xfrm flipH="1" flipV="1" rot="3964800">
                  <a:off x="8261280" y="4011120"/>
                  <a:ext cx="277200" cy="122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10"/>
                <p:cNvSpPr/>
                <p:nvPr/>
              </p:nvSpPr>
              <p:spPr>
                <a:xfrm flipH="1" flipV="1" rot="4780200">
                  <a:off x="8071920" y="4086720"/>
                  <a:ext cx="277200" cy="122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11"/>
                <p:cNvSpPr/>
                <p:nvPr/>
              </p:nvSpPr>
              <p:spPr>
                <a:xfrm flipH="1" flipV="1" rot="5076000">
                  <a:off x="7954920" y="4104000"/>
                  <a:ext cx="2772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12"/>
                <p:cNvSpPr/>
                <p:nvPr/>
              </p:nvSpPr>
              <p:spPr>
                <a:xfrm flipH="1" flipV="1" rot="5608200">
                  <a:off x="7815600" y="4119840"/>
                  <a:ext cx="2772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13"/>
              <p:cNvGrpSpPr/>
              <p:nvPr/>
            </p:nvGrpSpPr>
            <p:grpSpPr>
              <a:xfrm>
                <a:off x="6982560" y="4270680"/>
                <a:ext cx="1681200" cy="789120"/>
                <a:chOff x="6982560" y="4270680"/>
                <a:chExt cx="1681200" cy="789120"/>
              </a:xfrm>
            </p:grpSpPr>
            <p:sp>
              <p:nvSpPr>
                <p:cNvPr id="632" name="AutoShape 14"/>
                <p:cNvSpPr/>
                <p:nvPr/>
              </p:nvSpPr>
              <p:spPr>
                <a:xfrm flipH="1" flipV="1" rot="5317800">
                  <a:off x="7907400" y="4122360"/>
                  <a:ext cx="279000" cy="122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15"/>
                <p:cNvSpPr/>
                <p:nvPr/>
              </p:nvSpPr>
              <p:spPr>
                <a:xfrm flipH="1" flipV="1" rot="6133800">
                  <a:off x="7703640" y="4119480"/>
                  <a:ext cx="27900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16"/>
                <p:cNvSpPr/>
                <p:nvPr/>
              </p:nvSpPr>
              <p:spPr>
                <a:xfrm flipH="1" flipV="1" rot="6429000">
                  <a:off x="7589520" y="4090680"/>
                  <a:ext cx="27936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17"/>
                <p:cNvSpPr/>
                <p:nvPr/>
              </p:nvSpPr>
              <p:spPr>
                <a:xfrm flipH="1" flipV="1" rot="6961200">
                  <a:off x="7454520" y="4051080"/>
                  <a:ext cx="27900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6" name="Group 18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637" name="Freeform 19"/>
            <p:cNvSpPr/>
            <p:nvPr/>
          </p:nvSpPr>
          <p:spPr>
            <a:xfrm rot="16200000">
              <a:off x="5429160" y="4474080"/>
              <a:ext cx="1820880" cy="12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 rot="16200000">
              <a:off x="6243120" y="3284640"/>
              <a:ext cx="351360" cy="1420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21"/>
            <p:cNvSpPr/>
            <p:nvPr/>
          </p:nvSpPr>
          <p:spPr>
            <a:xfrm flipH="1" rot="16200000">
              <a:off x="5439600" y="2251800"/>
              <a:ext cx="1820520" cy="12517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Group 22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641" name="Oval 23"/>
            <p:cNvSpPr/>
            <p:nvPr/>
          </p:nvSpPr>
          <p:spPr>
            <a:xfrm>
              <a:off x="2703600" y="3843360"/>
              <a:ext cx="395640" cy="398520"/>
            </a:xfrm>
            <a:prstGeom prst="ellipse">
              <a:avLst/>
            </a:prstGeom>
            <a:gradFill rotWithShape="0">
              <a:gsLst>
                <a:gs pos="0">
                  <a:srgbClr val="a95081"/>
                </a:gs>
                <a:gs pos="50000">
                  <a:srgbClr val="ff79c2"/>
                </a:gs>
                <a:gs pos="100000">
                  <a:srgbClr val="a95081"/>
                </a:gs>
              </a:gsLst>
              <a:lin ang="27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2" name="Group 24"/>
            <p:cNvGrpSpPr/>
            <p:nvPr/>
          </p:nvGrpSpPr>
          <p:grpSpPr>
            <a:xfrm>
              <a:off x="2680560" y="4042800"/>
              <a:ext cx="334800" cy="217080"/>
              <a:chOff x="2680560" y="4042800"/>
              <a:chExt cx="334800" cy="217080"/>
            </a:xfrm>
          </p:grpSpPr>
          <p:grpSp>
            <p:nvGrpSpPr>
              <p:cNvPr id="643" name="Group 25"/>
              <p:cNvGrpSpPr/>
              <p:nvPr/>
            </p:nvGrpSpPr>
            <p:grpSpPr>
              <a:xfrm>
                <a:off x="2680560" y="4042800"/>
                <a:ext cx="334800" cy="217080"/>
                <a:chOff x="2680560" y="4042800"/>
                <a:chExt cx="334800" cy="217080"/>
              </a:xfrm>
            </p:grpSpPr>
            <p:grpSp>
              <p:nvGrpSpPr>
                <p:cNvPr id="644" name="Group 26"/>
                <p:cNvGrpSpPr/>
                <p:nvPr/>
              </p:nvGrpSpPr>
              <p:grpSpPr>
                <a:xfrm>
                  <a:off x="2716560" y="4108320"/>
                  <a:ext cx="298800" cy="148680"/>
                  <a:chOff x="2716560" y="4108320"/>
                  <a:chExt cx="298800" cy="148680"/>
                </a:xfrm>
              </p:grpSpPr>
              <p:sp>
                <p:nvSpPr>
                  <p:cNvPr id="645" name="AutoShape 27"/>
                  <p:cNvSpPr/>
                  <p:nvPr/>
                </p:nvSpPr>
                <p:spPr>
                  <a:xfrm flipH="1" flipV="1" rot="5374200">
                    <a:off x="2878200" y="40878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utoShape 28"/>
                  <p:cNvSpPr/>
                  <p:nvPr/>
                </p:nvSpPr>
                <p:spPr>
                  <a:xfrm flipH="1" flipV="1" rot="6189600">
                    <a:off x="2841840" y="40878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utoShape 29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utoShape 30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Group 31"/>
                <p:cNvGrpSpPr/>
                <p:nvPr/>
              </p:nvGrpSpPr>
              <p:grpSpPr>
                <a:xfrm>
                  <a:off x="2680560" y="4042800"/>
                  <a:ext cx="271800" cy="217080"/>
                  <a:chOff x="2680560" y="4042800"/>
                  <a:chExt cx="271800" cy="217080"/>
                </a:xfrm>
              </p:grpSpPr>
              <p:sp>
                <p:nvSpPr>
                  <p:cNvPr id="650" name="AutoShape 32"/>
                  <p:cNvSpPr/>
                  <p:nvPr/>
                </p:nvSpPr>
                <p:spPr>
                  <a:xfrm flipH="1" flipV="1" rot="6727200">
                    <a:off x="2812320" y="4079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AutoShape 33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AutoShape 34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utoShape 35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4" name="Group 36"/>
              <p:cNvGrpSpPr/>
              <p:nvPr/>
            </p:nvGrpSpPr>
            <p:grpSpPr>
              <a:xfrm>
                <a:off x="2707200" y="4064760"/>
                <a:ext cx="274320" cy="177840"/>
                <a:chOff x="2707200" y="4064760"/>
                <a:chExt cx="274320" cy="177840"/>
              </a:xfrm>
            </p:grpSpPr>
            <p:grpSp>
              <p:nvGrpSpPr>
                <p:cNvPr id="655" name="Group 37"/>
                <p:cNvGrpSpPr/>
                <p:nvPr/>
              </p:nvGrpSpPr>
              <p:grpSpPr>
                <a:xfrm>
                  <a:off x="2737080" y="4118400"/>
                  <a:ext cx="244440" cy="121320"/>
                  <a:chOff x="2737080" y="4118400"/>
                  <a:chExt cx="244440" cy="121320"/>
                </a:xfrm>
              </p:grpSpPr>
              <p:sp>
                <p:nvSpPr>
                  <p:cNvPr id="656" name="AutoShape 38"/>
                  <p:cNvSpPr/>
                  <p:nvPr/>
                </p:nvSpPr>
                <p:spPr>
                  <a:xfrm flipH="1" flipV="1" rot="5374200">
                    <a:off x="2869200" y="41025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AutoShape 39"/>
                  <p:cNvSpPr/>
                  <p:nvPr/>
                </p:nvSpPr>
                <p:spPr>
                  <a:xfrm flipH="1" flipV="1" rot="6189600">
                    <a:off x="2838960" y="41007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AutoShape 40"/>
                  <p:cNvSpPr/>
                  <p:nvPr/>
                </p:nvSpPr>
                <p:spPr>
                  <a:xfrm flipH="1" flipV="1" rot="6485400">
                    <a:off x="2823120" y="409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AutoShape 41"/>
                  <p:cNvSpPr/>
                  <p:nvPr/>
                </p:nvSpPr>
                <p:spPr>
                  <a:xfrm flipH="1" flipV="1" rot="7017600">
                    <a:off x="2803680" y="408924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Group 42"/>
                <p:cNvGrpSpPr/>
                <p:nvPr/>
              </p:nvGrpSpPr>
              <p:grpSpPr>
                <a:xfrm>
                  <a:off x="2707200" y="4064760"/>
                  <a:ext cx="222480" cy="177840"/>
                  <a:chOff x="2707200" y="4064760"/>
                  <a:chExt cx="222480" cy="177840"/>
                </a:xfrm>
              </p:grpSpPr>
              <p:sp>
                <p:nvSpPr>
                  <p:cNvPr id="661" name="AutoShape 43"/>
                  <p:cNvSpPr/>
                  <p:nvPr/>
                </p:nvSpPr>
                <p:spPr>
                  <a:xfrm flipH="1" flipV="1" rot="6727200">
                    <a:off x="281484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AutoShape 44"/>
                  <p:cNvSpPr/>
                  <p:nvPr/>
                </p:nvSpPr>
                <p:spPr>
                  <a:xfrm flipH="1" flipV="1" rot="7542600">
                    <a:off x="278820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utoShape 45"/>
                  <p:cNvSpPr/>
                  <p:nvPr/>
                </p:nvSpPr>
                <p:spPr>
                  <a:xfrm flipH="1" flipV="1" rot="7838400">
                    <a:off x="277488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utoShape 46"/>
                  <p:cNvSpPr/>
                  <p:nvPr/>
                </p:nvSpPr>
                <p:spPr>
                  <a:xfrm flipH="1" flipV="1" rot="8370600">
                    <a:off x="275904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Group 47"/>
            <p:cNvGrpSpPr/>
            <p:nvPr/>
          </p:nvGrpSpPr>
          <p:grpSpPr>
            <a:xfrm>
              <a:off x="2824200" y="3828960"/>
              <a:ext cx="308520" cy="252360"/>
              <a:chOff x="2824200" y="3828960"/>
              <a:chExt cx="308520" cy="252360"/>
            </a:xfrm>
          </p:grpSpPr>
          <p:grpSp>
            <p:nvGrpSpPr>
              <p:cNvPr id="666" name="Group 48"/>
              <p:cNvGrpSpPr/>
              <p:nvPr/>
            </p:nvGrpSpPr>
            <p:grpSpPr>
              <a:xfrm>
                <a:off x="2824200" y="3828960"/>
                <a:ext cx="308520" cy="252360"/>
                <a:chOff x="2824200" y="3828960"/>
                <a:chExt cx="308520" cy="252360"/>
              </a:xfrm>
            </p:grpSpPr>
            <p:grpSp>
              <p:nvGrpSpPr>
                <p:cNvPr id="667" name="Group 49"/>
                <p:cNvGrpSpPr/>
                <p:nvPr/>
              </p:nvGrpSpPr>
              <p:grpSpPr>
                <a:xfrm>
                  <a:off x="2824200" y="3828960"/>
                  <a:ext cx="289800" cy="183960"/>
                  <a:chOff x="2824200" y="3828960"/>
                  <a:chExt cx="289800" cy="183960"/>
                </a:xfrm>
              </p:grpSpPr>
              <p:sp>
                <p:nvSpPr>
                  <p:cNvPr id="668" name="AutoShape 50"/>
                  <p:cNvSpPr/>
                  <p:nvPr/>
                </p:nvSpPr>
                <p:spPr>
                  <a:xfrm flipH="1" flipV="1" rot="16891800">
                    <a:off x="2908080" y="378252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AutoShape 51"/>
                  <p:cNvSpPr/>
                  <p:nvPr/>
                </p:nvSpPr>
                <p:spPr>
                  <a:xfrm flipH="1" flipV="1" rot="17707200">
                    <a:off x="2943000" y="3791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AutoShape 52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AutoShape 53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" name="Group 54"/>
                <p:cNvGrpSpPr/>
                <p:nvPr/>
              </p:nvGrpSpPr>
              <p:grpSpPr>
                <a:xfrm>
                  <a:off x="2892240" y="3830040"/>
                  <a:ext cx="240480" cy="251280"/>
                  <a:chOff x="2892240" y="3830040"/>
                  <a:chExt cx="240480" cy="251280"/>
                </a:xfrm>
              </p:grpSpPr>
              <p:sp>
                <p:nvSpPr>
                  <p:cNvPr id="673" name="AutoShape 55"/>
                  <p:cNvSpPr/>
                  <p:nvPr/>
                </p:nvSpPr>
                <p:spPr>
                  <a:xfrm flipH="1" flipV="1" rot="18244800">
                    <a:off x="2970000" y="380412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AutoShape 56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AutoShape 57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AutoShape 58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7" name="Group 59"/>
              <p:cNvGrpSpPr/>
              <p:nvPr/>
            </p:nvGrpSpPr>
            <p:grpSpPr>
              <a:xfrm>
                <a:off x="2857320" y="3849120"/>
                <a:ext cx="252360" cy="206280"/>
                <a:chOff x="2857320" y="3849120"/>
                <a:chExt cx="252360" cy="206280"/>
              </a:xfrm>
            </p:grpSpPr>
            <p:grpSp>
              <p:nvGrpSpPr>
                <p:cNvPr id="678" name="Group 60"/>
                <p:cNvGrpSpPr/>
                <p:nvPr/>
              </p:nvGrpSpPr>
              <p:grpSpPr>
                <a:xfrm>
                  <a:off x="2857320" y="3849120"/>
                  <a:ext cx="236520" cy="150840"/>
                  <a:chOff x="2857320" y="3849120"/>
                  <a:chExt cx="236520" cy="150840"/>
                </a:xfrm>
              </p:grpSpPr>
              <p:sp>
                <p:nvSpPr>
                  <p:cNvPr id="679" name="AutoShape 61"/>
                  <p:cNvSpPr/>
                  <p:nvPr/>
                </p:nvSpPr>
                <p:spPr>
                  <a:xfrm flipH="1" flipV="1" rot="16891800">
                    <a:off x="2926440" y="38109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AutoShape 62"/>
                  <p:cNvSpPr/>
                  <p:nvPr/>
                </p:nvSpPr>
                <p:spPr>
                  <a:xfrm flipH="1" flipV="1" rot="17707200">
                    <a:off x="2954880" y="38181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AutoShape 63"/>
                  <p:cNvSpPr/>
                  <p:nvPr/>
                </p:nvSpPr>
                <p:spPr>
                  <a:xfrm flipH="1" flipV="1" rot="18003000">
                    <a:off x="2969640" y="382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AutoShape 64"/>
                  <p:cNvSpPr/>
                  <p:nvPr/>
                </p:nvSpPr>
                <p:spPr>
                  <a:xfrm flipH="1" flipV="1" rot="18535200">
                    <a:off x="2986560" y="38368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Group 65"/>
                <p:cNvGrpSpPr/>
                <p:nvPr/>
              </p:nvGrpSpPr>
              <p:grpSpPr>
                <a:xfrm>
                  <a:off x="2913480" y="3849480"/>
                  <a:ext cx="196200" cy="205920"/>
                  <a:chOff x="2913480" y="3849480"/>
                  <a:chExt cx="196200" cy="205920"/>
                </a:xfrm>
              </p:grpSpPr>
              <p:sp>
                <p:nvSpPr>
                  <p:cNvPr id="684" name="AutoShape 66"/>
                  <p:cNvSpPr/>
                  <p:nvPr/>
                </p:nvSpPr>
                <p:spPr>
                  <a:xfrm flipH="1" flipV="1" rot="18244800">
                    <a:off x="297648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AutoShape 67"/>
                  <p:cNvSpPr/>
                  <p:nvPr/>
                </p:nvSpPr>
                <p:spPr>
                  <a:xfrm flipH="1" flipV="1" rot="19060800">
                    <a:off x="300024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AutoShape 68"/>
                  <p:cNvSpPr/>
                  <p:nvPr/>
                </p:nvSpPr>
                <p:spPr>
                  <a:xfrm flipH="1" flipV="1" rot="19356000">
                    <a:off x="301104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AutoShape 69"/>
                  <p:cNvSpPr/>
                  <p:nvPr/>
                </p:nvSpPr>
                <p:spPr>
                  <a:xfrm flipH="1" flipV="1" rot="19888200">
                    <a:off x="302328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688" name="AutoShape 70"/>
          <p:cNvCxnSpPr>
            <a:stCxn id="641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9" name="AutoShape 71"/>
          <p:cNvCxnSpPr>
            <a:stCxn id="641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690" name="Group 72"/>
          <p:cNvGrpSpPr/>
          <p:nvPr/>
        </p:nvGrpSpPr>
        <p:grpSpPr>
          <a:xfrm>
            <a:off x="3132000" y="1844640"/>
            <a:ext cx="2688840" cy="1944360"/>
            <a:chOff x="3132000" y="1844640"/>
            <a:chExt cx="2688840" cy="1944360"/>
          </a:xfrm>
        </p:grpSpPr>
        <p:sp>
          <p:nvSpPr>
            <p:cNvPr id="691" name="AutoShape 73"/>
            <p:cNvSpPr/>
            <p:nvPr/>
          </p:nvSpPr>
          <p:spPr>
            <a:xfrm>
              <a:off x="3132000" y="1844640"/>
              <a:ext cx="2688840" cy="1944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40059"/>
                </a:gs>
                <a:gs pos="100000">
                  <a:srgbClr val="9f003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2" name="Picture 74" descr="Picture4"/>
            <p:cNvPicPr/>
            <p:nvPr/>
          </p:nvPicPr>
          <p:blipFill>
            <a:blip r:embed="rId4"/>
            <a:stretch/>
          </p:blipFill>
          <p:spPr>
            <a:xfrm>
              <a:off x="3180240" y="1902240"/>
              <a:ext cx="777240" cy="122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3" name="Group 75"/>
          <p:cNvGrpSpPr/>
          <p:nvPr/>
        </p:nvGrpSpPr>
        <p:grpSpPr>
          <a:xfrm>
            <a:off x="3132000" y="4005360"/>
            <a:ext cx="2695320" cy="2242440"/>
            <a:chOff x="3132000" y="4005360"/>
            <a:chExt cx="2695320" cy="2242440"/>
          </a:xfrm>
        </p:grpSpPr>
        <p:sp>
          <p:nvSpPr>
            <p:cNvPr id="694" name="AutoShape 76"/>
            <p:cNvSpPr/>
            <p:nvPr/>
          </p:nvSpPr>
          <p:spPr>
            <a:xfrm>
              <a:off x="3132000" y="4005360"/>
              <a:ext cx="2695320" cy="22424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7bbfd"/>
                </a:gs>
                <a:gs pos="100000">
                  <a:srgbClr val="1083b1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5" name="Picture 77" descr="Picture4"/>
            <p:cNvPicPr/>
            <p:nvPr/>
          </p:nvPicPr>
          <p:blipFill>
            <a:blip r:embed="rId5"/>
            <a:stretch/>
          </p:blipFill>
          <p:spPr>
            <a:xfrm>
              <a:off x="3172680" y="4065840"/>
              <a:ext cx="779040" cy="141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Rectangle 78"/>
          <p:cNvSpPr/>
          <p:nvPr/>
        </p:nvSpPr>
        <p:spPr>
          <a:xfrm>
            <a:off x="3203640" y="1916280"/>
            <a:ext cx="26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ли есть скрытое или явное противопоставление (с союзом 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79"/>
          <p:cNvSpPr/>
          <p:nvPr/>
        </p:nvSpPr>
        <p:spPr>
          <a:xfrm>
            <a:off x="3276720" y="422100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сли есть слова- «магнит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леко не, вовсе не, ничуть не, отнюдь не, нисколько не, совсем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80"/>
          <p:cNvSpPr/>
          <p:nvPr/>
        </p:nvSpPr>
        <p:spPr>
          <a:xfrm>
            <a:off x="152280" y="3267000"/>
            <a:ext cx="254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а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ществите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иш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дель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81"/>
          <p:cNvSpPr/>
          <p:nvPr/>
        </p:nvSpPr>
        <p:spPr>
          <a:xfrm>
            <a:off x="7113600" y="2916360"/>
            <a:ext cx="16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f75"/>
                </a:solidFill>
                <a:latin typeface="Arial Black"/>
                <a:ea typeface="Arial"/>
              </a:rPr>
              <a:t>Не пером, а ум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f4f66"/>
                </a:solidFill>
                <a:latin typeface="Arial Black"/>
                <a:ea typeface="Arial"/>
              </a:rPr>
              <a:t>Вовсе не </a:t>
            </a:r>
            <a:r>
              <a:rPr b="1" lang="ru-RU" sz="2200" spc="-1" strike="noStrike">
                <a:solidFill>
                  <a:srgbClr val="4f2b38"/>
                </a:solidFill>
                <a:latin typeface="Arial Black"/>
                <a:ea typeface="Arial"/>
              </a:rPr>
              <a:t>б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Oval 2"/>
          <p:cNvSpPr/>
          <p:nvPr/>
        </p:nvSpPr>
        <p:spPr>
          <a:xfrm>
            <a:off x="3389400" y="2878200"/>
            <a:ext cx="2211480" cy="2211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Oval 3"/>
          <p:cNvSpPr/>
          <p:nvPr/>
        </p:nvSpPr>
        <p:spPr>
          <a:xfrm>
            <a:off x="3679920" y="3160800"/>
            <a:ext cx="1623960" cy="162216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3668760" y="352728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Arial"/>
                <a:ea typeface="Arial"/>
              </a:rPr>
              <a:t>НЕ с существи-тель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5"/>
          <p:cNvSpPr/>
          <p:nvPr/>
        </p:nvSpPr>
        <p:spPr>
          <a:xfrm>
            <a:off x="5940360" y="4437000"/>
            <a:ext cx="2808360" cy="1944720"/>
          </a:xfrm>
          <a:prstGeom prst="ellipse">
            <a:avLst/>
          </a:prstGeom>
          <a:gradFill rotWithShape="0">
            <a:gsLst>
              <a:gs pos="0">
                <a:srgbClr val="e40059"/>
              </a:gs>
              <a:gs pos="100000">
                <a:srgbClr val="48001c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Oval 8"/>
          <p:cNvSpPr/>
          <p:nvPr/>
        </p:nvSpPr>
        <p:spPr>
          <a:xfrm>
            <a:off x="5867280" y="4365720"/>
            <a:ext cx="2978280" cy="211932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Oval 9"/>
          <p:cNvSpPr/>
          <p:nvPr/>
        </p:nvSpPr>
        <p:spPr>
          <a:xfrm>
            <a:off x="3246480" y="2738520"/>
            <a:ext cx="2481120" cy="248292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 flipV="1">
            <a:off x="2992320" y="4704840"/>
            <a:ext cx="487440" cy="304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 flipV="1">
            <a:off x="2908440" y="4554000"/>
            <a:ext cx="485640" cy="304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12"/>
          <p:cNvSpPr/>
          <p:nvPr/>
        </p:nvSpPr>
        <p:spPr>
          <a:xfrm flipV="1">
            <a:off x="5559480" y="3065040"/>
            <a:ext cx="487440" cy="304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13"/>
          <p:cNvSpPr/>
          <p:nvPr/>
        </p:nvSpPr>
        <p:spPr>
          <a:xfrm flipV="1">
            <a:off x="5473800" y="2914200"/>
            <a:ext cx="488880" cy="304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Oval 14"/>
          <p:cNvSpPr/>
          <p:nvPr/>
        </p:nvSpPr>
        <p:spPr>
          <a:xfrm>
            <a:off x="539640" y="4581360"/>
            <a:ext cx="2592360" cy="1800360"/>
          </a:xfrm>
          <a:prstGeom prst="ellipse">
            <a:avLst/>
          </a:prstGeom>
          <a:gradFill rotWithShape="0">
            <a:gsLst>
              <a:gs pos="0">
                <a:srgbClr val="17bbfd"/>
              </a:gs>
              <a:gs pos="100000">
                <a:srgbClr val="073b5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15" descr="cir_lighteffect0"/>
          <p:cNvPicPr/>
          <p:nvPr/>
        </p:nvPicPr>
        <p:blipFill>
          <a:blip r:embed="rId1"/>
          <a:stretch/>
        </p:blipFill>
        <p:spPr>
          <a:xfrm>
            <a:off x="250920" y="4292640"/>
            <a:ext cx="3097080" cy="2305080"/>
          </a:xfrm>
          <a:prstGeom prst="rect">
            <a:avLst/>
          </a:prstGeom>
          <a:ln w="0">
            <a:noFill/>
          </a:ln>
        </p:spPr>
      </p:pic>
      <p:sp>
        <p:nvSpPr>
          <p:cNvPr id="712" name="Oval 17"/>
          <p:cNvSpPr/>
          <p:nvPr/>
        </p:nvSpPr>
        <p:spPr>
          <a:xfrm>
            <a:off x="468360" y="4437000"/>
            <a:ext cx="2738520" cy="208764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Oval 18"/>
          <p:cNvSpPr/>
          <p:nvPr/>
        </p:nvSpPr>
        <p:spPr>
          <a:xfrm>
            <a:off x="468360" y="1700280"/>
            <a:ext cx="2374920" cy="1728720"/>
          </a:xfrm>
          <a:prstGeom prst="ellipse">
            <a:avLst/>
          </a:prstGeom>
          <a:gradFill rotWithShape="0">
            <a:gsLst>
              <a:gs pos="0">
                <a:srgbClr val="ff79c2"/>
              </a:gs>
              <a:gs pos="100000">
                <a:srgbClr val="76385a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Picture 19" descr="cir_lighteffect0"/>
          <p:cNvPicPr/>
          <p:nvPr/>
        </p:nvPicPr>
        <p:blipFill>
          <a:blip r:embed="rId2"/>
          <a:stretch/>
        </p:blipFill>
        <p:spPr>
          <a:xfrm>
            <a:off x="250920" y="1484280"/>
            <a:ext cx="2808360" cy="1873440"/>
          </a:xfrm>
          <a:prstGeom prst="rect">
            <a:avLst/>
          </a:prstGeom>
          <a:ln w="0">
            <a:noFill/>
          </a:ln>
        </p:spPr>
      </p:pic>
      <p:sp>
        <p:nvSpPr>
          <p:cNvPr id="715" name="Oval 21"/>
          <p:cNvSpPr/>
          <p:nvPr/>
        </p:nvSpPr>
        <p:spPr>
          <a:xfrm>
            <a:off x="324000" y="1557360"/>
            <a:ext cx="2657160" cy="201600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2"/>
          <p:cNvSpPr/>
          <p:nvPr/>
        </p:nvSpPr>
        <p:spPr>
          <a:xfrm>
            <a:off x="2879640" y="2957400"/>
            <a:ext cx="561960" cy="34308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3"/>
          <p:cNvSpPr/>
          <p:nvPr/>
        </p:nvSpPr>
        <p:spPr>
          <a:xfrm>
            <a:off x="2793960" y="3102120"/>
            <a:ext cx="563760" cy="3427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Oval 24"/>
          <p:cNvSpPr/>
          <p:nvPr/>
        </p:nvSpPr>
        <p:spPr>
          <a:xfrm>
            <a:off x="5965920" y="1628640"/>
            <a:ext cx="2709720" cy="1871640"/>
          </a:xfrm>
          <a:prstGeom prst="ellipse">
            <a:avLst/>
          </a:prstGeom>
          <a:gradFill rotWithShape="0">
            <a:gsLst>
              <a:gs pos="0">
                <a:srgbClr val="ff388c"/>
              </a:gs>
              <a:gs pos="100000">
                <a:srgbClr val="51122c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25" descr="cir_lighteffect0"/>
          <p:cNvPicPr/>
          <p:nvPr/>
        </p:nvPicPr>
        <p:blipFill>
          <a:blip r:embed="rId3"/>
          <a:stretch/>
        </p:blipFill>
        <p:spPr>
          <a:xfrm>
            <a:off x="5651640" y="1341360"/>
            <a:ext cx="3240000" cy="2303640"/>
          </a:xfrm>
          <a:prstGeom prst="rect">
            <a:avLst/>
          </a:prstGeom>
          <a:ln w="0">
            <a:noFill/>
          </a:ln>
        </p:spPr>
      </p:pic>
      <p:sp>
        <p:nvSpPr>
          <p:cNvPr id="720" name="Oval 27"/>
          <p:cNvSpPr/>
          <p:nvPr/>
        </p:nvSpPr>
        <p:spPr>
          <a:xfrm>
            <a:off x="5862600" y="1484280"/>
            <a:ext cx="2957400" cy="216072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Line 28"/>
          <p:cNvSpPr/>
          <p:nvPr/>
        </p:nvSpPr>
        <p:spPr>
          <a:xfrm>
            <a:off x="5643720" y="4419720"/>
            <a:ext cx="561960" cy="3427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9"/>
          <p:cNvSpPr/>
          <p:nvPr/>
        </p:nvSpPr>
        <p:spPr>
          <a:xfrm>
            <a:off x="5557680" y="4564080"/>
            <a:ext cx="563760" cy="3445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30"/>
          <p:cNvSpPr/>
          <p:nvPr/>
        </p:nvSpPr>
        <p:spPr>
          <a:xfrm>
            <a:off x="3564000" y="13413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ит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33"/>
          <p:cNvSpPr/>
          <p:nvPr/>
        </p:nvSpPr>
        <p:spPr>
          <a:xfrm>
            <a:off x="3635280" y="623736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дель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Rectangle 34" descr=""/>
          <p:cNvPicPr/>
          <p:nvPr/>
        </p:nvPicPr>
        <p:blipFill>
          <a:blip r:embed="rId4"/>
          <a:stretch/>
        </p:blipFill>
        <p:spPr>
          <a:xfrm>
            <a:off x="136512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35"/>
          <p:cNvSpPr/>
          <p:nvPr/>
        </p:nvSpPr>
        <p:spPr>
          <a:xfrm>
            <a:off x="611280" y="2205000"/>
            <a:ext cx="216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  <a:ea typeface="Arial"/>
              </a:rPr>
              <a:t>Без </a:t>
            </a:r>
            <a:r>
              <a:rPr b="1" i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не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  <a:ea typeface="Arial"/>
              </a:rPr>
              <a:t> не употребл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6"/>
          <p:cNvSpPr/>
          <p:nvPr/>
        </p:nvSpPr>
        <p:spPr>
          <a:xfrm flipH="1">
            <a:off x="2771640" y="162864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40"/>
          <p:cNvSpPr/>
          <p:nvPr/>
        </p:nvSpPr>
        <p:spPr>
          <a:xfrm>
            <a:off x="5867280" y="2060640"/>
            <a:ext cx="2952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8f8f8"/>
                </a:solidFill>
                <a:latin typeface="Arial"/>
                <a:ea typeface="Arial"/>
              </a:rPr>
              <a:t>Можно заменить синонимом без не или близким по значению выра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Line 42"/>
          <p:cNvSpPr/>
          <p:nvPr/>
        </p:nvSpPr>
        <p:spPr>
          <a:xfrm>
            <a:off x="4859280" y="162864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43"/>
          <p:cNvSpPr/>
          <p:nvPr/>
        </p:nvSpPr>
        <p:spPr>
          <a:xfrm>
            <a:off x="395280" y="4941720"/>
            <a:ext cx="2881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скрытое или явное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ротивопоставл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союзом 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Line 44"/>
          <p:cNvSpPr/>
          <p:nvPr/>
        </p:nvSpPr>
        <p:spPr>
          <a:xfrm flipH="1" flipV="1">
            <a:off x="3058920" y="6092640"/>
            <a:ext cx="934920" cy="50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45"/>
          <p:cNvSpPr/>
          <p:nvPr/>
        </p:nvSpPr>
        <p:spPr>
          <a:xfrm>
            <a:off x="6227640" y="450864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ко н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все н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уть н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юдь не, нисколько не, совсем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Line 46"/>
          <p:cNvSpPr/>
          <p:nvPr/>
        </p:nvSpPr>
        <p:spPr>
          <a:xfrm flipV="1">
            <a:off x="5076720" y="6093000"/>
            <a:ext cx="100800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950760" y="109440"/>
            <a:ext cx="7785360" cy="8240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5760" y="1771560"/>
            <a:ext cx="83642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1. В…сеннее (не)настье – семь п…год на дв…р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2. (Не)было бы счастья, да (не)счастье пом…гл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3. (Не)пером пишут, а умо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4. Свой своему вовсе (не)брат. </a:t>
            </a:r>
            <a:r>
              <a:rPr b="0" lang="ru-RU" sz="2000" spc="-1" strike="noStrike">
                <a:solidFill>
                  <a:srgbClr val="d2d2d2"/>
                </a:solidFill>
                <a:latin typeface="Century Gothic"/>
              </a:rPr>
              <a:t>(</a:t>
            </a:r>
            <a:r>
              <a:rPr b="0" i="1" lang="ru-RU" sz="2000" spc="-1" strike="noStrike">
                <a:solidFill>
                  <a:srgbClr val="d2d2d2"/>
                </a:solidFill>
                <a:latin typeface="Century Gothic"/>
              </a:rPr>
              <a:t>современная пословица</a:t>
            </a:r>
            <a:r>
              <a:rPr b="0" lang="ru-RU" sz="2000" spc="-1" strike="noStrike">
                <a:solidFill>
                  <a:srgbClr val="d2d2d2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читайте пословицы, скажите, как вы понимаете их смыс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сскажите о написании слов с пропущенными буквами, сгруппировав их по орфограмма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скройте скобки перед словами той части речи, написание которой с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вам знаком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857160" y="1428840"/>
          <a:ext cx="8072640" cy="5608440"/>
        </p:xfrm>
        <a:graphic>
          <a:graphicData uri="http://schemas.openxmlformats.org/drawingml/2006/table">
            <a:tbl>
              <a:tblPr/>
              <a:tblGrid>
                <a:gridCol w="4035600"/>
                <a:gridCol w="4037040"/>
              </a:tblGrid>
              <a:tr h="56106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обывал я однажды в стран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Где исчезла частица 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осмотрел я вокруг с доуменьем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Что за лепое положение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Но кругом было тихо-тихо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кругом была разбериха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на взрачной клумбе у буд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Голубые цвели забуд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погода стояла нас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гуляла собака счас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, виляя хвостом уклюже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робегала пролазные луж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Мне навстречу без всякого стра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Шел умытый, причесанный рях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А за ряхой по травке свеж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Шли суразный дотепа и веж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И навстречу всем утром ра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Улыбалась Царевна Смея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Очень жаль, что только во с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Есть страна без частицы 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Rectangle 2"/>
          <p:cNvSpPr/>
          <p:nvPr/>
        </p:nvSpPr>
        <p:spPr>
          <a:xfrm>
            <a:off x="0" y="174960"/>
            <a:ext cx="9144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Прослушайте стихотворение Б. Заходера о таких словах. Обратите внимание, что в стихотворении допущена одна неточность. Постарайтесь ее най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4680" y="47520"/>
            <a:ext cx="78408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ее най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1"/>
          <p:cNvSpPr/>
          <p:nvPr/>
        </p:nvSpPr>
        <p:spPr>
          <a:xfrm>
            <a:off x="0" y="7560"/>
            <a:ext cx="9144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Выпишите словосочетание или предложение, которое относится к вашему зада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1 ряд –заменяется синоним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2 ряд – не употребля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3 ряд – имеет  противопост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99"/>
                </a:solidFill>
                <a:latin typeface="Century Gothic"/>
              </a:rPr>
              <a:t>На (не)счастье себе; тень (не)доумения; (не)погода задержала, а дела; (не) годы, а болезнь состарила; говорить (не)правду; завидует (не)друг; друг (не)ряха; (не)брежность в одежде; (не)работа сушит, а забот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.  (Не)место красит человека, 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2.  (Не)правдой ………….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3.  Дружба крепка (не) лестью, ……………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4.  Умный человек с одного слова поймет, …….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5.  (Не)друг поддакивает, ……………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Заголовок 1" descr=""/>
          <p:cNvPicPr/>
          <p:nvPr/>
        </p:nvPicPr>
        <p:blipFill>
          <a:blip r:embed="rId1"/>
          <a:stretch/>
        </p:blipFill>
        <p:spPr>
          <a:xfrm>
            <a:off x="950760" y="-85680"/>
            <a:ext cx="7785360" cy="1238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1.  Не место красит человека, а человек мест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.  Неправдой не проживешь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3.  Дружба крепка не лестью, а правдой и честью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4.  Умный человек с одного слова поймет, а невежде и сто слов не поможе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5.  Недруг поддакивает, а друг спори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2"/>
          <p:cNvSpPr/>
          <p:nvPr/>
        </p:nvSpPr>
        <p:spPr>
          <a:xfrm>
            <a:off x="1322280" y="454644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3"/>
          <p:cNvSpPr/>
          <p:nvPr/>
        </p:nvSpPr>
        <p:spPr>
          <a:xfrm>
            <a:off x="1285920" y="4143240"/>
            <a:ext cx="6572160" cy="1357560"/>
          </a:xfrm>
          <a:prstGeom prst="roundRect">
            <a:avLst>
              <a:gd name="adj" fmla="val 16667"/>
            </a:avLst>
          </a:prstGeom>
          <a:solidFill>
            <a:srgbClr val="e4005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AutoShape 5"/>
          <p:cNvSpPr/>
          <p:nvPr/>
        </p:nvSpPr>
        <p:spPr>
          <a:xfrm>
            <a:off x="1285920" y="1500120"/>
            <a:ext cx="6580080" cy="1076400"/>
          </a:xfrm>
          <a:prstGeom prst="roundRect">
            <a:avLst>
              <a:gd name="adj" fmla="val 16667"/>
            </a:avLst>
          </a:prstGeom>
          <a:solidFill>
            <a:srgbClr val="ff79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Group 6"/>
          <p:cNvGrpSpPr/>
          <p:nvPr/>
        </p:nvGrpSpPr>
        <p:grpSpPr>
          <a:xfrm>
            <a:off x="1214280" y="2671920"/>
            <a:ext cx="5745240" cy="1184760"/>
            <a:chOff x="1214280" y="2671920"/>
            <a:chExt cx="5745240" cy="1184760"/>
          </a:xfrm>
        </p:grpSpPr>
        <p:sp>
          <p:nvSpPr>
            <p:cNvPr id="747" name="AutoShape 7"/>
            <p:cNvSpPr/>
            <p:nvPr/>
          </p:nvSpPr>
          <p:spPr>
            <a:xfrm>
              <a:off x="1214280" y="2857680"/>
              <a:ext cx="5745240" cy="927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40059"/>
                </a:gs>
                <a:gs pos="50000">
                  <a:srgbClr val="d20052"/>
                </a:gs>
                <a:gs pos="100000">
                  <a:srgbClr val="e40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Group 8"/>
            <p:cNvGrpSpPr/>
            <p:nvPr/>
          </p:nvGrpSpPr>
          <p:grpSpPr>
            <a:xfrm>
              <a:off x="1228320" y="2671920"/>
              <a:ext cx="5724000" cy="1184760"/>
              <a:chOff x="1228320" y="2671920"/>
              <a:chExt cx="5724000" cy="1184760"/>
            </a:xfrm>
          </p:grpSpPr>
          <p:sp>
            <p:nvSpPr>
              <p:cNvPr id="749" name="AutoShape 9"/>
              <p:cNvSpPr/>
              <p:nvPr/>
            </p:nvSpPr>
            <p:spPr>
              <a:xfrm>
                <a:off x="1228320" y="3307680"/>
                <a:ext cx="5724000" cy="549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40059">
                      <a:alpha val="0"/>
                    </a:srgbClr>
                  </a:gs>
                  <a:gs pos="100000">
                    <a:srgbClr val="face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AutoShape 10"/>
              <p:cNvSpPr/>
              <p:nvPr/>
            </p:nvSpPr>
            <p:spPr>
              <a:xfrm>
                <a:off x="1228320" y="2671920"/>
                <a:ext cx="5724000" cy="22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bd7e5"/>
                  </a:gs>
                  <a:gs pos="100000">
                    <a:srgbClr val="e4005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1" name="Group 16"/>
          <p:cNvGrpSpPr/>
          <p:nvPr/>
        </p:nvGrpSpPr>
        <p:grpSpPr>
          <a:xfrm>
            <a:off x="1143000" y="1071720"/>
            <a:ext cx="5597640" cy="401400"/>
            <a:chOff x="1143000" y="1071720"/>
            <a:chExt cx="5597640" cy="401400"/>
          </a:xfrm>
        </p:grpSpPr>
        <p:sp>
          <p:nvSpPr>
            <p:cNvPr id="752" name="AutoShape 17"/>
            <p:cNvSpPr/>
            <p:nvPr/>
          </p:nvSpPr>
          <p:spPr>
            <a:xfrm>
              <a:off x="1143000" y="1071720"/>
              <a:ext cx="559764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9c2"/>
                </a:gs>
                <a:gs pos="50000">
                  <a:srgbClr val="eb70b3"/>
                </a:gs>
                <a:gs pos="100000">
                  <a:srgbClr val="ff79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3" name="Group 18"/>
            <p:cNvGrpSpPr/>
            <p:nvPr/>
          </p:nvGrpSpPr>
          <p:grpSpPr>
            <a:xfrm>
              <a:off x="1156680" y="1083960"/>
              <a:ext cx="5576760" cy="371160"/>
              <a:chOff x="1156680" y="1083960"/>
              <a:chExt cx="5576760" cy="371160"/>
            </a:xfrm>
          </p:grpSpPr>
          <p:sp>
            <p:nvSpPr>
              <p:cNvPr id="754" name="AutoShape 19"/>
              <p:cNvSpPr/>
              <p:nvPr/>
            </p:nvSpPr>
            <p:spPr>
              <a:xfrm>
                <a:off x="1156680" y="1358280"/>
                <a:ext cx="55767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88c">
                      <a:alpha val="0"/>
                    </a:srgbClr>
                  </a:gs>
                  <a:gs pos="100000">
                    <a:srgbClr val="ffd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AutoShape 20"/>
              <p:cNvSpPr/>
              <p:nvPr/>
            </p:nvSpPr>
            <p:spPr>
              <a:xfrm>
                <a:off x="1156680" y="1083960"/>
                <a:ext cx="55767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3e5"/>
                  </a:gs>
                  <a:gs pos="100000">
                    <a:srgbClr val="ff388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6" name="Rectangle 21"/>
          <p:cNvSpPr/>
          <p:nvPr/>
        </p:nvSpPr>
        <p:spPr>
          <a:xfrm>
            <a:off x="1294920" y="1143000"/>
            <a:ext cx="43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кажите, над чем мы сегодня работ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2"/>
          <p:cNvSpPr/>
          <p:nvPr/>
        </p:nvSpPr>
        <p:spPr>
          <a:xfrm>
            <a:off x="1428840" y="2857680"/>
            <a:ext cx="5256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так, что мы сегодня рассмотрели? Вернемся к таблице, которую заполнили в начале уро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цель мы поставили перед собо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или мы на вопросы, которые задали в начале урок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их случаях Не с существительными пишется слитно? Раздельно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27"/>
          <p:cNvSpPr/>
          <p:nvPr/>
        </p:nvSpPr>
        <p:spPr>
          <a:xfrm>
            <a:off x="1357200" y="1785960"/>
            <a:ext cx="63374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ы познакомились с правописанием НЕ с именами существи- тельными, учились правильно писать существительные с 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Rectangle 28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Rectangle 4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8663040" cy="547524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981400" y="5943960"/>
            <a:ext cx="285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5886360" y="6281640"/>
            <a:ext cx="74880" cy="1526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390600" y="201600"/>
            <a:ext cx="8289720" cy="7556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5760" y="1771560"/>
            <a:ext cx="83642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1. Весеннее (не)настье – семь погод на двор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2. Не было бы счастья, да (не)счастье помогл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3. (Не)пером пишут, а умо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4. Свой своему вовсе (не)брат. (</a:t>
            </a:r>
            <a:r>
              <a:rPr b="0" i="1" lang="ru-RU" sz="2000" spc="-1" strike="noStrike">
                <a:solidFill>
                  <a:srgbClr val="d2d2d2"/>
                </a:solidFill>
                <a:latin typeface="Century Gothic"/>
              </a:rPr>
              <a:t>современная пословица</a:t>
            </a:r>
            <a:r>
              <a:rPr b="0" lang="ru-RU" sz="3000" spc="-1" strike="noStrike">
                <a:solidFill>
                  <a:srgbClr val="d2d2d2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азовите остальные слова с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из пословиц. Определите, к какой части речи они относятся. Сформулируйте тему сегодняшнего уро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950760" y="109440"/>
            <a:ext cx="7785360" cy="8240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28400" y="1294920"/>
            <a:ext cx="82580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Что мы хотим узнать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ак пишется НЕ с существительными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каких случаях пишется слитно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каких случаях пишется раздельно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формулируйте цель нашего урока, опираясь на его тему. Используйте опорные слова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знакомиться с …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читься 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-360" y="1771560"/>
            <a:ext cx="88930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Цель урока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1) познакомиться с правилом написания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с существительными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2) учиться правильно писать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с именами существительными.</a:t>
            </a:r>
            <a:r>
              <a:rPr b="0" lang="ru-RU" sz="2600" spc="-1" strike="noStrike">
                <a:solidFill>
                  <a:srgbClr val="d2d2d2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Century Gothic"/>
              </a:rPr>
              <a:t>Весеннее (</a:t>
            </a:r>
            <a:r>
              <a:rPr b="0" lang="ru-RU" sz="3200" spc="-1" strike="noStrike" u="sng">
                <a:solidFill>
                  <a:srgbClr val="d2d2d2"/>
                </a:solidFill>
                <a:uFillTx/>
                <a:latin typeface="Century Gothic"/>
              </a:rPr>
              <a:t>не)настье</a:t>
            </a:r>
            <a:r>
              <a:rPr b="0" lang="ru-RU" sz="3200" spc="-1" strike="noStrike">
                <a:solidFill>
                  <a:srgbClr val="d2d2d2"/>
                </a:solidFill>
                <a:latin typeface="Century Gothic"/>
              </a:rPr>
              <a:t> – семь погод на двор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зовите существительное с </a:t>
            </a: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из первой пословицы. Отнимите </a:t>
            </a: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от существительного </a:t>
            </a:r>
            <a:r>
              <a:rPr b="0" lang="ru-RU" sz="2400" spc="-1" strike="noStrike">
                <a:solidFill>
                  <a:srgbClr val="d2d2d2"/>
                </a:solidFill>
                <a:latin typeface="Century Gothic"/>
              </a:rPr>
              <a:t>(не)н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. Употребляется ли слово </a:t>
            </a:r>
            <a:r>
              <a:rPr b="0" lang="ru-RU" sz="2400" spc="-1" strike="noStrike">
                <a:solidFill>
                  <a:srgbClr val="d2d2d2"/>
                </a:solidFill>
                <a:latin typeface="Century Gothic"/>
              </a:rPr>
              <a:t>(не)н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без </a:t>
            </a: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? Объясните, почему вы так считаете. Сделайте вывод о написании таких с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2"/>
          <p:cNvSpPr/>
          <p:nvPr/>
        </p:nvSpPr>
        <p:spPr>
          <a:xfrm>
            <a:off x="1322280" y="454644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1258920" y="2781360"/>
            <a:ext cx="6985080" cy="1871640"/>
          </a:xfrm>
          <a:prstGeom prst="roundRect">
            <a:avLst>
              <a:gd name="adj" fmla="val 16667"/>
            </a:avLst>
          </a:prstGeom>
          <a:solidFill>
            <a:srgbClr val="ff79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6"/>
          <p:cNvGrpSpPr/>
          <p:nvPr/>
        </p:nvGrpSpPr>
        <p:grpSpPr>
          <a:xfrm>
            <a:off x="1332000" y="2852640"/>
            <a:ext cx="6840000" cy="1728000"/>
            <a:chOff x="1332000" y="2852640"/>
            <a:chExt cx="6840000" cy="1728000"/>
          </a:xfrm>
        </p:grpSpPr>
        <p:sp>
          <p:nvSpPr>
            <p:cNvPr id="449" name="AutoShape 17"/>
            <p:cNvSpPr/>
            <p:nvPr/>
          </p:nvSpPr>
          <p:spPr>
            <a:xfrm>
              <a:off x="1332000" y="2852640"/>
              <a:ext cx="6840000" cy="1728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9c2"/>
                </a:gs>
                <a:gs pos="50000">
                  <a:srgbClr val="eb70b3"/>
                </a:gs>
                <a:gs pos="100000">
                  <a:srgbClr val="ff79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1348560" y="2906280"/>
              <a:ext cx="6814440" cy="1597680"/>
              <a:chOff x="1348560" y="2906280"/>
              <a:chExt cx="6814440" cy="1597680"/>
            </a:xfrm>
          </p:grpSpPr>
          <p:sp>
            <p:nvSpPr>
              <p:cNvPr id="451" name="AutoShape 19"/>
              <p:cNvSpPr/>
              <p:nvPr/>
            </p:nvSpPr>
            <p:spPr>
              <a:xfrm>
                <a:off x="1348560" y="4090320"/>
                <a:ext cx="6814440" cy="41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88c">
                      <a:alpha val="0"/>
                    </a:srgbClr>
                  </a:gs>
                  <a:gs pos="100000">
                    <a:srgbClr val="ffd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AutoShape 20"/>
              <p:cNvSpPr/>
              <p:nvPr/>
            </p:nvSpPr>
            <p:spPr>
              <a:xfrm>
                <a:off x="1348560" y="2906280"/>
                <a:ext cx="6814440" cy="414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3e5"/>
                  </a:gs>
                  <a:gs pos="100000">
                    <a:srgbClr val="ff388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Rectangle 24"/>
          <p:cNvSpPr/>
          <p:nvPr/>
        </p:nvSpPr>
        <p:spPr>
          <a:xfrm>
            <a:off x="1547640" y="3213000"/>
            <a:ext cx="6191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(не)насть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Rectangle 28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9"/>
          <p:cNvSpPr/>
          <p:nvPr/>
        </p:nvSpPr>
        <p:spPr>
          <a:xfrm>
            <a:off x="755640" y="1557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в этом случае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лов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AutoShape 3"/>
          <p:cNvSpPr/>
          <p:nvPr/>
        </p:nvSpPr>
        <p:spPr>
          <a:xfrm>
            <a:off x="1258920" y="2781360"/>
            <a:ext cx="6985080" cy="1871640"/>
          </a:xfrm>
          <a:prstGeom prst="roundRect">
            <a:avLst>
              <a:gd name="adj" fmla="val 16667"/>
            </a:avLst>
          </a:prstGeom>
          <a:solidFill>
            <a:srgbClr val="ff79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Group 4"/>
          <p:cNvGrpSpPr/>
          <p:nvPr/>
        </p:nvGrpSpPr>
        <p:grpSpPr>
          <a:xfrm>
            <a:off x="1332000" y="2852640"/>
            <a:ext cx="6840000" cy="1728000"/>
            <a:chOff x="1332000" y="2852640"/>
            <a:chExt cx="6840000" cy="1728000"/>
          </a:xfrm>
        </p:grpSpPr>
        <p:sp>
          <p:nvSpPr>
            <p:cNvPr id="458" name="AutoShape 5"/>
            <p:cNvSpPr/>
            <p:nvPr/>
          </p:nvSpPr>
          <p:spPr>
            <a:xfrm>
              <a:off x="1332000" y="2852640"/>
              <a:ext cx="6840000" cy="1728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9c2"/>
                </a:gs>
                <a:gs pos="50000">
                  <a:srgbClr val="eb70b3"/>
                </a:gs>
                <a:gs pos="100000">
                  <a:srgbClr val="ff79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Group 6"/>
            <p:cNvGrpSpPr/>
            <p:nvPr/>
          </p:nvGrpSpPr>
          <p:grpSpPr>
            <a:xfrm>
              <a:off x="1348560" y="2906280"/>
              <a:ext cx="6814440" cy="1597680"/>
              <a:chOff x="1348560" y="2906280"/>
              <a:chExt cx="6814440" cy="1597680"/>
            </a:xfrm>
          </p:grpSpPr>
          <p:sp>
            <p:nvSpPr>
              <p:cNvPr id="460" name="AutoShape 7"/>
              <p:cNvSpPr/>
              <p:nvPr/>
            </p:nvSpPr>
            <p:spPr>
              <a:xfrm>
                <a:off x="1348560" y="4090320"/>
                <a:ext cx="6814440" cy="41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88c">
                      <a:alpha val="0"/>
                    </a:srgbClr>
                  </a:gs>
                  <a:gs pos="100000">
                    <a:srgbClr val="ffd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AutoShape 8"/>
              <p:cNvSpPr/>
              <p:nvPr/>
            </p:nvSpPr>
            <p:spPr>
              <a:xfrm>
                <a:off x="1348560" y="2906280"/>
                <a:ext cx="6814440" cy="414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3e5"/>
                  </a:gs>
                  <a:gs pos="100000">
                    <a:srgbClr val="ff388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Rectangle 9"/>
          <p:cNvSpPr/>
          <p:nvPr/>
        </p:nvSpPr>
        <p:spPr>
          <a:xfrm>
            <a:off x="1547640" y="3213000"/>
            <a:ext cx="6191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ненасть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Rectangle 10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1"/>
          <p:cNvSpPr/>
          <p:nvPr/>
        </p:nvSpPr>
        <p:spPr>
          <a:xfrm>
            <a:off x="755640" y="155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частью кор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684360" y="5373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исьме мы будем обозначать это т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rc 13"/>
          <p:cNvSpPr/>
          <p:nvPr/>
        </p:nvSpPr>
        <p:spPr>
          <a:xfrm flipV="1" rot="16213800">
            <a:off x="4246200" y="4762800"/>
            <a:ext cx="576000" cy="2950920"/>
          </a:xfrm>
          <a:prstGeom prst="pie">
            <a:avLst/>
          </a:prstGeom>
          <a:noFill/>
          <a:ln w="3816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58 -0.40949 E">
                                      <p:cBhvr>
                                        <p:cTn id="55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ff388c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ff388c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ff388c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Весеннее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Century Gothic"/>
              </a:rPr>
              <a:t>ненастье (не употр.без не-)</a:t>
            </a:r>
            <a:r>
              <a:rPr b="0" lang="ru-RU" sz="3200" spc="-1" strike="noStrike">
                <a:solidFill>
                  <a:srgbClr val="002060"/>
                </a:solidFill>
                <a:latin typeface="Century Gothic"/>
              </a:rPr>
              <a:t> – семь погод на двор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950760" y="133200"/>
            <a:ext cx="7785360" cy="8002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-360" y="1771560"/>
            <a:ext cx="88930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 algn="just">
              <a:spcBef>
                <a:spcPts val="601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зовите существительное с </a:t>
            </a:r>
            <a:r>
              <a:rPr b="1" i="1" lang="ru-RU" sz="26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из второй пословиц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d2d2d2"/>
                </a:solidFill>
                <a:latin typeface="Century Gothic"/>
              </a:rPr>
              <a:t>Не было бы счастья, да (не)счастье помогло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равните слова </a:t>
            </a:r>
            <a:r>
              <a:rPr b="1" lang="ru-RU" sz="2400" spc="-1" strike="noStrike">
                <a:solidFill>
                  <a:srgbClr val="d2d2d2"/>
                </a:solidFill>
                <a:latin typeface="Century Gothic"/>
              </a:rPr>
              <a:t>сч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и </a:t>
            </a:r>
            <a:r>
              <a:rPr b="1" lang="ru-RU" sz="2400" spc="-1" strike="noStrike">
                <a:solidFill>
                  <a:srgbClr val="d2d2d2"/>
                </a:solidFill>
                <a:latin typeface="Century Gothic"/>
              </a:rPr>
              <a:t>(не)сч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. Замените слово </a:t>
            </a:r>
            <a:r>
              <a:rPr b="1" lang="ru-RU" sz="2400" spc="-1" strike="noStrike">
                <a:solidFill>
                  <a:srgbClr val="d2d2d2"/>
                </a:solidFill>
                <a:latin typeface="Century Gothic"/>
              </a:rPr>
              <a:t>(не)счасть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синонимом без </a:t>
            </a:r>
            <a:r>
              <a:rPr b="1" i="1" lang="ru-RU" sz="26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или близким по значению выражение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09:19:47Z</dcterms:created>
  <dc:creator>Козинцев А.В.</dc:creator>
  <dc:description/>
  <dc:language>en-US</dc:language>
  <cp:lastModifiedBy>1</cp:lastModifiedBy>
  <dcterms:modified xsi:type="dcterms:W3CDTF">2022-12-18T08:29:36Z</dcterms:modified>
  <cp:revision>56</cp:revision>
  <dc:subject>Правописание "не" с существительными</dc:subject>
  <dc:title>Урок русского языка</dc:title>
</cp:coreProperties>
</file>