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6.jpeg" ContentType="image/jpeg"/>
  <Override PartName="/ppt/media/image1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15.jpeg" ContentType="image/jpeg"/>
  <Override PartName="/ppt/media/image25.png" ContentType="image/png"/>
  <Override PartName="/ppt/media/image2.png" ContentType="image/png"/>
  <Override PartName="/ppt/media/image17.jpeg" ContentType="image/jpe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53D03-F418-4632-8BCA-6C0189ACD3F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97C7F-EA54-46D4-8B13-7A8982A9613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EDF2-547D-49B2-B3C6-188C71640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728D-4116-4EBA-91E8-AF33016FC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4833-04BC-4577-8B49-AF6E5E1E4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3F2B-25B0-405A-9C23-EE34A9FE3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38381-E960-479B-825F-9C6FECE22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D75C7-5C60-4430-A866-2140741A4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32D5D-30EB-49B8-9A6C-29C584120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5401E-07CC-43C6-B4A0-DB8CDA477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4A8A0-2EEE-46AB-AAFF-A99AA2B23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815E1-D610-4E8D-849C-144FA1A93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2803F-D642-44F6-A445-934E37341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27BB-E596-425E-8883-31BB3723C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066F7-40F5-4D20-A6BC-4EB39DAA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3CB4A-48C2-4C7E-BAD6-F83A8C8C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9B8C1-AB36-4115-B1C0-D8393D762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F472A-83BF-4F91-A719-B435E765D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D2E60-2721-4E6A-B25C-3FFD5D984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9F07F-2D6C-4BC1-8AD1-5558B2742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CAD8F-BCB5-4F31-875B-9523750D9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0E95D-7D3D-4258-9270-BADF80967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CB8B9-2222-4079-A67E-6FAE6215C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0F92D-90D3-4DA5-A2D7-78B570CCB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8713-93DE-4D9D-9BF7-9E63C8FA8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73DCC-0EDF-4DBC-A771-2227BC19C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21C07-9E14-4680-ABAA-A960EDC80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662AF-77B2-4D2F-A4C7-CEABB34C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1EBB0-AF32-4B1D-A338-58578B5C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7DADE-62FF-4343-AF6C-C34076DEE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95631-9476-4828-A631-C673984EF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1BDDA-7AE4-4EC2-B465-3DC411270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D639E-7D6F-400A-B592-2FC937448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A1D29-3FEC-40B4-A9EA-BA237D375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3AEAF-6D3A-4277-8726-F8E3354DF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1CEF-2269-47E3-9E56-F93B54325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349CB-51B8-4E3C-9637-4CE74B0B5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0E348-8EBE-4F3A-81C5-598ADFD62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B60F0-5682-4915-B589-4E6567879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22E3C-C7CA-407B-B25B-94D0861D2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74D51-9266-471B-92ED-8559A0A3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57BC9-0496-4C72-8296-F9B9C1DE7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29360-4E83-40A7-B55F-9745B455F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DD0E6-6080-4270-B8E1-2CF837EE5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4B2A9-9293-418B-9FA6-2FE08D3A6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C82B2B-03F4-44AD-9C6D-E140089D3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12D0-3D47-45A0-B4D9-BD7D6FD7D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2E1BC9-BC9E-4690-981A-99159CE1D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696584-759E-48BB-BE5F-3D9424039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CB2FA7-15F6-4647-839A-AAF8778B5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18A44-07BB-478B-B602-BCB107FE0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4EA4BD-5B8E-4785-9E98-8640D73B5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5BF45-8EE9-4827-BC55-7090A3BA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6E66BB-5D52-43B7-ADAF-AE4DA86B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3EB05C-50FD-48D8-865B-E87BE4573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66BCDF-5A2C-4FAE-9F9B-48AC13363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3FA142-1BE6-4C75-BD91-F24E53D68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2B34-D04A-4F2C-80AA-9C60ECB3C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F0CB21-D29B-4499-AB90-C05549D8C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CA5C-0DF2-4A9A-806B-E4BAF315D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C844-3314-4175-8D83-541846C1A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E607-2D4D-499A-BA62-942AFD4E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2544C-3950-41CB-8732-6EB3BFE8AAB7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45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47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8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0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7681B-96E7-4661-9482-4484771C4FCC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3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CA155-C0C7-4351-8934-50257134ED38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3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39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ACF71-8D3C-4AE4-85FA-3759C70AD7F4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83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E4381-886B-4B42-A2C7-827F72CFD1A8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zhelezyaka.com/i/p/080410195525DVD%20from%20CO2.jpg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Заголовок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132520" cy="312084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071600" y="5500440"/>
            <a:ext cx="471492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Заголовок 1" descr=""/>
          <p:cNvPicPr/>
          <p:nvPr/>
        </p:nvPicPr>
        <p:blipFill>
          <a:blip r:embed="rId1"/>
          <a:stretch/>
        </p:blipFill>
        <p:spPr>
          <a:xfrm>
            <a:off x="450720" y="189000"/>
            <a:ext cx="7255080" cy="1176120"/>
          </a:xfrm>
          <a:prstGeom prst="rect">
            <a:avLst/>
          </a:prstGeom>
          <a:ln w="0">
            <a:noFill/>
          </a:ln>
        </p:spPr>
      </p:pic>
      <p:pic>
        <p:nvPicPr>
          <p:cNvPr id="256" name="i-main-pic" descr="Картинка 6 из 73"/>
          <p:cNvPicPr/>
          <p:nvPr/>
        </p:nvPicPr>
        <p:blipFill>
          <a:blip r:embed="rId2"/>
          <a:stretch/>
        </p:blipFill>
        <p:spPr>
          <a:xfrm>
            <a:off x="457200" y="2357280"/>
            <a:ext cx="3686040" cy="250056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 txBox="1"/>
          <p:nvPr/>
        </p:nvSpPr>
        <p:spPr>
          <a:xfrm>
            <a:off x="4357800" y="1600200"/>
            <a:ext cx="334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Углекислый газ применяют для газирования фруктовых и минеральных вод, для производства сахара, в медицине для углекислых ванн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4285800" y="713880"/>
            <a:ext cx="3643560" cy="541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В пищевой промышленност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оксид углерода(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V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) используется как консервант и обозначается на упаковке под кодом </a:t>
            </a: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Е290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, а также в качестве разрыхлителя теста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9" name="i-main-pic" descr="Картинка 3 из 19276"/>
          <p:cNvPicPr/>
          <p:nvPr/>
        </p:nvPicPr>
        <p:blipFill>
          <a:blip r:embed="rId1"/>
          <a:stretch/>
        </p:blipFill>
        <p:spPr>
          <a:xfrm>
            <a:off x="428760" y="1785960"/>
            <a:ext cx="375732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i-main-pic" descr="Картинка 18 из 1270"/>
          <p:cNvPicPr/>
          <p:nvPr/>
        </p:nvPicPr>
        <p:blipFill>
          <a:blip r:embed="rId1"/>
          <a:stretch/>
        </p:blipFill>
        <p:spPr>
          <a:xfrm>
            <a:off x="428760" y="1285920"/>
            <a:ext cx="3214440" cy="407196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 txBox="1"/>
          <p:nvPr/>
        </p:nvSpPr>
        <p:spPr>
          <a:xfrm>
            <a:off x="4177800" y="642600"/>
            <a:ext cx="352116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Баллоны с жидкой углекислотой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широко применяются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в качестве огнетушителей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1) в портативных огнетушителях;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2) в огнетушительных системах самолетов и кораблей, пожарных углекислотных машинах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     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Такое широкое применение в огнетушении связано с тем, что в некоторых случаях вода не годится для тушения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Содержимое 4" descr="http://im6-tub.yandex.net/i?id=73178656&amp;tov=6"/>
          <p:cNvPicPr/>
          <p:nvPr/>
        </p:nvPicPr>
        <p:blipFill>
          <a:blip r:embed="rId1"/>
          <a:stretch/>
        </p:blipFill>
        <p:spPr>
          <a:xfrm>
            <a:off x="714240" y="4000680"/>
            <a:ext cx="3214800" cy="228600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 txBox="1"/>
          <p:nvPr/>
        </p:nvSpPr>
        <p:spPr>
          <a:xfrm>
            <a:off x="4177800" y="857160"/>
            <a:ext cx="352116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Технологии очистки различных поверхностей гранулами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«сухого льда»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Очистка форм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для литья под давлением с помощью «сухого льда»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4" name="i-main-pic" descr="Картинка 20 из 44"/>
          <p:cNvPicPr/>
          <p:nvPr/>
        </p:nvPicPr>
        <p:blipFill>
          <a:blip r:embed="rId2"/>
          <a:stretch/>
        </p:blipFill>
        <p:spPr>
          <a:xfrm>
            <a:off x="714240" y="928800"/>
            <a:ext cx="32148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4177800" y="857160"/>
            <a:ext cx="3751560" cy="526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Твёрдая углекислота — сухой лёд — используется в ледниках.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Жидкая углекислота используется в качестве хладагента и рабочего тела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 холодильниках, морозильниках, солнечных электрогенераторах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6" name="i-main-pic" descr="Картинка 1 из 7902"/>
          <p:cNvPicPr/>
          <p:nvPr/>
        </p:nvPicPr>
        <p:blipFill>
          <a:blip r:embed="rId1"/>
          <a:stretch/>
        </p:blipFill>
        <p:spPr>
          <a:xfrm>
            <a:off x="1071720" y="857160"/>
            <a:ext cx="2000160" cy="1500120"/>
          </a:xfrm>
          <a:prstGeom prst="rect">
            <a:avLst/>
          </a:prstGeom>
          <a:ln w="0">
            <a:noFill/>
          </a:ln>
        </p:spPr>
      </p:pic>
      <p:pic>
        <p:nvPicPr>
          <p:cNvPr id="267" name="Рисунок 5" descr="http://www.restomir.ru/UserFiles/Image/06.jpg"/>
          <p:cNvPicPr/>
          <p:nvPr/>
        </p:nvPicPr>
        <p:blipFill>
          <a:blip r:embed="rId2"/>
          <a:stretch/>
        </p:blipFill>
        <p:spPr>
          <a:xfrm>
            <a:off x="500040" y="3000240"/>
            <a:ext cx="335772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3928680" y="928800"/>
            <a:ext cx="377028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rebuchet MS"/>
              </a:rPr>
              <a:t>   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Ученые нашли способ, как использовать углекислый газ: из него можно делать </a:t>
            </a: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поликарбонат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, который применяется для изготовления компакт-дисков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ервые DVD и пластиковые бутылки из CO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2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могут появиться в продаже уже через пару лет</a:t>
            </a:r>
            <a:r>
              <a:rPr b="0" lang="ru-RU" sz="15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9" name="Рисунок 4" descr="DVD из углекислого газ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2960" y="2071800"/>
            <a:ext cx="307188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Заголовок 1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7255080" cy="1176480"/>
          </a:xfrm>
          <a:prstGeom prst="rect">
            <a:avLst/>
          </a:prstGeom>
          <a:ln w="0">
            <a:noFill/>
          </a:ln>
        </p:spPr>
      </p:pic>
      <p:pic>
        <p:nvPicPr>
          <p:cNvPr id="271" name="i-main-pic" descr="Картинка 8 из 4105"/>
          <p:cNvPicPr/>
          <p:nvPr/>
        </p:nvPicPr>
        <p:blipFill>
          <a:blip r:embed="rId2"/>
          <a:stretch/>
        </p:blipFill>
        <p:spPr>
          <a:xfrm>
            <a:off x="500040" y="2143080"/>
            <a:ext cx="3714840" cy="3276720"/>
          </a:xfrm>
          <a:prstGeom prst="rect">
            <a:avLst/>
          </a:prstGeom>
          <a:ln w="0">
            <a:noFill/>
          </a:ln>
        </p:spPr>
      </p:pic>
      <p:sp>
        <p:nvSpPr>
          <p:cNvPr id="272" name="Прямоугольник 3"/>
          <p:cNvSpPr/>
          <p:nvPr/>
        </p:nvSpPr>
        <p:spPr>
          <a:xfrm>
            <a:off x="4357800" y="2071800"/>
            <a:ext cx="36432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Оксид углерода (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V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) играет одну из главных ролей в живой природе, участвуя во многих процессах метаболизма живой клетки. Углекислый газ атмосферы — основной источник углерода для растений. Растения поглощают углекислый газ в процессе фотосинтеза,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7255080" cy="11764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solidFill>
            <a:srgbClr val="ffffff"/>
          </a:solidFill>
          <a:ln w="39960">
            <a:solidFill>
              <a:srgbClr val="ac66bb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ромышленный способ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1. Образуется при горении углерода или соединений на его основе (например, бензина) в условиях недостатка кислорода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               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2C + O</a:t>
            </a:r>
            <a:r>
              <a:rPr b="1" lang="ru-RU" sz="1900" spc="-1" strike="noStrike">
                <a:solidFill>
                  <a:srgbClr val="000000"/>
                </a:solidFill>
                <a:latin typeface="Trebuchet MS"/>
              </a:rPr>
              <a:t>2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 = 2CO↑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2. При восстановлении оксида углерода (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V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) раскалённым углём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                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CO</a:t>
            </a:r>
            <a:r>
              <a:rPr b="1" lang="ru-RU" sz="1900" spc="-1" strike="noStrike">
                <a:solidFill>
                  <a:srgbClr val="000000"/>
                </a:solidFill>
                <a:latin typeface="Trebuchet MS"/>
              </a:rPr>
              <a:t>2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 + C = 2CO↑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Эта реакция часто происходит при печной топке.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Заголовок 1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7255080" cy="11764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solidFill>
            <a:srgbClr val="ffffff"/>
          </a:solidFill>
          <a:ln w="39960">
            <a:solidFill>
              <a:srgbClr val="ac66bb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1.В </a:t>
            </a: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промышленности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получают обжигом природных     карбонатов (известняк, доломит). </a:t>
            </a:r>
            <a:br>
              <a:rPr sz="1800"/>
            </a:b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CaCO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=</a:t>
            </a: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CaO</a:t>
            </a: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+</a:t>
            </a: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CO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↑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2.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В </a:t>
            </a: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лабораторных условиях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получают взаимодействием карбонатов и гидрокарбонатов с кислотами, например </a:t>
            </a: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мрамора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, мела или соды </a:t>
            </a: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с соляной кислотой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CaCO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+</a:t>
            </a: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2HCI</a:t>
            </a: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=</a:t>
            </a: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CaCI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+</a:t>
            </a: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O</a:t>
            </a: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+</a:t>
            </a: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CO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↑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Для приготовления напитков может быть использована реакция пищевой соды с лимонной кислотой или с кислым лимонным соком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9018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456840" y="1356840"/>
            <a:ext cx="3521160" cy="5072040"/>
          </a:xfrm>
          <a:prstGeom prst="rect">
            <a:avLst/>
          </a:prstGeom>
          <a:solidFill>
            <a:srgbClr val="ffffff"/>
          </a:solidFill>
          <a:ln w="39960">
            <a:solidFill>
              <a:srgbClr val="ac66bb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CO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- оксид углерода(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)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угарный газ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монооксид углерод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Газ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без цвета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без запаха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легче воздуха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мало растворим в воде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намного лучше растворим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в спирте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T. пл. -205,02 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rebuchet MS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C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Т. кип. -191,5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плотность 1,25 г/л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(0 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rebuchet MS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C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Очень ядовит!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1600"/>
            </a:br>
            <a:br>
              <a:rPr sz="1300"/>
            </a:br>
            <a:br>
              <a:rPr sz="1100"/>
            </a:b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177800" y="1356840"/>
            <a:ext cx="3521160" cy="5072040"/>
          </a:xfrm>
          <a:prstGeom prst="rect">
            <a:avLst/>
          </a:prstGeom>
          <a:solidFill>
            <a:srgbClr val="ffffff"/>
          </a:solidFill>
          <a:ln w="39960">
            <a:solidFill>
              <a:srgbClr val="ac66bb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CO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оксид углерода(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V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)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углекислый газ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диоксид углерода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Газ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без цвета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без запаха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в 1,5 раза тяжелее воздуха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растворим в воде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плотность 1,98 г/л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Т.пл. −57 °C)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Т, кип −78 °C, возгоняется. Твердый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оксид  называется «сухим льдом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Заголовок 1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7255080" cy="117648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solidFill>
            <a:srgbClr val="ffffff"/>
          </a:solidFill>
          <a:ln w="39960">
            <a:solidFill>
              <a:srgbClr val="ac66bb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При комнатной температуре CO малоактивен, его химическая активность значительно повышается при нагревании и в растворах</a:t>
            </a:r>
            <a:br>
              <a:rPr sz="2200"/>
            </a:b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      </a:t>
            </a:r>
            <a:r>
              <a:rPr b="0" lang="en-US" sz="2600" spc="-1" strike="noStrike">
                <a:solidFill>
                  <a:srgbClr val="002060"/>
                </a:solidFill>
                <a:latin typeface="Trebuchet MS"/>
              </a:rPr>
              <a:t>CO</a:t>
            </a: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 – несолеобразующий оксид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1.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ри нагревании </a:t>
            </a: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восстанавливает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металлы из оксидов: </a:t>
            </a:r>
            <a:br>
              <a:rPr sz="2400"/>
            </a:b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       CO + CuO → Cu + CO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Trebuchet MS"/>
              </a:rPr>
              <a:t>2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↑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2. </a:t>
            </a: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Горит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на воздухе синим пламенем (температура начала реакции 700 °C) 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2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CO + O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Trebuchet MS"/>
              </a:rPr>
              <a:t>2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 → 2CO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Trebuchet MS"/>
              </a:rPr>
              <a:t>2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 + 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Q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Температура горения CO может достигать 2100 °C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7255080" cy="11764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solidFill>
            <a:srgbClr val="ffffff"/>
          </a:solidFill>
          <a:ln w="39960">
            <a:solidFill>
              <a:srgbClr val="ac66bb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rebuchet MS"/>
              </a:rPr>
              <a:t>            </a:t>
            </a:r>
            <a:r>
              <a:rPr b="0" lang="ru-RU" sz="1500" spc="-1" strike="noStrike">
                <a:solidFill>
                  <a:srgbClr val="c00000"/>
                </a:solidFill>
                <a:latin typeface="Trebuchet MS"/>
              </a:rPr>
              <a:t>    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rebuchet MS"/>
              </a:rPr>
              <a:t>                   </a:t>
            </a:r>
            <a:r>
              <a:rPr b="0" lang="en-US" sz="2000" spc="-1" strike="noStrike">
                <a:solidFill>
                  <a:srgbClr val="c00000"/>
                </a:solidFill>
                <a:latin typeface="Trebuchet MS"/>
              </a:rPr>
              <a:t>CO</a:t>
            </a:r>
            <a:r>
              <a:rPr b="0" lang="en-US" sz="1800" spc="-1" strike="noStrike">
                <a:solidFill>
                  <a:srgbClr val="c00000"/>
                </a:solidFill>
                <a:latin typeface="Trebuchet MS"/>
              </a:rPr>
              <a:t>2</a:t>
            </a:r>
            <a:r>
              <a:rPr b="0" lang="ru-RU" sz="2000" spc="-1" strike="noStrike">
                <a:solidFill>
                  <a:srgbClr val="c00000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– </a:t>
            </a:r>
            <a:r>
              <a:rPr b="0" lang="ru-RU" sz="2000" spc="-1" strike="noStrike">
                <a:solidFill>
                  <a:srgbClr val="c00000"/>
                </a:solidFill>
                <a:latin typeface="Trebuchet MS"/>
              </a:rPr>
              <a:t>кислотный оксид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1.Взаимодействует </a:t>
            </a: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с водой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, образуя нестойкую угольную кислоту (реакция обратимая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rebuchet MS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CO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2</a:t>
            </a:r>
            <a:r>
              <a:rPr b="1" lang="ru-RU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rebuchet MS"/>
              </a:rPr>
              <a:t>+</a:t>
            </a:r>
            <a:r>
              <a:rPr b="1" lang="ru-RU" sz="19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O</a:t>
            </a:r>
            <a:r>
              <a:rPr b="1" lang="ru-RU" sz="1900" spc="-1" strike="noStrike">
                <a:solidFill>
                  <a:srgbClr val="000000"/>
                </a:solidFill>
                <a:latin typeface="Trebuchet MS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CO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3</a:t>
            </a:r>
            <a:r>
              <a:rPr b="1" lang="ru-RU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1900"/>
            </a:br>
            <a:br>
              <a:rPr sz="1900"/>
            </a:b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2. Взаимодействует </a:t>
            </a: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со щелочами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, при этом образуются карбонаты и гидрокарбонаты</a:t>
            </a:r>
            <a:br>
              <a:rPr sz="1900"/>
            </a:br>
            <a:r>
              <a:rPr b="0" lang="ru-RU" sz="1900" spc="-1" strike="noStrike">
                <a:solidFill>
                  <a:srgbClr val="000000"/>
                </a:solidFill>
                <a:latin typeface="Trebuchet MS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CO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2</a:t>
            </a:r>
            <a:r>
              <a:rPr b="1" lang="ru-RU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rebuchet MS"/>
              </a:rPr>
              <a:t>+</a:t>
            </a:r>
            <a:r>
              <a:rPr b="1" lang="ru-RU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Ca</a:t>
            </a: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OH</a:t>
            </a: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2</a:t>
            </a:r>
            <a:r>
              <a:rPr b="1" lang="ru-RU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rebuchet MS"/>
              </a:rPr>
              <a:t>=</a:t>
            </a:r>
            <a:r>
              <a:rPr b="1" lang="ru-RU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CaCO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↓</a:t>
            </a:r>
            <a:r>
              <a:rPr b="1" lang="ru-RU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rebuchet MS"/>
              </a:rPr>
              <a:t>+</a:t>
            </a:r>
            <a:r>
              <a:rPr b="1" lang="ru-RU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O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CaCO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3</a:t>
            </a:r>
            <a:r>
              <a:rPr b="1" lang="ru-RU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rebuchet MS"/>
              </a:rPr>
              <a:t>+</a:t>
            </a:r>
            <a:r>
              <a:rPr b="1" lang="ru-RU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CO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2</a:t>
            </a:r>
            <a:r>
              <a:rPr b="1" lang="ru-RU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rebuchet MS"/>
              </a:rPr>
              <a:t>+</a:t>
            </a:r>
            <a:r>
              <a:rPr b="1" lang="ru-RU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O</a:t>
            </a:r>
            <a:r>
              <a:rPr b="1" lang="ru-RU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rebuchet MS"/>
              </a:rPr>
              <a:t>=</a:t>
            </a:r>
            <a:r>
              <a:rPr b="1" lang="ru-RU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Ca</a:t>
            </a:r>
            <a:r>
              <a:rPr b="1" lang="ru-RU" sz="19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HCO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3</a:t>
            </a:r>
            <a:r>
              <a:rPr b="1" lang="ru-RU" sz="1900" spc="-1" strike="noStrike">
                <a:solidFill>
                  <a:srgbClr val="000000"/>
                </a:solidFill>
                <a:latin typeface="Trebuchet MS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3.Взаимодействует с </a:t>
            </a: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основными оксидами</a:t>
            </a:r>
            <a:br>
              <a:rPr sz="1900"/>
            </a:br>
            <a:r>
              <a:rPr b="0" lang="ru-RU" sz="1900" spc="-1" strike="noStrike">
                <a:solidFill>
                  <a:srgbClr val="000000"/>
                </a:solidFill>
                <a:latin typeface="Trebuchet MS"/>
              </a:rPr>
              <a:t>        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rebuchet MS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CO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2</a:t>
            </a:r>
            <a:r>
              <a:rPr b="1" lang="ru-RU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rebuchet MS"/>
              </a:rPr>
              <a:t>+</a:t>
            </a:r>
            <a:r>
              <a:rPr b="1" lang="ru-RU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CaO</a:t>
            </a:r>
            <a:r>
              <a:rPr b="1" lang="ru-RU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rebuchet MS"/>
              </a:rPr>
              <a:t>=</a:t>
            </a:r>
            <a:r>
              <a:rPr b="1" lang="ru-RU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CaCO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3</a:t>
            </a:r>
            <a:br>
              <a:rPr sz="1900"/>
            </a:br>
            <a:r>
              <a:rPr b="1" lang="ru-RU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6" name="Рисунок 3" descr="5005-31.jpg"/>
          <p:cNvPicPr/>
          <p:nvPr/>
        </p:nvPicPr>
        <p:blipFill>
          <a:blip r:embed="rId2"/>
          <a:stretch/>
        </p:blipFill>
        <p:spPr>
          <a:xfrm>
            <a:off x="2786040" y="2786040"/>
            <a:ext cx="438120" cy="14292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8" descr="5005-31.jpg"/>
          <p:cNvPicPr/>
          <p:nvPr/>
        </p:nvPicPr>
        <p:blipFill>
          <a:blip r:embed="rId3"/>
          <a:stretch/>
        </p:blipFill>
        <p:spPr>
          <a:xfrm>
            <a:off x="2786040" y="2857680"/>
            <a:ext cx="438120" cy="14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Заголовок 1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7255080" cy="117648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 txBox="1"/>
          <p:nvPr/>
        </p:nvSpPr>
        <p:spPr>
          <a:xfrm>
            <a:off x="4000680" y="2143080"/>
            <a:ext cx="3929040" cy="32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Как восстановитель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СО применяетс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в металлурги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ри выплавке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чугуна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0" name="i-main-pic" descr="Картинка 10 из 129"/>
          <p:cNvPicPr/>
          <p:nvPr/>
        </p:nvPicPr>
        <p:blipFill>
          <a:blip r:embed="rId2"/>
          <a:stretch/>
        </p:blipFill>
        <p:spPr>
          <a:xfrm>
            <a:off x="357120" y="2286000"/>
            <a:ext cx="35719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i-main-pic" descr="Картинка 8 из 196"/>
          <p:cNvPicPr/>
          <p:nvPr/>
        </p:nvPicPr>
        <p:blipFill>
          <a:blip r:embed="rId1"/>
          <a:stretch/>
        </p:blipFill>
        <p:spPr>
          <a:xfrm>
            <a:off x="693720" y="1500120"/>
            <a:ext cx="3235320" cy="385776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4177800" y="785880"/>
            <a:ext cx="352116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rebuchet MS"/>
              </a:rPr>
              <a:t>   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ru-RU" sz="2900" spc="-1" strike="noStrike">
                <a:solidFill>
                  <a:srgbClr val="000000"/>
                </a:solidFill>
                <a:latin typeface="Trebuchet MS"/>
              </a:rPr>
              <a:t>Водяной газ используется как топливо, а также применяется в химическом синтезе — для получения аммиака,, высших спиртов и т. п.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4571640" y="642600"/>
            <a:ext cx="342900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Оксид углерода(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I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) применяется для обработки мяса животных и рыбы, придает им ярко красный цвет и вид свежести, не изменяя вкуса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Допустимая концентрация CO равна 200 мг/кг мяса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4" name="i-main-pic" descr="Картинка 10 из 251821"/>
          <p:cNvPicPr/>
          <p:nvPr/>
        </p:nvPicPr>
        <p:blipFill>
          <a:blip r:embed="rId1"/>
          <a:stretch/>
        </p:blipFill>
        <p:spPr>
          <a:xfrm>
            <a:off x="428760" y="1571760"/>
            <a:ext cx="392904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7T17:47:15Z</dcterms:created>
  <dc:creator>Оля</dc:creator>
  <dc:description/>
  <dc:language>en-US</dc:language>
  <cp:lastModifiedBy>adm</cp:lastModifiedBy>
  <dcterms:modified xsi:type="dcterms:W3CDTF">2018-01-22T06:53:51Z</dcterms:modified>
  <cp:revision>90</cp:revision>
  <dc:subject/>
  <dc:title>Оксиды углерода</dc:title>
</cp:coreProperties>
</file>