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BF17-3797-4796-B396-F8D6A51CFA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14FB-AC81-4E1A-9C35-77F878E96A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89F-F7FD-46F4-9907-6EF7D213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995-FEFD-429A-ADA3-69B950B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347-770F-4EAA-A773-C685A3E5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EEB-586E-49BC-9C18-0EDA1646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413E-047A-4744-86DC-725FF3EB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CEB9-595F-4E98-8D30-E29A413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9B01-3A39-4C55-9584-8A8EBF3E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152A-C9DD-43A3-B269-4CBA8E70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9B68-15A2-4A8C-B767-8247040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F894-B872-4AC9-8056-6DD17C49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9DC1-8F48-455B-8A80-EF08E49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582-AF43-4056-897A-944FCE4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CBAC-1823-40FA-8926-B2ED3AE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5969-FC2A-412F-B425-0009403D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6AC5-6FF4-4940-8A01-9DAAE7D5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8407-916E-40C0-B1A5-CE1FBC1E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5964-C636-4D43-AA50-F6C21572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7E5E-1B08-4894-A516-E740CB88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5BAA-2C5F-4518-A4BA-2FE02755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AD36-2414-41B9-B8E9-CF83B518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ACF4-4FAE-4FB4-9C2E-7F64480C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98049-FC16-4BB5-93A0-36C100B9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2C1-3A63-48DB-ACD2-5E48A81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2AF5-E59B-43FF-AA37-090CF39A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2B03-8A03-4E3C-BA66-C1EA5609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FD17-7FCB-4AEF-9A22-C95B8193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5D39-F100-4F7C-8B27-A8FACD1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ECFD-64F8-419A-98F7-23E8604F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60F5-D1FB-4CAD-B0B1-71A61C79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5C05C-DD4F-4356-BF6C-E8A281FB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C7333-7532-4553-A1C2-B6F9ADA1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DFEE0-1E2A-4F4E-A424-F371C25D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8BD99-4DF6-40B1-8862-AF644C93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273-1FAB-4E30-B3C4-737E8285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E105-E1DE-4572-97D6-32D91864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4634-F34F-45DC-B2DB-FC1A2711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9029A-73A9-4BB5-9DAC-BCF1CDA9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74720-0D48-43E3-B3AD-7FDD40F4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2DCB4-5D02-441C-92B0-66F7B54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F151-1864-43C9-8B67-0C55900D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7AD1-000B-404E-A61C-655949A3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AC46-1447-48F7-A6E6-9D70EF1A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385E-28DE-467D-A77D-CCD9A160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2319-989A-4AAC-96B6-693B5A40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B06-3FB5-4288-9745-BB5E1B8E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F08CA-627B-4CD1-AD08-BD741955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76B1E-103B-4818-9A04-99C8FF5B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FAA8-50B8-4553-998D-C07AA6C9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3110-4432-4280-8CBB-42B3F2FE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2966E-94BB-4DBC-9E7D-5DB99AA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9C991-CEC4-4C0B-8A0C-2E32BAE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EFA9-02DC-4442-BD7A-AF0CFF44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6954-72BF-42BE-95BA-71904A8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A66C6-2222-4CDE-8310-059922A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3131F-63B0-407E-B65A-21A659AD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799-2E77-40BA-89E4-02E4609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CC5FC-CFA4-41BB-8700-C5FCB9B8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7DD-2AB3-462C-9A75-97513D05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507-9795-429E-842B-6CEF6D84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A25-FE9A-4947-8582-405D42C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EEE1-93BF-41CE-AF46-B5587EF2159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F03C-76A9-454D-A4B7-BBB32FBD9A0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1DC2-2146-495C-9355-ACE6DEBEC0C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9CBC-63AD-49FE-8EE0-4C63E01C6EE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21F2-A1D7-47E8-8798-28E46CFC96B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zhelezyaka.com/i/p/080410195525DVD%20from%20CO2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32520" cy="3120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071600" y="5500440"/>
            <a:ext cx="47149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7255080" cy="1176120"/>
          </a:xfrm>
          <a:prstGeom prst="rect">
            <a:avLst/>
          </a:prstGeom>
          <a:ln w="0">
            <a:noFill/>
          </a:ln>
        </p:spPr>
      </p:pic>
      <p:pic>
        <p:nvPicPr>
          <p:cNvPr id="256" name="i-main-pic" descr="Картинка 6 из 73"/>
          <p:cNvPicPr/>
          <p:nvPr/>
        </p:nvPicPr>
        <p:blipFill>
          <a:blip r:embed="rId2"/>
          <a:stretch/>
        </p:blipFill>
        <p:spPr>
          <a:xfrm>
            <a:off x="457200" y="2357280"/>
            <a:ext cx="3686040" cy="250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357800" y="1600200"/>
            <a:ext cx="334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глекислый газ применяют для газирования фруктовых и минеральных вод, для производства сахара, в медицине для углекислых ванн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285800" y="713880"/>
            <a:ext cx="364356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пищевой промышленно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ксид углерода(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 используется как консервант и обозначается на упаковке под кодом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Е290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, а также в качестве разрыхлителя тес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i-main-pic" descr="Картинка 3 из 19276"/>
          <p:cNvPicPr/>
          <p:nvPr/>
        </p:nvPicPr>
        <p:blipFill>
          <a:blip r:embed="rId1"/>
          <a:stretch/>
        </p:blipFill>
        <p:spPr>
          <a:xfrm>
            <a:off x="428760" y="1785960"/>
            <a:ext cx="3757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i-main-pic" descr="Картинка 18 из 1270"/>
          <p:cNvPicPr/>
          <p:nvPr/>
        </p:nvPicPr>
        <p:blipFill>
          <a:blip r:embed="rId1"/>
          <a:stretch/>
        </p:blipFill>
        <p:spPr>
          <a:xfrm>
            <a:off x="428760" y="1285920"/>
            <a:ext cx="3214440" cy="4071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177800" y="642600"/>
            <a:ext cx="352116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аллоны с жидкой углекислот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широко применяютс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качестве огнетушител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) в портативных огнетушителях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) в огнетушительных системах самолетов и кораблей, пожарных углекислотных машинах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акое широкое применение в огнетушении связано с тем, что в некоторых случаях вода не годится для тушен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Содержимое 4" descr="http://im6-tub.yandex.net/i?id=73178656&amp;tov=6"/>
          <p:cNvPicPr/>
          <p:nvPr/>
        </p:nvPicPr>
        <p:blipFill>
          <a:blip r:embed="rId1"/>
          <a:stretch/>
        </p:blipFill>
        <p:spPr>
          <a:xfrm>
            <a:off x="714240" y="4000680"/>
            <a:ext cx="3214800" cy="2286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177800" y="857160"/>
            <a:ext cx="352116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ехнологии очистки различных поверхностей гранул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«сухого льда»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чистка фор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ля литья под давлением с помощью «сухого льда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i-main-pic" descr="Картинка 20 из 44"/>
          <p:cNvPicPr/>
          <p:nvPr/>
        </p:nvPicPr>
        <p:blipFill>
          <a:blip r:embed="rId2"/>
          <a:stretch/>
        </p:blipFill>
        <p:spPr>
          <a:xfrm>
            <a:off x="714240" y="92880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77800" y="857160"/>
            <a:ext cx="37515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вёрдая углекислота — сухой лёд — используется в ледниках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дкая углекислота используется в качестве хладагента и рабочего тел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холодильниках, морозильниках, солнечных электрогенераторах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i-main-pic" descr="Картинка 1 из 7902"/>
          <p:cNvPicPr/>
          <p:nvPr/>
        </p:nvPicPr>
        <p:blipFill>
          <a:blip r:embed="rId1"/>
          <a:stretch/>
        </p:blipFill>
        <p:spPr>
          <a:xfrm>
            <a:off x="1071720" y="85716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" descr="http://www.restomir.ru/UserFiles/Image/06.jpg"/>
          <p:cNvPicPr/>
          <p:nvPr/>
        </p:nvPicPr>
        <p:blipFill>
          <a:blip r:embed="rId2"/>
          <a:stretch/>
        </p:blipFill>
        <p:spPr>
          <a:xfrm>
            <a:off x="500040" y="3000240"/>
            <a:ext cx="3357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28680" y="928800"/>
            <a:ext cx="3770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еные нашли способ, как использовать углекислый газ: из него можно делать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ликарбонат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который применяется для изготовления компакт-диск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вые DVD и пластиковые бутылки из CO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гут появиться в продаже уже через пару лет</a:t>
            </a:r>
            <a:r>
              <a:rPr b="0" lang="ru-RU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Рисунок 4" descr="DVD из углекислого г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071800"/>
            <a:ext cx="3071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71" name="i-main-pic" descr="Картинка 8 из 4105"/>
          <p:cNvPicPr/>
          <p:nvPr/>
        </p:nvPicPr>
        <p:blipFill>
          <a:blip r:embed="rId2"/>
          <a:stretch/>
        </p:blipFill>
        <p:spPr>
          <a:xfrm>
            <a:off x="500040" y="2143080"/>
            <a:ext cx="3714840" cy="327672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3"/>
          <p:cNvSpPr/>
          <p:nvPr/>
        </p:nvSpPr>
        <p:spPr>
          <a:xfrm>
            <a:off x="4357800" y="2071800"/>
            <a:ext cx="3643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ксид углерода 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 играет одну из главных ролей в живой природе, участвуя во многих процессах метаболизма живой клетки. Углекислый газ атмосферы — основной источник углерода для растений. Растения поглощают углекислый газ в процессе фотосинтеза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мышленный спосо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Образуется при горении углерода или соединений на его основе (например, бензина) в условиях недостатка кислород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2C + 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= 2CO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При восстановлении оксида углерода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 раскалённым углём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+ C = 2CO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а реакция часто происходит при печной топке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В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ромышленности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лучают обжигом природных     карбонатов (известняк, доломит).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O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лабораторных условиях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лучают взаимодействием карбонатов и гидрокарбонатов с кислотами, например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мрамор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мела или соды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 соляной кислото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HCI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I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приготовления напитков может быть использована реакция пищевой соды с лимонной кислотой или с кислым лимонным соко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01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6840" y="1356840"/>
            <a:ext cx="3521160" cy="507204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оксид углерода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гарный газ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онооксид углер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аз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 цвет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 запах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егче воздух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ало растворим в вод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много лучше раствори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спирт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T. пл. -205,02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C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. кип. -191,5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отность 1,25 г/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C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чень ядовит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1600"/>
            </a:br>
            <a:br>
              <a:rPr sz="1300"/>
            </a:b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177800" y="1356840"/>
            <a:ext cx="3521160" cy="507204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ксид углерода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глекислый газ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иоксид углерод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аз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 цвет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 запах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,5 раза тяжелее воздух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створим в вод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отность 1,98 г/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.пл. −57 °C)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, кип −78 °C, возгоняется. Тверд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ксид  называется «сухим льдом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и комнатной температуре CO малоактивен, его химическая активность значительно повышается при нагревании и в растворах</a:t>
            </a:r>
            <a:br>
              <a:rPr sz="2200"/>
            </a:b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  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O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– несолеобразующий оксид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нагревании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осстанавливает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металлы из оксидов: </a:t>
            </a: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CO + CuO → Cu + C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орит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 воздухе синим пламенем (температура начала реакции 700 °C)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CO + 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→ 2C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мпература горения CO может достигать 2100 °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1500" spc="-1" strike="noStrike">
                <a:solidFill>
                  <a:srgbClr val="c00000"/>
                </a:solidFill>
                <a:latin typeface="Trebuchet MS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                   </a:t>
            </a:r>
            <a:r>
              <a:rPr b="0" lang="en-US" sz="2000" spc="-1" strike="noStrike">
                <a:solidFill>
                  <a:srgbClr val="c00000"/>
                </a:solidFill>
                <a:latin typeface="Trebuchet MS"/>
              </a:rPr>
              <a:t>CO</a:t>
            </a:r>
            <a:r>
              <a:rPr b="0" lang="en-US" sz="18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кислотный оксид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Взаимодействует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 водо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образуя нестойкую угольную кислоту (реакция обратима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1900"/>
            </a:br>
            <a:br>
              <a:rPr sz="19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 Взаимодействует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о щелочами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при этом образуются карбонаты и гидрокарбонаты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Взаимодействует с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основными оксидам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Рисунок 3" descr="5005-31.jpg"/>
          <p:cNvPicPr/>
          <p:nvPr/>
        </p:nvPicPr>
        <p:blipFill>
          <a:blip r:embed="rId2"/>
          <a:stretch/>
        </p:blipFill>
        <p:spPr>
          <a:xfrm>
            <a:off x="2786040" y="2786040"/>
            <a:ext cx="438120" cy="1429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8" descr="5005-31.jpg"/>
          <p:cNvPicPr/>
          <p:nvPr/>
        </p:nvPicPr>
        <p:blipFill>
          <a:blip r:embed="rId3"/>
          <a:stretch/>
        </p:blipFill>
        <p:spPr>
          <a:xfrm>
            <a:off x="2786040" y="2857680"/>
            <a:ext cx="43812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000680" y="2143080"/>
            <a:ext cx="39290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 восстановител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 применя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металлург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выплавк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угун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i-main-pic" descr="Картинка 10 из 129"/>
          <p:cNvPicPr/>
          <p:nvPr/>
        </p:nvPicPr>
        <p:blipFill>
          <a:blip r:embed="rId2"/>
          <a:stretch/>
        </p:blipFill>
        <p:spPr>
          <a:xfrm>
            <a:off x="357120" y="2286000"/>
            <a:ext cx="3571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i-main-pic" descr="Картинка 8 из 196"/>
          <p:cNvPicPr/>
          <p:nvPr/>
        </p:nvPicPr>
        <p:blipFill>
          <a:blip r:embed="rId1"/>
          <a:stretch/>
        </p:blipFill>
        <p:spPr>
          <a:xfrm>
            <a:off x="693720" y="1500120"/>
            <a:ext cx="3235320" cy="3857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177800" y="785880"/>
            <a:ext cx="352116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Водяной газ используется как топливо, а также применяется в химическом синтезе — для получения аммиака,, высших спиртов и т. п.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1640" y="642600"/>
            <a:ext cx="34290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ксид углерода(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 применяется для обработки мяса животных и рыбы, придает им ярко красный цвет и вид свежести, не изменяя вкус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опустимая концентрация CO равна 200 мг/кг мяс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i-main-pic" descr="Картинка 10 из 251821"/>
          <p:cNvPicPr/>
          <p:nvPr/>
        </p:nvPicPr>
        <p:blipFill>
          <a:blip r:embed="rId1"/>
          <a:stretch/>
        </p:blipFill>
        <p:spPr>
          <a:xfrm>
            <a:off x="428760" y="1571760"/>
            <a:ext cx="39290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7:47:15Z</dcterms:created>
  <dc:creator>Оля</dc:creator>
  <dc:description/>
  <dc:language>en-US</dc:language>
  <cp:lastModifiedBy>adm</cp:lastModifiedBy>
  <dcterms:modified xsi:type="dcterms:W3CDTF">2018-01-22T06:53:51Z</dcterms:modified>
  <cp:revision>90</cp:revision>
  <dc:subject/>
  <dc:title>Оксиды углерода</dc:title>
</cp:coreProperties>
</file>