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161-4525-4D78-A7A6-21AACA0D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C83-3422-479F-A9BA-5CE65856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C1D39-151D-4ED8-8B26-54628B23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EB489-2EE7-4883-AEF1-479AE04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E4C95-7FCB-4D06-AFCE-24071FE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FA8A-1001-4821-A819-395FE3B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B71C-2EF4-490B-8FA3-1FC50D9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B9112-0514-4602-9A63-1AC08859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4B510-47CE-40F4-9C00-1F1948C8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85EC6-AF6F-4196-82D6-A70B9DD9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3302F-AA58-4303-92DB-B1598645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D59E2-2815-4E49-BCD5-4728B22A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B8E-6877-4CE7-ACAA-4508D219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CE3D8-79BD-4309-820F-5A105FB5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A698D-CDBB-47A4-A46D-C83AC595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55002-3B91-4593-BE60-6EF3B802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B3785-9CCD-498A-982F-0430364C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9EBA8-6122-4C36-A94E-C4AA589C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BFF45-79CB-4E03-91F7-FF26F87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9C551-FC70-4AD9-975E-9AE373A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17A7F-6101-4B72-8007-3E122FA8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57BEC-59F1-4805-911B-A5D2411A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12F9C-9BD5-4099-A878-C6831F26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2F6-11A2-4F7F-9494-69EB88DC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A1C7E-BB0E-4E38-830C-3FEA8E00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DAB1A-5886-42B7-9E7A-BEAA1701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74B99-C4C6-43AE-86DA-00F345E6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4711-BA4D-4DF0-888B-4D9AB1E5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84614-A69D-4324-AB54-E63A1311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2826D-E80B-42BA-A7F3-2B569780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31620-DE86-4F0F-AA20-C8BAD786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C9DB8-34AF-420D-8EFD-D1ABC4F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FCEA5-6A6F-44AC-B027-F7EC16B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A3C4F-9DB9-41E0-B24A-9CD27BE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E058-6290-4A61-A28E-2402E3CD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16F26-1D04-433F-9915-DE5B2949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11AF1-B48E-41C9-B8A6-E013414A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334E9-62E4-4EA0-BF28-F8A26A7F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4D33E-23A5-4010-BB9C-CDCBC01D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C9F17-F7E2-4A6E-9252-C334D40D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C982D-6712-4820-ADC5-1A6DB7AB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F546D-E1D3-4B8E-A4BE-297EB72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D9FD9-4045-46B5-BD50-90B5E53F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59BDB-E43D-4BB0-A6D5-64A264D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8306B-06DE-4ED0-94B8-800D890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4AC-6F25-40E0-B4BB-FEA04B8F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CC81E-8FFA-4745-A91D-5FAB032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32AA3-642A-4089-A115-3E1FBFA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D3C4D-B4B2-4A81-AF72-25E4EC82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88B9A-67C8-4D9D-8B9E-9C905D41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14E46-8640-46D4-B12B-E5A76DB9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0E13D-DA57-48B1-8AA0-3E4761E8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0FAB9-C705-48D4-A990-26C7E72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2DE5E-B99C-4DB9-B588-ECCA24B7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0C95F-7398-489D-A653-52A015E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909CA-AFAA-4684-ABDA-DF48D09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FB5-2C9B-49B1-8CD7-FCDA79D8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ABC48-E94B-4251-9E91-6CC2024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1E812-46D3-4A75-A932-EEB7B0F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6479C-AA9E-4807-8C98-E5B86986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E4E47-2CA5-4ADE-9AA0-31D8C5DC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DA7DB-7A92-435D-A4A3-F9D4652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7CFA0-08F5-46E0-B480-E5B96B8A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68EFC-3205-4749-A8BB-13394937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6E4DE-D8C6-4F0A-BC0B-82256898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932BA-FE05-4B46-B8D1-B7C49922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EE5ED-DB7B-410C-B03A-84BFA9C6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7BB7-A0C7-467B-86B9-BF4991FF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81783-9F73-4705-A49E-2464266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42591-08D9-43A5-9459-A59AA0EA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C75FD-A6E6-4069-8848-5F0E63B6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8B8E2-4911-4E71-B492-1F5FCC6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931C3-DD73-45DA-BA40-6E814E5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E2C55-46E2-4492-B0C7-878DEF2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FC6C1-59AE-4027-9F60-CDF9ABC5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5E33C-440A-4767-826E-08F0AF4B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8FC6E-3256-4042-8691-CDB0E569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B95C9-444E-4341-AAF9-A83ED385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3187-7392-4D2A-9D9B-129D06F3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DE6E2-1347-4620-972B-D0A9E486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EBE9A-DF7C-46F1-8A1F-B1C2DB62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02F03-D7FA-4465-BCE9-61D61585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4A1BB-7ABD-4933-8D6B-F34BEAD6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0DF3F-8E65-46E7-B745-354DAFB9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EBC78-2077-4C4E-99FD-F05C7FEB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3D49D-B9E9-4D3F-937F-5829162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C2E2A-AC6E-47A1-9B80-34BA33C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82826-10B0-4692-8149-67950127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68D61-FAB9-4D91-AC18-FE7CC206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E6C6-C2FD-4EF9-AF90-BC3732B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E9133-F6A5-4F5C-9F95-C2F574BB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CB677-AA99-43D9-9308-D83F467D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E34A6-F6AA-46AE-83B7-B417043F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2011D-63D5-40DE-9082-5383F116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3AF8D-E83C-4957-9B97-8420C34E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44E69-CD7E-422F-80AE-4A8037E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3035D-3D65-4292-BD0F-DF1CD95A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831E4-76C1-4652-B387-5BF947DA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59E4E-4AE7-4434-B8EC-C410F52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31965-EEA2-4E7F-99EE-8BB383F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4AD2-BF70-4A0F-93A0-8C607CC2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769C3-7344-437D-8B6B-17B656B0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ED453-5A6A-4754-8629-91AE2404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0D1E4-CD5A-4848-9166-3DCE5B0C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CDF5D-8C17-45BA-B342-FEECA567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799F1-DB09-4C5E-88DE-19423D4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B7409-F50D-41D5-9BE7-F8285FA2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B0C28-602E-47AF-97FC-0BB257EB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1345C-391A-4049-8773-0977AF53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A9D97-81DC-4385-9C9F-AE18E6FC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3C1EE-24C3-4F33-8603-01A66E6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EF8-BD90-47AB-A07D-3A02D42F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E5F-0170-4972-832D-2609599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F46E9-7B7A-41A2-B9CA-6E12516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7938E-6945-4E8E-8187-787ABCC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15693-C228-4288-A63A-7F1A60D7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AC2F6-CE04-409A-B626-6B54A540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18907-09FA-4287-9825-D2BCA010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6C04C-15B7-4F3C-98B5-0A7B5287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49BAA-8798-4AF5-B259-5F58F1DE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92244-BDAA-4A45-A5E8-D1B90AEC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51C3A-ECC0-49BA-94BC-7E498F6B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C5444-C0E5-4781-A9A9-37992C8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2C02-BA35-4750-BB82-D894C07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88BAA-544E-4F03-92DE-73683111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71F58-05F5-47F5-A375-0B75ACB9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46579-4BBB-47F1-890A-A60C1C7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ABC1C-F07A-4F42-833A-7DD54BC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C61BA-E10F-4A46-A38A-2FFEFCA3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DC563-680B-4EB9-AAD4-66934F45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855B3-6030-4CEA-B6C0-102D1D01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E7406-EFEB-4C70-9EB8-703BD275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9D37C-05A1-405D-A245-2BCBA94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D9919-A6E7-4F58-9258-0C1F36C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A8B3-AADC-4275-9A2A-F13448C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8F19E-AB9B-43E5-8722-B896C1BC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7A968-5D19-4F05-88D8-C9D92D29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2847D-559A-418E-82E1-DB039826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448E5-B98E-4916-BC2C-4259138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02CA3B-A8FE-400B-922F-B5ECF49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6A3C0-3A3F-413F-B1B6-EB5CBB8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7B08B-C430-49B5-ADB0-3498FC8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A17FC-CFFF-4F0B-9271-27A04064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76888-DFE4-4857-B8A6-B20B3189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CBEDF-ED98-493F-A2CB-9DEF8A12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442F-E85A-47E1-805A-13CC8CBB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0E94B-8360-4985-AA00-AF647EEB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26BA2-0CBC-4F62-B924-FC611881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1749D-6027-4FD8-B007-C967D8B2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9ABE8-650F-4F4E-9329-AB000A2E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60B42-2A14-4F21-9A90-E679C5BE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182BC-5DF4-4193-8204-81ABD9C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77AB0-1C15-452C-9253-EDFAF21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A94A9-F2B0-47E8-AEDA-4368EA7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B6DF6-D2D9-4646-AA1B-5F477821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94C0C-1832-4950-B1A5-FC98D5A6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4011-44D1-4C8E-9EE9-CA2E23F2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F4EEB-B710-43F7-A764-6049634D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57CCB-96FE-46ED-ADBE-54A02086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527E6-1A06-4B90-AD1F-5DEAD3DE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439A3-C01B-4BA7-83B8-00E1BAD9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88C95-1FFC-40A3-A0E5-025EB54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93026B-4B4D-4AE8-92F1-1D5D9BA0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F3577-AA72-4921-AA78-7E2C92B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51155-87B7-4E56-8443-99C7747D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FF966-DE89-40C3-A19D-F238068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CE440-6EE5-4519-836D-AEF2855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6734-96B4-4E01-996D-80C2A4C0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5D6FE-A9C5-4C5B-90B2-355A3017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B04EF-BB48-4B97-9B58-26CCB276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F3474-0B60-44A5-A684-84C7804B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3DEFB-8B14-487D-BBF3-9072D06F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A5803-C981-4251-A244-6941D3DF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50089B-B5E4-4F47-AADB-25C26CC5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BB5F16-3642-40F4-8B65-EE9817D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E22512-CC52-4180-8A2B-78991449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CFD52-9B1D-4FD2-A321-12BD998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41D55-7D90-4325-9AF6-1EB0202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86C6-FDB1-4038-87B6-6964663F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FF990D-7A34-4E14-B851-6AC67B5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24438-49AF-41E4-8C5A-449A783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A20A25-98FC-48A2-88B1-2E022CC4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D23A4F-4142-4429-BF9B-83386627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2AA64-43D6-436B-9E51-5C3F2894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FD8D00-70D8-4AEC-8946-E36B7DB8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85F96C-BB19-4A70-9D9E-B4DC0CB6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E0A41A-F977-4603-B935-042B04D5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F54244-58CE-4E12-A410-07D6452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F91B0-2A19-43D3-B3F5-C49D5069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F747-E1BD-4C81-A53B-3CD0B359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1DFE3-003E-429E-B6C1-8474196E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A21EC1-DEEA-4B21-A21A-BE5698E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318D4-77D3-4473-9DB9-816AF740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1CE3B4-C17B-4926-8F3E-E7AD946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4536D-B291-41F5-9753-7287848A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DD9AB8-CC57-4D6F-86AC-1DFEA698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BD717-029A-4066-A417-60781F3C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66B060-940F-45B4-9F66-0D79D4AB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871153-B250-4265-B611-D23F0EF6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E3DBAF-63F2-4EE0-9FD2-0E0FC37F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35F8-631E-4042-AADC-27ABF38F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A0FAAD-3F29-4827-A945-4A6EB43D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843018-C8DE-4D72-BA2A-397F02F3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564A4E-9A6D-4807-B8C0-BE00B5CD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C02E0-DA2D-45AB-B321-4C75ED0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B6C72D-12F8-41A1-B0D1-6580ACD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E2EA7D-D885-4D1B-A2DD-251921E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4B2048-E514-4DCB-A1F5-6EAD1B6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F2F366-AD2F-415C-B9F7-F0F232D0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3503AE-074D-4BBA-998F-FD1E0559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CADB53-0A41-430C-97C6-33AC61C3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89F0-24D7-4EDD-9DF8-3CE8AE1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5B46A7-2D4E-418A-A891-ABDCBC7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A78BC-A28A-498A-AF98-A9C89D4F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400BE1-1A83-4AF1-BE68-5EBF9CD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DAACCE-7F3C-42C3-870D-E270464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F8283A-CDC4-40BC-B60F-A4A7AC2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A44CB0-C67F-4A44-84A2-0BF39CB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A9EDE-013D-4C73-99C1-74429BDE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8A7EF2-15D7-4559-9D2A-803A8E8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7F36D4-5E05-47E5-AAA3-54EDAAC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81E251-208E-4467-9267-C42D0749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01E-7508-4A40-8461-41B48EAE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4361-B899-4AD2-90D3-DC1B973F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2DE389-160B-448B-992A-B9303AFD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D8F0-A9C1-4619-80D2-3A0368B2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5C33-FC58-4E4C-8680-5578229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760B-CC1B-413B-AD4A-3E0E042A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7B21-9751-4867-A568-7EC566B0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7046-E21B-454F-93AA-C4207044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D509-4265-4CCF-9B22-BF5DD722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71A4-2A68-4543-8AAF-89C09642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FC2E-2BAC-4CEF-AEE7-9700D667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5609-AF54-43A9-8728-0BDF16B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D82-A6B5-4519-BEB9-D27DB7FA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CFAE-AE47-4E7D-AAEB-B3C6E781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58CD-DFEB-4C2F-91AF-6C1F58E8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DF5F-3752-42C4-9C6B-2D0ECBA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F88F3-09C5-4A5B-B0F7-C9992671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28E2-9951-4648-946D-5E5A88C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1A3C-668D-45B4-86F7-AD05B59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BEAF9-81D3-47E4-8101-2E6C9268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00A7-C6EE-4640-8543-EEC3F22F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A2DC-7D3B-4854-A0E6-F8D2F4B2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81A1E-EB47-44FD-B4EA-87C5512D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DB3-EFD8-42E8-A11A-E23438CB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2BFBC-ACD5-4443-A63D-5B03B9D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7749-2665-46C1-9415-BBDE495A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9F3B-8040-4E9C-BB63-2223C73B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5C62-B8D8-4853-9C98-F8F5330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83E4-7844-4DB5-9CF7-AD90C3C4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EF65-1057-4050-A72E-7067C4E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9D63F-5E7C-407C-97D7-C6BEDBB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4FB51-D70A-4F05-AABF-2D42BE67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F914-36B0-4176-9CF3-7B2D395D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3ECD4-532A-4CDC-B8C3-30BC08CC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E67-0A8E-438E-9353-F9DE955D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1610-18C7-43FA-8857-73B1C0A2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1F660-81A4-42D9-ABAA-F8E8B209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FC0F-0320-48E4-89F1-E3E0CF77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5C78-DC69-4D60-9F5C-0A3745AA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B1FD-CD5A-420B-AEF2-5F3F0884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BA0C-0EA0-4468-8FD0-15369E8B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BC40-F60A-4BAC-B6D0-F43E61EB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7C885-51ED-4D33-A6EB-ED7DC87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D4B76-3073-49B8-9AC7-3E1E166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DDDE8-F0E2-4AF0-A342-2EBB343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997-74F9-4C43-9CCD-E4D7777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13BF8-C081-40CB-AF9C-C9411E50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F242-F8ED-421D-9A6A-D20F9BC6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8F4A-0D20-4D7E-98CF-C6BFEBBA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BFFA7-4CC4-4FFE-9A93-77ECCAA5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5A446-D781-4289-94A4-ED7ECA7C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BF11-6EC1-4910-A7E3-7EBCB36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4394D-26F0-4697-AB6E-62BDCBFF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BB68-B16F-480B-9189-AB2CBFAF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91C1B-184F-44DD-B5F7-202E923C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C7D3-5204-4C45-BA2E-E989CE7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A72-1A0B-48A1-AE91-4125E9D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6D33F-43CA-492A-9121-1913285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060E1-3CDB-407A-84D3-63260D23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08ED9-099D-47C1-B32F-B1DE864A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A8E3-E6F5-4F9E-9492-F9EC1845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9AC9C-1BD5-476A-8058-0DDED6D9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7BEB-DF05-40D3-9B8A-2817D159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2F04-E44D-4424-B2E9-9DF9D468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34DA6-038D-4A20-9901-98BDAC04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26986-B0FC-4CF5-9075-270099D6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5389-2DE5-4F59-9362-B928CD8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395-A9DD-4BE5-8D24-5483E25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7774-A145-4779-A83F-C5BB14D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FF84-5BCF-4787-AAB0-2E928A8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3E28-2DCD-4FD5-B714-D1A28A77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687E-6C36-467E-AB7D-C9BB011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F939D-0B14-43B9-8C9A-47AFA41D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1D855-238A-46C1-9B51-D689DCB0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BE1D9-039C-402B-B5D5-1D012933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3F591-3D67-48F7-9841-1AE0A023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873DC-AE47-4300-9E9A-9588BFC1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EFEA7-A2BA-45BD-B79A-465FA24C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F8E4-E780-47F0-9F1B-09EBF0BEE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8B29-7DC3-4278-83F9-8BB6D68D97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027F-FAC9-4A6A-A8BB-E5620B7F17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10CA-FF94-4A44-AB83-55136AF724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BD7-FF77-47DE-B08F-40DC4199E1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D067-33E3-4C81-B774-B604762416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42EC-8304-4BCB-B0A5-1CF93CDF66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6E5F-0BAB-4AE4-B745-66F1FA9F8B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59E-E1AF-43FF-B05E-765E93CB0C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636-3550-4F2E-963F-0F03C1A665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8414-AA4B-423B-8619-A533A8C106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9DA2-1741-47CC-B803-905140526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283C-3149-4277-B90D-5443C823D2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3CD-762B-4C9D-9769-298AF5B483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2261-8358-469C-99E4-6A369503D1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083C-A40C-4E7C-AD8E-E538E59798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3B0E-41CE-495B-A5A4-DF97E81BDA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693-647B-46BA-8287-E5064F9304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844D-EDFF-40F2-89AC-E52D788F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C13-B851-4B59-AB60-D496D85459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CAF0-C8C8-4BE8-A1F8-E2AC5A245C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27F-1F7D-4A83-9959-767C2C6BA7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C149-C899-4DF8-ADA8-C723671B4D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E8BE-CEF3-46CF-95C4-8DC0852054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691-D32E-4B34-97B9-35221E1B66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Развит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читательской грамотности на уроках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6"/>
          <p:cNvSpPr/>
          <p:nvPr/>
        </p:nvSpPr>
        <p:spPr>
          <a:xfrm>
            <a:off x="1714680" y="6429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лан-Баторский филиал РЭУ имени Г.В.Плех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1690560" y="5743440"/>
            <a:ext cx="727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слакова Марина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атемати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з опыт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Багетная рамка 1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296"/>
            </a:avLst>
          </a:prstGeom>
          <a:noFill/>
          <a:ln w="85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2"/>
          <p:cNvSpPr/>
          <p:nvPr/>
        </p:nvSpPr>
        <p:spPr>
          <a:xfrm>
            <a:off x="-124560" y="380880"/>
            <a:ext cx="50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и самостоятель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E:\анимашки\Рисунок1.gif"/>
          <p:cNvPicPr/>
          <p:nvPr/>
        </p:nvPicPr>
        <p:blipFill>
          <a:blip r:embed="rId1"/>
          <a:srcRect l="0" t="0" r="0" b="10668"/>
          <a:stretch/>
        </p:blipFill>
        <p:spPr>
          <a:xfrm>
            <a:off x="533520" y="3581280"/>
            <a:ext cx="2247840" cy="1676520"/>
          </a:xfrm>
          <a:prstGeom prst="rect">
            <a:avLst/>
          </a:prstGeom>
          <a:ln w="0">
            <a:noFill/>
          </a:ln>
        </p:spPr>
      </p:pic>
      <p:sp>
        <p:nvSpPr>
          <p:cNvPr id="1051" name="Скругленная прямоугольная выноска 4"/>
          <p:cNvSpPr/>
          <p:nvPr/>
        </p:nvSpPr>
        <p:spPr>
          <a:xfrm>
            <a:off x="685800" y="838080"/>
            <a:ext cx="7924680" cy="1219320"/>
          </a:xfrm>
          <a:prstGeom prst="wedgeRoundRectCallout">
            <a:avLst>
              <a:gd name="adj1" fmla="val -41476"/>
              <a:gd name="adj2" fmla="val 165925"/>
              <a:gd name="adj3" fmla="val 16667"/>
            </a:avLst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льный кубик бросают дважды. Найдите вероятность того, что первый раз выпадет число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Скругленный прямоугольник 6"/>
          <p:cNvSpPr/>
          <p:nvPr/>
        </p:nvSpPr>
        <p:spPr>
          <a:xfrm>
            <a:off x="2743200" y="1981080"/>
            <a:ext cx="5791320" cy="396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62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13"/>
          <p:cNvSpPr/>
          <p:nvPr/>
        </p:nvSpPr>
        <p:spPr>
          <a:xfrm>
            <a:off x="6112800" y="57913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Ответ: 1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2895480" y="2209680"/>
          <a:ext cx="4751640" cy="3475080"/>
        </p:xfrm>
        <a:graphic>
          <a:graphicData uri="http://schemas.openxmlformats.org/drawingml/2006/table">
            <a:tbl>
              <a:tblPr/>
              <a:tblGrid>
                <a:gridCol w="1295640"/>
                <a:gridCol w="576000"/>
                <a:gridCol w="576360"/>
                <a:gridCol w="574560"/>
                <a:gridCol w="576360"/>
                <a:gridCol w="576360"/>
                <a:gridCol w="5763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на выпавших стор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5" name="Прямоугольник 11"/>
          <p:cNvSpPr/>
          <p:nvPr/>
        </p:nvSpPr>
        <p:spPr>
          <a:xfrm>
            <a:off x="4800600" y="2971800"/>
            <a:ext cx="2971800" cy="266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4"/>
          <p:cNvSpPr/>
          <p:nvPr/>
        </p:nvSpPr>
        <p:spPr>
          <a:xfrm>
            <a:off x="4267080" y="29718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Прямоугольник 15"/>
          <p:cNvSpPr/>
          <p:nvPr/>
        </p:nvSpPr>
        <p:spPr>
          <a:xfrm>
            <a:off x="4267080" y="52578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рямоугольник 16"/>
          <p:cNvSpPr/>
          <p:nvPr/>
        </p:nvSpPr>
        <p:spPr>
          <a:xfrm>
            <a:off x="4267080" y="48006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7"/>
          <p:cNvSpPr/>
          <p:nvPr/>
        </p:nvSpPr>
        <p:spPr>
          <a:xfrm>
            <a:off x="4267080" y="43434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Прямоугольник 19"/>
          <p:cNvSpPr/>
          <p:nvPr/>
        </p:nvSpPr>
        <p:spPr>
          <a:xfrm>
            <a:off x="4267080" y="38862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20"/>
          <p:cNvSpPr/>
          <p:nvPr/>
        </p:nvSpPr>
        <p:spPr>
          <a:xfrm>
            <a:off x="4267080" y="34290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3"/>
              <p:cNvSpPr txBox="1"/>
              <p:nvPr/>
            </p:nvSpPr>
            <p:spPr>
              <a:xfrm>
                <a:off x="5181480" y="4495680"/>
                <a:ext cx="20433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3" name="TextBox 21"/>
          <p:cNvSpPr/>
          <p:nvPr/>
        </p:nvSpPr>
        <p:spPr>
          <a:xfrm>
            <a:off x="4884120" y="3048120"/>
            <a:ext cx="28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сего  вариантов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Комбинаций с первой «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61,62,63,64,65,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Багетная рамка 1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296"/>
            </a:avLst>
          </a:prstGeom>
          <a:noFill/>
          <a:ln w="85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"/>
          <p:cNvSpPr/>
          <p:nvPr/>
        </p:nvSpPr>
        <p:spPr>
          <a:xfrm>
            <a:off x="-124560" y="380880"/>
            <a:ext cx="50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и самостоятель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2" descr="E:\анимашки\Рисунок1.gif"/>
          <p:cNvPicPr/>
          <p:nvPr/>
        </p:nvPicPr>
        <p:blipFill>
          <a:blip r:embed="rId1"/>
          <a:srcRect l="0" t="0" r="0" b="10668"/>
          <a:stretch/>
        </p:blipFill>
        <p:spPr>
          <a:xfrm>
            <a:off x="533520" y="3581280"/>
            <a:ext cx="2247840" cy="1676520"/>
          </a:xfrm>
          <a:prstGeom prst="rect">
            <a:avLst/>
          </a:prstGeom>
          <a:ln w="0">
            <a:noFill/>
          </a:ln>
        </p:spPr>
      </p:pic>
      <p:sp>
        <p:nvSpPr>
          <p:cNvPr id="1067" name="Скругленная прямоугольная выноска 4"/>
          <p:cNvSpPr/>
          <p:nvPr/>
        </p:nvSpPr>
        <p:spPr>
          <a:xfrm>
            <a:off x="685800" y="838080"/>
            <a:ext cx="7924680" cy="1219320"/>
          </a:xfrm>
          <a:prstGeom prst="wedgeRoundRectCallout">
            <a:avLst>
              <a:gd name="adj1" fmla="val -41476"/>
              <a:gd name="adj2" fmla="val 165925"/>
              <a:gd name="adj3" fmla="val 16667"/>
            </a:avLst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льный кубик бросают дважды. Сколько элементарных исходов опыта благоприятствуют событию А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очков равна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Скругленный прямоугольник 6"/>
          <p:cNvSpPr/>
          <p:nvPr/>
        </p:nvSpPr>
        <p:spPr>
          <a:xfrm>
            <a:off x="2743200" y="1981080"/>
            <a:ext cx="5791320" cy="396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62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13"/>
          <p:cNvSpPr/>
          <p:nvPr/>
        </p:nvSpPr>
        <p:spPr>
          <a:xfrm>
            <a:off x="6158160" y="579132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Ответ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2895480" y="2209680"/>
          <a:ext cx="4751640" cy="3475080"/>
        </p:xfrm>
        <a:graphic>
          <a:graphicData uri="http://schemas.openxmlformats.org/drawingml/2006/table">
            <a:tbl>
              <a:tblPr/>
              <a:tblGrid>
                <a:gridCol w="1295640"/>
                <a:gridCol w="576000"/>
                <a:gridCol w="576360"/>
                <a:gridCol w="574560"/>
                <a:gridCol w="576360"/>
                <a:gridCol w="576360"/>
                <a:gridCol w="5763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на выпавших стор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1" name="Прямоугольник 14"/>
          <p:cNvSpPr/>
          <p:nvPr/>
        </p:nvSpPr>
        <p:spPr>
          <a:xfrm>
            <a:off x="6019920" y="2971800"/>
            <a:ext cx="38088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рямоугольник 17"/>
          <p:cNvSpPr/>
          <p:nvPr/>
        </p:nvSpPr>
        <p:spPr>
          <a:xfrm>
            <a:off x="4343400" y="4343400"/>
            <a:ext cx="38088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рямоугольник 19"/>
          <p:cNvSpPr/>
          <p:nvPr/>
        </p:nvSpPr>
        <p:spPr>
          <a:xfrm>
            <a:off x="4876920" y="3886200"/>
            <a:ext cx="38088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рямоугольник 20"/>
          <p:cNvSpPr/>
          <p:nvPr/>
        </p:nvSpPr>
        <p:spPr>
          <a:xfrm>
            <a:off x="5410080" y="3429000"/>
            <a:ext cx="38124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Рисунок 1" descr=""/>
          <p:cNvPicPr/>
          <p:nvPr/>
        </p:nvPicPr>
        <p:blipFill>
          <a:blip r:embed="rId1"/>
          <a:srcRect l="5174" t="6688" r="3514" b="0"/>
          <a:stretch/>
        </p:blipFill>
        <p:spPr>
          <a:xfrm>
            <a:off x="15840" y="476280"/>
            <a:ext cx="91504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11"/>
          <p:cNvGrpSpPr/>
          <p:nvPr/>
        </p:nvGrpSpPr>
        <p:grpSpPr>
          <a:xfrm>
            <a:off x="1547640" y="1979640"/>
            <a:ext cx="7416720" cy="4246200"/>
            <a:chOff x="1547640" y="1979640"/>
            <a:chExt cx="7416720" cy="4246200"/>
          </a:xfrm>
        </p:grpSpPr>
        <p:sp>
          <p:nvSpPr>
            <p:cNvPr id="1030" name="AutoShape 9"/>
            <p:cNvSpPr/>
            <p:nvPr/>
          </p:nvSpPr>
          <p:spPr>
            <a:xfrm>
              <a:off x="1547640" y="1979640"/>
              <a:ext cx="676908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"/>
            <p:cNvSpPr/>
            <p:nvPr/>
          </p:nvSpPr>
          <p:spPr>
            <a:xfrm>
              <a:off x="2269800" y="2311560"/>
              <a:ext cx="6694560" cy="39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этап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 Работа до ч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этап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 Работа с текст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этап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 Работа после ч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Text Box 4"/>
          <p:cNvSpPr/>
          <p:nvPr/>
        </p:nvSpPr>
        <p:spPr>
          <a:xfrm>
            <a:off x="1692360" y="765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Как научить эфективно читать тексты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Рисунок 1" descr=""/>
          <p:cNvPicPr/>
          <p:nvPr/>
        </p:nvPicPr>
        <p:blipFill>
          <a:blip r:embed="rId1"/>
          <a:srcRect l="0" t="0" r="81505" b="0"/>
          <a:stretch/>
        </p:blipFill>
        <p:spPr>
          <a:xfrm>
            <a:off x="0" y="0"/>
            <a:ext cx="97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ерные или неверные у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1008000" y="1111320"/>
          <a:ext cx="8099640" cy="5203800"/>
        </p:xfrm>
        <a:graphic>
          <a:graphicData uri="http://schemas.openxmlformats.org/drawingml/2006/table">
            <a:tbl>
              <a:tblPr/>
              <a:tblGrid>
                <a:gridCol w="6804000"/>
                <a:gridCol w="647640"/>
                <a:gridCol w="648000"/>
              </a:tblGrid>
              <a:tr h="12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упой угол – это угол, который нарисован тупым карандаш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ол – это геометрическая фиг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ол состоит из двух пересекающихся прям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вают углы острые и туп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ол состоит из двух лучей, выходящих из одной т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вные углы – это те, у которых равны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ссектриса - это такой угол, у которого три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вает прямой у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рый угол - это угол, который меньше пря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6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69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Рисунок 4" descr=""/>
          <p:cNvPicPr/>
          <p:nvPr/>
        </p:nvPicPr>
        <p:blipFill>
          <a:blip r:embed="rId1"/>
          <a:srcRect l="26202" t="41142" r="25649" b="32283"/>
          <a:stretch/>
        </p:blipFill>
        <p:spPr>
          <a:xfrm>
            <a:off x="965160" y="1692360"/>
            <a:ext cx="8148600" cy="25286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Рисунок 7" descr=""/>
          <p:cNvPicPr/>
          <p:nvPr/>
        </p:nvPicPr>
        <p:blipFill>
          <a:blip r:embed="rId2"/>
          <a:stretch/>
        </p:blipFill>
        <p:spPr>
          <a:xfrm>
            <a:off x="-3240" y="0"/>
            <a:ext cx="9684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971280" y="1125000"/>
            <a:ext cx="8172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звание по оглав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содержание пункта пара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слова и выражения, выяснить их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по ходу чтения вопросы и ответить на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основн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основные теоремы и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определения понятий; теор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рать конкретные примеры в тексте и придумать св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провести доказательство теор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рисунки, схемы, черт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ить на вопросы в тек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ть и задать свои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69840" cy="3067200"/>
          </a:xfrm>
          <a:prstGeom prst="rect">
            <a:avLst/>
          </a:prstGeom>
          <a:ln w="0">
            <a:noFill/>
          </a:ln>
        </p:spPr>
      </p:pic>
      <p:pic>
        <p:nvPicPr>
          <p:cNvPr id="1043" name="Объект 3" descr=""/>
          <p:cNvPicPr/>
          <p:nvPr/>
        </p:nvPicPr>
        <p:blipFill>
          <a:blip r:embed="rId2"/>
          <a:srcRect l="6170" t="3814" r="5276" b="2318"/>
          <a:stretch/>
        </p:blipFill>
        <p:spPr>
          <a:xfrm>
            <a:off x="1020600" y="692280"/>
            <a:ext cx="80964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Рисунок 1" descr=""/>
          <p:cNvPicPr/>
          <p:nvPr/>
        </p:nvPicPr>
        <p:blipFill>
          <a:blip r:embed="rId1"/>
          <a:srcRect l="4618" t="8656" r="3514" b="3735"/>
          <a:stretch/>
        </p:blipFill>
        <p:spPr>
          <a:xfrm>
            <a:off x="7920" y="476280"/>
            <a:ext cx="9132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Рисунок 1" descr=""/>
          <p:cNvPicPr/>
          <p:nvPr/>
        </p:nvPicPr>
        <p:blipFill>
          <a:blip r:embed="rId1"/>
          <a:srcRect l="6831" t="10625" r="9045" b="27362"/>
          <a:stretch/>
        </p:blipFill>
        <p:spPr>
          <a:xfrm>
            <a:off x="0" y="476280"/>
            <a:ext cx="9207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Рисунок 1" descr=""/>
          <p:cNvPicPr/>
          <p:nvPr/>
        </p:nvPicPr>
        <p:blipFill>
          <a:blip r:embed="rId1"/>
          <a:srcRect l="25095" t="12594" r="12921" b="32283"/>
          <a:stretch/>
        </p:blipFill>
        <p:spPr>
          <a:xfrm>
            <a:off x="971640" y="549360"/>
            <a:ext cx="8172360" cy="5543640"/>
          </a:xfrm>
          <a:prstGeom prst="rect">
            <a:avLst/>
          </a:prstGeom>
          <a:ln w="0">
            <a:noFill/>
          </a:ln>
        </p:spPr>
      </p:pic>
      <p:pic>
        <p:nvPicPr>
          <p:cNvPr id="1047" name="Рисунок 2" descr=""/>
          <p:cNvPicPr/>
          <p:nvPr/>
        </p:nvPicPr>
        <p:blipFill>
          <a:blip r:embed="rId2"/>
          <a:stretch/>
        </p:blipFill>
        <p:spPr>
          <a:xfrm>
            <a:off x="0" y="7920"/>
            <a:ext cx="969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QW</cp:lastModifiedBy>
  <dcterms:modified xsi:type="dcterms:W3CDTF">2022-12-18T04:39:22Z</dcterms:modified>
  <cp:revision>32</cp:revision>
  <dc:subject/>
  <dc:title>Слайд 1</dc:title>
</cp:coreProperties>
</file>