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4754-2A3A-432C-BDDE-F9D524E35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A7AE-27CF-4E80-97B9-47B282A1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78BC4-81EA-4239-B22C-3939B8C5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8937F-9B8A-4F5D-AD88-CC13DE5A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AE1D3C-FD06-483D-B62C-5928C91D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9B6997-B6CF-4618-88CA-6C6EFE75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03C6BB-BE2C-4880-A1C9-B75BAC0E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5F9D9E-9769-42C6-9951-3BF3F10A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6AD58D-CA7D-41F7-A1EA-1F500110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B7CF21-D6C7-4C72-9AFA-9198F6AFB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35AE1-2054-48A0-9685-3075AF96A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180BCC-9489-4500-BD9C-FFEEDB3A6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EC9A-45A2-4E75-A49D-56FEE88AA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7514F2-57B4-4EEB-A38E-B75F7A95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60DA7B-6192-4413-BD21-A541E802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FFB72A-9F39-461A-8640-D6D9E31D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F5B9D3-79E5-424F-823A-84B7DDA9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2B3DF1-42FF-4DAC-A835-B66E49E4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B92D74-F848-41D9-8F4D-09F024CF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DADE41-10CB-4065-AC57-07DF588F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60EF52-B62F-4C33-B3F4-989F9359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04DA44-C9C4-46AC-B112-D0437F4B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26D1D4-C8F9-44DF-8810-F898D09FE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360C-204B-4800-9EBA-FDBE2739E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14D77B-3C61-40FB-9CA6-4053ED29C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926F1-965E-4961-8C27-A0366654C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83E89-66AC-49CE-8477-AC67EF8A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A709E1-CB35-4EEB-AC82-1535F297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AABED-7008-4F01-B0BB-05E48B38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A26C1C-977C-45BC-A7B1-E3BCDD29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228E19-49C3-45AF-8A6A-A7BAD667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09AD7-917F-4607-8ECD-7CCD9FA1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D9D03-4EB4-48E3-B952-6B767DC6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89038-A2FC-4EAE-89B9-164AB720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7D0C5-7314-4FBD-87A1-CFE8AB23E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DEB198-63D3-416F-9F96-3060C932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B8538C-668C-43B5-B370-41032C6C9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215D5-199D-4368-97D3-76D25CBDF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161F7F-110C-4C97-9416-8ED1E1F8A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C98D21-8039-421D-884C-2ACE087B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87CACE-1FC4-4DFC-BB6A-E18C30E7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59A3D7-1EA7-4D57-92EC-EFA6DD01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6D88B8-728A-4047-8916-697CCEE5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D65EC4-F4E1-4980-845C-B7300F5B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B3123D-7E6E-45FF-B8E1-9C01ED48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C5D4-A357-4F8C-AFE7-01765BCE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3D9810-C68E-4D8D-986B-CCD5E294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377AC5-2E1B-46B9-B366-E27C8C2A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DB3188-71E0-4B7D-B0E3-A92253F8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D8DFC1-65D1-4C7A-84B2-E64E654BB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38688C-D1D0-466E-BAD1-3F05DAE59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B5B6EF-3353-426D-AB01-6BAF3A414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747D32-6EBE-40D2-A09E-D90D8D98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6A93AE-D7C8-4706-A916-5EF63808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740D45-F0CB-4433-AC15-383A81D8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F5D21E-14F7-4DC7-B8D0-7410C034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4109-7E7C-4B3A-BF9B-D8B198EB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6EE6C1-4A36-4A8B-A8A2-C64ECB40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DAEBEB-99B2-4837-AB69-7AFDF7A3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1A3C2B-6EF7-49A4-B1DA-567D0239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BCE23C-A9CC-452C-97F1-0E0287D2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5D21E0-0B2E-4EDC-9CC4-AABCEA09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B841FA-B476-43CB-B269-3283942C5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E98E64-F040-4F35-B6A0-8BE24DE4D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37C03B-9822-476A-BBBA-A00F68AE5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1B59CC-72B7-4058-BEA0-1F27117F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335586-630D-4DA3-A2C1-D7FD3925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77E58-7997-47B4-9C92-3DC83EDB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9B6C8A-4F20-4C67-AE53-63CA09A0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28FE52-794F-4B6C-A832-8AF4FB7D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34DD78-6E79-42C3-9C5E-8FEA40AF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021336-265C-4928-BF56-D0C6D713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52A28E-9C5E-4469-BCDF-F69AB85F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7AC084-24AC-4224-B954-05D02287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1D3DA3-634A-4A55-AB97-4E3E0CA9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151F57-8E13-4A5C-B4DD-0A3175E5F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B9E9D1-F72A-4211-ABBA-9801ACCE2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416D75-D48D-4A3E-A385-EA83AC843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57EF-F779-4006-920F-FA7F5961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698BBA-4FD2-47E4-8501-63A07430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C24533-C351-4F8C-A94E-521C3ACF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A3E98E-118F-46EF-8999-64E17732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12CE4E-20AA-4443-8CD7-9C63204D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45ECA2-A88D-4A4E-A4B8-972CE9EF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C30EC3-C2A7-4750-853E-F94409CE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6F3B80-3A40-4214-A6C5-C528E383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0EE270-E4C3-4A81-8691-93DE39B1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8C31BA-4930-4399-8E40-A1D9A09E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4EED11-BA05-4D92-B4F5-A94EC980D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0DE7-4129-4498-8F72-8B3984D7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2E4A15-AD94-481F-85EC-5AD19308C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70A04F-95E5-40EA-B10E-775BB7289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39FAFD-E704-4F62-B067-654E60DF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7800DC-800F-4D7E-AFAD-E11D8E90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4195C1-3C77-4808-968F-B97ABC0A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2B3DD6-7B44-47E2-B85B-815274C3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820367-1F93-44FC-A0E0-EE6EEEB2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A695EA-9884-45E3-A3E4-054B2FE3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35745F-E143-49F7-AD70-92A348A2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0FC2A0-86A8-42C8-9F44-0AA912C2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AA02-D3B4-4587-BC14-273CCB1C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8DE080-7C26-4A3E-B53A-F97A4E18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DA7247-57DF-44EA-9E4F-BBE061499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85743E-16A5-4C29-98DD-F0ABCBFE1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7F288A-13C7-4424-B92F-694083E77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69245B-C8E8-46B6-94C6-D2EE9325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8BA039-AC52-4348-AE6B-7A5F6901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F6AFC9-71BF-46EA-910A-2E6F1E21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AF4B11-80D9-4593-A1E3-58D30818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BC396D-402A-4C7E-BEAA-64B28D48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80BCF3-4E0B-41AB-8059-2DDAE075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FAA7-1373-414E-8690-20D463FD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B7F6-EC28-4D1D-9FD3-F9122B2A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3A83C4-D16E-4FE2-8AE4-6ADDEEE1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9DD646-E21F-4842-8A83-BC46872F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4297FE-F061-4AD6-A8C8-07B09BBA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CD57FA-F14C-4114-86C8-949C0F4AE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76C60B-98C6-430D-A3F2-04D4BC3CB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F8CE5B-F7A1-45F1-8985-04C00100F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EB6119-C598-4BF7-81C7-C015EE43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8A9D83-0A61-4F4F-B00F-A97EDC0B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CDBC06-20A4-48D7-A25C-D2A37B69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2536D3-B114-491A-AD25-0C7BAEDA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BD01-26C1-4B2D-B7E8-4AA5779D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7194B0-BEB9-4023-A238-B680B0DC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00393B-66CA-436A-BCC5-08FF2BEC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A85427-38EA-4896-BC02-C2109454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235894-1D6A-4A1E-BFC4-927ADBCA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A2356C-2DAD-444C-B3FA-9370B499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032498-9A92-49DC-877D-A465CB2D8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1FCB99-2953-4E38-A2BB-9B2409AC1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2C89FD-6A91-4362-B644-B30792461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60109D-0903-4E27-BA80-02709739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D31467-D436-4327-B37B-64FC2BA0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9014-0B64-43F4-BE2D-891DB247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E541E8-AEED-4953-8A03-462661D6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2EAAF9-A79B-4E9D-A6D6-C7C05249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C9AC38-1F40-4F9E-92C0-08200195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B60A42-79AB-43B7-A24E-95E10C71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AFF24C-728C-4A7C-9851-6B1BCEC8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E9D629-8B0C-4C99-849C-65FF738B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389218-DBB1-4A21-A79D-6C4B475D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8E984D-EE03-4C6E-B050-ECC5141A0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B372A8-F65F-452A-9882-BF890F3BF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C21BB6-0E98-45DF-999E-D97F1E4BF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51C2-4300-468B-8ED0-C9EF177A8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0F08BE-BCEF-4ACE-A13A-B830E7C2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E3B264-4B6A-4369-B40F-5949594F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0A47DB-D4F9-4522-9B6A-1EA0BE19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4AFD2C-41E6-468C-8C9B-294A72E7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BA17AE-7B91-49F5-869F-F434C469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068F97-DA3C-442A-B0DB-84B017FA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EB3E0C-1E15-4EB6-A842-C42649F3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3435F8-44E0-4F00-9EFA-B3B860CA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93D684-0302-48A1-8585-DD3C4432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7AD209-0C07-44FD-B900-737F5BF76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5823-2677-4AA6-A8D5-369778E97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F56B4E-CB97-4BEE-BC2A-FF048C91B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342F1C-2F68-4AC4-B076-E08C8639F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A98993-4D77-4A47-8667-F7614AE4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F949EE-7B50-4B39-940A-ECB61EDD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B8F23F-2774-45CE-8D1D-3ACC63FC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485252-2C42-441F-A8DC-615E82A9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6114EF-A112-4055-92AE-E6942D71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F19D8D-E62A-41DB-976D-609AAFE4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B8B0CE-9BD9-43EF-A87D-0A50A3C4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E1BE3E-4170-4CF2-BF23-839ADC79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74758-0843-4876-ADB6-11EDCEAC2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A7B182-5CE6-4967-8543-F2C1EBD6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08A17A-3581-4E18-ABBB-2BAD442F1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C78ADF-A7C2-4E51-AB39-7822510F5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67D63E-F96C-430A-998B-437C9EEAD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FC1094-B110-45D0-8C75-7EAE3629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DB94CE-03AF-46CB-BA30-E85F86E5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245E54-8D7E-48A5-8C18-71BB607B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A344AE-BF2D-4664-83A0-A207683E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4730CE-E7BC-4F50-B3FD-B72417B5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E7025C-72F2-482F-A837-9154DC18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DE102-EF8B-4750-BC18-835044A5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22CDA6-56F4-4597-8567-FA2F7334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F5F39C-ACFA-4830-8F76-6F13D11A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0C4960-A5AC-4FB6-873D-41B71D98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56C18A-19AC-4EC5-B1AD-F2E6CEF9A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C4E604-6BA8-4B7F-8BAC-BF6A4EF17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98D66B-2A38-4C7C-A99F-F577BF67E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CB00B4-8527-4297-9D97-B5D8370A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FB2B36-3924-457F-84E6-75C3D8D5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B11B8E-725A-4EA7-AC0A-8CD0AB52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D29C8C-AFF5-49E4-8B97-86F1F73B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65147-97CA-49FE-A18B-E675905E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BD73BA-9A6E-4CF4-BA3C-6102BC73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7BEDAE-05D0-4978-AA4C-C00DE536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5D80A5-67B5-41B8-8F1D-6D892531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F29126-B553-46D0-9AAE-4612DD2B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DF2E79-AEF3-4298-891F-7B8BF915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32DE2C-2E8D-4F5B-9150-54C9D86E0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5FB733-568C-43DE-A88F-841723570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D5E641-3DB8-4D48-888A-32030B002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18D848-F4FB-4E62-861E-6B916511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547E205-4485-4A38-8ADB-3FFABC72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27104-3682-439F-B533-65F9B2DB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5EDC625-73D4-4159-9C0E-13ACF631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F7292E-5F8D-4AA5-9C6C-3C8E50D5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E0D823-635C-4861-B1C0-18E164E8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E2F796-25AD-44FD-BDFF-CD671CCE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F57BA69-F56C-4308-ABFB-10C22944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9FE793-C3A1-42E2-9182-E6CF4F57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6E02F6-AE4F-4D30-8D14-382F31ED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6F5321-570F-4522-A402-88174FE14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E102E6-713D-47CB-A55A-A99716817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11B8DD3-C29B-4311-99BA-2F15293AF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805D3-3673-4F36-BC04-9360DF39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D44C191-1649-47A0-86C0-86515A04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8DA7E4B-3143-4687-8A93-2EB4545D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F1665EF-D34F-4EF9-85A1-1CBBACBC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FA64EA8-F3B6-4599-9769-8C43CF57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FBA50A1-0990-4872-A095-B57569E1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2CC326D-E6EC-41C0-9463-941A1D72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F9829F4-9D17-4A2B-AE87-5AE8CCEE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AA94D0E-29EE-476D-AAAB-A2A3455A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9F4E64D-BA2E-4FD6-8D66-5EA16668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04B02AF-F18D-4382-920D-88C28105F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F1F8-25DB-4059-BFBE-1D40AE44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5E1F2-CCEA-4E2F-B617-2124FB7E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4DE1B82-8713-42B7-9AA5-5BFB2A128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7616A-9156-4901-9A37-B3125A28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A63A4-BD85-4431-B98E-6F72137E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F1970-9B0F-47F3-B9A0-FC640594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7F89C-EBE7-4D9E-8CA3-DABA69AE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EDC2F-F015-4848-99A1-8AC531358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DB0AF-A239-4BF7-8EF3-6FAF1418F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006BD-0B42-4F5B-B1B6-2A8EC0748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0A853-65DE-4682-BAD7-623114BA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46B38-FD0D-43A5-A132-1ADD0989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3F7A-ED6B-4764-858D-8DC8151A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B117E-3C64-40C6-A03F-C0AF88D1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E217E-87C4-44F0-8735-8CA71ADC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B831E-FF5D-4329-ADF8-92B0EEE6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A33E5-1A0F-4B6A-8552-92716B30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AE877-BBDD-46E6-866E-F697B5CD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9E120-ED5A-42A7-B272-FEE627E5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6C33B-A78B-4553-AD6C-426628CF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3E2F6-8FC8-49C1-BE28-461B91A4F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1C529-EBDD-4976-A3E2-B8D3469BE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522E2-1384-416C-9474-4532A4819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BD62-FD56-48D2-98B2-CA11B3C6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D42C7-6D4B-478F-A70D-E753A303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71C60-4AF3-4BD0-B63C-9688B033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2F5A6-23C3-41FB-9EFF-A169E41A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50957-CB69-435C-B650-81044D59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8D2C0-349C-4040-8D6E-8988C4DB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5ECDA-E497-47D2-8B1A-883D69AF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839F8-6C42-4A77-94B0-2AD033D5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037AE-01F5-4CED-B944-87602017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B7029-5DA9-4CFE-8120-BCC8CDC2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13255-C2C7-4636-9948-4426B92C9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DCF2-49FE-4A74-B43F-313CCCE0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B799F-F06F-4FB8-9A2C-F3717A56B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639F3-500A-48AC-AE8B-4E28009B0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BB9D1-DDD3-40CE-9258-C0E2AC12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FD33E-A3E1-4501-AF7B-3C669381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C5D29-6584-4F20-99BF-CCE6EBE0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B1FFC-1070-42E9-894A-4B957033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48977-A38A-460C-937E-573B755B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F242B-DE13-4BAA-9ACD-04A11534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D81F8-7653-4639-803A-09B2776A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90BE2-9745-441C-9E14-7C084721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7ECA-BF43-401C-A3C6-92E628E5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1981F-4027-463F-B59A-FE52938F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FD2A7-D0CB-4731-B443-E8F3F8343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C2D65-468F-491D-A9CB-768EFAAC4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DD338-93FC-4F1F-A374-1F5B22ACB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F7ED6-5ACC-4C61-AF5A-A942B8B4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EDD88-FBCD-4B01-BCDC-DC285AF1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F7A84-1511-4E7F-84D8-17054797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76732-7F31-4B8D-BAE2-CD9F0F25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A565C-812F-411D-9B08-AF218A19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07430-7E9B-444C-AA66-6F73F767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7DD1-EED7-4AD5-ACD3-2C456344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E5125-CCD9-4F01-A9E2-356E2832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07203-79D6-46F8-9BA3-B772B391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D8FA5-3887-4D7A-946D-F549FA48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0E4A6-7A54-4A5C-B2D0-85E1112FB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A872C-EFE9-4AAF-9B24-AABFF0980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7DF84-E9A9-4A05-A8F3-BBA75DBB1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89361-487E-4C1D-ACE2-9FCE9852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7C2E2-C95E-42B1-94FB-D25AE7A2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DE9A7-5DD5-4835-9985-F516B513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81965-E5B2-4C4F-9D2E-72B4EA3F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F419-5F7D-4DF7-9E09-5F51EA4F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215AC-2859-44B7-9454-4B81494C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798D4-1561-4029-AE1E-7E3091BB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63A11-152E-42BA-AD4C-9A80002E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867E8-5D14-4CAE-949B-2B0E55E8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B34CFA-1360-4F20-8016-25C29196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270C1-1C3D-48E8-9079-D8647A495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F3B9C-7780-48F4-A74F-80E06BFEC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299F02-E83E-4BA1-BC08-1ADF132F5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1C8C18-FAD2-4E8E-ACBE-8C5C5E7E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4E01C-BF5E-4307-B5C3-3F5A0C33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4FDD-397F-4FD8-A0AC-88EEA98FB3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09F4-0A97-4618-93C2-98D88984E31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BA1C-D3BB-4CEF-8CA3-4C14F64A68C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F860-8F92-4E46-BD7F-D1526208A69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C764-396F-4424-B4F6-CD118C761BD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E6BA-25D9-4FA5-BC23-D48F2AC9A86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15C0-6D3D-4DD2-B8AD-1F7207A6DE5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F92D9-ADB9-4FF3-A533-0832DEBDA67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C2C5-D949-4BD6-A3FC-8D5CA012204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E5AE-D9FD-4917-A9B8-388386BD892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413E-4AE3-4CF1-BE8B-5517A5A1D27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2346-569B-4017-9A6B-06A4A4FECA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05A4-79F0-4A37-87D6-B1EB6E793D2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4017-7DA3-4D30-ABEE-67027E0A2F2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CFFD-F60A-42D4-8EB1-0CE285263BE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3CDB-1763-40B1-8D8C-B18DB9E077F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8FD8-FF8F-47D8-8E80-579EE3CC3B5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650D-05D4-4F35-9182-E7D0BC800FF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93A2-491C-4F94-8A67-9141CC4227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A7E4-1470-40C6-AD19-91754688A67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3D9F-DA49-4DFA-9D74-4B8CC4DFD8C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D12E-7510-4BAA-B5C3-260D866D8F4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6918-ED93-46D4-B7D9-02FBEB0BFC5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1365-20F4-4595-8E17-706C7F875F0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E9A3-E44A-4FC2-8488-4362C946E67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4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4"/>
          <p:cNvSpPr/>
          <p:nvPr/>
        </p:nvSpPr>
        <p:spPr>
          <a:xfrm>
            <a:off x="1552680" y="1844640"/>
            <a:ext cx="7772400" cy="2233800"/>
          </a:xfrm>
          <a:prstGeom prst="rect">
            <a:avLst/>
          </a:prstGeom>
          <a:noFill/>
          <a:ln w="0">
            <a:noFill/>
          </a:ln>
          <a:effectLst>
            <a:outerShdw dist="56832" dir="19996359" blurRad="0" rotWithShape="0">
              <a:srgbClr val="0099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  <a:ea typeface="Arial"/>
              </a:rPr>
              <a:t>Развит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  <a:ea typeface="Arial"/>
              </a:rPr>
              <a:t>читательской грамотности на уроках математи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Rectangle 6"/>
          <p:cNvSpPr/>
          <p:nvPr/>
        </p:nvSpPr>
        <p:spPr>
          <a:xfrm>
            <a:off x="1714680" y="64296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лан-Баторский филиал РЭУ имени Г.В.Плеха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 Box 7"/>
          <p:cNvSpPr/>
          <p:nvPr/>
        </p:nvSpPr>
        <p:spPr>
          <a:xfrm>
            <a:off x="1690560" y="5743440"/>
            <a:ext cx="72741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аслакова Марина Владимиров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математик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 Box 15"/>
          <p:cNvSpPr/>
          <p:nvPr/>
        </p:nvSpPr>
        <p:spPr>
          <a:xfrm>
            <a:off x="2916360" y="478152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з опыта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Багетная рамка 1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296"/>
            </a:avLst>
          </a:prstGeom>
          <a:noFill/>
          <a:ln w="856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Box 2"/>
          <p:cNvSpPr/>
          <p:nvPr/>
        </p:nvSpPr>
        <p:spPr>
          <a:xfrm>
            <a:off x="-124560" y="380880"/>
            <a:ext cx="508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Реши самостоятель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0" name="Picture 2" descr="E:\анимашки\Рисунок1.gif"/>
          <p:cNvPicPr/>
          <p:nvPr/>
        </p:nvPicPr>
        <p:blipFill>
          <a:blip r:embed="rId1"/>
          <a:srcRect l="0" t="0" r="0" b="10668"/>
          <a:stretch/>
        </p:blipFill>
        <p:spPr>
          <a:xfrm>
            <a:off x="533520" y="3581280"/>
            <a:ext cx="2247840" cy="1676520"/>
          </a:xfrm>
          <a:prstGeom prst="rect">
            <a:avLst/>
          </a:prstGeom>
          <a:ln w="0">
            <a:noFill/>
          </a:ln>
        </p:spPr>
      </p:pic>
      <p:sp>
        <p:nvSpPr>
          <p:cNvPr id="1051" name="Скругленная прямоугольная выноска 4"/>
          <p:cNvSpPr/>
          <p:nvPr/>
        </p:nvSpPr>
        <p:spPr>
          <a:xfrm>
            <a:off x="685800" y="838080"/>
            <a:ext cx="7924680" cy="1219320"/>
          </a:xfrm>
          <a:prstGeom prst="wedgeRoundRectCallout">
            <a:avLst>
              <a:gd name="adj1" fmla="val -41476"/>
              <a:gd name="adj2" fmla="val 165925"/>
              <a:gd name="adj3" fmla="val 16667"/>
            </a:avLst>
          </a:prstGeom>
          <a:solidFill>
            <a:srgbClr val="ffffff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льный кубик бросают дважды. Найдите вероятность того, что первый раз выпадет число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Скругленный прямоугольник 6"/>
          <p:cNvSpPr/>
          <p:nvPr/>
        </p:nvSpPr>
        <p:spPr>
          <a:xfrm>
            <a:off x="2743200" y="1981080"/>
            <a:ext cx="5791320" cy="3962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6200000"/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Box 13"/>
          <p:cNvSpPr/>
          <p:nvPr/>
        </p:nvSpPr>
        <p:spPr>
          <a:xfrm>
            <a:off x="6112800" y="579132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Ответ: 1/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4" name=""/>
          <p:cNvGraphicFramePr/>
          <p:nvPr/>
        </p:nvGraphicFramePr>
        <p:xfrm>
          <a:off x="2895480" y="2209680"/>
          <a:ext cx="4751640" cy="3475080"/>
        </p:xfrm>
        <a:graphic>
          <a:graphicData uri="http://schemas.openxmlformats.org/drawingml/2006/table">
            <a:tbl>
              <a:tblPr/>
              <a:tblGrid>
                <a:gridCol w="1295640"/>
                <a:gridCol w="576000"/>
                <a:gridCol w="576360"/>
                <a:gridCol w="574560"/>
                <a:gridCol w="576360"/>
                <a:gridCol w="576360"/>
                <a:gridCol w="576360"/>
              </a:tblGrid>
              <a:tr h="73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а на выпавших сторон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5" name="Прямоугольник 11"/>
          <p:cNvSpPr/>
          <p:nvPr/>
        </p:nvSpPr>
        <p:spPr>
          <a:xfrm>
            <a:off x="4800600" y="2971800"/>
            <a:ext cx="2971800" cy="26668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Прямоугольник 14"/>
          <p:cNvSpPr/>
          <p:nvPr/>
        </p:nvSpPr>
        <p:spPr>
          <a:xfrm>
            <a:off x="4267080" y="2971800"/>
            <a:ext cx="381240" cy="380880"/>
          </a:xfrm>
          <a:prstGeom prst="rect">
            <a:avLst/>
          </a:prstGeom>
          <a:solidFill>
            <a:srgbClr val="990099"/>
          </a:solidFill>
          <a:ln w="255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Прямоугольник 15"/>
          <p:cNvSpPr/>
          <p:nvPr/>
        </p:nvSpPr>
        <p:spPr>
          <a:xfrm>
            <a:off x="4267080" y="5257800"/>
            <a:ext cx="381240" cy="380880"/>
          </a:xfrm>
          <a:prstGeom prst="rect">
            <a:avLst/>
          </a:prstGeom>
          <a:solidFill>
            <a:srgbClr val="990099"/>
          </a:solidFill>
          <a:ln w="255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Прямоугольник 16"/>
          <p:cNvSpPr/>
          <p:nvPr/>
        </p:nvSpPr>
        <p:spPr>
          <a:xfrm>
            <a:off x="4267080" y="4800600"/>
            <a:ext cx="381240" cy="380880"/>
          </a:xfrm>
          <a:prstGeom prst="rect">
            <a:avLst/>
          </a:prstGeom>
          <a:solidFill>
            <a:srgbClr val="990099"/>
          </a:solidFill>
          <a:ln w="255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Прямоугольник 17"/>
          <p:cNvSpPr/>
          <p:nvPr/>
        </p:nvSpPr>
        <p:spPr>
          <a:xfrm>
            <a:off x="4267080" y="4343400"/>
            <a:ext cx="381240" cy="380880"/>
          </a:xfrm>
          <a:prstGeom prst="rect">
            <a:avLst/>
          </a:prstGeom>
          <a:solidFill>
            <a:srgbClr val="990099"/>
          </a:solidFill>
          <a:ln w="255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Прямоугольник 19"/>
          <p:cNvSpPr/>
          <p:nvPr/>
        </p:nvSpPr>
        <p:spPr>
          <a:xfrm>
            <a:off x="4267080" y="3886200"/>
            <a:ext cx="381240" cy="380880"/>
          </a:xfrm>
          <a:prstGeom prst="rect">
            <a:avLst/>
          </a:prstGeom>
          <a:solidFill>
            <a:srgbClr val="990099"/>
          </a:solidFill>
          <a:ln w="255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Прямоугольник 20"/>
          <p:cNvSpPr/>
          <p:nvPr/>
        </p:nvSpPr>
        <p:spPr>
          <a:xfrm>
            <a:off x="4267080" y="3429000"/>
            <a:ext cx="381240" cy="380880"/>
          </a:xfrm>
          <a:prstGeom prst="rect">
            <a:avLst/>
          </a:prstGeom>
          <a:solidFill>
            <a:srgbClr val="990099"/>
          </a:solidFill>
          <a:ln w="255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2" name="Object 3"/>
              <p:cNvSpPr txBox="1"/>
              <p:nvPr/>
            </p:nvSpPr>
            <p:spPr>
              <a:xfrm>
                <a:off x="5181480" y="4495680"/>
                <a:ext cx="204336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3" name="TextBox 21"/>
          <p:cNvSpPr/>
          <p:nvPr/>
        </p:nvSpPr>
        <p:spPr>
          <a:xfrm>
            <a:off x="4884120" y="3048120"/>
            <a:ext cx="284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Всего  вариантов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Комбинаций с первой «6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61,62,63,64,65,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Багетная рамка 1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296"/>
            </a:avLst>
          </a:prstGeom>
          <a:noFill/>
          <a:ln w="856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Box 2"/>
          <p:cNvSpPr/>
          <p:nvPr/>
        </p:nvSpPr>
        <p:spPr>
          <a:xfrm>
            <a:off x="-124560" y="380880"/>
            <a:ext cx="508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Реши самостоятель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6" name="Picture 2" descr="E:\анимашки\Рисунок1.gif"/>
          <p:cNvPicPr/>
          <p:nvPr/>
        </p:nvPicPr>
        <p:blipFill>
          <a:blip r:embed="rId1"/>
          <a:srcRect l="0" t="0" r="0" b="10668"/>
          <a:stretch/>
        </p:blipFill>
        <p:spPr>
          <a:xfrm>
            <a:off x="533520" y="3581280"/>
            <a:ext cx="2247840" cy="1676520"/>
          </a:xfrm>
          <a:prstGeom prst="rect">
            <a:avLst/>
          </a:prstGeom>
          <a:ln w="0">
            <a:noFill/>
          </a:ln>
        </p:spPr>
      </p:pic>
      <p:sp>
        <p:nvSpPr>
          <p:cNvPr id="1067" name="Скругленная прямоугольная выноска 4"/>
          <p:cNvSpPr/>
          <p:nvPr/>
        </p:nvSpPr>
        <p:spPr>
          <a:xfrm>
            <a:off x="685800" y="838080"/>
            <a:ext cx="7924680" cy="1219320"/>
          </a:xfrm>
          <a:prstGeom prst="wedgeRoundRectCallout">
            <a:avLst>
              <a:gd name="adj1" fmla="val -41476"/>
              <a:gd name="adj2" fmla="val 165925"/>
              <a:gd name="adj3" fmla="val 16667"/>
            </a:avLst>
          </a:prstGeom>
          <a:solidFill>
            <a:srgbClr val="ffffff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льный кубик бросают дважды. Сколько элементарных исходов опыта благоприятствуют событию А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 очков равна 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Скругленный прямоугольник 6"/>
          <p:cNvSpPr/>
          <p:nvPr/>
        </p:nvSpPr>
        <p:spPr>
          <a:xfrm>
            <a:off x="2743200" y="1981080"/>
            <a:ext cx="5791320" cy="3962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6200000"/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Box 13"/>
          <p:cNvSpPr/>
          <p:nvPr/>
        </p:nvSpPr>
        <p:spPr>
          <a:xfrm>
            <a:off x="6158160" y="5791320"/>
            <a:ext cx="212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Ответ: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0" name=""/>
          <p:cNvGraphicFramePr/>
          <p:nvPr/>
        </p:nvGraphicFramePr>
        <p:xfrm>
          <a:off x="2895480" y="2209680"/>
          <a:ext cx="4751640" cy="3475080"/>
        </p:xfrm>
        <a:graphic>
          <a:graphicData uri="http://schemas.openxmlformats.org/drawingml/2006/table">
            <a:tbl>
              <a:tblPr/>
              <a:tblGrid>
                <a:gridCol w="1295640"/>
                <a:gridCol w="576000"/>
                <a:gridCol w="576360"/>
                <a:gridCol w="574560"/>
                <a:gridCol w="576360"/>
                <a:gridCol w="576360"/>
                <a:gridCol w="576360"/>
              </a:tblGrid>
              <a:tr h="73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а на выпавших сторон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1" name="Прямоугольник 14"/>
          <p:cNvSpPr/>
          <p:nvPr/>
        </p:nvSpPr>
        <p:spPr>
          <a:xfrm>
            <a:off x="6019920" y="2971800"/>
            <a:ext cx="380880" cy="380880"/>
          </a:xfrm>
          <a:prstGeom prst="rect">
            <a:avLst/>
          </a:prstGeom>
          <a:noFill/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Прямоугольник 17"/>
          <p:cNvSpPr/>
          <p:nvPr/>
        </p:nvSpPr>
        <p:spPr>
          <a:xfrm>
            <a:off x="4343400" y="4343400"/>
            <a:ext cx="380880" cy="380880"/>
          </a:xfrm>
          <a:prstGeom prst="rect">
            <a:avLst/>
          </a:prstGeom>
          <a:noFill/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Прямоугольник 19"/>
          <p:cNvSpPr/>
          <p:nvPr/>
        </p:nvSpPr>
        <p:spPr>
          <a:xfrm>
            <a:off x="4876920" y="3886200"/>
            <a:ext cx="380880" cy="380880"/>
          </a:xfrm>
          <a:prstGeom prst="rect">
            <a:avLst/>
          </a:prstGeom>
          <a:noFill/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Прямоугольник 20"/>
          <p:cNvSpPr/>
          <p:nvPr/>
        </p:nvSpPr>
        <p:spPr>
          <a:xfrm>
            <a:off x="5410080" y="3429000"/>
            <a:ext cx="381240" cy="380880"/>
          </a:xfrm>
          <a:prstGeom prst="rect">
            <a:avLst/>
          </a:prstGeom>
          <a:noFill/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Рисунок 1" descr=""/>
          <p:cNvPicPr/>
          <p:nvPr/>
        </p:nvPicPr>
        <p:blipFill>
          <a:blip r:embed="rId1"/>
          <a:srcRect l="5174" t="6688" r="3514" b="0"/>
          <a:stretch/>
        </p:blipFill>
        <p:spPr>
          <a:xfrm>
            <a:off x="15840" y="476280"/>
            <a:ext cx="915048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9" name="Group 11"/>
          <p:cNvGrpSpPr/>
          <p:nvPr/>
        </p:nvGrpSpPr>
        <p:grpSpPr>
          <a:xfrm>
            <a:off x="1547640" y="1979640"/>
            <a:ext cx="7416720" cy="4246200"/>
            <a:chOff x="1547640" y="1979640"/>
            <a:chExt cx="7416720" cy="4246200"/>
          </a:xfrm>
        </p:grpSpPr>
        <p:sp>
          <p:nvSpPr>
            <p:cNvPr id="1030" name="AutoShape 9"/>
            <p:cNvSpPr/>
            <p:nvPr/>
          </p:nvSpPr>
          <p:spPr>
            <a:xfrm>
              <a:off x="1547640" y="1979640"/>
              <a:ext cx="6769080" cy="4246200"/>
            </a:xfrm>
            <a:prstGeom prst="roundRect">
              <a:avLst>
                <a:gd name="adj" fmla="val 21875"/>
              </a:avLst>
            </a:prstGeom>
            <a:solidFill>
              <a:srgbClr val="bbe0e3">
                <a:alpha val="80000"/>
              </a:srgbClr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Rectangle 3"/>
            <p:cNvSpPr/>
            <p:nvPr/>
          </p:nvSpPr>
          <p:spPr>
            <a:xfrm>
              <a:off x="2269800" y="2311560"/>
              <a:ext cx="6694560" cy="391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 этап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– Работа до чт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 этап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– Работа с тексто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 этап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– Работа после чт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2" name="Text Box 4"/>
          <p:cNvSpPr/>
          <p:nvPr/>
        </p:nvSpPr>
        <p:spPr>
          <a:xfrm>
            <a:off x="1692360" y="76500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Как научить эфективно читать тексты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3" name="Рисунок 1" descr=""/>
          <p:cNvPicPr/>
          <p:nvPr/>
        </p:nvPicPr>
        <p:blipFill>
          <a:blip r:embed="rId1"/>
          <a:srcRect l="0" t="0" r="81505" b="0"/>
          <a:stretch/>
        </p:blipFill>
        <p:spPr>
          <a:xfrm>
            <a:off x="0" y="0"/>
            <a:ext cx="9716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Верные или неверные утвер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5" name=""/>
          <p:cNvGraphicFramePr/>
          <p:nvPr/>
        </p:nvGraphicFramePr>
        <p:xfrm>
          <a:off x="1008000" y="1111320"/>
          <a:ext cx="8099640" cy="5203800"/>
        </p:xfrm>
        <a:graphic>
          <a:graphicData uri="http://schemas.openxmlformats.org/drawingml/2006/table">
            <a:tbl>
              <a:tblPr/>
              <a:tblGrid>
                <a:gridCol w="6804000"/>
                <a:gridCol w="647640"/>
                <a:gridCol w="648000"/>
              </a:tblGrid>
              <a:tr h="12315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упой угол – это угол, который нарисован тупым карандаш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гол – это геометрическая фиг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гол состоит из двух пересекающихся прям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ывают углы острые и туп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гол состоит из двух лучей, выходящих из одной точ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вные углы – это те, у которых равны сторо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иссектриса - это такой угол, у которого три сторо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ывает прямой уг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трый угол - это угол, который меньше прям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36" name="Рисунок 7" descr=""/>
          <p:cNvPicPr/>
          <p:nvPr/>
        </p:nvPicPr>
        <p:blipFill>
          <a:blip r:embed="rId1"/>
          <a:stretch/>
        </p:blipFill>
        <p:spPr>
          <a:xfrm>
            <a:off x="0" y="0"/>
            <a:ext cx="9698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Рисунок 4" descr=""/>
          <p:cNvPicPr/>
          <p:nvPr/>
        </p:nvPicPr>
        <p:blipFill>
          <a:blip r:embed="rId1"/>
          <a:srcRect l="26202" t="41142" r="25649" b="32283"/>
          <a:stretch/>
        </p:blipFill>
        <p:spPr>
          <a:xfrm>
            <a:off x="965160" y="1692360"/>
            <a:ext cx="8148600" cy="2528640"/>
          </a:xfrm>
          <a:prstGeom prst="rect">
            <a:avLst/>
          </a:prstGeom>
          <a:ln w="0">
            <a:noFill/>
          </a:ln>
        </p:spPr>
      </p:pic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СЕ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9" name="Рисунок 7" descr=""/>
          <p:cNvPicPr/>
          <p:nvPr/>
        </p:nvPicPr>
        <p:blipFill>
          <a:blip r:embed="rId2"/>
          <a:stretch/>
        </p:blipFill>
        <p:spPr>
          <a:xfrm>
            <a:off x="-3240" y="0"/>
            <a:ext cx="96840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с учебник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971280" y="1125000"/>
            <a:ext cx="8172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название по оглавл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читать содержание пункта параграф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ить слова и выражения, выяснить их 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ть по ходу чтения вопросы и ответить на 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ить основные по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ить основные теоремы и прав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ить определения понятий; теор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обрать конкретные примеры в тексте и придумать сво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стоятельно провести доказательство теор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ить рисунки, схемы, чертеж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ить на вопросы в тек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думать и задать свои 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69840" cy="3067200"/>
          </a:xfrm>
          <a:prstGeom prst="rect">
            <a:avLst/>
          </a:prstGeom>
          <a:ln w="0">
            <a:noFill/>
          </a:ln>
        </p:spPr>
      </p:pic>
      <p:pic>
        <p:nvPicPr>
          <p:cNvPr id="1043" name="Объект 3" descr=""/>
          <p:cNvPicPr/>
          <p:nvPr/>
        </p:nvPicPr>
        <p:blipFill>
          <a:blip r:embed="rId2"/>
          <a:srcRect l="6170" t="3814" r="5276" b="2318"/>
          <a:stretch/>
        </p:blipFill>
        <p:spPr>
          <a:xfrm>
            <a:off x="1020600" y="692280"/>
            <a:ext cx="809640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Рисунок 1" descr=""/>
          <p:cNvPicPr/>
          <p:nvPr/>
        </p:nvPicPr>
        <p:blipFill>
          <a:blip r:embed="rId1"/>
          <a:srcRect l="4618" t="8656" r="3514" b="3735"/>
          <a:stretch/>
        </p:blipFill>
        <p:spPr>
          <a:xfrm>
            <a:off x="7920" y="476280"/>
            <a:ext cx="91328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Рисунок 1" descr=""/>
          <p:cNvPicPr/>
          <p:nvPr/>
        </p:nvPicPr>
        <p:blipFill>
          <a:blip r:embed="rId1"/>
          <a:srcRect l="6831" t="10625" r="9045" b="27362"/>
          <a:stretch/>
        </p:blipFill>
        <p:spPr>
          <a:xfrm>
            <a:off x="0" y="476280"/>
            <a:ext cx="9207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Рисунок 1" descr=""/>
          <p:cNvPicPr/>
          <p:nvPr/>
        </p:nvPicPr>
        <p:blipFill>
          <a:blip r:embed="rId1"/>
          <a:srcRect l="25095" t="12594" r="12921" b="32283"/>
          <a:stretch/>
        </p:blipFill>
        <p:spPr>
          <a:xfrm>
            <a:off x="971640" y="549360"/>
            <a:ext cx="8172360" cy="5543640"/>
          </a:xfrm>
          <a:prstGeom prst="rect">
            <a:avLst/>
          </a:prstGeom>
          <a:ln w="0">
            <a:noFill/>
          </a:ln>
        </p:spPr>
      </p:pic>
      <p:pic>
        <p:nvPicPr>
          <p:cNvPr id="1047" name="Рисунок 2" descr=""/>
          <p:cNvPicPr/>
          <p:nvPr/>
        </p:nvPicPr>
        <p:blipFill>
          <a:blip r:embed="rId2"/>
          <a:stretch/>
        </p:blipFill>
        <p:spPr>
          <a:xfrm>
            <a:off x="0" y="7920"/>
            <a:ext cx="9698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06:21:21Z</dcterms:created>
  <dc:creator>NOUT_1</dc:creator>
  <dc:description/>
  <dc:language>en-US</dc:language>
  <cp:lastModifiedBy>QW</cp:lastModifiedBy>
  <dcterms:modified xsi:type="dcterms:W3CDTF">2022-12-18T04:39:22Z</dcterms:modified>
  <cp:revision>32</cp:revision>
  <dc:subject/>
  <dc:title>Слайд 1</dc:title>
</cp:coreProperties>
</file>