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0373-8BB8-410D-B5CB-6D567493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E8AC-E09B-4D6E-8943-4A915B82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F744-3980-4BF5-8210-AD47AE63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C304-DE95-42AE-971D-31E3718E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DA2E-3BDD-47A5-AA01-F9236D24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8CA5-0CCB-4003-A76A-C38C78FE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E201-D9CB-4342-88F2-C45203B1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5427-D1A0-4874-8E7D-BB72D959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E8CB-A3E4-4AFC-93A9-BC8834B8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706A-6017-4B96-9632-65905E81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FB79-C266-45B8-8FE0-AACCE3DC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1309-E362-4E70-993D-8C6B24ED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B3FD-CC9D-49CE-8E2B-FECAB52544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ooper Black"/>
              </a:rPr>
              <a:t>ТЕМА УРОКА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АК РАЗНЫЕ ЖИВОТ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ГОТОВЯТСЯ К ЗИМ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713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ДВЕДЬ         линя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ЫШЬ               запасает кор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ЯЦ                впадает в спяч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3059280" y="2492280"/>
            <a:ext cx="1296720" cy="15112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2268360" y="2997360"/>
            <a:ext cx="2232360" cy="0"/>
          </a:xfrm>
          <a:prstGeom prst="line">
            <a:avLst/>
          </a:prstGeom>
          <a:ln w="5724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 flipV="1">
            <a:off x="2050920" y="2349000"/>
            <a:ext cx="2232000" cy="1584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Критерии оцени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1655640" cy="1656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"/>
          <p:cNvSpPr/>
          <p:nvPr/>
        </p:nvSpPr>
        <p:spPr>
          <a:xfrm>
            <a:off x="3492360" y="1814400"/>
            <a:ext cx="33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ЕЗ ОШИБ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2"/>
          <a:stretch/>
        </p:blipFill>
        <p:spPr>
          <a:xfrm>
            <a:off x="1235160" y="3168720"/>
            <a:ext cx="1528560" cy="1528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2"/>
          <p:cNvSpPr/>
          <p:nvPr/>
        </p:nvSpPr>
        <p:spPr>
          <a:xfrm>
            <a:off x="3497400" y="3443400"/>
            <a:ext cx="27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 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3648240" y="5084640"/>
            <a:ext cx="31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-3 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http://fc.isd361.k12.mn.us/~rosa_christi/FOV1-0002023B/FOV1-00023BCC/S02368967.7/sad-face-red-small.jpg"/>
          <p:cNvPicPr/>
          <p:nvPr/>
        </p:nvPicPr>
        <p:blipFill>
          <a:blip r:embed="rId3"/>
          <a:stretch/>
        </p:blipFill>
        <p:spPr>
          <a:xfrm>
            <a:off x="1168560" y="4697280"/>
            <a:ext cx="166356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91440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узна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как разные животные      готовятся к зим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АК РАЗНЫЕ ЖИВОТНЫЕ ГОТОВЯТСЯ К ЗИ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79280" y="836640"/>
          <a:ext cx="8785440" cy="5786280"/>
        </p:xfrm>
        <a:graphic>
          <a:graphicData uri="http://schemas.openxmlformats.org/drawingml/2006/table">
            <a:tbl>
              <a:tblPr/>
              <a:tblGrid>
                <a:gridCol w="3240360"/>
                <a:gridCol w="2616120"/>
                <a:gridCol w="292896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48" descr="neb0bp"/>
          <p:cNvPicPr/>
          <p:nvPr/>
        </p:nvPicPr>
        <p:blipFill>
          <a:blip r:embed="rId1"/>
          <a:stretch/>
        </p:blipFill>
        <p:spPr>
          <a:xfrm>
            <a:off x="250920" y="1700280"/>
            <a:ext cx="3097080" cy="1944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9" descr="99ae8f76dcd91e0fe97ad005212fbe7f"/>
          <p:cNvPicPr/>
          <p:nvPr/>
        </p:nvPicPr>
        <p:blipFill>
          <a:blip r:embed="rId2"/>
          <a:stretch/>
        </p:blipFill>
        <p:spPr>
          <a:xfrm>
            <a:off x="3635280" y="1773360"/>
            <a:ext cx="2160720" cy="1892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0" descr="13865088"/>
          <p:cNvPicPr/>
          <p:nvPr/>
        </p:nvPicPr>
        <p:blipFill>
          <a:blip r:embed="rId3"/>
          <a:srcRect l="5815" t="0" r="0" b="0"/>
          <a:stretch/>
        </p:blipFill>
        <p:spPr>
          <a:xfrm>
            <a:off x="3564000" y="4076640"/>
            <a:ext cx="2303280" cy="215892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5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5" descr="00120000"/>
          <p:cNvPicPr/>
          <p:nvPr/>
        </p:nvPicPr>
        <p:blipFill>
          <a:blip r:embed="rId4"/>
          <a:stretch/>
        </p:blipFill>
        <p:spPr>
          <a:xfrm>
            <a:off x="6227640" y="1773360"/>
            <a:ext cx="252108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1" descr="pochemu-medved-zimoj-vpadaet-v-spyachku"/>
          <p:cNvPicPr/>
          <p:nvPr/>
        </p:nvPicPr>
        <p:blipFill>
          <a:blip r:embed="rId5"/>
          <a:stretch/>
        </p:blipFill>
        <p:spPr>
          <a:xfrm>
            <a:off x="826920" y="5300640"/>
            <a:ext cx="1513080" cy="1224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4" descr="domaschniy-ezhik-4"/>
          <p:cNvPicPr/>
          <p:nvPr/>
        </p:nvPicPr>
        <p:blipFill>
          <a:blip r:embed="rId6"/>
          <a:stretch/>
        </p:blipFill>
        <p:spPr>
          <a:xfrm>
            <a:off x="826920" y="3933720"/>
            <a:ext cx="1368720" cy="1162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9" descr="88e08dc7906c5b3b4c1e929759b3e55a"/>
          <p:cNvPicPr/>
          <p:nvPr/>
        </p:nvPicPr>
        <p:blipFill>
          <a:blip r:embed="rId7"/>
          <a:stretch/>
        </p:blipFill>
        <p:spPr>
          <a:xfrm>
            <a:off x="6156360" y="4149720"/>
            <a:ext cx="2585880" cy="2087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5"/>
          <p:cNvSpPr/>
          <p:nvPr/>
        </p:nvSpPr>
        <p:spPr>
          <a:xfrm>
            <a:off x="250920" y="981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ПАДАЮТ В СПЯЧ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9"/>
          <p:cNvSpPr/>
          <p:nvPr/>
        </p:nvSpPr>
        <p:spPr>
          <a:xfrm>
            <a:off x="361620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0"/>
          <p:cNvSpPr/>
          <p:nvPr/>
        </p:nvSpPr>
        <p:spPr>
          <a:xfrm>
            <a:off x="4068360" y="9810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Н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1"/>
          <p:cNvSpPr/>
          <p:nvPr/>
        </p:nvSpPr>
        <p:spPr>
          <a:xfrm>
            <a:off x="6012000" y="9810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АСАЮТ К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Arial"/>
              </a:rPr>
              <a:t>ПЛАН РАБО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очитай текс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йди опорные слов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знай животно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f73b8e7a3141ea322276a1c10633c010"/>
          <p:cNvPicPr/>
          <p:nvPr/>
        </p:nvPicPr>
        <p:blipFill>
          <a:blip r:embed="rId1"/>
          <a:stretch/>
        </p:blipFill>
        <p:spPr>
          <a:xfrm>
            <a:off x="611280" y="1052640"/>
            <a:ext cx="3240000" cy="2533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1402242374-oboi-1920h1080"/>
          <p:cNvPicPr/>
          <p:nvPr/>
        </p:nvPicPr>
        <p:blipFill>
          <a:blip r:embed="rId2"/>
          <a:stretch/>
        </p:blipFill>
        <p:spPr>
          <a:xfrm>
            <a:off x="5076720" y="1125360"/>
            <a:ext cx="3382920" cy="2479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zhizn-dikikh-zhivotnykh-zimoi-konspiekt-zaniatiia_14"/>
          <p:cNvPicPr/>
          <p:nvPr/>
        </p:nvPicPr>
        <p:blipFill>
          <a:blip r:embed="rId3"/>
          <a:stretch/>
        </p:blipFill>
        <p:spPr>
          <a:xfrm>
            <a:off x="611280" y="3860640"/>
            <a:ext cx="3240000" cy="2627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1347988390-443541-0244468_www"/>
          <p:cNvPicPr/>
          <p:nvPr/>
        </p:nvPicPr>
        <p:blipFill>
          <a:blip r:embed="rId4"/>
          <a:stretch/>
        </p:blipFill>
        <p:spPr>
          <a:xfrm>
            <a:off x="5076720" y="3860640"/>
            <a:ext cx="3384720" cy="2538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2"/>
          <p:cNvSpPr/>
          <p:nvPr/>
        </p:nvSpPr>
        <p:spPr>
          <a:xfrm>
            <a:off x="956520" y="217440"/>
            <a:ext cx="254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КА И ЗАЯ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5592960" y="222120"/>
            <a:ext cx="254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КА И ЗАЯ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И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УЗНАЙ ЖИВОТ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755640" y="1341360"/>
            <a:ext cx="496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олая и нежная ко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55640" y="2205000"/>
            <a:ext cx="590400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двигается прыж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55640" y="4365720"/>
            <a:ext cx="4392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падает в спяч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755640" y="3284640"/>
            <a:ext cx="52578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итается насекомы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1280x720-kpp"/>
          <p:cNvPicPr/>
          <p:nvPr/>
        </p:nvPicPr>
        <p:blipFill>
          <a:blip r:embed="rId1"/>
          <a:srcRect l="9742" t="0" r="10043" b="10504"/>
          <a:stretch/>
        </p:blipFill>
        <p:spPr>
          <a:xfrm>
            <a:off x="5508720" y="4581360"/>
            <a:ext cx="3255840" cy="2044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2643120" y="5732640"/>
            <a:ext cx="26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ЯГУ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УЗНАЙ ЖИВОТ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755640" y="1341360"/>
            <a:ext cx="604836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большое медлитель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55640" y="2205000"/>
            <a:ext cx="712944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олая кожа, покрытая бугор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55640" y="4365720"/>
            <a:ext cx="4392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падает в спяч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755640" y="3284640"/>
            <a:ext cx="734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итается слизнями, насекомы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2178845"/>
          <p:cNvPicPr/>
          <p:nvPr/>
        </p:nvPicPr>
        <p:blipFill>
          <a:blip r:embed="rId1"/>
          <a:stretch/>
        </p:blipFill>
        <p:spPr>
          <a:xfrm>
            <a:off x="5651640" y="4365720"/>
            <a:ext cx="2736720" cy="20304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"/>
          <p:cNvSpPr/>
          <p:nvPr/>
        </p:nvSpPr>
        <p:spPr>
          <a:xfrm>
            <a:off x="3492360" y="5778360"/>
            <a:ext cx="20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ЖА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УЗНАЙ ЖИВОТ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546120" y="990720"/>
            <a:ext cx="835992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большое, очень ловкое, подвижн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546120" y="1936800"/>
            <a:ext cx="590400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покрыто чешуй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557280" y="5172120"/>
            <a:ext cx="4392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падает в спяч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46120" y="2997360"/>
            <a:ext cx="568152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ть ноги, длинный хв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57280" y="4076640"/>
            <a:ext cx="52578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итается насекомы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936960" y="6093000"/>
            <a:ext cx="23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ЩЕР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depositphotos_11421546-Sand-lizard"/>
          <p:cNvPicPr/>
          <p:nvPr/>
        </p:nvPicPr>
        <p:blipFill>
          <a:blip r:embed="rId1"/>
          <a:stretch/>
        </p:blipFill>
        <p:spPr>
          <a:xfrm>
            <a:off x="6254640" y="4508640"/>
            <a:ext cx="265140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УЗНАЙ ЖИВОТ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95280" y="1052640"/>
            <a:ext cx="816444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ное гибкое тело, порыто чешуйкам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95280" y="3933720"/>
            <a:ext cx="818676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тается мышами и мелкими живот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95280" y="5013360"/>
            <a:ext cx="3821040" cy="74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падает в спяч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95280" y="1989000"/>
            <a:ext cx="187308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ог н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395280" y="2852640"/>
            <a:ext cx="460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зает, изгиб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"/>
          <p:cNvSpPr/>
          <p:nvPr/>
        </p:nvSpPr>
        <p:spPr>
          <a:xfrm>
            <a:off x="4717440" y="5877000"/>
            <a:ext cx="13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М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2" descr="2309648"/>
          <p:cNvPicPr/>
          <p:nvPr/>
        </p:nvPicPr>
        <p:blipFill>
          <a:blip r:embed="rId1"/>
          <a:srcRect l="15483" t="0" r="0" b="0"/>
          <a:stretch/>
        </p:blipFill>
        <p:spPr>
          <a:xfrm>
            <a:off x="6316560" y="5086440"/>
            <a:ext cx="226692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8:10:19Z</dcterms:created>
  <dc:creator>XP GAME 2007</dc:creator>
  <dc:description/>
  <dc:language>en-US</dc:language>
  <cp:lastModifiedBy>user</cp:lastModifiedBy>
  <dcterms:modified xsi:type="dcterms:W3CDTF">2022-12-18T18:08:49Z</dcterms:modified>
  <cp:revision>20</cp:revision>
  <dc:subject/>
  <dc:title>Слайд 1</dc:title>
</cp:coreProperties>
</file>