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40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2.jpeg" ContentType="image/jpeg"/>
  <Override PartName="/ppt/media/image4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CDA-6970-43C3-8FA4-6E34A375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EC0-C9BD-435F-AE99-6D7CACDD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5D109-85FC-4A40-BAA4-608F0477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B3743-E46A-470C-ABD4-06D57FEA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3A84E-1BED-4BA6-970E-E2680519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CFE4D-9AEA-40CE-BF8C-43BD679B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D2504-D2AD-4BA6-9CA8-6CD2C3B3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65783-60B8-4957-8152-D48D0B6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E8807-79EF-4516-965C-83561D0C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264E4-CD41-4A9A-A40F-2AB7689C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732E2-249A-4164-B7BE-64513042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68AE3-A297-45A7-818D-77B51F50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189-170D-475D-9376-263A04A4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0CDED-37BF-425E-886E-C9E49157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36293-3953-41D0-985E-A8107FF2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B8632-9143-4456-9486-12601396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45734-4D30-44D2-9537-7128496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002E7-92FF-46D0-98D8-2F90058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CF71B-BCB2-4699-8248-19F6472F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901FF-8BA9-415A-8A68-D0CEB521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26E78-BDC0-4E09-982D-5305452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4D0F0-8D46-4DA3-8CD2-57C34B64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46779-7B60-4FDC-BA0A-FF8CD00F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3A7-9DEA-48A4-979C-CC06B1E2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55FAF-3661-40A0-A6CE-A940F5B4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A8C7D-F558-4B2B-8738-F8226D2A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51915-9149-495E-92B9-BD2CA488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AE8AB-1A0F-4F84-9390-5181DE08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FB5B0-A7A7-40D7-BDF9-D7F8EF05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0B057-163B-4CD3-BFA5-3E2488EC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D831F-000A-4CE4-8E28-F35A0333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8CEFC-7655-497A-A606-3038BA1D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3034C-7D68-41D4-BA6D-32DBAC99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64BA0-EE0F-4DD6-B6AD-49422EBE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4A26-642D-4D60-9D81-D0E7FF5A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736CB-29BC-4078-AB44-05E991FA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F91E9-3B98-4934-B0DD-8E5C06B1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9693C-0A7E-4B1E-9EFB-257742C1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7B50E-5C47-4B10-BF05-1DE4C8A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C660C-BDAC-42A0-B0A7-7FB82482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D2A29-B7A7-40CE-9D32-11FB1B8F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AB5BC-8A46-41DD-804D-ABCE249F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BF222-C7CF-49FE-A40A-79ACF926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23768-8D56-40AA-9249-C70A0F18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AC203-D523-4284-9C1C-1799DBE1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F26F-2D10-4876-87F3-48714AFE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EBC9A-501F-46FD-A8A1-0FE8166C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DE818-2B14-4D00-B665-ABDED78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F163B-3747-4F89-B705-EA1B9374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D2FC2-6D07-4B00-AEEA-DEDC374E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01522-809D-4C79-A9CF-363DCC32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83BBC-893E-470D-BFEE-BE399413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4CCFB-2FE5-4A5D-9063-C7556314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812C1-75D3-41F9-A8B1-28EFB165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C8CDE-D3D6-4098-B407-7D64A6E3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3ABCF-B998-4713-A4C8-B254183C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0998-C3BB-4D89-9A92-CCBFECC0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D307F-A743-4B6A-89CC-379CF76D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BE809-C0DA-4AE2-87AF-2F5BDE66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4C9A8-2512-4AE5-AA22-F88E5378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F93C2-B9A9-4F62-8CAB-96C89837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C61CF-8590-4BDF-AE10-6EE215F9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CC1EC-4A21-4BEC-9E58-14C4A504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389D8-D8EF-474B-A590-A0ADB5CA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CE7A-D672-4B3F-93FA-63249CDD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36DF-36FD-4942-991B-7FB4869C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7429-6184-4CC4-9DDF-4CAEA819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0EE8-FD36-4F9C-9C6E-F4AAF12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A90-B25B-4438-BE31-0352DDF2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22BC-BB1B-44FB-821F-CCD50C5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F98-E27D-4386-A105-66AA4034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146B-B7AC-421B-91DD-275A4387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19AB-E093-4C75-A706-EA850010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3D01-6F35-44E4-BFAB-A1BF5CE6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AC4B-E4C7-4B7A-A2B7-33AF98E6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5590-F0D2-4C86-820A-ABBD567E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D554-07CF-4155-AF5C-5850AEE2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6E4D-A6A7-4C53-8A6A-12E5F3F2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7A96D-CA2F-448A-B809-FD0A450D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C52-0B74-4D34-AF10-7224D2BD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7FCE-6D71-45C7-B714-890CB89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822E-1BCB-4886-8F9B-EB62D17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97F1B-2502-4126-A803-2710141C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E6A4F-83EC-4E95-800C-B3CCC72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689ED-EFBB-4AD7-9A2E-61E801B4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6241A-3A5E-473B-89D5-90EA9B52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D279-59D0-4CC1-A24C-EFD38DEC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93C1C-19F2-46A9-A530-D11510B5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0530-55CE-428F-B457-210FD5DF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C62C-FA95-439E-8BAA-B3DD9E5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A11-4D2E-4872-8610-719ECF5D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2FC4-9D9D-4ECE-880A-1AED7CAA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87C30-E6A2-4B54-BC7C-FCAA1F8D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C9873-608F-4D79-B989-FCB0DFF7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91DD-2DE5-45C5-AFFC-AD9EE452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D9FF4-07CD-4ABD-B796-027C5075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A374-9299-457E-ACE6-1286E10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B928-ADA6-4747-A69E-A48739C3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A6018-DBCB-4024-8366-EC709B4F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47FD-0196-42C1-868F-B951EFC2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0DC0-D5F8-47E3-9DAE-F73C5ACD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3D2-4343-4001-8DF2-DBCB0CE2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D750A-C2C8-4120-8D66-3C1CF3E8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D9A1-C803-4C5B-812F-A6BC6DC3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81839-179A-4252-92E8-1B7DBA5E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4788-1050-4225-8F97-330BF4B0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1F869-2EA9-4882-A7EB-5A94A979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8F1C7-3DCF-4C5F-A2AB-2745962B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11145-0AE2-4D83-AACB-0E9B58F4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CCC2-AD89-456F-91FD-CBE84DB1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0B052-028C-4310-BE2F-9AB5DFCA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988F5-3BA8-46DA-BD9B-B9E8DD26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E22-8D18-430C-82DD-5164F79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D508-4FB0-4E44-9D19-4D744F59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A4300-0762-4926-A25D-A8552D27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F4553-0320-49E8-BEF9-B1CAF7A8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D4601-31A8-48F6-8750-C2E4D95B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B04C8-01FB-4265-8315-E0EEF891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224DF-25FB-4D12-8F10-82096524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971D-B1D0-4CE0-8B96-64F764F5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AB255-7A87-4277-8ED4-D34D815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2C00F-A597-4537-9AE8-2D7D656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CC40A-8656-4D24-8C9E-78491D44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477-0652-48FB-9D91-37652E5D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B5C68-B36E-4A80-982F-AF27FD18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DD11C-6A0E-4943-A66E-CE73C7FA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7118-060E-4EFF-AA23-481E5270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B7721-A01A-4D1F-B185-CEEB6AD8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7CA1-434C-4249-A5B5-DC477012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78FD8-3123-45B0-B41D-7EA59E94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26091-6CB5-4B15-90C2-4F722186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6B1D4-17FF-41C3-BA86-6A828897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102FF-F5F6-4C5A-BEBF-4D24A77A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695B-3D57-4097-B159-777409E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62D-3DB1-4D07-B8EA-B1A96C1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F29ED-AC45-48BA-B08A-0DF5468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361DB-4E61-4D2B-B9DF-ED4BAA41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278C8-C08B-4A30-AF7D-DFB29BE2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B3B5-B9C9-4506-A1FF-DFB8DA3A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40FB-DC72-4D36-9822-F195C356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3A9B7-8597-4F96-AA82-CDB0FDB3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C77AC-93C0-4E31-BA56-3CBE339A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7AD91-2E72-4668-8F30-D5EB0511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D0A1E-3049-4E87-AD6F-FCDF926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624CC-914B-43AE-9130-B105436D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7DB-76C3-4A8E-9DC0-B843E7E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2DEC4-E06F-47B3-A354-91E0D885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3CA25-F22B-417D-8FDF-7AD63E47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09229-973B-4F69-A90C-1F1F8E6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E108B-8F49-44A4-ACF9-7E74475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6931B-33F5-42B8-BB85-96627E6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E3700-FA2F-4FBD-B76C-866D037F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28010-D5FF-41FA-A730-16B59897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09B5B-736A-493C-8C5A-60358ED8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0CD15-D745-490F-922B-AC4D974B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50C61-C48B-45F9-A28D-A115FE0A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A96F-354F-4D2B-90C6-C0A55CBBD3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748B-1E6B-47C7-B600-F825713855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9F37-20A9-4ED8-B5CE-3DCB1192B5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FAFB-1A93-4BB3-BB53-A7746560C7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D9BB-303F-4435-8B59-37D1BEB11F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096B-0B17-4DC0-9980-5A9D60392C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6765-A2F7-45BE-856D-365CD452D37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36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5A3-E2B7-46BC-86D4-79F098FD7A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C2D2-9048-4F16-9F56-8A94573BF7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2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115A-AB9D-4A30-A1F4-9CBE25EC55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6780-C63D-4874-ABB4-E8BAE53A3A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838-D374-40A5-88D5-CE858E2845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47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1928-40C3-4B00-B9EB-6ECED6C7E7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Rectangle 2" descr=""/>
          <p:cNvPicPr/>
          <p:nvPr/>
        </p:nvPicPr>
        <p:blipFill>
          <a:blip r:embed="rId1"/>
          <a:stretch/>
        </p:blipFill>
        <p:spPr>
          <a:xfrm>
            <a:off x="390600" y="249120"/>
            <a:ext cx="8508960" cy="3176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5363640" y="465300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ла: 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валькова Анастасия Александро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младшая групп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Заголовок 1" descr=""/>
          <p:cNvPicPr/>
          <p:nvPr/>
        </p:nvPicPr>
        <p:blipFill>
          <a:blip r:embed="rId1"/>
          <a:stretch/>
        </p:blipFill>
        <p:spPr>
          <a:xfrm>
            <a:off x="298440" y="401760"/>
            <a:ext cx="8705880" cy="11714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C:\Users\vikto\Desktop\jlsIzEKQwP4.jpg"/>
          <p:cNvPicPr/>
          <p:nvPr/>
        </p:nvPicPr>
        <p:blipFill>
          <a:blip r:embed="rId2"/>
          <a:stretch/>
        </p:blipFill>
        <p:spPr>
          <a:xfrm>
            <a:off x="457200" y="1484280"/>
            <a:ext cx="4038480" cy="460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7" name="Picture 6" descr="C:\Users\vikto\Desktop\LArman02e0o.jpg"/>
          <p:cNvPicPr/>
          <p:nvPr/>
        </p:nvPicPr>
        <p:blipFill>
          <a:blip r:embed="rId3"/>
          <a:stretch/>
        </p:blipFill>
        <p:spPr>
          <a:xfrm>
            <a:off x="4643280" y="1484280"/>
            <a:ext cx="40435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Заголовок 4" descr=""/>
          <p:cNvPicPr/>
          <p:nvPr/>
        </p:nvPicPr>
        <p:blipFill>
          <a:blip r:embed="rId1"/>
          <a:stretch/>
        </p:blipFill>
        <p:spPr>
          <a:xfrm>
            <a:off x="317520" y="176040"/>
            <a:ext cx="3022560" cy="152424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арианты игр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льчиковый бассейн - просто насыпать крупу в большую миску, на столик или поднос и водить ручками,  сжимать и разжимать кулачки, пересыпать, набирая в кулачки, сыпать по крупинкам, как бы будто солим - это позволит ребёнку познакомиться с крупо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0" name="Picture 8" descr="C:\Users\vikto\Desktop\8.jpg"/>
          <p:cNvPicPr/>
          <p:nvPr/>
        </p:nvPicPr>
        <p:blipFill>
          <a:blip r:embed="rId2"/>
          <a:stretch/>
        </p:blipFill>
        <p:spPr>
          <a:xfrm>
            <a:off x="3564000" y="1052640"/>
            <a:ext cx="2663640" cy="2376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C:\Users\vikto\Desktop\7.jpg"/>
          <p:cNvPicPr/>
          <p:nvPr/>
        </p:nvPicPr>
        <p:blipFill>
          <a:blip r:embed="rId3"/>
          <a:stretch/>
        </p:blipFill>
        <p:spPr>
          <a:xfrm>
            <a:off x="6300720" y="105264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0" descr="C:\Users\vikto\Desktop\5.jpg"/>
          <p:cNvPicPr/>
          <p:nvPr/>
        </p:nvPicPr>
        <p:blipFill>
          <a:blip r:embed="rId4"/>
          <a:stretch/>
        </p:blipFill>
        <p:spPr>
          <a:xfrm>
            <a:off x="3564000" y="3500280"/>
            <a:ext cx="2663640" cy="2592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C:\Users\vikto\Desktop\3.jpg"/>
          <p:cNvPicPr/>
          <p:nvPr/>
        </p:nvPicPr>
        <p:blipFill>
          <a:blip r:embed="rId5"/>
          <a:stretch/>
        </p:blipFill>
        <p:spPr>
          <a:xfrm>
            <a:off x="6300720" y="3500280"/>
            <a:ext cx="2664000" cy="259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Заголовок 4" descr=""/>
          <p:cNvPicPr/>
          <p:nvPr/>
        </p:nvPicPr>
        <p:blipFill>
          <a:blip r:embed="rId1"/>
          <a:stretch/>
        </p:blipFill>
        <p:spPr>
          <a:xfrm>
            <a:off x="317520" y="176040"/>
            <a:ext cx="3022560" cy="152424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этой же ёмкости можно зарывать игрушки, магнитики для холодильника, и другие безделушки. Детки очень радуются, когда находят «клад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6" name="Picture 8" descr="C:\Users\vikto\Desktop\18.jpg"/>
          <p:cNvPicPr/>
          <p:nvPr/>
        </p:nvPicPr>
        <p:blipFill>
          <a:blip r:embed="rId2"/>
          <a:stretch/>
        </p:blipFill>
        <p:spPr>
          <a:xfrm>
            <a:off x="3419640" y="1125360"/>
            <a:ext cx="2881080" cy="2303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C:\Users\vikto\Desktop\20.jpg"/>
          <p:cNvPicPr/>
          <p:nvPr/>
        </p:nvPicPr>
        <p:blipFill>
          <a:blip r:embed="rId3"/>
          <a:stretch/>
        </p:blipFill>
        <p:spPr>
          <a:xfrm>
            <a:off x="6372360" y="3500280"/>
            <a:ext cx="2663640" cy="23767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0" descr="C:\Users\vikto\Desktop\21.jpg"/>
          <p:cNvPicPr/>
          <p:nvPr/>
        </p:nvPicPr>
        <p:blipFill>
          <a:blip r:embed="rId4"/>
          <a:stretch/>
        </p:blipFill>
        <p:spPr>
          <a:xfrm>
            <a:off x="3419640" y="3500280"/>
            <a:ext cx="2881080" cy="2376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C:\Users\vikto\Desktop\19.jpg"/>
          <p:cNvPicPr/>
          <p:nvPr/>
        </p:nvPicPr>
        <p:blipFill>
          <a:blip r:embed="rId5"/>
          <a:stretch/>
        </p:blipFill>
        <p:spPr>
          <a:xfrm>
            <a:off x="6372360" y="1125360"/>
            <a:ext cx="26636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Заголовок 1" descr=""/>
          <p:cNvPicPr/>
          <p:nvPr/>
        </p:nvPicPr>
        <p:blipFill>
          <a:blip r:embed="rId1"/>
          <a:stretch/>
        </p:blipFill>
        <p:spPr>
          <a:xfrm>
            <a:off x="585720" y="212760"/>
            <a:ext cx="2992680" cy="15192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• 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исовать, водя пальчиком по крупе или дорисовывать ваш рисунок </a:t>
            </a:r>
            <a:r>
              <a:rPr b="0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к солнышку- лучики, к тучке- капельки и др.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2" name="Picture 7" descr="C:\Users\vikto\Desktop\25.jpg"/>
          <p:cNvPicPr/>
          <p:nvPr/>
        </p:nvPicPr>
        <p:blipFill>
          <a:blip r:embed="rId2"/>
          <a:stretch/>
        </p:blipFill>
        <p:spPr>
          <a:xfrm>
            <a:off x="3851280" y="1341360"/>
            <a:ext cx="2592360" cy="2452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C:\Users\vikto\Desktop\VjuVsUzFLHA.jpg"/>
          <p:cNvPicPr/>
          <p:nvPr/>
        </p:nvPicPr>
        <p:blipFill>
          <a:blip r:embed="rId3"/>
          <a:stretch/>
        </p:blipFill>
        <p:spPr>
          <a:xfrm>
            <a:off x="3851280" y="3860640"/>
            <a:ext cx="2592360" cy="2664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C:\Users\vikto\Desktop\Pc-YDtxcGao.jpg"/>
          <p:cNvPicPr/>
          <p:nvPr/>
        </p:nvPicPr>
        <p:blipFill>
          <a:blip r:embed="rId4"/>
          <a:stretch/>
        </p:blipFill>
        <p:spPr>
          <a:xfrm>
            <a:off x="6516720" y="3860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C:\Users\vikto\Desktop\26.jpg"/>
          <p:cNvPicPr/>
          <p:nvPr/>
        </p:nvPicPr>
        <p:blipFill>
          <a:blip r:embed="rId5"/>
          <a:stretch/>
        </p:blipFill>
        <p:spPr>
          <a:xfrm>
            <a:off x="6516720" y="1341360"/>
            <a:ext cx="251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742240" cy="1414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C:\Users\vikto\Desktop\UTe6KfMisT4.jpg"/>
          <p:cNvPicPr/>
          <p:nvPr/>
        </p:nvPicPr>
        <p:blipFill>
          <a:blip r:embed="rId2"/>
          <a:stretch/>
        </p:blipFill>
        <p:spPr>
          <a:xfrm>
            <a:off x="684360" y="1628640"/>
            <a:ext cx="3744720" cy="23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C:\Users\vikto\Desktop\iIOSSi3JtYU.jpg"/>
          <p:cNvPicPr/>
          <p:nvPr/>
        </p:nvPicPr>
        <p:blipFill>
          <a:blip r:embed="rId3"/>
          <a:stretch/>
        </p:blipFill>
        <p:spPr>
          <a:xfrm>
            <a:off x="4572000" y="1628640"/>
            <a:ext cx="3960720" cy="2376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vikto\Desktop\rNVTrXeCKEg.jpg"/>
          <p:cNvPicPr/>
          <p:nvPr/>
        </p:nvPicPr>
        <p:blipFill>
          <a:blip r:embed="rId4"/>
          <a:stretch/>
        </p:blipFill>
        <p:spPr>
          <a:xfrm>
            <a:off x="684360" y="4076640"/>
            <a:ext cx="3744720" cy="2664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C:\Users\vikto\Desktop\YNr92cqbMIA.jpg"/>
          <p:cNvPicPr/>
          <p:nvPr/>
        </p:nvPicPr>
        <p:blipFill>
          <a:blip r:embed="rId5"/>
          <a:stretch/>
        </p:blipFill>
        <p:spPr>
          <a:xfrm>
            <a:off x="4572000" y="4076640"/>
            <a:ext cx="39607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ое развитие имеет прямое воздействие на формирование правильной речи. Соприкосновение органов чувств с различными признаками и свойствами предметов является главенствующим источником знаний об окружающем мире. Речь развивается наглядным, действенным путем. Чтобы давать названия, должны быть налицо все предметы, с которыми эти названия должны быть связаны. Правильное восприятие предметов является главной умственной работой ребёнка. Сенсорное и речевое развитие происходит в тесном единстве, и работу по развитию речи нельзя отрывать от работы по развитию органов чувств и восприятия. Осваивая сенсорные эталоны ребёнок обогащает словарный запас и постепенно начинает употреблять их в деятельности. Усвоить сенсорный эталон — это вовсе не значит научиться правильно называть то или иное свойство объекта. Необходимо иметь чёткие представления о разновидностях каждого свойства и, главное, уметь пользоваться такими представлениями для анализа и выделения свойств самых разнообразных предметов в самых различных ситуациях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0070c0"/>
              </a:solidFill>
              <a:latin typeface="Franklin Gothic Medium"/>
            </a:endParaRPr>
          </a:p>
        </p:txBody>
      </p:sp>
      <p:pic>
        <p:nvPicPr>
          <p:cNvPr id="614" name="Picture 2" descr="C:\Users\vikto\Desktop\1620635444_2-phonoteka_org-p-spasibo-za-vnimanie-goluboi-fon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речи ребёнка дошкольного возраста большое значение имеют сенсорные игры, основная цель которых - дать ребёнку новые чувственные ощущения: зрительные, слуховые, тактильные и двигательные, обонятельные и вкусовые. Целесообразность проведения с детьми таких игр основывается на утверждении о том, что сенсорный компонент в ознакомлении с окружающим миром приобретает для них особую значимость. Данные игры позволяют установить с ребёнком эмоциональный контакт, который позволяет в дальнейшем всесторонне воздействовать на развитие реч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2" descr=""/>
          <p:cNvPicPr/>
          <p:nvPr/>
        </p:nvPicPr>
        <p:blipFill>
          <a:blip r:embed="rId1"/>
          <a:stretch/>
        </p:blipFill>
        <p:spPr>
          <a:xfrm>
            <a:off x="281160" y="328680"/>
            <a:ext cx="8843760" cy="15001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й речевой активности детей младшего дошкольного возраста в процессе игр с сенсорными материалам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 детей младшего дошкольного возраста перцептивные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; учить обозначать их словом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ировать познавательную и речевую деятельность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обогащения сенсорного опыта детей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становлению речи через развитие мелко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ик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699760" cy="10062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468000" y="119700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занятиях используются реальные предметы, дети видят их цвет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мер, форму, могут потрогать, послушать их звучание, если же мы не имеем  возможности применять в работе реальные предметы, то для стимулирования зрительного восприятия используются предметные картинки и игрушки, приближённые к реаль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нсорный опыт, приобретённый при специально организованн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учении, позволяет не заучивать речь механически, а способствует её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онтанному формированию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занятии, стимулируется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есколько видов восприятия, так,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ействовав как можно больше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нсорных стимулов для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риятия предмета, мы создаё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моциональную ситуацию для ребёнка, в которой он лучше и быстрее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помнит этот предмет и его назва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Заголовок 3" descr=""/>
          <p:cNvPicPr/>
          <p:nvPr/>
        </p:nvPicPr>
        <p:blipFill>
          <a:blip r:embed="rId1"/>
          <a:stretch/>
        </p:blipFill>
        <p:spPr>
          <a:xfrm>
            <a:off x="341280" y="109440"/>
            <a:ext cx="8437680" cy="13114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40388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гры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фиксировать внимание на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вых свойствах предмета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ринимать и задействовать  слова : «цвет», « такой же», «разные»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ировать по цвету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мелкую моторику пальцев рук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: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можно с одним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ом или с подгруппой детей. Играя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учится выделять цвета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ов, сравнивать их и обозначать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словом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4" name="Picture 5" descr="C:\Users\vikto\Desktop\sMIaN1OBBiI.jpg"/>
          <p:cNvPicPr/>
          <p:nvPr/>
        </p:nvPicPr>
        <p:blipFill>
          <a:blip r:embed="rId2"/>
          <a:stretch/>
        </p:blipFill>
        <p:spPr>
          <a:xfrm>
            <a:off x="4140360" y="1557360"/>
            <a:ext cx="2519280" cy="40384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C:\Users\vikto\Desktop\ql3gBS3ccXE.jpg"/>
          <p:cNvPicPr/>
          <p:nvPr/>
        </p:nvPicPr>
        <p:blipFill>
          <a:blip r:embed="rId3"/>
          <a:stretch/>
        </p:blipFill>
        <p:spPr>
          <a:xfrm>
            <a:off x="6732720" y="1557360"/>
            <a:ext cx="230328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нимания и логического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я дете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едлагает ребёнку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готовую картинку, где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среди жёлтых кругов есть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и зелёного цвет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длагает найти ошибку, её исправи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8" name="Picture 5" descr="C:\Users\vikto\Desktop\-Zdtv4bEyUQ.jpg"/>
          <p:cNvPicPr/>
          <p:nvPr/>
        </p:nvPicPr>
        <p:blipFill>
          <a:blip r:embed="rId2"/>
          <a:stretch/>
        </p:blipFill>
        <p:spPr>
          <a:xfrm>
            <a:off x="4859280" y="1197000"/>
            <a:ext cx="3597480" cy="2232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C:\Users\vikto\Desktop\70uGI0kqVNI.jpg"/>
          <p:cNvPicPr/>
          <p:nvPr/>
        </p:nvPicPr>
        <p:blipFill>
          <a:blip r:embed="rId3"/>
          <a:stretch/>
        </p:blipFill>
        <p:spPr>
          <a:xfrm>
            <a:off x="4859280" y="3645000"/>
            <a:ext cx="36003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Заголовок 4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56024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я в эти игры, дети учатся группировать, соотносить предметы по цвет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2" name="Picture 4" descr="C:\Users\vikto\Desktop\J9gf0wqOkEw.jpg"/>
          <p:cNvPicPr/>
          <p:nvPr/>
        </p:nvPicPr>
        <p:blipFill>
          <a:blip r:embed="rId2"/>
          <a:stretch/>
        </p:blipFill>
        <p:spPr>
          <a:xfrm>
            <a:off x="4572000" y="4221000"/>
            <a:ext cx="4254480" cy="2399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C:\Users\vikto\Desktop\n1n09enFtgY.jpg"/>
          <p:cNvPicPr/>
          <p:nvPr/>
        </p:nvPicPr>
        <p:blipFill>
          <a:blip r:embed="rId3"/>
          <a:stretch/>
        </p:blipFill>
        <p:spPr>
          <a:xfrm>
            <a:off x="4572000" y="1700280"/>
            <a:ext cx="42480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Заголовок 1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40760" cy="1890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vikto\Desktop\zmYY5sVEI6g.jpg"/>
          <p:cNvPicPr/>
          <p:nvPr/>
        </p:nvPicPr>
        <p:blipFill>
          <a:blip r:embed="rId2"/>
          <a:stretch/>
        </p:blipFill>
        <p:spPr>
          <a:xfrm>
            <a:off x="324000" y="1916280"/>
            <a:ext cx="2663640" cy="22334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:\Users\vikto\Desktop\gAaRFC2n_dE.jpg"/>
          <p:cNvPicPr/>
          <p:nvPr/>
        </p:nvPicPr>
        <p:blipFill>
          <a:blip r:embed="rId3"/>
          <a:stretch/>
        </p:blipFill>
        <p:spPr>
          <a:xfrm>
            <a:off x="3132000" y="1916280"/>
            <a:ext cx="2735280" cy="22334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C:\Users\vikto\Desktop\2HGqD3TaZkM.jpg"/>
          <p:cNvPicPr/>
          <p:nvPr/>
        </p:nvPicPr>
        <p:blipFill>
          <a:blip r:embed="rId4"/>
          <a:stretch/>
        </p:blipFill>
        <p:spPr>
          <a:xfrm>
            <a:off x="6012000" y="1916280"/>
            <a:ext cx="2736720" cy="2233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C:\Users\vikto\Desktop\GAW1c1JGdN0.jpg"/>
          <p:cNvPicPr/>
          <p:nvPr/>
        </p:nvPicPr>
        <p:blipFill>
          <a:blip r:embed="rId5"/>
          <a:stretch/>
        </p:blipFill>
        <p:spPr>
          <a:xfrm>
            <a:off x="1908000" y="4221000"/>
            <a:ext cx="2519640" cy="2448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C:\Users\vikto\Desktop\KxOqXasw7hI.jpg"/>
          <p:cNvPicPr/>
          <p:nvPr/>
        </p:nvPicPr>
        <p:blipFill>
          <a:blip r:embed="rId6"/>
          <a:stretch/>
        </p:blipFill>
        <p:spPr>
          <a:xfrm>
            <a:off x="457200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Заголовок 4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242200" cy="12445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C:\Users\vikto\Desktop\EQD1X2n7M7o.jpg"/>
          <p:cNvPicPr/>
          <p:nvPr/>
        </p:nvPicPr>
        <p:blipFill>
          <a:blip r:embed="rId2"/>
          <a:stretch/>
        </p:blipFill>
        <p:spPr>
          <a:xfrm>
            <a:off x="179280" y="1484280"/>
            <a:ext cx="2880000" cy="4608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C:\Users\vikto\Desktop\kXQrtJraOM8.jpg"/>
          <p:cNvPicPr/>
          <p:nvPr/>
        </p:nvPicPr>
        <p:blipFill>
          <a:blip r:embed="rId3"/>
          <a:stretch/>
        </p:blipFill>
        <p:spPr>
          <a:xfrm>
            <a:off x="6227640" y="1484280"/>
            <a:ext cx="2727360" cy="4608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C:\Users\vikto\Desktop\n2OOhgTmUqw.jpg"/>
          <p:cNvPicPr/>
          <p:nvPr/>
        </p:nvPicPr>
        <p:blipFill>
          <a:blip r:embed="rId4"/>
          <a:stretch/>
        </p:blipFill>
        <p:spPr>
          <a:xfrm>
            <a:off x="3203640" y="1484280"/>
            <a:ext cx="288108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13:21:44Z</dcterms:created>
  <dc:creator>dns</dc:creator>
  <dc:description/>
  <dc:language>en-US</dc:language>
  <cp:lastModifiedBy>vikto</cp:lastModifiedBy>
  <dcterms:modified xsi:type="dcterms:W3CDTF">2022-12-18T12:51:09Z</dcterms:modified>
  <cp:revision>90</cp:revision>
  <dc:subject/>
  <dc:title>«Двигательная активность как средство формирования у детей представлений о здоровом образе жизни»</dc:title>
</cp:coreProperties>
</file>