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40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2.jpeg" ContentType="image/jpeg"/>
  <Override PartName="/ppt/media/image4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542-6FF9-4AF7-86B7-7C310098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7A0-B534-4137-B769-F1F2AF3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2E96D-247A-4BDC-9BBA-735952B7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791EE-8063-4E18-9CEC-711248A7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D6EE3-C6C3-4797-BE90-6ABEBF72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9D2C0-3F63-4899-B5AA-69AD8E5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701DF-23CF-4C28-ADE3-B83AF2C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97768-4CDF-42EF-8261-8078646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DB3E2-B803-4B6D-BD45-96B666C5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80E9D-B68C-4146-8DDA-E75937E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9573F-1994-4AB5-859D-02EB7C3B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804E6-80C2-422F-B5DC-EE52FEDA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3B2-3E71-43BF-ABA5-C48A5E4D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53ACE-18EC-44DB-96A4-9688A359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A18BF-F2B7-40C7-8C4B-296BF5A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CC99C-0B3F-4FD5-91C0-F81197DE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F5454-3F2A-488B-8CDF-36576FB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4F15A-9CD5-44B9-A4FB-C6FE66B2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8AA03-4D3D-4DED-9947-EBF588ED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F292C-F3BE-4902-BB2B-A914EA4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696ED-715C-41F2-BE7F-41E0C436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C05BF-FBF1-46CF-880C-47F3AEF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E1E2C-FF3A-43BC-AEC6-67C8F55B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706-93BA-4276-B10A-7886649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C261-3E2B-4049-BF8A-A6EEC2BB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5CCD4-32D6-413C-A7E1-D8B83FF5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D4069-F046-4AD5-98CC-2E41AC5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178B7-FBED-47AB-9D5F-561B8452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B0AB9-7002-4DCB-B7AF-3C02558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56507-D20A-4B39-8805-20A90FA4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6C04A-4C3D-4447-9519-38AE9E68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31967-3D0C-49A4-A00E-874A859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8A467-94AC-4FE5-AFB3-9522DDE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86FE4-4DA1-453E-B05B-B1D9D50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172-0B19-4061-81B7-F75108F8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AE1E-5627-4B51-9844-4DF626FD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508AA-486B-431D-A7A1-748029A2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E4077-3411-4BF6-AB9E-BED3ACCC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46D8A-963E-4780-A27F-F207435D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ADE46-D426-410C-8FC3-D54708B8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20B86-24E8-4523-A3DC-A5E5DF3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6560-8852-4FC9-9C3F-3FF198AB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BDF25-5EF5-41D3-9AD0-F01BEB7F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D22F3-32B2-46A5-B724-9AE43958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C8D11-A199-439C-9F0E-EB509B3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E1F2-F44B-46E4-80D6-B94D431F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73DE5-D850-4461-914B-3CE4EF75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E87FE-09B1-462C-9A59-1E27219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3B6AD-A75F-450E-8FA4-6831C48C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DD0E9-2369-4097-9E48-A920E0C5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53110-BA94-43AE-85C2-F0E2615C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23BDA-4D71-4646-9066-B6B746AD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90DBE-33F4-435E-92AA-64D5115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BD62F-8295-4653-B611-C6BBD41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E9F2D-6BAC-4B61-8875-4A09D5E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799D5-4CD2-41B7-8E64-199F3182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BC7B-09CA-4F8B-9701-2D539A9B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44B56-0A82-4198-A303-11EDA48D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6D99B-0C2D-461B-A978-ED16415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C49CD-D596-4B71-8F7B-AB1AB14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39824-F53E-4D3E-8BCA-2B67462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CE6E7-A8F3-4D04-AEFE-BC379035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83ADB-1CE8-444E-BD09-21A369AB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898D7-3A81-4179-BB71-05DA13B7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FC73-8871-4101-8CE3-41DDBD37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372-3DE9-49D3-B26E-E260DB90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D1C3-FB30-43F0-A5F0-9A8A22C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759-A263-423F-ADF0-1504C0C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60A-8205-481B-88EF-4C3EB89D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279-2F3C-4417-85B3-056FC464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5B9F-E8D3-4B2F-BE7D-3E8277A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2C9D-E655-4721-A7B0-FA4B527A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28A-8F92-4CB0-A129-E903B79B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ED6A-3A6C-44E9-937D-DE74423B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B3B5-A7E4-4773-9EDB-EBD5760F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4685-CDC8-4F81-9DB4-78CB4BC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5E66-F033-4F9F-813D-7F922E22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A30C-9535-4177-BDDC-D6334DA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6F91-CAAD-4046-8CC2-A7C2993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5E1-A1BD-4A20-975C-196C9ABB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A275-90A8-4FE5-9F15-9E688C53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51EE-128E-4489-B38F-2408477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A4BA-D202-4AD5-9D59-5159CB1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B15B7-57DC-4998-9E53-321AB8B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1767-BF95-42AC-BA73-BD69E741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36DE-01F4-44C4-89E9-48172780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D03C-3C94-47C0-A595-425F8EFB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30698-588A-485D-AC93-85D1FE84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39F6-203C-420C-B504-5939BC7B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5FBC-D8EF-4068-9ABC-02EA0B3A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EF0-3E6D-4F7A-9650-311F2FD8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E9DB6-8720-4192-BF4F-92FDB050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8AE0-0F01-4581-B3F8-1C1AD502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39B1-3BB8-4B90-9A6D-C8DE7398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0468-DE25-4598-8977-1F7E3BA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FA7D-9374-4B2B-AFB8-E5FB655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83252-0CE8-4113-8C9B-3EA9A9A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6588-0A03-435F-B87B-CAA56F51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9D05-8DA4-4466-B172-0436EFD7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EBA6-108B-4D9C-AE84-771BA4C7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6C71-CB9D-4F6C-B273-6B5EFC90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EE3-886B-4B3D-AFE5-5EA8DD8B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59560-0133-43EF-990F-29D00DA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5ABCF-92B3-4514-B3F9-7DAEB0F9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96EC-0121-4F46-A476-0F27028F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06C0-0140-424D-8A64-ED7972C3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F5C4-8435-49FD-A921-4CF77FF3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D1BF-9F5E-4587-BD84-2CB70E8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5062-9D01-4507-8B6A-84C62FF0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3030-D345-47FE-8727-47217A6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AE44-17A9-4DC4-BDAC-6ED601BC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1CA8E-ADBA-4BEA-82D2-58FB94EE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501-EA3A-4D9A-AB03-07E821DF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A50A-0EF7-44D7-A610-9FEB9085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61CD-E0CE-4946-872D-38201A70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E5C23-1AA0-4175-AE0F-8ED013A5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741E5-C23C-4115-975E-216B8E62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DF3A-DF69-4EC2-9D41-AC6C9E74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078A-BE11-46BD-82B4-B9B37F03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5395-91A6-4AE5-9FC4-6B859327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3F796-83DD-4338-BEAE-1D6A6F0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4537-798A-49F8-BF45-3130B2B6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434F-771B-4C9F-95FB-0A23CA8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A3A-8F21-4769-9F4C-785616D2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B2FE-FAFC-4C23-A99A-59CEA39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45E78-F10A-48D3-8829-519CF86D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F225B-774D-4D7A-9CF6-FA2847FD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C95B-D690-4469-8023-6FC0DB7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EBE7-A69A-4545-8C50-053309DD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F2C35-0011-439A-B99D-22F17182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07503-415B-4464-94C9-2C7EA427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1FC4F-AE73-42AF-A603-81F91AE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AF24-667C-4D7F-B466-7AC026B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ABF0E-4C7D-4E6D-A8B7-C95AB97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257-9377-4A55-AB5C-B871134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53F79-55EB-4947-A194-7DDBB81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BF31-3063-4E0D-A778-BEB7F59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7001-D7D3-4B56-8751-16D04C2C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79C5-7BE8-4886-B4AD-EECD616A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0D5F2-E111-4AA2-A429-0FA15E1F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69D6-656F-46DF-8FE1-FCE2409F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A29A0-6F0D-4532-81E4-66A7D3D0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EAF4-176A-419A-B1A7-1CE88063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D421-8381-47B8-BF3D-0649F1A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0F17E-3B36-488E-B283-592CAAA0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9ED-43C1-49B6-A5E6-E09CC23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2C0E-527F-4769-8CA3-EFE00187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0E7A8-CE23-4B58-9983-3614369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2D8C-CA7C-4B5B-A190-16C65305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D4FE-C938-4555-87B6-AE8F5B4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2136-4EC4-4E1B-BD44-DE93317D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D0002-9A1F-424D-A43C-27CBC886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95F3-4488-4F28-8A74-58FA71C2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ABB85-68A4-4483-8DE3-98FB89C0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E6496-8F18-42E1-9BFF-5C1E712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27B0F-2ACA-4099-BCDB-072BF3D2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AB66-F7EE-42E5-99E5-4967250F2A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98AA-1002-4725-9E21-BCFF7EB5C6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78A9-BFA9-4237-AC81-8264DD557E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A421-887F-45A9-A74F-CF9365DF9C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027A-020A-4465-8D15-B3D98D491A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4257-9F4E-46A7-A2E0-7D9995E440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90A4-7755-48C9-815D-DBF3E12706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6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76DD-2061-41D6-8B31-7E971E5AA6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E93-FC7F-41F0-8250-BA1483AB3A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2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76E5-70BF-4BF1-97F7-3F4B7C230B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181-53F2-497F-9384-63A4BE8F96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76B9-1DFE-49AA-9096-1C58B24AE1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47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30B5-8CCA-4A86-9953-93D9B967A0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Rectangle 2" descr=""/>
          <p:cNvPicPr/>
          <p:nvPr/>
        </p:nvPicPr>
        <p:blipFill>
          <a:blip r:embed="rId1"/>
          <a:stretch/>
        </p:blipFill>
        <p:spPr>
          <a:xfrm>
            <a:off x="390600" y="249120"/>
            <a:ext cx="8508960" cy="3176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363640" y="465300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ла: 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валькова Анастасия Александро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младшая групп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Заголовок 1" descr=""/>
          <p:cNvPicPr/>
          <p:nvPr/>
        </p:nvPicPr>
        <p:blipFill>
          <a:blip r:embed="rId1"/>
          <a:stretch/>
        </p:blipFill>
        <p:spPr>
          <a:xfrm>
            <a:off x="298440" y="401760"/>
            <a:ext cx="8705880" cy="11714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C:\Users\vikto\Desktop\jlsIzEKQwP4.jpg"/>
          <p:cNvPicPr/>
          <p:nvPr/>
        </p:nvPicPr>
        <p:blipFill>
          <a:blip r:embed="rId2"/>
          <a:stretch/>
        </p:blipFill>
        <p:spPr>
          <a:xfrm>
            <a:off x="457200" y="1484280"/>
            <a:ext cx="4038480" cy="460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7" name="Picture 6" descr="C:\Users\vikto\Desktop\LArman02e0o.jpg"/>
          <p:cNvPicPr/>
          <p:nvPr/>
        </p:nvPicPr>
        <p:blipFill>
          <a:blip r:embed="rId3"/>
          <a:stretch/>
        </p:blipFill>
        <p:spPr>
          <a:xfrm>
            <a:off x="4643280" y="1484280"/>
            <a:ext cx="40435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Заголовок 4" descr=""/>
          <p:cNvPicPr/>
          <p:nvPr/>
        </p:nvPicPr>
        <p:blipFill>
          <a:blip r:embed="rId1"/>
          <a:stretch/>
        </p:blipFill>
        <p:spPr>
          <a:xfrm>
            <a:off x="317520" y="176040"/>
            <a:ext cx="3022560" cy="152424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рианты игр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льчиковый бассейн - просто насыпать крупу в большую миску, на столик или поднос и водить ручками,  сжимать и разжимать кулачки, пересыпать, набирая в кулачки, сыпать по крупинкам, как бы будто солим - это позволит ребёнку познакомиться с крупо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0" name="Picture 8" descr="C:\Users\vikto\Desktop\8.jpg"/>
          <p:cNvPicPr/>
          <p:nvPr/>
        </p:nvPicPr>
        <p:blipFill>
          <a:blip r:embed="rId2"/>
          <a:stretch/>
        </p:blipFill>
        <p:spPr>
          <a:xfrm>
            <a:off x="3564000" y="1052640"/>
            <a:ext cx="2663640" cy="2376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C:\Users\vikto\Desktop\7.jpg"/>
          <p:cNvPicPr/>
          <p:nvPr/>
        </p:nvPicPr>
        <p:blipFill>
          <a:blip r:embed="rId3"/>
          <a:stretch/>
        </p:blipFill>
        <p:spPr>
          <a:xfrm>
            <a:off x="6300720" y="105264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" descr="C:\Users\vikto\Desktop\5.jpg"/>
          <p:cNvPicPr/>
          <p:nvPr/>
        </p:nvPicPr>
        <p:blipFill>
          <a:blip r:embed="rId4"/>
          <a:stretch/>
        </p:blipFill>
        <p:spPr>
          <a:xfrm>
            <a:off x="3564000" y="3500280"/>
            <a:ext cx="2663640" cy="2592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C:\Users\vikto\Desktop\3.jpg"/>
          <p:cNvPicPr/>
          <p:nvPr/>
        </p:nvPicPr>
        <p:blipFill>
          <a:blip r:embed="rId5"/>
          <a:stretch/>
        </p:blipFill>
        <p:spPr>
          <a:xfrm>
            <a:off x="6300720" y="3500280"/>
            <a:ext cx="2664000" cy="259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Заголовок 4" descr=""/>
          <p:cNvPicPr/>
          <p:nvPr/>
        </p:nvPicPr>
        <p:blipFill>
          <a:blip r:embed="rId1"/>
          <a:stretch/>
        </p:blipFill>
        <p:spPr>
          <a:xfrm>
            <a:off x="317520" y="176040"/>
            <a:ext cx="3022560" cy="152424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этой же ёмкости можно зарывать игрушки, магнитики для холодильника, и другие безделушки. Детки очень радуются, когда находят «клад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6" name="Picture 8" descr="C:\Users\vikto\Desktop\18.jpg"/>
          <p:cNvPicPr/>
          <p:nvPr/>
        </p:nvPicPr>
        <p:blipFill>
          <a:blip r:embed="rId2"/>
          <a:stretch/>
        </p:blipFill>
        <p:spPr>
          <a:xfrm>
            <a:off x="3419640" y="1125360"/>
            <a:ext cx="2881080" cy="2303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C:\Users\vikto\Desktop\20.jpg"/>
          <p:cNvPicPr/>
          <p:nvPr/>
        </p:nvPicPr>
        <p:blipFill>
          <a:blip r:embed="rId3"/>
          <a:stretch/>
        </p:blipFill>
        <p:spPr>
          <a:xfrm>
            <a:off x="6372360" y="3500280"/>
            <a:ext cx="2663640" cy="23767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C:\Users\vikto\Desktop\21.jpg"/>
          <p:cNvPicPr/>
          <p:nvPr/>
        </p:nvPicPr>
        <p:blipFill>
          <a:blip r:embed="rId4"/>
          <a:stretch/>
        </p:blipFill>
        <p:spPr>
          <a:xfrm>
            <a:off x="3419640" y="3500280"/>
            <a:ext cx="2881080" cy="2376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C:\Users\vikto\Desktop\19.jpg"/>
          <p:cNvPicPr/>
          <p:nvPr/>
        </p:nvPicPr>
        <p:blipFill>
          <a:blip r:embed="rId5"/>
          <a:stretch/>
        </p:blipFill>
        <p:spPr>
          <a:xfrm>
            <a:off x="6372360" y="1125360"/>
            <a:ext cx="26636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Заголовок 1" descr=""/>
          <p:cNvPicPr/>
          <p:nvPr/>
        </p:nvPicPr>
        <p:blipFill>
          <a:blip r:embed="rId1"/>
          <a:stretch/>
        </p:blipFill>
        <p:spPr>
          <a:xfrm>
            <a:off x="585720" y="212760"/>
            <a:ext cx="2992680" cy="15192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• 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исовать, водя пальчиком по крупе или дорисовывать ваш рисунок </a:t>
            </a:r>
            <a:r>
              <a:rPr b="0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к солнышку- лучики, к тучке- капельки и др.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2" name="Picture 7" descr="C:\Users\vikto\Desktop\25.jpg"/>
          <p:cNvPicPr/>
          <p:nvPr/>
        </p:nvPicPr>
        <p:blipFill>
          <a:blip r:embed="rId2"/>
          <a:stretch/>
        </p:blipFill>
        <p:spPr>
          <a:xfrm>
            <a:off x="3851280" y="1341360"/>
            <a:ext cx="2592360" cy="2452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C:\Users\vikto\Desktop\VjuVsUzFLHA.jpg"/>
          <p:cNvPicPr/>
          <p:nvPr/>
        </p:nvPicPr>
        <p:blipFill>
          <a:blip r:embed="rId3"/>
          <a:stretch/>
        </p:blipFill>
        <p:spPr>
          <a:xfrm>
            <a:off x="3851280" y="386064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C:\Users\vikto\Desktop\Pc-YDtxcGao.jpg"/>
          <p:cNvPicPr/>
          <p:nvPr/>
        </p:nvPicPr>
        <p:blipFill>
          <a:blip r:embed="rId4"/>
          <a:stretch/>
        </p:blipFill>
        <p:spPr>
          <a:xfrm>
            <a:off x="6516720" y="3860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C:\Users\vikto\Desktop\26.jpg"/>
          <p:cNvPicPr/>
          <p:nvPr/>
        </p:nvPicPr>
        <p:blipFill>
          <a:blip r:embed="rId5"/>
          <a:stretch/>
        </p:blipFill>
        <p:spPr>
          <a:xfrm>
            <a:off x="6516720" y="134136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742240" cy="1414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C:\Users\vikto\Desktop\UTe6KfMisT4.jpg"/>
          <p:cNvPicPr/>
          <p:nvPr/>
        </p:nvPicPr>
        <p:blipFill>
          <a:blip r:embed="rId2"/>
          <a:stretch/>
        </p:blipFill>
        <p:spPr>
          <a:xfrm>
            <a:off x="684360" y="1628640"/>
            <a:ext cx="3744720" cy="23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C:\Users\vikto\Desktop\iIOSSi3JtYU.jpg"/>
          <p:cNvPicPr/>
          <p:nvPr/>
        </p:nvPicPr>
        <p:blipFill>
          <a:blip r:embed="rId3"/>
          <a:stretch/>
        </p:blipFill>
        <p:spPr>
          <a:xfrm>
            <a:off x="4572000" y="1628640"/>
            <a:ext cx="3960720" cy="2376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vikto\Desktop\rNVTrXeCKEg.jpg"/>
          <p:cNvPicPr/>
          <p:nvPr/>
        </p:nvPicPr>
        <p:blipFill>
          <a:blip r:embed="rId4"/>
          <a:stretch/>
        </p:blipFill>
        <p:spPr>
          <a:xfrm>
            <a:off x="684360" y="4076640"/>
            <a:ext cx="3744720" cy="2664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C:\Users\vikto\Desktop\YNr92cqbMIA.jpg"/>
          <p:cNvPicPr/>
          <p:nvPr/>
        </p:nvPicPr>
        <p:blipFill>
          <a:blip r:embed="rId5"/>
          <a:stretch/>
        </p:blipFill>
        <p:spPr>
          <a:xfrm>
            <a:off x="4572000" y="4076640"/>
            <a:ext cx="39607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е развитие имеет прямое воздействие на формирование правильной речи. Соприкосновение органов чувств с различными признаками и свойствами предметов является главенствующим источником знаний об окружающем мире. Речь развивается наглядным, действенным путем. Чтобы давать названия, должны быть налицо все предметы, с которыми эти названия должны быть связаны. Правильное восприятие предметов является главной умственной работой ребёнка. Сенсорное и речевое развитие происходит в тесном единстве, и работу по развитию речи нельзя отрывать от работы по развитию органов чувств и восприятия. Осваивая сенсорные эталоны ребёнок обогащает словарный запас и постепенно начинает употреблять их в деятельности. Усвоить сенсорный эталон — это вовсе не значит научиться правильно называть то или иное свойство объекта. Необходимо иметь чёткие представления о разновидностях каждого свойства и, главное, уметь пользоваться такими представлениями для анализа и выделения свойств самых разнообразных предметов в самых различных ситуациях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0070c0"/>
              </a:solidFill>
              <a:latin typeface="Franklin Gothic Medium"/>
            </a:endParaRPr>
          </a:p>
        </p:txBody>
      </p:sp>
      <p:pic>
        <p:nvPicPr>
          <p:cNvPr id="614" name="Picture 2" descr="C:\Users\vikto\Desktop\1620635444_2-phonoteka_org-p-spasibo-za-vnimanie-goluboi-fon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речи ребёнка дошкольного возраста большое значение имеют сенсорные игры, основная цель которых - дать ребёнку новые чувственные ощущения: зрительные, слуховые, тактильные и двигательные, обонятельные и вкусовые. Целесообразность проведения с детьми таких игр основывается на утверждении о том, что сенсорный компонент в ознакомлении с окружающим миром приобретает для них особую значимость. Данные игры позволяют установить с ребёнком эмоциональный контакт, который позволяет в дальнейшем всесторонне воздействовать на развитие реч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281160" y="328680"/>
            <a:ext cx="8843760" cy="15001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й речевой активности детей младшего дошкольного возраста в процессе игр с сенсорными материалам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детей младшего дошкольного возраста перцептивны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; учить обозначать их словом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овать познавательную и речевую деятельность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обогащения сенсорного опыта детей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становлению речи через развитие мелко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ик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699760" cy="10062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468000" y="119700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занятиях используются реальные предметы, дети видят их цвет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мер, форму, могут потрогать, послушать их звучание, если же мы не имеем  возможности применять в работе реальные предметы, то для стимулирования зрительного восприятия используются предметные картинки и игрушки, приближённые к реаль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нсорный опыт, приобретённый при специально организованн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учении, позволяет не заучивать речь механически, а способствует её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онтанному формированию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занятии, стимулируется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сколько видов восприятия, так,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ействовав как можно больше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нсорных стимулов для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риятия предмета, мы создаё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моциональную ситуацию для ребёнка, в которой он лучше и быстрее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помнит этот предмет и его назва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3" descr=""/>
          <p:cNvPicPr/>
          <p:nvPr/>
        </p:nvPicPr>
        <p:blipFill>
          <a:blip r:embed="rId1"/>
          <a:stretch/>
        </p:blipFill>
        <p:spPr>
          <a:xfrm>
            <a:off x="341280" y="109440"/>
            <a:ext cx="8437680" cy="13114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40388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гры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фиксировать внимание на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ых свойствах предмет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ринимать и задействовать  слова : «цвет», « такой же», «разные»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ировать по цвету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мелкую моторику пальцев рук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можно с одним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ом или с подгруппой детей. Играя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учится выделять цвета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в, сравнивать их и обозначать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слово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4" name="Picture 5" descr="C:\Users\vikto\Desktop\sMIaN1OBBiI.jpg"/>
          <p:cNvPicPr/>
          <p:nvPr/>
        </p:nvPicPr>
        <p:blipFill>
          <a:blip r:embed="rId2"/>
          <a:stretch/>
        </p:blipFill>
        <p:spPr>
          <a:xfrm>
            <a:off x="4140360" y="1557360"/>
            <a:ext cx="2519280" cy="4038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C:\Users\vikto\Desktop\ql3gBS3ccXE.jpg"/>
          <p:cNvPicPr/>
          <p:nvPr/>
        </p:nvPicPr>
        <p:blipFill>
          <a:blip r:embed="rId3"/>
          <a:stretch/>
        </p:blipFill>
        <p:spPr>
          <a:xfrm>
            <a:off x="6732720" y="1557360"/>
            <a:ext cx="23032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нимания и логического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я дете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едлагает ребёнку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готовую картинку, где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среди жёлтых кругов есть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и зелёного цве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длагает найти ошибку, её исправи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8" name="Picture 5" descr="C:\Users\vikto\Desktop\-Zdtv4bEyUQ.jpg"/>
          <p:cNvPicPr/>
          <p:nvPr/>
        </p:nvPicPr>
        <p:blipFill>
          <a:blip r:embed="rId2"/>
          <a:stretch/>
        </p:blipFill>
        <p:spPr>
          <a:xfrm>
            <a:off x="4859280" y="1197000"/>
            <a:ext cx="3597480" cy="2232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C:\Users\vikto\Desktop\70uGI0kqVNI.jpg"/>
          <p:cNvPicPr/>
          <p:nvPr/>
        </p:nvPicPr>
        <p:blipFill>
          <a:blip r:embed="rId3"/>
          <a:stretch/>
        </p:blipFill>
        <p:spPr>
          <a:xfrm>
            <a:off x="4859280" y="364500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Заголовок 4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56024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я в эти игры, дети учатся группировать, соотносить предметы по цвет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2" name="Picture 4" descr="C:\Users\vikto\Desktop\J9gf0wqOkEw.jpg"/>
          <p:cNvPicPr/>
          <p:nvPr/>
        </p:nvPicPr>
        <p:blipFill>
          <a:blip r:embed="rId2"/>
          <a:stretch/>
        </p:blipFill>
        <p:spPr>
          <a:xfrm>
            <a:off x="4572000" y="4221000"/>
            <a:ext cx="4254480" cy="2399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Users\vikto\Desktop\n1n09enFtgY.jpg"/>
          <p:cNvPicPr/>
          <p:nvPr/>
        </p:nvPicPr>
        <p:blipFill>
          <a:blip r:embed="rId3"/>
          <a:stretch/>
        </p:blipFill>
        <p:spPr>
          <a:xfrm>
            <a:off x="4572000" y="1700280"/>
            <a:ext cx="42480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Заголовок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890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vikto\Desktop\zmYY5sVEI6g.jpg"/>
          <p:cNvPicPr/>
          <p:nvPr/>
        </p:nvPicPr>
        <p:blipFill>
          <a:blip r:embed="rId2"/>
          <a:stretch/>
        </p:blipFill>
        <p:spPr>
          <a:xfrm>
            <a:off x="324000" y="1916280"/>
            <a:ext cx="2663640" cy="22334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:\Users\vikto\Desktop\gAaRFC2n_dE.jpg"/>
          <p:cNvPicPr/>
          <p:nvPr/>
        </p:nvPicPr>
        <p:blipFill>
          <a:blip r:embed="rId3"/>
          <a:stretch/>
        </p:blipFill>
        <p:spPr>
          <a:xfrm>
            <a:off x="3132000" y="1916280"/>
            <a:ext cx="2735280" cy="22334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C:\Users\vikto\Desktop\2HGqD3TaZkM.jpg"/>
          <p:cNvPicPr/>
          <p:nvPr/>
        </p:nvPicPr>
        <p:blipFill>
          <a:blip r:embed="rId4"/>
          <a:stretch/>
        </p:blipFill>
        <p:spPr>
          <a:xfrm>
            <a:off x="6012000" y="1916280"/>
            <a:ext cx="2736720" cy="2233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C:\Users\vikto\Desktop\GAW1c1JGdN0.jpg"/>
          <p:cNvPicPr/>
          <p:nvPr/>
        </p:nvPicPr>
        <p:blipFill>
          <a:blip r:embed="rId5"/>
          <a:stretch/>
        </p:blipFill>
        <p:spPr>
          <a:xfrm>
            <a:off x="1908000" y="4221000"/>
            <a:ext cx="2519640" cy="2448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C:\Users\vikto\Desktop\KxOqXasw7hI.jpg"/>
          <p:cNvPicPr/>
          <p:nvPr/>
        </p:nvPicPr>
        <p:blipFill>
          <a:blip r:embed="rId6"/>
          <a:stretch/>
        </p:blipFill>
        <p:spPr>
          <a:xfrm>
            <a:off x="457200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Заголовок 4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2445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C:\Users\vikto\Desktop\EQD1X2n7M7o.jpg"/>
          <p:cNvPicPr/>
          <p:nvPr/>
        </p:nvPicPr>
        <p:blipFill>
          <a:blip r:embed="rId2"/>
          <a:stretch/>
        </p:blipFill>
        <p:spPr>
          <a:xfrm>
            <a:off x="179280" y="1484280"/>
            <a:ext cx="2880000" cy="4608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C:\Users\vikto\Desktop\kXQrtJraOM8.jpg"/>
          <p:cNvPicPr/>
          <p:nvPr/>
        </p:nvPicPr>
        <p:blipFill>
          <a:blip r:embed="rId3"/>
          <a:stretch/>
        </p:blipFill>
        <p:spPr>
          <a:xfrm>
            <a:off x="6227640" y="1484280"/>
            <a:ext cx="2727360" cy="4608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C:\Users\vikto\Desktop\n2OOhgTmUqw.jpg"/>
          <p:cNvPicPr/>
          <p:nvPr/>
        </p:nvPicPr>
        <p:blipFill>
          <a:blip r:embed="rId4"/>
          <a:stretch/>
        </p:blipFill>
        <p:spPr>
          <a:xfrm>
            <a:off x="3203640" y="1484280"/>
            <a:ext cx="28810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13:21:44Z</dcterms:created>
  <dc:creator>dns</dc:creator>
  <dc:description/>
  <dc:language>en-US</dc:language>
  <cp:lastModifiedBy>vikto</cp:lastModifiedBy>
  <dcterms:modified xsi:type="dcterms:W3CDTF">2022-12-18T12:51:09Z</dcterms:modified>
  <cp:revision>90</cp:revision>
  <dc:subject/>
  <dc:title>«Двигательная активность как средство формирования у детей представлений о здоровом образе жизни»</dc:title>
</cp:coreProperties>
</file>