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7AE-1BE4-4B99-9838-70C3A60A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135-1108-4FEE-8C3D-D8BF8808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086-9C53-411F-8409-BC4890FB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9A3-9153-4EB0-9E94-4C40A659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F828-233E-4451-8980-6851799D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9110-0A2E-4460-9FA3-932D91A5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2151-BED8-4F58-B3BE-D7AFA76D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EB87-A565-4059-A090-33D89F81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D83F-ADA8-48CA-B3E8-B20B7381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6F7B-3A47-4EFA-9446-48721B97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A333-3876-4D73-B734-CA6EA72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140-3454-4BD0-B1CC-CE8DA03E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D8F8-7AE3-40DD-8CA0-8869E305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C4B6-0CE2-42C0-BE6A-8B848A00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826C-CF12-4919-B014-8734BFFD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F21A-8ECC-44BC-8255-D1D925B5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8BFD-6727-4897-81F6-C62866A5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6008-EA4A-408C-8516-82E0E5ED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3886-215E-402C-BF16-A8507C23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ECFF-EB3B-4DED-998A-7913C39C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8273-5A70-424A-A7B5-8A125F47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87B9-5B65-42C3-AD92-B50E9A75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FCF-02B8-41E2-9A0F-D6590EA9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1E8E-5356-47C8-87F3-E7856B13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BE87-1B66-4406-B27D-6CDB4B66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8449-D804-45AD-866D-6D3A7A3A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1A99-8025-4FEA-8B1A-40738F4D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C4D8-2AD7-4083-BEFF-0A38E827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3F11-33DC-4CD9-BA79-BD4BE1CC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BEA4-0F80-4B55-836B-8A7D9BC9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A86-2787-482B-BAD5-1D7E118F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589-B487-4D41-8AF8-11612866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AB0-62C3-4B93-8058-1F99E94E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959-286B-4676-BD9A-4764097E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EF4-D819-4359-8345-F8D1148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A52-F360-4620-8802-F904B0FA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8790-0FA5-4009-B2DB-0F6D8289D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B263-FA4B-4B7B-9439-C31CFD720E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AA30-1F86-48C8-AB18-C1FF944AF4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114300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Современные образовательные технологии в учебно-воспитательном процессе» 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globus"/>
          <p:cNvPicPr/>
          <p:nvPr/>
        </p:nvPicPr>
        <p:blipFill>
          <a:blip r:embed="rId1"/>
          <a:stretch/>
        </p:blipFill>
        <p:spPr>
          <a:xfrm>
            <a:off x="619200" y="333360"/>
            <a:ext cx="1798560" cy="18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6" descr="200"/>
          <p:cNvPicPr/>
          <p:nvPr/>
        </p:nvPicPr>
        <p:blipFill>
          <a:blip r:embed="rId2"/>
          <a:stretch/>
        </p:blipFill>
        <p:spPr>
          <a:xfrm>
            <a:off x="7000920" y="357120"/>
            <a:ext cx="16844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хнология</a:t>
            </a:r>
            <a:r>
              <a:rPr b="1" lang="ru-RU" sz="33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проектного обучения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унг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ей системы проектного обуч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Всё из жизни, всё для жизн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, при которых учащие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и охотно приобретают недостающие знания из разных источ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тся пользоваться приобретёнными знаниями для решения познавательных и практических зада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ают коммуникативные умения, работая в различных групп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 у себя исследовательские умения (умения выявления проблем, сбора информации, наблюдения, проведения эксперимента, анализа, построения гипотез, обобщени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 системное мыш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КЛАССИФИКАЦИЯ  ПРОЕК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817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f2936"/>
                </a:solidFill>
                <a:latin typeface="Calibri"/>
              </a:rPr>
              <a:t>По виду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о значи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ь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ботка статисти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ие (практико-ориентированны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f2936"/>
                </a:solidFill>
                <a:latin typeface="Calibri"/>
              </a:rPr>
              <a:t>По затратам вр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раткосрочные (2-6ч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реднесрочные (12-15ч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олгосрочные (четверть, полугодие, го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f2936"/>
                </a:solidFill>
                <a:latin typeface="Calibri"/>
              </a:rPr>
              <a:t>По количеству участ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f2936"/>
                </a:solidFill>
                <a:latin typeface="Calibri"/>
              </a:rPr>
              <a:t>По предметно содержатель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онопроекты (по одному предмет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жпредметные прое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реализаци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332000" y="1989000"/>
            <a:ext cx="3744720" cy="91440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700360" y="3429000"/>
            <a:ext cx="4248000" cy="98568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(изготовл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5076720" y="5084640"/>
            <a:ext cx="3743280" cy="100836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(защи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 rot="3727800">
            <a:off x="5029560" y="2247480"/>
            <a:ext cx="1620720" cy="974520"/>
          </a:xfrm>
          <a:custGeom>
            <a:avLst/>
            <a:gdLst>
              <a:gd name="textAreaLeft" fmla="*/ 283680 w 1620720"/>
              <a:gd name="textAreaRight" fmla="*/ 1175040 w 1620720"/>
              <a:gd name="textAreaTop" fmla="*/ 130320 h 974520"/>
              <a:gd name="textAreaBottom" fmla="*/ 844200 h 974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rot="3370200">
            <a:off x="6880680" y="3927960"/>
            <a:ext cx="1862280" cy="863640"/>
          </a:xfrm>
          <a:custGeom>
            <a:avLst/>
            <a:gdLst>
              <a:gd name="textAreaLeft" fmla="*/ 325800 w 1862280"/>
              <a:gd name="textAreaRight" fmla="*/ 1350360 w 1862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зработк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00000" y="1773360"/>
            <a:ext cx="3095640" cy="158436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пробле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Почему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для меня важ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219640" y="1844640"/>
            <a:ext cx="2448000" cy="113040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Зачем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ен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804000" y="3500280"/>
            <a:ext cx="2016000" cy="201636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Что?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ол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,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лучил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785960" y="3857760"/>
            <a:ext cx="3672000" cy="136836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Как?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это сдел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85880" y="5786280"/>
            <a:ext cx="3240000" cy="93528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Что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 получ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140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6948360" y="2852640"/>
            <a:ext cx="486000" cy="576360"/>
          </a:xfrm>
          <a:prstGeom prst="downArrow">
            <a:avLst>
              <a:gd name="adj1" fmla="val 50000"/>
              <a:gd name="adj2" fmla="val 29648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508720" y="4365720"/>
            <a:ext cx="1150920" cy="485640"/>
          </a:xfrm>
          <a:prstGeom prst="leftArrow">
            <a:avLst>
              <a:gd name="adj1" fmla="val 50000"/>
              <a:gd name="adj2" fmla="val 59248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3571920" y="521496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истемы действий учителя и учащихся на разных  стадиях работы над проект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4200" y="960480"/>
          <a:ext cx="8642520" cy="4708440"/>
        </p:xfrm>
        <a:graphic>
          <a:graphicData uri="http://schemas.openxmlformats.org/drawingml/2006/table">
            <a:tbl>
              <a:tblPr/>
              <a:tblGrid>
                <a:gridCol w="1800360"/>
                <a:gridCol w="2610000"/>
                <a:gridCol w="4232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азработ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го 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Выбор темы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отбирает возможные темы и предлагает их учащим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обсуждают и принимают общее решение по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едлагает учащимся совместно отобрать тему проек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учащихся совместно с учителем отбирает темы и предлагает классу для обсу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участвует в обсуждении тем, предложенных уча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самостоятельно подбирают темы 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ют классу для обсужд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ение подтем в теме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едварительно вычленяет подтемы и предлагает учащимся для выб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ученик выбирает себе подтему или предлагает новую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инимает участие в обсуждении с учащимися подтем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активно обсуждают и предлагают вариан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ем. Каждый ученик выбирает одну из них для себ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.е. выбирает себе роль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Формирование творческих груп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оводит организационную работу по объединению школьников, вы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вших себе конкрет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емы и виды деятель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уже определили свои роли и группируются 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и с ними в малые коман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-30240"/>
          <a:ext cx="8642520" cy="6674040"/>
        </p:xfrm>
        <a:graphic>
          <a:graphicData uri="http://schemas.openxmlformats.org/drawingml/2006/table">
            <a:tbl>
              <a:tblPr/>
              <a:tblGrid>
                <a:gridCol w="2305080"/>
                <a:gridCol w="2513160"/>
                <a:gridCol w="3824280"/>
              </a:tblGrid>
              <a:tr h="147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одготов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к  исследовательской работе: формулировка вопросов, на которые нужно ответить задание для команд, отбор литерату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проект объемный, то учитель заранее разрабатывает задания, вопросы для поисково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 и литератур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учащиеся старших и средних классов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­нимают участие в разработке зада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 для поиска ответа вырабатываться могут в командах с последующим обсуждением классо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 Определение форм выражения итогов проектной деятель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инимает участие в обсужден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в группах, а затем в классе обсуждают формы представлёния результата исследовательской деятельности: видеофильм, альбом, натуральные объекты, литературная гостиная и т.д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азработка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консультирует, координирует работу учащихся, стимулирует их деятельнос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осуществляют поисковую 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формл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консультирует, координирует работу учащихся, стимулирует их деятельнос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вначале по группам, а потом во взаимодействии с другими групп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яют результаты в соответствии с принятыми правил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езент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организует экспертизу (например, приглашает в качестве экспертов старших школьников или параллельный класс, родителей и др.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ладывают о результатах своей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флекс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ет свою деятельность по педагогическому руководству деятельностью детей, учитывает их оцен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 рефлекс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сса, себя в нем с учетом оценки других. Желательна групповая рефлекс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93760"/>
            <a:ext cx="853416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берегающие технологии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Объект 3" descr=""/>
          <p:cNvPicPr/>
          <p:nvPr/>
        </p:nvPicPr>
        <p:blipFill>
          <a:blip r:embed="rId1"/>
          <a:stretch/>
        </p:blipFill>
        <p:spPr>
          <a:xfrm>
            <a:off x="384120" y="1073160"/>
            <a:ext cx="83217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3300"/>
                </a:solidFill>
                <a:uFillTx/>
                <a:latin typeface="Calibri"/>
              </a:rPr>
              <a:t>ШКОЛЬНИК  НОВОГО  ТИП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е свободный, любящий и умеющий творчески относиться к действительности, к другим людям, способный не только решить старую, но и поставить новую проблему, способный делать осознанный выбор и самостоятельные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642960" y="1785960"/>
            <a:ext cx="734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сё в наших руках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ому нельзя их опускать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 НА  ОСНОВЕ  АКТИВИЗАЦИИ  И  ИНТЕНСИФИКАЦИИ  ДЕЯТЕЛЬНОСТИ  ОБУЧАЮ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856880"/>
            <a:ext cx="8501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 ОБУ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ИВНЫЕ  ТЕХН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 СОВРЕМЕННОГО  ПРОЕКТНОГО 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61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ОБУЧ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840" y="691920"/>
            <a:ext cx="8929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– приобретение ЗУН, усвоение способов самостоятельной деятельности, формирование исследовательских умений и навыков, развитие творческих способ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блемной мотив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птимальной проблемных ситу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и использование самых актуальных сущностных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особенностей проблемных ситуаций в различных видах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8501040" cy="23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ХНОЛОГИЯ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ЛЕМНОГО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ехнология 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роблемного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бъяснения нового материа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66720" y="1600200"/>
            <a:ext cx="416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рок «открытия» знани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Прямая со стрелкой 6"/>
          <p:cNvCxnSpPr/>
          <p:nvPr/>
        </p:nvCxnSpPr>
        <p:spPr>
          <a:xfrm flipH="1">
            <a:off x="2999520" y="2286000"/>
            <a:ext cx="1715400" cy="929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5" name="Прямая со стрелкой 7"/>
          <p:cNvCxnSpPr/>
          <p:nvPr/>
        </p:nvCxnSpPr>
        <p:spPr>
          <a:xfrm>
            <a:off x="4724280" y="2295360"/>
            <a:ext cx="1572480" cy="929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 ТЕХН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3840" y="1499760"/>
            <a:ext cx="8929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обучение с двусторонним обмено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ежду учителем и учени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– вывод ученика на позицию субъекта обучения, активизация индивидуальных умственных проце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ология «Развитие критического мышл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ология проведения дискусс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ология «Деба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овые техн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хнология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развития критического мышл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1989000"/>
            <a:ext cx="8351640" cy="3745080"/>
          </a:xfrm>
          <a:prstGeom prst="rect">
            <a:avLst/>
          </a:prstGeom>
          <a:solidFill>
            <a:srgbClr val="ff99cc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Критическое мышление – это способность анализировать информацию с позиции логики и личностно-ориентированного подхода с тем, чтобы применять полученные результаты, как к стандартам, так и нестандартным ситуациям, вопросам и проблемам. Критическое мышление – это способность ставить новые вопросы, вырабатывать разнообразные аргументы, принимать независимые продуман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395280" y="54144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технолог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азвитие критического мышления посредством интерактивного включения учащихся в образовательны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95280" y="141300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ходные научные иде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ое мыш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взаимоуважению партнёров, пониманию и продуктивному взаимодействию между люд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ает понимание различных «взглядов на мир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учащимся использовать свои знания для наполнения смыслом ситуаций с высоким уровнем неопределённости, создавать базу для новых типов челове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68360" y="3933720"/>
            <a:ext cx="82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 оценки результата в условиях технологии развития критического мышления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критерием оценки результата явля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ность мышлени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может быть раскрыта через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(Где ошибка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з (В чём причина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контроль (Каковы недостатки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ка (Согласны ли вы? Опровергните. Приведите контраргументы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(Постройте прогно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468360" y="1708560"/>
            <a:ext cx="796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чность мышления школьников по поводу своего субъектно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специального содержания тек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ысокий уровень сформированность у школьников умений самостояте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4:13:35Z</dcterms:created>
  <dc:creator>Lena</dc:creator>
  <dc:description/>
  <dc:language>en-US</dc:language>
  <cp:lastModifiedBy>Admin</cp:lastModifiedBy>
  <dcterms:modified xsi:type="dcterms:W3CDTF">2022-10-31T18:03:03Z</dcterms:modified>
  <cp:revision>1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a0000000000010243100207f6000400038000</vt:lpwstr>
  </property>
</Properties>
</file>