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3BF-A84C-452F-9C85-FA7FAACB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39F-B197-44F0-B635-8E181C8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D8E-BB20-4F3F-A592-79B9CF0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330-BBC8-428D-AE88-5E0836BD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CB8-309A-4ABB-9F01-6932794F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16D3-33A7-4451-A985-9F2C5F3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D7E-656E-4038-A7DA-2DA3489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0995-736F-4FDF-BAE6-F0F876CB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200-D205-4103-85DE-4A030D1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6123-1E9C-4FEB-90B5-7381644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9D75-5D2B-429E-AF53-DD12BAE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DD8-32F2-42E2-82F7-52E9CE3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9EEF-6910-4F67-9081-7BF2D9A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FDD-D361-4ED4-AAAB-9B6F4BF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C663-2311-42C2-AB08-F6EF2069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AB7-9BEC-4EA7-890F-48FA5411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9821-CDF8-4FDD-AB6A-C509007C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273A-E79B-42C1-8C02-89D5F118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9FB0-56DF-4277-8B4E-4E1C8E7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2826-0EB8-4E1B-AE27-B3545FF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5593-C57B-41C9-89B5-A215F4A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C233-616C-4CA9-A521-376AD88B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898-4907-4EEC-B5F4-3CFF873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4F0B-6A4F-4E5D-AF50-D34B042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85ED-9551-4A25-A7BF-F1B6966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9537-AADD-4284-A0BD-4255167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C4F0-91E4-4051-97A2-46919B6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91FD-A5B9-4AAB-A54A-469198D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69E2-7A8C-4032-8427-2F6F980F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7CC0-86A9-430F-B7E3-FC50E79B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0F0-17D2-4808-87BC-55C901F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567-1252-45EC-9308-7C88F12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62F-4225-445E-95A9-A2CE2342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F77-DD82-4DD9-973D-1EE5D618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06E-15F7-4EFF-9976-FA9524C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2D0-9A45-41C2-A227-A05B7FB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F02-3947-441E-A0B6-E8315B6F1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6F7-FF4E-4333-970A-A1E496846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D1D-FDE4-4FA1-B9FB-EF52F75C7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114300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Современные образовательные технологии в учебно-воспитательном процессе»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globus"/>
          <p:cNvPicPr/>
          <p:nvPr/>
        </p:nvPicPr>
        <p:blipFill>
          <a:blip r:embed="rId1"/>
          <a:stretch/>
        </p:blipFill>
        <p:spPr>
          <a:xfrm>
            <a:off x="619200" y="333360"/>
            <a:ext cx="179856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6" descr="200"/>
          <p:cNvPicPr/>
          <p:nvPr/>
        </p:nvPicPr>
        <p:blipFill>
          <a:blip r:embed="rId2"/>
          <a:stretch/>
        </p:blipFill>
        <p:spPr>
          <a:xfrm>
            <a:off x="7000920" y="357120"/>
            <a:ext cx="1684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</a:t>
            </a:r>
            <a:r>
              <a:rPr b="1" lang="ru-RU" sz="33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проектного обучени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ун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ей системы проектного обуч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сё из жизни, всё для жизн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ся пользоваться приобретё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 у себя исследовательские умения (умения выявления проблем, сбора информации, наблюдения, проведения эксперимента, анализа, построения гипотез, обобщ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ЛАССИФИКАЦИЯ  ПРОЕ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817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f2936"/>
                </a:solidFill>
                <a:latin typeface="Calibri"/>
              </a:rPr>
              <a:t>По виду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 значи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ботка статисти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(практико-ориентирован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затратам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раткосрочные (2-6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реднесрочные (12-15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лгосрочные (четверть, полугодие, го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количеству учас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Calibri"/>
              </a:rPr>
              <a:t>По предметно содержатель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нопроекты (по одному предмет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жпредметные прое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32000" y="1989000"/>
            <a:ext cx="3744720" cy="91440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00360" y="3429000"/>
            <a:ext cx="4248000" cy="98568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(изготов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076720" y="5084640"/>
            <a:ext cx="3743280" cy="1008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(защ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rot="3727800">
            <a:off x="5029560" y="2247480"/>
            <a:ext cx="1620720" cy="97452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130320 h 974520"/>
              <a:gd name="textAreaBottom" fmla="*/ 844200 h 97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3370200">
            <a:off x="6880680" y="3927960"/>
            <a:ext cx="1862280" cy="863640"/>
          </a:xfrm>
          <a:custGeom>
            <a:avLst/>
            <a:gdLst>
              <a:gd name="textAreaLeft" fmla="*/ 325800 w 1862280"/>
              <a:gd name="textAreaRight" fmla="*/ 1350360 w 1862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зработк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1773360"/>
            <a:ext cx="3095640" cy="1584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пробл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Почем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для меня ва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219640" y="1844640"/>
            <a:ext cx="2448000" cy="113040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Зачем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ен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804000" y="3500280"/>
            <a:ext cx="2016000" cy="2016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Что?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,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луч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785960" y="3857760"/>
            <a:ext cx="3672000" cy="136836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Как?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это сдел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85880" y="5786280"/>
            <a:ext cx="3240000" cy="935280"/>
          </a:xfrm>
          <a:prstGeom prst="rect">
            <a:avLst/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Чт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полу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140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948360" y="285264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508720" y="4365720"/>
            <a:ext cx="1150920" cy="485640"/>
          </a:xfrm>
          <a:prstGeom prst="leftArrow">
            <a:avLst>
              <a:gd name="adj1" fmla="val 50000"/>
              <a:gd name="adj2" fmla="val 59248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3571920" y="52149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истемы действий учителя и учащихся на разных  стадиях работы над проект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4200" y="960480"/>
          <a:ext cx="8642520" cy="4708440"/>
        </p:xfrm>
        <a:graphic>
          <a:graphicData uri="http://schemas.openxmlformats.org/drawingml/2006/table">
            <a:tbl>
              <a:tblPr/>
              <a:tblGrid>
                <a:gridCol w="1800360"/>
                <a:gridCol w="2610000"/>
                <a:gridCol w="4232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го 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ыбор темы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тбирает возможные темы и предлагает их учащим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обсуждают и принимают общее решение по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лагает учащимся совместно отобрать тему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учащихся совместно с учителем отбирает темы и предлагает классу для обсу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участвует в обсуждении тем, предложенных уча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амостоятельно подбирают темы 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ют классу для обсужд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подтем в теме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едварительно вычленяет подтемы и предлагает учащимся для выб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ученик выбирает себе подтему или предлагает нову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инимает участие в обсуждении с учащимися подтем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активно обсуждают и предлагают вариан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ем. Каждый ученик выбирает одну из них для себ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.е. выбирает себе роль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Формирование творческих груп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оводит организационную работу по объединению школьников, вы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вших себе конкрет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емы и виды деятель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уже определили свои роли и группируются 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и с ними в малые коман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-30240"/>
          <a:ext cx="8642520" cy="6674040"/>
        </p:xfrm>
        <a:graphic>
          <a:graphicData uri="http://schemas.openxmlformats.org/drawingml/2006/table">
            <a:tbl>
              <a:tblPr/>
              <a:tblGrid>
                <a:gridCol w="2305080"/>
                <a:gridCol w="2513160"/>
                <a:gridCol w="3824280"/>
              </a:tblGrid>
              <a:tr h="147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одготов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к  исследовательской работе: формулировка вопросов, на которые нужно ответить задание для команд, отбор литерату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роект объемный, то учитель заранее разрабатывает задания, вопросы для поисково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 и литератур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учащиеся старших и средних классо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­нимают участие в разработке зада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для поиска ответа вырабатываться могут в командах с последующим обсуждением классо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 Определение форм выражения итогов проектной деятель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принимает участие в обсужд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в группах, а затем в классе обсуждают формы представлёния результата исследовательской деятельности: видеофильм, альбом, натуральные объекты, литературная гостиная и т.д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работк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консультирует, координирует работу учащихся, стимулирует их деяте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осуществляют поисковую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формл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консультирует, координирует работу учащихся, стимулирует их деяте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вначале по группам, а потом во взаимодействии с другими групп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яют результаты в соответствии с принятыми правил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зен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рганизует экспертизу (например, приглашает в качестве экспертов старших школьников или параллельный класс, родителей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ывают о результатах свое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флек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свою деятельность по педагогическому руководству деятельностью детей, учитывает их оцен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рефлекс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а, себя в нем с учетом оценки других. Желательна групповая рефлекс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93760"/>
            <a:ext cx="8534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берегающие технологии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384120" y="1073160"/>
            <a:ext cx="83217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Calibri"/>
              </a:rPr>
              <a:t>ШКОЛЬНИК  НОВОГО  ТИП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е свободный, любящий и умеющий творчески относиться к действительности, к другим людям, способный не только решить старую, но и поставить новую проблему, способный делать осознанный выбор и самостоятель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642960" y="178596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сё в наших руках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нельзя их опускат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 НА  ОСНОВЕ  АКТИВИЗАЦИИ  И  ИНТЕНСИФИКАЦИИ  ДЕЯТЕЛЬНОСТИ 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85688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 ОБ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ИВНЫЕ 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 СОВРЕМЕННОГО  ПРОЕКТНОГО 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61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ОБУ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840" y="691920"/>
            <a:ext cx="8929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приобретение ЗУН, усвоение способов самостоятельной деятельности, формирование исследовательских умений и навыков, развитие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мотив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птимальной проблемных ситу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и использование самых актуальных сущностных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собенностей проблемных ситуаций в различных видах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850104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ОЛОГИЯ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ЛЕМНОГО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роблемного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ъяснения нового материа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66720" y="1600200"/>
            <a:ext cx="416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рок «открытия» знан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Прямая со стрелкой 6"/>
          <p:cNvCxnSpPr/>
          <p:nvPr/>
        </p:nvCxnSpPr>
        <p:spPr>
          <a:xfrm flipH="1">
            <a:off x="2999520" y="2286000"/>
            <a:ext cx="1715400" cy="929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Прямая со стрелкой 7"/>
          <p:cNvCxnSpPr/>
          <p:nvPr/>
        </p:nvCxnSpPr>
        <p:spPr>
          <a:xfrm>
            <a:off x="4724280" y="2295360"/>
            <a:ext cx="1572480" cy="929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 ТЕХН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840" y="14997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бучение с двусторонним обмен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жду учителем и учен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– вывод ученика на позицию субъекта обучения, активизация индивидуальных умственных проце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«Развитие критического мышл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проведения дискусс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ология «Деба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ов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хнология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развития критического мышл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1989000"/>
            <a:ext cx="8351640" cy="3745080"/>
          </a:xfrm>
          <a:prstGeom prst="rect">
            <a:avLst/>
          </a:prstGeom>
          <a:solidFill>
            <a:srgbClr val="ff99cc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Критическое мышление 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95280" y="5414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технолог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звитие критического мышления посредством интерактивного включения учащихся в 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95280" y="141300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ные научные иде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мыш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взаимоуважению партнёров, пониманию и продуктивному взаимодействию между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ает понимание различных «взглядов на ми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учащимся использовать свои знания для наполнения смыслом ситуаций с высоким уровнем неопределённости, создавать базу для новых типов челове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68360" y="393372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 оценки результата в условиях технологии развития критического мышле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критерием оценки результата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ость мышле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может быть раскрыта через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(Где ошибка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(В чём причина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ь (Каковы недостатк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ка (Согласны ли вы? Опровергните. Приведите контраргументы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(Постройте про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68360" y="1708560"/>
            <a:ext cx="79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ность мышления школьников по поводу своего субъектн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специального содержания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ысокий уровень сформированность у школьников умений самостоя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13:35Z</dcterms:created>
  <dc:creator>Lena</dc:creator>
  <dc:description/>
  <dc:language>en-US</dc:language>
  <cp:lastModifiedBy>Admin</cp:lastModifiedBy>
  <dcterms:modified xsi:type="dcterms:W3CDTF">2022-10-31T18:03:03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a0000000000010243100207f6000400038000</vt:lpwstr>
  </property>
</Properties>
</file>