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2D2-6A8E-4896-8929-00A78B6D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03A-4EFD-49D3-A72F-FFA5DEFC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5F2-2BB0-48D2-9BCD-AA7B630E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A39-659D-442B-A860-BB0DF1A3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709-4CBD-4410-B9C8-7D17EDC6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BFE-6002-4C22-8802-0CE62A20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1AA-53B3-46B1-89B5-A90E582C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934-AE6F-44B4-A34F-5C642F0C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C4F-42F8-4361-8F8A-43187096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809-9A92-4905-B3A0-D93DC5C4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547-990D-4B68-A224-C81C492A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492-02B1-40BC-A0CA-92D1E7CE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12FC-4823-4E56-9012-A910E6440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волюция мобильных телефон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984 г. Motorola DynaT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го создатель доктор Мартин Купер.Мартин Купер,инжене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который занимается этим направлением,предложил доработать телефон, уменьшив вес, чтоб люди могли без особых усилий носить его при себе. Некоторые компании также работали над уменьшением веса телефона, н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torola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много опередила всех конкурентов. На реализацию идеи Купера ушло 15 лет и 90 миллионов долла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3a167769c369b2f0efd1b98737a0fca"/>
          <p:cNvPicPr/>
          <p:nvPr/>
        </p:nvPicPr>
        <p:blipFill>
          <a:blip r:embed="rId1"/>
          <a:stretch/>
        </p:blipFill>
        <p:spPr>
          <a:xfrm>
            <a:off x="2286000" y="3306600"/>
            <a:ext cx="41911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99 г. Nokia 7110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явление WAP – стало просто судьбоносным. Конечно, сама технология не позволяла получить полноценный доступ к Интернету, но и это сразу привлекло внимание покупа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8899b19c9a932d8340a5a38bcf9487e"/>
          <p:cNvPicPr/>
          <p:nvPr/>
        </p:nvPicPr>
        <p:blipFill>
          <a:blip r:embed="rId1"/>
          <a:stretch/>
        </p:blipFill>
        <p:spPr>
          <a:xfrm>
            <a:off x="1143000" y="281952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0 г. Siemens SL45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новой модели SL45 появился MP3-плеер и даже слот расширения памяти с помощью карты ММ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8f3dc681006e8763cb562bfc0b82df1"/>
          <p:cNvPicPr/>
          <p:nvPr/>
        </p:nvPicPr>
        <p:blipFill>
          <a:blip r:embed="rId1"/>
          <a:stretch/>
        </p:blipFill>
        <p:spPr>
          <a:xfrm>
            <a:off x="990720" y="2514600"/>
            <a:ext cx="7162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1 г. Ericsson T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начале компания отметилась небольшим T39, в котором впервые появился Bluetooth. Затем хорошо пошел самый маленький на тот момент T66. В финале же самым популярным телефоном года стал золотистый T68, куда впихнули практически все актуальные на тот момент технологии и функции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292c1b5cf5225e6b6a254e706394d2c"/>
          <p:cNvPicPr/>
          <p:nvPr/>
        </p:nvPicPr>
        <p:blipFill>
          <a:blip r:embed="rId1"/>
          <a:stretch/>
        </p:blipFill>
        <p:spPr>
          <a:xfrm>
            <a:off x="1828800" y="274320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3 г. BlackBerry 721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нутренней памяти было 16 Мб. Это, надо признать, сработало. Телефоны очень хорошо продавались в Северной Америке, отголоски славы доносились даже в Росси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8701b4533f9103665496d6117c90ae0a"/>
          <p:cNvPicPr/>
          <p:nvPr/>
        </p:nvPicPr>
        <p:blipFill>
          <a:blip r:embed="rId1"/>
          <a:stretch/>
        </p:blipFill>
        <p:spPr>
          <a:xfrm>
            <a:off x="1066680" y="2438280"/>
            <a:ext cx="742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4 г. Motorola RAZR V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мп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дала сразу пятьдесят миллионов лелефонов этой модел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188885e371a0baa3172e937ee22427f"/>
          <p:cNvPicPr/>
          <p:nvPr/>
        </p:nvPicPr>
        <p:blipFill>
          <a:blip r:embed="rId1"/>
          <a:stretch/>
        </p:blipFill>
        <p:spPr>
          <a:xfrm>
            <a:off x="1447920" y="2666880"/>
            <a:ext cx="6953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5 г. Sony Ericsson K750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c99a95db4e27a9ff061f410c1cf66bf"/>
          <p:cNvPicPr/>
          <p:nvPr/>
        </p:nvPicPr>
        <p:blipFill>
          <a:blip r:embed="rId1"/>
          <a:stretch/>
        </p:blipFill>
        <p:spPr>
          <a:xfrm>
            <a:off x="762120" y="888840"/>
            <a:ext cx="7715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6 г. Nokia N7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мпатичный моноблок, с очень богатым функционалом. Особенно если это касалось мультимедийных возможней: N73 проигрывал музыку, видео, мог записать ролики. Для желающих была даже возможность просмотра телевизионных каналов. Вот только разгуляться ему почти не дали. Уже в следующем году все только и говорили про iPhone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e0876b2051a7659aaf4ea6132af19fc"/>
          <p:cNvPicPr/>
          <p:nvPr/>
        </p:nvPicPr>
        <p:blipFill>
          <a:blip r:embed="rId1"/>
          <a:stretch/>
        </p:blipFill>
        <p:spPr>
          <a:xfrm>
            <a:off x="1066680" y="2666880"/>
            <a:ext cx="7543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7 г. iPhon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iPhone был практически универсальным и давал максимум возможностей на момент появления. Вот только iPhone – это процессор Samsung32-bitRISCARM на 620 Мгц, 128 Мб оперативной памяти, графический процессор и встроенная память как минимум на 4 Гб. И то, четырехгигабайтную версию прекратили выпускать через два месяца, оставив только на 8 Гб. И, конечно же, сенсорный дисплей на 3,5 дюйм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3139822424a65e56fa2a57cc4861bab6"/>
          <p:cNvPicPr/>
          <p:nvPr/>
        </p:nvPicPr>
        <p:blipFill>
          <a:blip r:embed="rId1"/>
          <a:stretch/>
        </p:blipFill>
        <p:spPr>
          <a:xfrm>
            <a:off x="1066680" y="2514600"/>
            <a:ext cx="7086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12 г. Samsung Galaxy S II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Galaxy S III отличное и мощное «железо»: четырехядерный процессор, полтора гигабайта оперативки, 16-64 Гб флэш-памяти и другие вкус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2011 году умер основатель и главный генератор идей Стив Джобс. Без него с новинками получалось как-то не очень хорошо. Только в 2014 году разработчикам удалось собраться и выпустить что-то стоящее. 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2181d33de6d1d940568501d19d23a103"/>
          <p:cNvPicPr/>
          <p:nvPr/>
        </p:nvPicPr>
        <p:blipFill>
          <a:blip r:embed="rId1"/>
          <a:stretch/>
        </p:blipFill>
        <p:spPr>
          <a:xfrm>
            <a:off x="666720" y="2286000"/>
            <a:ext cx="763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4 г. - ? 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этом году основное соревнование ведется снова между Apple и Samsung, но выбрать можно не только между iPhone 6 и Galaxy S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1462530366_samsung_galaxy_j5_2016_7"/>
          <p:cNvPicPr/>
          <p:nvPr/>
        </p:nvPicPr>
        <p:blipFill>
          <a:blip r:embed="rId1"/>
          <a:stretch/>
        </p:blipFill>
        <p:spPr>
          <a:xfrm>
            <a:off x="152280" y="160020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скачанные файлы"/>
          <p:cNvPicPr/>
          <p:nvPr/>
        </p:nvPicPr>
        <p:blipFill>
          <a:blip r:embed="rId2"/>
          <a:stretch/>
        </p:blipFill>
        <p:spPr>
          <a:xfrm>
            <a:off x="4572000" y="1600200"/>
            <a:ext cx="412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87 г. Nokia Mobira Cityman 9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20185195829b8f8bb20263f5f3f0c158"/>
          <p:cNvPicPr/>
          <p:nvPr/>
        </p:nvPicPr>
        <p:blipFill>
          <a:blip r:embed="rId1"/>
          <a:stretch/>
        </p:blipFill>
        <p:spPr>
          <a:xfrm>
            <a:off x="1828800" y="2362320"/>
            <a:ext cx="5562720" cy="38862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1447920" y="1371600"/>
            <a:ext cx="693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 середины шестидесятых она разрабатывала различные устройства связи для военн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92 г. Nokia 101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говаривать по нему можно было уже полтора часа. Главное его достоинство – это относ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зкие ц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78cc6e01461dd1854d762d1556c15eb"/>
          <p:cNvPicPr/>
          <p:nvPr/>
        </p:nvPicPr>
        <p:blipFill>
          <a:blip r:embed="rId1"/>
          <a:stretch/>
        </p:blipFill>
        <p:spPr>
          <a:xfrm>
            <a:off x="2057400" y="23623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93 г. Siemens S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оме обычных функций телефона у него был органайзер, он мог принимать факсы и работал с e-mail. Был только один минус – он был тяжел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34609082f27de4d8ed479e70c62637d"/>
          <p:cNvPicPr/>
          <p:nvPr/>
        </p:nvPicPr>
        <p:blipFill>
          <a:blip r:embed="rId1"/>
          <a:stretch/>
        </p:blipFill>
        <p:spPr>
          <a:xfrm>
            <a:off x="1905120" y="2448000"/>
            <a:ext cx="54100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994 г. Benefon Bet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г провести в ожидании вообще четверо сут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f0afc6d786d95904a5d87ad78a8ace9"/>
          <p:cNvPicPr/>
          <p:nvPr/>
        </p:nvPicPr>
        <p:blipFill>
          <a:blip r:embed="rId1"/>
          <a:stretch/>
        </p:blipFill>
        <p:spPr>
          <a:xfrm>
            <a:off x="1600200" y="2438280"/>
            <a:ext cx="6095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94 г. Nokia 21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ель стала хитом и успешно продавалась лет пя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9b2bef5d180e0065497f94947450a28"/>
          <p:cNvPicPr/>
          <p:nvPr/>
        </p:nvPicPr>
        <p:blipFill>
          <a:blip r:embed="rId1"/>
          <a:stretch/>
        </p:blipFill>
        <p:spPr>
          <a:xfrm>
            <a:off x="1600200" y="2514600"/>
            <a:ext cx="57150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96 г. Motorola StarTAC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otorola выпустила на рынке первую «раскладушка» Motorola StarTAC,эта модель завоевала Северную Америку. Там она продавалась вплоть до 2000 года. Более того, вспоминая славное прошлое, его дважды пытались возродить в 2004 и 2007 годах, но уже без такого успеха. Любовь американцев объяснялась доступностью, небольшими размерами и дизайн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97 г. Siemens S10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енно тут покупатели впервые увидели цветной дисплей. У него было всего пять строк, но все же в этой технологической гонки в первый и последний раз выиграли немцы. Поставили сюда хороший аккумулятор.Именно они первые придумали телефон для экстремалов.Модификацию назвали Active и с помощью прорезиненных вставок в корпусе обеспечили ему защиту от влаги, пыли и ударов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8edbc345a3c3fd08d9d0fb177cba3d17 (1)"/>
          <p:cNvPicPr/>
          <p:nvPr/>
        </p:nvPicPr>
        <p:blipFill>
          <a:blip r:embed="rId1"/>
          <a:stretch/>
        </p:blipFill>
        <p:spPr>
          <a:xfrm>
            <a:off x="1905120" y="2971800"/>
            <a:ext cx="5638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98 г. Nokia 9000/9110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дажи просто-напросто не пошли. Они были слишком тяжелые. Затем разработчики серьезно поработали над внутренностями, сделав его легче на 140 грамм – так появился 9110. Но теперь в них со всего разбега въехал Интернет. И простые трубки превратились в нечто совершенно невообразимое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77d9cb7bd965e635afed49785f0c067"/>
          <p:cNvPicPr/>
          <p:nvPr/>
        </p:nvPicPr>
        <p:blipFill>
          <a:blip r:embed="rId1"/>
          <a:stretch/>
        </p:blipFill>
        <p:spPr>
          <a:xfrm>
            <a:off x="1523880" y="2978280"/>
            <a:ext cx="60962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2-18T16:13:4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