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A7B-A3A9-4D56-9CA7-09243E8A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1FA-896B-4B1F-B50D-F0CE6B0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12-F7FA-4107-B689-D2DCAAC2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030-2A5B-44C6-966C-E03CCA1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E91-2AA3-4F39-A4CA-23961352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92-7EF5-441A-8305-AA91022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851-E7AF-4C3E-8DE4-FCF8AA5B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C9B-8612-4A41-95B1-0EC9917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0FA-7AEC-4189-8336-2797759D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798-9EF6-438A-9E1D-B76ED96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0EB-99DA-4A62-8212-52C8E6B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DFD-A582-4905-9003-A2F09990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3F95-C2FE-4AA3-964D-770F9ADD8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волюция мобильных телефон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84 г. Motorola Dyna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го создатель доктор Мартин Купер.Мартин Купер,инжен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который занимается этим направлением,предложил доработать телефон, уменьшив вес, чтоб люди могли без особых усилий носить его при себе. Некоторые компании также работали над уменьшением веса телефона, н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много опередила всех конкурентов. На реализацию идеи Купера ушло 15 лет и 90 миллионов долла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3a167769c369b2f0efd1b98737a0fca"/>
          <p:cNvPicPr/>
          <p:nvPr/>
        </p:nvPicPr>
        <p:blipFill>
          <a:blip r:embed="rId1"/>
          <a:stretch/>
        </p:blipFill>
        <p:spPr>
          <a:xfrm>
            <a:off x="2286000" y="3306600"/>
            <a:ext cx="4191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9 г. Nokia 7110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явление WAP – стало просто судьбоносным. Конечно, сама технология не позволяла получить полноценный доступ к Интернету, но и это сразу привлекло внимание покуп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8899b19c9a932d8340a5a38bcf9487e"/>
          <p:cNvPicPr/>
          <p:nvPr/>
        </p:nvPicPr>
        <p:blipFill>
          <a:blip r:embed="rId1"/>
          <a:stretch/>
        </p:blipFill>
        <p:spPr>
          <a:xfrm>
            <a:off x="1143000" y="281952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0 г. Siemens SL45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новой модели SL45 появился MP3-плеер и даже слот расширения памяти с помощью карты ММ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8f3dc681006e8763cb562bfc0b82df1"/>
          <p:cNvPicPr/>
          <p:nvPr/>
        </p:nvPicPr>
        <p:blipFill>
          <a:blip r:embed="rId1"/>
          <a:stretch/>
        </p:blipFill>
        <p:spPr>
          <a:xfrm>
            <a:off x="990720" y="2514600"/>
            <a:ext cx="7162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1 г. Ericsson T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ачале компания отметилась небольшим T39, в котором впервые появился Bluetooth. Затем хорошо пошел самый маленький на тот момент T66. В финале же самым популярным телефоном года стал золотистый T68, куда впихнули практически все актуальные на тот момент технологии и функ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92c1b5cf5225e6b6a254e706394d2c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 г. BlackBerry 72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нутренней памяти было 16 Мб. Это, надо признать, сработало. Телефоны очень хорошо продавались в Северной Америке, отголоски славы доносились даже в Росси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8701b4533f9103665496d6117c90ae0a"/>
          <p:cNvPicPr/>
          <p:nvPr/>
        </p:nvPicPr>
        <p:blipFill>
          <a:blip r:embed="rId1"/>
          <a:stretch/>
        </p:blipFill>
        <p:spPr>
          <a:xfrm>
            <a:off x="1066680" y="2438280"/>
            <a:ext cx="742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4 г. Motorola RAZR V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п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ала сразу пятьдесят миллионов лелефонов этой моде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188885e371a0baa3172e937ee22427f"/>
          <p:cNvPicPr/>
          <p:nvPr/>
        </p:nvPicPr>
        <p:blipFill>
          <a:blip r:embed="rId1"/>
          <a:stretch/>
        </p:blipFill>
        <p:spPr>
          <a:xfrm>
            <a:off x="1447920" y="2666880"/>
            <a:ext cx="6953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5 г. Sony Ericsson K75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c99a95db4e27a9ff061f410c1cf66bf"/>
          <p:cNvPicPr/>
          <p:nvPr/>
        </p:nvPicPr>
        <p:blipFill>
          <a:blip r:embed="rId1"/>
          <a:stretch/>
        </p:blipFill>
        <p:spPr>
          <a:xfrm>
            <a:off x="762120" y="888840"/>
            <a:ext cx="7715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6 г. Nokia N7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мпатичный моноблок, с очень богатым функционалом. Особенно если это касалось мультимедийных возможней: N73 проигрывал музыку, видео, мог записать ролики. Для желающих была даже возможность просмотра телевизионных каналов. Вот только разгуляться ему почти не дали. Уже в следующем году все только и говорили про iPhone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e0876b2051a7659aaf4ea6132af19fc"/>
          <p:cNvPicPr/>
          <p:nvPr/>
        </p:nvPicPr>
        <p:blipFill>
          <a:blip r:embed="rId1"/>
          <a:stretch/>
        </p:blipFill>
        <p:spPr>
          <a:xfrm>
            <a:off x="1066680" y="2666880"/>
            <a:ext cx="754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7 г. iPhon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iPhone был практически универсальным и давал максимум возможностей на момент появления. Вот только iPhone – это процессор Samsung32-bitRISCARM на 620 Мгц, 128 Мб оперативной памяти, графический процессор и встроенная память как минимум на 4 Гб. И то, четырехгигабайтную версию прекратили выпускать через два месяца, оставив только на 8 Гб. И, конечно же, сенсорный дисплей на 3,5 дюйм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3139822424a65e56fa2a57cc4861bab6"/>
          <p:cNvPicPr/>
          <p:nvPr/>
        </p:nvPicPr>
        <p:blipFill>
          <a:blip r:embed="rId1"/>
          <a:stretch/>
        </p:blipFill>
        <p:spPr>
          <a:xfrm>
            <a:off x="1066680" y="25146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2 г. Samsung Galaxy S I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Galaxy S III отличное и мощное «железо»: четырехядерный процессор, полтора гигабайта оперативки, 16-64 Гб флэш-памяти и другие вкус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2011 году умер основатель и главный генератор идей Стив Джобс. Без него с новинками получалось как-то не очень хорошо. Только в 2014 году разработчикам удалось собраться и выпустить что-то стоящее.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181d33de6d1d940568501d19d23a103"/>
          <p:cNvPicPr/>
          <p:nvPr/>
        </p:nvPicPr>
        <p:blipFill>
          <a:blip r:embed="rId1"/>
          <a:stretch/>
        </p:blipFill>
        <p:spPr>
          <a:xfrm>
            <a:off x="666720" y="2286000"/>
            <a:ext cx="763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4 г. - ?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ом году основное соревнование ведется снова между Apple и Samsung, но выбрать можно не только между iPhone 6 и Galaxy S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462530366_samsung_galaxy_j5_2016_7"/>
          <p:cNvPicPr/>
          <p:nvPr/>
        </p:nvPicPr>
        <p:blipFill>
          <a:blip r:embed="rId1"/>
          <a:stretch/>
        </p:blipFill>
        <p:spPr>
          <a:xfrm>
            <a:off x="15228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скачанные файлы"/>
          <p:cNvPicPr/>
          <p:nvPr/>
        </p:nvPicPr>
        <p:blipFill>
          <a:blip r:embed="rId2"/>
          <a:stretch/>
        </p:blipFill>
        <p:spPr>
          <a:xfrm>
            <a:off x="4572000" y="1600200"/>
            <a:ext cx="412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87 г. Nokia Mobira Cityman 9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185195829b8f8bb20263f5f3f0c158"/>
          <p:cNvPicPr/>
          <p:nvPr/>
        </p:nvPicPr>
        <p:blipFill>
          <a:blip r:embed="rId1"/>
          <a:stretch/>
        </p:blipFill>
        <p:spPr>
          <a:xfrm>
            <a:off x="1828800" y="23623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447920" y="1371600"/>
            <a:ext cx="693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середины шестидесятых она разрабатывала различные устройства связи для вое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92 г. Nokia 101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говаривать по нему можно было уже полтора часа. Главное его достоинство – это относ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ие ц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78cc6e01461dd1854d762d1556c15eb"/>
          <p:cNvPicPr/>
          <p:nvPr/>
        </p:nvPicPr>
        <p:blipFill>
          <a:blip r:embed="rId1"/>
          <a:stretch/>
        </p:blipFill>
        <p:spPr>
          <a:xfrm>
            <a:off x="2057400" y="2362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3 г. Siemens S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оме обычных функций телефона у него был органайзер, он мог принимать факсы и работал с e-mail. Был только один минус – он был тяжел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34609082f27de4d8ed479e70c62637d"/>
          <p:cNvPicPr/>
          <p:nvPr/>
        </p:nvPicPr>
        <p:blipFill>
          <a:blip r:embed="rId1"/>
          <a:stretch/>
        </p:blipFill>
        <p:spPr>
          <a:xfrm>
            <a:off x="1905120" y="2448000"/>
            <a:ext cx="5410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94 г. Benefon Bet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г провести в ожидании вообще четверо су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f0afc6d786d95904a5d87ad78a8ace9"/>
          <p:cNvPicPr/>
          <p:nvPr/>
        </p:nvPicPr>
        <p:blipFill>
          <a:blip r:embed="rId1"/>
          <a:stretch/>
        </p:blipFill>
        <p:spPr>
          <a:xfrm>
            <a:off x="1600200" y="2438280"/>
            <a:ext cx="6095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94 г. Nokia 21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стала хитом и успешно продавалась лет пя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9b2bef5d180e0065497f94947450a28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6 г. Motorola StarTA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otorola выпустила на рынке первую «раскладушка» Motorola StarTAC,эта модель завоевала Северную Америку. Там она продавалась вплоть до 2000 года. Более того, вспоминая славное прошлое, его дважды пытались возродить в 2004 и 2007 годах, но уже без такого успеха. Любовь американцев объяснялась доступностью, небольшими размерами и дизайн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7 г. Siemens S10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нно тут покупатели впервые увидели цветной дисплей. У него было всего пять строк, но все же в этой технологической гонки в первый и последний раз выиграли немцы. Поставили сюда хороший аккумулятор.Именно они первые придумали телефон для экстремалов.Модификацию назвали Active и с помощью прорезиненных вставок в корпусе обеспечили ему защиту от влаги, пыли и ударо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edbc345a3c3fd08d9d0fb177cba3d17 (1)"/>
          <p:cNvPicPr/>
          <p:nvPr/>
        </p:nvPicPr>
        <p:blipFill>
          <a:blip r:embed="rId1"/>
          <a:stretch/>
        </p:blipFill>
        <p:spPr>
          <a:xfrm>
            <a:off x="1905120" y="2971800"/>
            <a:ext cx="5638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98 г. Nokia 9000/911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ажи просто-напросто не пошли. Они были слишком тяжелые. Затем разработчики серьезно поработали над внутренностями, сделав его легче на 140 грамм – так появился 9110. Но теперь в них со всего разбега въехал Интернет. И простые трубки превратились в нечто совершенно невообразимое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77d9cb7bd965e635afed49785f0c067"/>
          <p:cNvPicPr/>
          <p:nvPr/>
        </p:nvPicPr>
        <p:blipFill>
          <a:blip r:embed="rId1"/>
          <a:stretch/>
        </p:blipFill>
        <p:spPr>
          <a:xfrm>
            <a:off x="1523880" y="2978280"/>
            <a:ext cx="60962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8T16:13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