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7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15A8-CE8A-4ED8-989F-C9104CEE9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0185-2C5D-4940-9574-79A8721E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E5BD-0F35-4742-9F6C-C4DCB2773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3C44-0FC8-48AF-91C8-9D08250AB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A55E-210E-4452-82DF-09864845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357B-5E75-4B98-A7AB-BC15883C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AD31-4DD4-4752-8006-5675935C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2FCE-8D77-4316-B7A5-F4FDB80B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3AA1-5660-4EC4-83C6-8B138953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9386-8BD7-42B2-984E-D025D8C4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FB78-596F-422D-9627-6CD6CE7C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CB22-6BBA-4B0A-9260-47A173E3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0F2A9-35F2-43EA-A00E-D2940F59A8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Краски родной зем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488304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9000"/>
          </a:bodyPr>
          <a:p>
            <a:pPr marL="99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в живописи Аркадия Александровича Пласт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9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9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(виртуальная экскурс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PLASTOVAA-95"/>
          <p:cNvPicPr/>
          <p:nvPr/>
        </p:nvPicPr>
        <p:blipFill>
          <a:blip r:embed="rId1"/>
          <a:stretch/>
        </p:blipFill>
        <p:spPr>
          <a:xfrm>
            <a:off x="1600200" y="990720"/>
            <a:ext cx="6019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181120" y="609480"/>
            <a:ext cx="39625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А.Плас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13 г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етьяковская галерея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е «Васнецовским» фасад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«Боярыней Морозово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.И.Суриков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удивительно правдив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ртретами Крамск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мощью и блистате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стерством А.Ивано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ыла его настоящая школа,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м числе и духов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PLASTOVAA-74"/>
          <p:cNvPicPr/>
          <p:nvPr/>
        </p:nvPicPr>
        <p:blipFill>
          <a:blip r:embed="rId1"/>
          <a:stretch/>
        </p:blipFill>
        <p:spPr>
          <a:xfrm>
            <a:off x="304920" y="304920"/>
            <a:ext cx="452412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90960" y="837720"/>
            <a:ext cx="2971800" cy="441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1917  живёт в Прислонихе,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бирается секретарём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льсовета и  комбеда;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ботает над рисунками и акварелям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6019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.А.Пластов.1920г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PLASTOVAA-78"/>
          <p:cNvPicPr/>
          <p:nvPr/>
        </p:nvPicPr>
        <p:blipFill>
          <a:blip r:embed="rId1"/>
          <a:stretch/>
        </p:blipFill>
        <p:spPr>
          <a:xfrm>
            <a:off x="685800" y="228600"/>
            <a:ext cx="401940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105160" y="30456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1931 г. у Пласто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горел дом, погибло почти все созданное к этому времени. Художнику без малого сорок лет, а он оказался практически в положении начинающ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5943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.А.Пластов. Начало 30 г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PLASTOVAA-80"/>
          <p:cNvPicPr/>
          <p:nvPr/>
        </p:nvPicPr>
        <p:blipFill>
          <a:blip r:embed="rId1"/>
          <a:stretch/>
        </p:blipFill>
        <p:spPr>
          <a:xfrm>
            <a:off x="304920" y="228600"/>
            <a:ext cx="456228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257440" y="274680"/>
            <a:ext cx="3429000" cy="498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ле войны Пластов продолжает жить в Прислонихе и создавать картины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5714640"/>
            <a:ext cx="495324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слониха. А.А.Пластов в мастерс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PLASTOVAA-84"/>
          <p:cNvPicPr/>
          <p:nvPr/>
        </p:nvPicPr>
        <p:blipFill>
          <a:blip r:embed="rId1"/>
          <a:stretch/>
        </p:blipFill>
        <p:spPr>
          <a:xfrm>
            <a:off x="457200" y="304920"/>
            <a:ext cx="39625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4952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стов - природный реалист. Он жил в мире и любовался его красотой. Пластов был убежден: главное для художника - увидеть эту красоту и быть предельно искренн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PLASTOVAA-81"/>
          <p:cNvPicPr/>
          <p:nvPr/>
        </p:nvPicPr>
        <p:blipFill>
          <a:blip r:embed="rId1"/>
          <a:stretch/>
        </p:blipFill>
        <p:spPr>
          <a:xfrm>
            <a:off x="990720" y="228600"/>
            <a:ext cx="71247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5028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ластов осознает себя продолжателем всей национальной художественной традиции. В колорите русской природы он видит чарующие краски наших старых икон. Эти краски живут в его картинах: в золоте хлебных полей, в зелени травы, в красном, розовом и голубом цвете крестьянских одежд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PLASTOVAA-102"/>
          <p:cNvPicPr/>
          <p:nvPr/>
        </p:nvPicPr>
        <p:blipFill>
          <a:blip r:embed="rId1"/>
          <a:stretch/>
        </p:blipFill>
        <p:spPr>
          <a:xfrm>
            <a:off x="1447920" y="22860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место святых подвижников заступают русские крестьяне, чей труд и тяжек, и свят, чья жизнь для Пластова - воплощенная гармония природы и человек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PLASTOVAA-63"/>
          <p:cNvPicPr/>
          <p:nvPr/>
        </p:nvPicPr>
        <p:blipFill>
          <a:blip r:embed="rId1"/>
          <a:stretch/>
        </p:blipFill>
        <p:spPr>
          <a:xfrm>
            <a:off x="914400" y="457200"/>
            <a:ext cx="74296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5562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.А.Пластов среди своих геро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PLASTOVAA-68"/>
          <p:cNvPicPr/>
          <p:nvPr/>
        </p:nvPicPr>
        <p:blipFill>
          <a:blip r:embed="rId1"/>
          <a:stretch/>
        </p:blipFill>
        <p:spPr>
          <a:xfrm>
            <a:off x="990720" y="304920"/>
            <a:ext cx="742932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181120" y="274680"/>
            <a:ext cx="3505320" cy="582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середине 50-х годов А.А.Пластов создаёт глубоко философские полотна-метафоры, дающие обильную пищу уму и сердцу зр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5943240"/>
            <a:ext cx="39625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Родни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Аркадий Александрович Пластов (1893 - 1972)"/>
          <p:cNvPicPr/>
          <p:nvPr/>
        </p:nvPicPr>
        <p:blipFill>
          <a:blip r:embed="rId1"/>
          <a:stretch/>
        </p:blipFill>
        <p:spPr>
          <a:xfrm>
            <a:off x="685800" y="304920"/>
            <a:ext cx="3886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6560" y="274680"/>
            <a:ext cx="380988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рители Третьяковской галереи называют эту картину "Северной Венерой«. С виртуозным мастерством написано это полотно. В свое время этот холст прозвучал как вызов отвыкшей от картин с обнаженной натурой публике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5486040"/>
            <a:ext cx="304812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Весн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Аркадий Александрович Пластов (1893 - 1972)"/>
          <p:cNvPicPr/>
          <p:nvPr/>
        </p:nvPicPr>
        <p:blipFill>
          <a:blip r:embed="rId1"/>
          <a:stretch/>
        </p:blipFill>
        <p:spPr>
          <a:xfrm>
            <a:off x="914400" y="457200"/>
            <a:ext cx="27813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Аркадий</a:t>
            </a:r>
            <a:r>
              <a:rPr b="0" lang="ru-RU" sz="36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Александрович Плас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181120" y="1447560"/>
            <a:ext cx="3505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одный художник СССР (1962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уреат Ленинской (1966) и Сталинской премии первой степени (1946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йствительный член АХ СССР (1947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уреат Государственной премии имени И.Е.Репина (197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мертн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Фотография"/>
          <p:cNvPicPr/>
          <p:nvPr/>
        </p:nvPicPr>
        <p:blipFill>
          <a:blip r:embed="rId1"/>
          <a:stretch/>
        </p:blipFill>
        <p:spPr>
          <a:xfrm>
            <a:off x="990720" y="2057400"/>
            <a:ext cx="3276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440" y="518148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то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ртины Пластова - это мир, обильно населенный людьми, любимыми его современник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PLASTOVAA-35"/>
          <p:cNvPicPr/>
          <p:nvPr/>
        </p:nvPicPr>
        <p:blipFill>
          <a:blip r:embed="rId1"/>
          <a:stretch/>
        </p:blipFill>
        <p:spPr>
          <a:xfrm>
            <a:off x="380880" y="53352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00240" y="274320"/>
            <a:ext cx="3886200" cy="483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полотен художника на нас смотрят загорелые, жилистые, порою неприглядные в своей будничности, но тем более великие люди села - герои его времен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5562360"/>
            <a:ext cx="45720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ртрет Мани-тракторис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Аркадий Александрович Пластов (1893 - 1972)"/>
          <p:cNvPicPr/>
          <p:nvPr/>
        </p:nvPicPr>
        <p:blipFill>
          <a:blip r:embed="rId1"/>
          <a:stretch/>
        </p:blipFill>
        <p:spPr>
          <a:xfrm>
            <a:off x="685800" y="533520"/>
            <a:ext cx="33717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8840" y="304920"/>
            <a:ext cx="350532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раг безделья, он воспел в своих картинах труд крестьянина. Труд тяжелый, от зари до зари, труд, радостный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одами своим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5562360"/>
            <a:ext cx="36576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Колхозный т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tok"/>
          <p:cNvPicPr/>
          <p:nvPr/>
        </p:nvPicPr>
        <p:blipFill>
          <a:blip r:embed="rId1"/>
          <a:stretch/>
        </p:blipFill>
        <p:spPr>
          <a:xfrm>
            <a:off x="228600" y="762120"/>
            <a:ext cx="4419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257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если хоть на миг представить себе собранными в одном месте, пусть это будет музей или выставка, весь тысячелистный альбом рисунков, всю необъятную массу холстовА.А.Пластова, то перед нами предстанет неоценимая панорама жизни одного села, возведенная до звучания летописи, стр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PLASTOVAA-103"/>
          <p:cNvPicPr/>
          <p:nvPr/>
        </p:nvPicPr>
        <p:blipFill>
          <a:blip r:embed="rId1"/>
          <a:stretch/>
        </p:blipFill>
        <p:spPr>
          <a:xfrm>
            <a:off x="1371600" y="304920"/>
            <a:ext cx="6705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50288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р Пластов в 1972 году в селе Прислониха в своем доме, похоронен на сельском кладбище, рядом со своими пред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Могила А.А. Пластова, с. Прислониха"/>
          <p:cNvPicPr/>
          <p:nvPr/>
        </p:nvPicPr>
        <p:blipFill>
          <a:blip r:embed="rId1"/>
          <a:stretch/>
        </p:blipFill>
        <p:spPr>
          <a:xfrm>
            <a:off x="1143000" y="838080"/>
            <a:ext cx="67057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029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Прислонихе чтут память о своём великом земля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центре села –  дом, принадлежащий семье Пластовых, где до сих пор сохраняется мастерская художника. Рядом и музей «Народный художник А.А.Пластов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IMGP1135 (448x336, 33Kb)"/>
          <p:cNvPicPr/>
          <p:nvPr/>
        </p:nvPicPr>
        <p:blipFill>
          <a:blip r:embed="rId1"/>
          <a:stretch/>
        </p:blipFill>
        <p:spPr>
          <a:xfrm>
            <a:off x="1447920" y="457200"/>
            <a:ext cx="57909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50288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слониха –  родная земля, малая родина и спасительниц А.А.Пластова.. Сколько раз она спасала его от голода и холода, отчаяния и сомнений. Прислониха стала неисчерпаемым кладом всех картин великого маст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vid_kl_t"/>
          <p:cNvPicPr/>
          <p:nvPr/>
        </p:nvPicPr>
        <p:blipFill>
          <a:blip r:embed="rId1"/>
          <a:stretch/>
        </p:blipFill>
        <p:spPr>
          <a:xfrm>
            <a:off x="1295280" y="380880"/>
            <a:ext cx="67820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52280" y="0"/>
            <a:ext cx="8839440" cy="662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.А.Пластов родился 19(31) января 1893 года в селе Прислониха Симбирского уезда Симбирской губер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410080" y="1599840"/>
            <a:ext cx="335304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ья Пластовы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колай (брат художника 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ец – Александр Григорьевич Пласт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ь - Ольга Иванов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кадий Плас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PLASTOVAA-72"/>
          <p:cNvPicPr/>
          <p:nvPr/>
        </p:nvPicPr>
        <p:blipFill>
          <a:blip r:embed="rId1"/>
          <a:stretch/>
        </p:blipFill>
        <p:spPr>
          <a:xfrm>
            <a:off x="457200" y="1371600"/>
            <a:ext cx="3733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09120" y="54100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рам Богоявления в с. Прислониха. Архитектор и автор росписей - Григорий Гаврилович Пластов, дед художника. (Построен в 1884, восстановлен с участием внука художника Николая Пластова в 199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PLASTOVAA-47"/>
          <p:cNvPicPr/>
          <p:nvPr/>
        </p:nvPicPr>
        <p:blipFill>
          <a:blip r:embed="rId1"/>
          <a:stretch/>
        </p:blipFill>
        <p:spPr>
          <a:xfrm>
            <a:off x="762120" y="380880"/>
            <a:ext cx="73911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181120" y="685800"/>
            <a:ext cx="358164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кадий Александрович очень любил своего отц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ец много читал и слыл человеком образованны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памяти мальчика осталось много светлого, связанного с именем от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н помнил, как отец беседовал с местными учителями сельской школы о библии, красоте земли, таинстве миров и удивительных научных открыт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PLASTOVAA-71"/>
          <p:cNvPicPr/>
          <p:nvPr/>
        </p:nvPicPr>
        <p:blipFill>
          <a:blip r:embed="rId1"/>
          <a:stretch/>
        </p:blipFill>
        <p:spPr>
          <a:xfrm>
            <a:off x="380880" y="914400"/>
            <a:ext cx="4562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0880" y="525780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03 – 1908  А.А.Пластов учится в Симбирском духовном училищ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300px-Simbirsk"/>
          <p:cNvPicPr/>
          <p:nvPr/>
        </p:nvPicPr>
        <p:blipFill>
          <a:blip r:embed="rId1"/>
          <a:stretch/>
        </p:blipFill>
        <p:spPr>
          <a:xfrm>
            <a:off x="1295280" y="609480"/>
            <a:ext cx="63248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440" y="5105160"/>
            <a:ext cx="8077320" cy="94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08 – 1912 учится в Симбирской духовной семинарии, занимается рисование у Д.И.Архангельск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300px-Simbirsk_seminary"/>
          <p:cNvPicPr/>
          <p:nvPr/>
        </p:nvPicPr>
        <p:blipFill>
          <a:blip r:embed="rId1"/>
          <a:stretch/>
        </p:blipFill>
        <p:spPr>
          <a:xfrm>
            <a:off x="1371600" y="609480"/>
            <a:ext cx="6400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54097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12-1914 учится в императорском Строгановском центральном художественно-промышленном  училище в Моск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r11"/>
          <p:cNvPicPr/>
          <p:nvPr/>
        </p:nvPicPr>
        <p:blipFill>
          <a:blip r:embed="rId1"/>
          <a:stretch/>
        </p:blipFill>
        <p:spPr>
          <a:xfrm>
            <a:off x="1219320" y="533520"/>
            <a:ext cx="662940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50288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14-1917- учится в московском Училище живописи, ваяния и зодчества на скульптурном отделении у С.М.Волнухина; посещает занятия А.М.Васнецова, А.М.Кор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File:Moscow School of Painting, Sculpture and Architecture.jpg"/>
          <p:cNvPicPr/>
          <p:nvPr/>
        </p:nvPicPr>
        <p:blipFill>
          <a:blip r:embed="rId1"/>
          <a:stretch/>
        </p:blipFill>
        <p:spPr>
          <a:xfrm>
            <a:off x="1219320" y="304920"/>
            <a:ext cx="678168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втлана</cp:lastModifiedBy>
  <dcterms:modified xsi:type="dcterms:W3CDTF">2022-12-18T10:11:30Z</dcterms:modified>
  <cp:revision>9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