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E706-2A5C-4660-8A9E-2C01EDBD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AA5-734A-40B6-8991-FA1E9808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3F0-BB42-4BA9-9D4A-817CDA76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590-7F41-4E2A-94EF-CD677504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2BB-F058-408E-A78E-002D2F77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5CE-98AE-4B12-8F8B-15491446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1714-2BA9-4385-8779-FA70F4A1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224-A285-42A8-8202-2368B0C8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228-3EED-484E-AD34-6B7865D9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72E-5815-473D-AE19-90EFB378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7E4-A9A3-4C78-AD5E-877AC570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D988-96BA-45F9-98A6-E2C73190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5C2E-D422-41AD-9079-AE3013FB5E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Краски родной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488304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99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 живописи Аркадия Александровича Плас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9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(виртуальная экскурс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PLASTOVAA-95"/>
          <p:cNvPicPr/>
          <p:nvPr/>
        </p:nvPicPr>
        <p:blipFill>
          <a:blip r:embed="rId1"/>
          <a:stretch/>
        </p:blipFill>
        <p:spPr>
          <a:xfrm>
            <a:off x="1600200" y="990720"/>
            <a:ext cx="6019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181120" y="609480"/>
            <a:ext cx="39625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А.Плас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3 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тьяковская галерея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е «Васнецовским» фаса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«Боярыней Морозов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И.Сурико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удивительно правдив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третами Крамск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мощью и блистате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терством А.Иван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а его настоящая школа,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м числе и духов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PLASTOVAA-74"/>
          <p:cNvPicPr/>
          <p:nvPr/>
        </p:nvPicPr>
        <p:blipFill>
          <a:blip r:embed="rId1"/>
          <a:stretch/>
        </p:blipFill>
        <p:spPr>
          <a:xfrm>
            <a:off x="304920" y="304920"/>
            <a:ext cx="452412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90960" y="8377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1917  живёт в Прислонихе,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бирается секретарё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льсовета и  комбеда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ет над рисунками и акварелям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А.Пластов.1920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LASTOVAA-78"/>
          <p:cNvPicPr/>
          <p:nvPr/>
        </p:nvPicPr>
        <p:blipFill>
          <a:blip r:embed="rId1"/>
          <a:stretch/>
        </p:blipFill>
        <p:spPr>
          <a:xfrm>
            <a:off x="685800" y="228600"/>
            <a:ext cx="40194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05160" y="3045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931 г. у Пласт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горел дом, погибло почти все созданное к этому времени. Художнику без малого сорок лет, а он оказался практически в положении начинаю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943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А.Пластов. Начало 30 г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PLASTOVAA-80"/>
          <p:cNvPicPr/>
          <p:nvPr/>
        </p:nvPicPr>
        <p:blipFill>
          <a:blip r:embed="rId1"/>
          <a:stretch/>
        </p:blipFill>
        <p:spPr>
          <a:xfrm>
            <a:off x="304920" y="228600"/>
            <a:ext cx="456228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57440" y="274680"/>
            <a:ext cx="34290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 войны Пластов продолжает жить в Прислонихе и создавать картин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5714640"/>
            <a:ext cx="495324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слониха. А.А.Пластов в мастерс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LASTOVAA-84"/>
          <p:cNvPicPr/>
          <p:nvPr/>
        </p:nvPicPr>
        <p:blipFill>
          <a:blip r:embed="rId1"/>
          <a:stretch/>
        </p:blipFill>
        <p:spPr>
          <a:xfrm>
            <a:off x="457200" y="304920"/>
            <a:ext cx="3962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4952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стов - природный реалист. Он жил в мире и любовался его красотой. Пластов был убежден: главное для художника - увидеть эту красоту и быть предельно искрен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PLASTOVAA-81"/>
          <p:cNvPicPr/>
          <p:nvPr/>
        </p:nvPicPr>
        <p:blipFill>
          <a:blip r:embed="rId1"/>
          <a:stretch/>
        </p:blipFill>
        <p:spPr>
          <a:xfrm>
            <a:off x="990720" y="228600"/>
            <a:ext cx="7124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стов осознает себя продолжателем всей национальной художественной традиции. В колорите русской природы он видит чарующие краски наших старых икон. Эти краски живут в его картинах: в золоте хлебных полей, в зелени травы, в красном, розовом и голубом цвете крестьянских одежд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PLASTOVAA-102"/>
          <p:cNvPicPr/>
          <p:nvPr/>
        </p:nvPicPr>
        <p:blipFill>
          <a:blip r:embed="rId1"/>
          <a:stretch/>
        </p:blipFill>
        <p:spPr>
          <a:xfrm>
            <a:off x="1447920" y="22860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место святых подвижников заступают русские крестьяне, чей труд и тяжек, и свят, чья жизнь для Пластова - воплощенная гармония природы и человек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PLASTOVAA-63"/>
          <p:cNvPicPr/>
          <p:nvPr/>
        </p:nvPicPr>
        <p:blipFill>
          <a:blip r:embed="rId1"/>
          <a:stretch/>
        </p:blipFill>
        <p:spPr>
          <a:xfrm>
            <a:off x="914400" y="457200"/>
            <a:ext cx="7429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5562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А.Пластов среди своих геро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LASTOVAA-68"/>
          <p:cNvPicPr/>
          <p:nvPr/>
        </p:nvPicPr>
        <p:blipFill>
          <a:blip r:embed="rId1"/>
          <a:stretch/>
        </p:blipFill>
        <p:spPr>
          <a:xfrm>
            <a:off x="990720" y="304920"/>
            <a:ext cx="74293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81120" y="274680"/>
            <a:ext cx="350532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редине 50-х годов А.А.Пластов создаёт глубоко философские полотна-метафоры, дающие обильную пищу уму и сердцу зр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594324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Род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Аркадий Александрович Пластов (1893 - 1972)"/>
          <p:cNvPicPr/>
          <p:nvPr/>
        </p:nvPicPr>
        <p:blipFill>
          <a:blip r:embed="rId1"/>
          <a:stretch/>
        </p:blipFill>
        <p:spPr>
          <a:xfrm>
            <a:off x="685800" y="30492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6560" y="274680"/>
            <a:ext cx="380988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рители Третьяковской галереи называют эту картину "Северной Венерой«. С виртуозным мастерством написано это полотно. В свое время этот холст прозвучал как вызов отвыкшей от картин с обнаженной натурой публике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5486040"/>
            <a:ext cx="30481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ес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Аркадий Александрович Пластов (1893 - 1972)"/>
          <p:cNvPicPr/>
          <p:nvPr/>
        </p:nvPicPr>
        <p:blipFill>
          <a:blip r:embed="rId1"/>
          <a:stretch/>
        </p:blipFill>
        <p:spPr>
          <a:xfrm>
            <a:off x="914400" y="457200"/>
            <a:ext cx="2781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Аркадий</a:t>
            </a:r>
            <a:r>
              <a:rPr b="0" lang="ru-RU" sz="3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Александрович Плас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181120" y="1447560"/>
            <a:ext cx="3505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ный художник СССР (196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уреат Ленинской (1966) и Сталинской премии первой степени (194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тельный член АХ СССР (194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уреат Государственной премии имени И.Е.Репина (197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ерт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Фотография"/>
          <p:cNvPicPr/>
          <p:nvPr/>
        </p:nvPicPr>
        <p:blipFill>
          <a:blip r:embed="rId1"/>
          <a:stretch/>
        </p:blipFill>
        <p:spPr>
          <a:xfrm>
            <a:off x="990720" y="2057400"/>
            <a:ext cx="3276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440" y="518148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ины Пластова - это мир, обильно населенный людьми, любимыми его современни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LASTOVAA-35"/>
          <p:cNvPicPr/>
          <p:nvPr/>
        </p:nvPicPr>
        <p:blipFill>
          <a:blip r:embed="rId1"/>
          <a:stretch/>
        </p:blipFill>
        <p:spPr>
          <a:xfrm>
            <a:off x="380880" y="53352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00240" y="274320"/>
            <a:ext cx="388620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полотен художника на нас смотрят загорелые, жилистые, порою неприглядные в своей будничности, но тем более великие люди села - герои его време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5562360"/>
            <a:ext cx="45720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трет Мани-тракторис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Аркадий Александрович Пластов (1893 - 1972)"/>
          <p:cNvPicPr/>
          <p:nvPr/>
        </p:nvPicPr>
        <p:blipFill>
          <a:blip r:embed="rId1"/>
          <a:stretch/>
        </p:blipFill>
        <p:spPr>
          <a:xfrm>
            <a:off x="685800" y="533520"/>
            <a:ext cx="33717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8840" y="304920"/>
            <a:ext cx="350532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аг безделья, он воспел в своих картинах труд крестьянина. Труд тяжелый, от зари до зари, труд, радостны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одами своим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5562360"/>
            <a:ext cx="3657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олхозный т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tok"/>
          <p:cNvPicPr/>
          <p:nvPr/>
        </p:nvPicPr>
        <p:blipFill>
          <a:blip r:embed="rId1"/>
          <a:stretch/>
        </p:blipFill>
        <p:spPr>
          <a:xfrm>
            <a:off x="228600" y="762120"/>
            <a:ext cx="441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если хоть на миг представить себе собранными в одном месте, пусть это будет музей или выставка, весь тысячелистный альбом рисунков, всю необъятную массу холстовА.А.Пластова, то перед нами предстанет неоценимая панорама жизни одного села, возведенная до звучания летописи,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PLASTOVAA-103"/>
          <p:cNvPicPr/>
          <p:nvPr/>
        </p:nvPicPr>
        <p:blipFill>
          <a:blip r:embed="rId1"/>
          <a:stretch/>
        </p:blipFill>
        <p:spPr>
          <a:xfrm>
            <a:off x="1371600" y="304920"/>
            <a:ext cx="6705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 Пластов в 1972 году в селе Прислониха в своем доме, похоронен на сельском кладбище, рядом со своими пред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Могила А.А. Пластова, с. Прислониха"/>
          <p:cNvPicPr/>
          <p:nvPr/>
        </p:nvPicPr>
        <p:blipFill>
          <a:blip r:embed="rId1"/>
          <a:stretch/>
        </p:blipFill>
        <p:spPr>
          <a:xfrm>
            <a:off x="1143000" y="838080"/>
            <a:ext cx="6705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029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ислонихе чтут память о своём великом земля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центре села –  дом, принадлежащий семье Пластовых, где до сих пор сохраняется мастерская художника. Рядом и музей «Народный художник А.А.Пласто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IMGP1135 (448x336, 33Kb)"/>
          <p:cNvPicPr/>
          <p:nvPr/>
        </p:nvPicPr>
        <p:blipFill>
          <a:blip r:embed="rId1"/>
          <a:stretch/>
        </p:blipFill>
        <p:spPr>
          <a:xfrm>
            <a:off x="1447920" y="457200"/>
            <a:ext cx="5790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слониха –  родная земля, малая родина и спасительниц А.А.Пластова.. Сколько раз она спасала его от голода и холода, отчаяния и сомнений. Прислониха стала неисчерпаемым кладом всех картин великого мас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vid_kl_t"/>
          <p:cNvPicPr/>
          <p:nvPr/>
        </p:nvPicPr>
        <p:blipFill>
          <a:blip r:embed="rId1"/>
          <a:stretch/>
        </p:blipFill>
        <p:spPr>
          <a:xfrm>
            <a:off x="1295280" y="380880"/>
            <a:ext cx="6782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А.Пластов родился 19(31) января 1893 года в селе Прислониха Симбирского уезда Симбирской губер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10080" y="1599840"/>
            <a:ext cx="33530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я Пластов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лай (брат художника 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– Александр Григорьевич Плас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ь - Ольга Ивано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кадий Пла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PLASTOVAA-72"/>
          <p:cNvPicPr/>
          <p:nvPr/>
        </p:nvPicPr>
        <p:blipFill>
          <a:blip r:embed="rId1"/>
          <a:stretch/>
        </p:blipFill>
        <p:spPr>
          <a:xfrm>
            <a:off x="457200" y="1371600"/>
            <a:ext cx="3733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120" y="54100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рам Богоявления в с. Прислониха. Архитектор и автор росписей - Григорий Гаврилович Пластов, дед художника. (Построен в 1884, восстановлен с участием внука художника Николая Пластова в 199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PLASTOVAA-47"/>
          <p:cNvPicPr/>
          <p:nvPr/>
        </p:nvPicPr>
        <p:blipFill>
          <a:blip r:embed="rId1"/>
          <a:stretch/>
        </p:blipFill>
        <p:spPr>
          <a:xfrm>
            <a:off x="762120" y="380880"/>
            <a:ext cx="7391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81120" y="685800"/>
            <a:ext cx="358164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кадий Александрович очень любил своего от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ец много читал и слыл человеком образован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амяти мальчика осталось много светлого, связанного с именем от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помнил, как отец беседовал с местными учителями сельской школы о библии, красоте земли, таинстве миров и удивительных научных откры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LASTOVAA-71"/>
          <p:cNvPicPr/>
          <p:nvPr/>
        </p:nvPicPr>
        <p:blipFill>
          <a:blip r:embed="rId1"/>
          <a:stretch/>
        </p:blipFill>
        <p:spPr>
          <a:xfrm>
            <a:off x="380880" y="914400"/>
            <a:ext cx="4562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525780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03 – 1908  А.А.Пластов учится в Симбирском духовном учил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300px-Simbirsk"/>
          <p:cNvPicPr/>
          <p:nvPr/>
        </p:nvPicPr>
        <p:blipFill>
          <a:blip r:embed="rId1"/>
          <a:stretch/>
        </p:blipFill>
        <p:spPr>
          <a:xfrm>
            <a:off x="1295280" y="609480"/>
            <a:ext cx="63248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5105160"/>
            <a:ext cx="807732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08 – 1912 учится в Симбирской духовной семинарии, занимается рисование у Д.И.Архангельск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300px-Simbirsk_seminary"/>
          <p:cNvPicPr/>
          <p:nvPr/>
        </p:nvPicPr>
        <p:blipFill>
          <a:blip r:embed="rId1"/>
          <a:stretch/>
        </p:blipFill>
        <p:spPr>
          <a:xfrm>
            <a:off x="1371600" y="609480"/>
            <a:ext cx="6400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09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2-1914 учится в императорском Строгановском центральном художественно-промышленном  училище в 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r11"/>
          <p:cNvPicPr/>
          <p:nvPr/>
        </p:nvPicPr>
        <p:blipFill>
          <a:blip r:embed="rId1"/>
          <a:stretch/>
        </p:blipFill>
        <p:spPr>
          <a:xfrm>
            <a:off x="1219320" y="533520"/>
            <a:ext cx="66294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4-1917- учится в московском Училище живописи, ваяния и зодчества на скульптурном отделении у С.М.Волнухина; посещает занятия А.М.Васнецова, А.М.Ко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File:Moscow School of Painting, Sculpture and Architecture.jpg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тлана</cp:lastModifiedBy>
  <dcterms:modified xsi:type="dcterms:W3CDTF">2022-12-18T10:11:30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