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123-FCA6-40AF-A1C2-D56C3B39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FA3-1F06-4DB7-9B63-8BBEF9B0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2D7-A8A1-486A-8E4E-A02B3050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24D-5F82-4A8A-86E2-981CC1E5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3D61-B5A4-4D0E-9119-6BF75CC3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0F8E-50B1-4B76-BC1E-96DE4C53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9D91-B16C-4D07-810A-F490457C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EDCD-AF0C-4F90-B3B4-98BE1CC0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8AFD-EEF0-40D3-9AB3-1D253944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142884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8751-AB93-4A8A-88F9-7CAE802C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872C-5070-40F4-AC21-AC49BD95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383-9C14-4AAF-8E17-33E17844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B15B-1510-46CA-8544-6788716D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2E33-070E-4ED3-B4FF-EFBC1BFE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5CF5-64EA-41A0-BCBC-0C56C1EB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828F-A68F-43E6-84F8-A091C813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1A67-82C5-4931-9A43-F79F2D35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10C-9188-4AE6-A054-A37C631C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7C5-7F52-4858-8682-3F69587B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F10-C261-442F-8BF8-5F6B5D74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142884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075-87E4-43C4-B75A-5E78B36A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C58-E541-4B3B-BA81-DA2ECB28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667-1195-44D8-B29C-5B63A42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42A-8FD2-48F2-8E3C-7A3E80A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55640" y="360360"/>
            <a:ext cx="3166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809784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63640" y="5165280"/>
            <a:ext cx="2130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3000" y="5165280"/>
            <a:ext cx="22035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960CA-27AC-4B70-B285-C0D26A4D78C3}" type="slidenum">
              <a:rPr b="0" lang="ru-RU" sz="1400" spc="-1" strike="noStrike">
                <a:solidFill>
                  <a:srgbClr val="77070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2592360"/>
            <a:ext cx="90709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928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4808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58664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D6035-AB0D-4D39-A424-612FC7BAD3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video" Target="" TargetMode="External"/><Relationship Id="rId4" Type="http://schemas.microsoft.com/office/2007/relationships/media" Target="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80992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сказ сказки Э. Ш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оловей и воронено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 воспитатель Пфецер Е. 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6360" y="720720"/>
            <a:ext cx="892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ДОУ д/с № 310 комбинированного вида Московского района Санкт-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1280" y="144360"/>
            <a:ext cx="7066080" cy="5175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7360" y="647280"/>
            <a:ext cx="27986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Серая ворон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216000"/>
            <a:ext cx="20872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Соловей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008000"/>
            <a:ext cx="8112240" cy="46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24000" y="-7128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1280" y="71280"/>
            <a:ext cx="9336240" cy="5116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33866" t="23710" r="0" b="0"/>
          <a:stretch/>
        </p:blipFill>
        <p:spPr>
          <a:xfrm>
            <a:off x="7056360" y="1511280"/>
            <a:ext cx="29512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0360" y="216000"/>
            <a:ext cx="3024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Пение соловья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6218280" cy="4373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20000" y="144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7T10:08:22Z</dcterms:created>
  <dc:creator/>
  <dc:description/>
  <dc:language>en-US</dc:language>
  <cp:lastModifiedBy/>
  <dcterms:modified xsi:type="dcterms:W3CDTF">2019-12-10T10:40:47Z</dcterms:modified>
  <cp:revision>5</cp:revision>
  <dc:subject/>
  <dc:title>Sunset</dc:title>
</cp:coreProperties>
</file>