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C3AE-AEF6-40C7-A1D1-2F2533C68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2920" y="142884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FEB5-9834-4E43-88B2-C1A11EC94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142884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B64B-27A4-450B-9523-65807C3B7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2920" y="142884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17C0-4EE1-4321-8727-184CD52AC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74900-7DD2-48ED-A88E-52582191F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142884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41093-4AFC-4336-8AC9-0CCC1BBF1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142884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447B5-F597-4863-BEBC-416594A19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142884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4CE3D-9974-494F-AE6F-C6C39D86F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142884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84C77-C546-4891-8855-0959AF034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02920" y="142884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45A63-6115-4C56-B749-5CAB958D0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142884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8A82D-46D0-434E-A817-2854FA3A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2920" y="142884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23B8-F8EF-4B8B-B939-4042D74AC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142884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A75F9-2AD2-4DEE-8ED5-EEE1B84B8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142884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47FF7-02D5-4CC7-873B-DB75D893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142884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7893B-A646-4389-BDC9-9DED6BC9B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142884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481EA-D9D7-4EA6-A9C4-E7F0C99B4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142884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4DA7C-1391-4532-8CAB-6A5F971A0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142884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926A-375F-4E73-90DA-CCC0616B7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142884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09AA-B29F-4155-A8DE-16C22B7E3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2920" y="142884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57F7-892A-4F54-9AA6-283E29B89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2920" y="142884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41F3-6E48-4108-ACB9-4A5F56888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2920" y="142884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9D0D-4B61-4314-A460-4E1FCCB8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2920" y="142884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615D-D2EE-42AA-8095-036B7C86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2920" y="142884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31D4-F0BB-449F-A4E7-F53088FB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10078920" cy="5667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55640" y="360360"/>
            <a:ext cx="316692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368000"/>
            <a:ext cx="809784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63640" y="5165280"/>
            <a:ext cx="2130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770707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77070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770707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77070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83000" y="5165280"/>
            <a:ext cx="22035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770707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100042-6F59-487C-9C47-7AE6D8B479BD}" type="slidenum">
              <a:rPr b="0" lang="ru-RU" sz="1400" spc="-1" strike="noStrike">
                <a:solidFill>
                  <a:srgbClr val="77070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142884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03280" y="2592360"/>
            <a:ext cx="907092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179280" y="5164200"/>
            <a:ext cx="234648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448080" y="5164200"/>
            <a:ext cx="319392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586640" y="5164200"/>
            <a:ext cx="234648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3DD715-654D-4B03-A645-EA2636EE569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video" Target="" TargetMode="External"/><Relationship Id="rId4" Type="http://schemas.microsoft.com/office/2007/relationships/media" Target="" TargetMode="External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990720" y="1368000"/>
            <a:ext cx="809928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сказ сказки Э. Ши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Соловей и вороненок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олнила воспитатель Пфецер Е. 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76360" y="720720"/>
            <a:ext cx="8928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БДОУ д/с № 310 комбинированного вида Московского района Санкт- Петербур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1280" y="144360"/>
            <a:ext cx="7066080" cy="51753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137360" y="647280"/>
            <a:ext cx="279864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Arial"/>
              </a:rPr>
              <a:t>Серая ворона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79640" y="216000"/>
            <a:ext cx="208728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Arial"/>
              </a:rPr>
              <a:t>Соловей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1008000"/>
            <a:ext cx="8112240" cy="466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224000" y="-71280"/>
            <a:ext cx="7543800" cy="56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142884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1280" y="71280"/>
            <a:ext cx="9336240" cy="51166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rcRect l="33866" t="23710" r="0" b="0"/>
          <a:stretch/>
        </p:blipFill>
        <p:spPr>
          <a:xfrm>
            <a:off x="7056360" y="1511280"/>
            <a:ext cx="295128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60360" y="216000"/>
            <a:ext cx="302436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Arial"/>
              </a:rPr>
              <a:t>Пение соловья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1295280"/>
            <a:ext cx="6218280" cy="43736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7920000" y="14436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7T10:08:22Z</dcterms:created>
  <dc:creator/>
  <dc:description/>
  <dc:language>en-US</dc:language>
  <cp:lastModifiedBy/>
  <dcterms:modified xsi:type="dcterms:W3CDTF">2019-12-10T10:40:47Z</dcterms:modified>
  <cp:revision>5</cp:revision>
  <dc:subject/>
  <dc:title>Sunset</dc:title>
</cp:coreProperties>
</file>