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A921-CACB-48EF-9909-EA5ED13E8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Вообраз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82A-2D77-4B9E-B744-99B23F513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нтастиче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2CB-0B5A-4B0E-81DB-9732BA162F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-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BDCC-B404-45FA-92B2-605A5140D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нтастический лес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BFAF-7F9D-4BB0-AA10-5241EB604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нтастический лес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079F-7533-4F33-AB49-0F16676DC6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нтастический лес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EC9-A9F8-405F-9C0C-28445F6E1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3F23-9C9A-47C4-B87B-2693E4DD9D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C48B-BB10-4BEE-88FF-BB090F725C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CED-45A5-4DA5-A431-AC859CC2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6AD-ABA4-431F-A5B6-F95B4A90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EE6-C2BD-45CF-8959-88CB3C94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F0E-488D-4801-8579-089932E3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0CD-C2BA-471B-B57F-DC6FB4BA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597-29DE-4BA1-BBF8-D7A59246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3F2-8FE4-497A-8B5B-9E5D10A2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431-A75A-48CE-A27A-88844E78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01D-FD53-4A11-8FC7-2EEAABC1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FF6-C375-4127-94C6-E7DBC9E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49B-E9DC-4202-B973-55377E8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103-FF4D-4706-840A-504484CC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AF95-49CC-415B-8DA3-3CA8DFBC9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2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Объект 8" descr=""/>
          <p:cNvPicPr/>
          <p:nvPr/>
        </p:nvPicPr>
        <p:blipFill>
          <a:blip r:embed="rId1"/>
          <a:stretch/>
        </p:blipFill>
        <p:spPr>
          <a:xfrm>
            <a:off x="0" y="0"/>
            <a:ext cx="64580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"/>
          <p:cNvPicPr/>
          <p:nvPr/>
        </p:nvPicPr>
        <p:blipFill>
          <a:blip r:embed="rId2"/>
          <a:stretch/>
        </p:blipFill>
        <p:spPr>
          <a:xfrm>
            <a:off x="62866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634356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6343560" y="-9360"/>
            <a:ext cx="584856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2T11:27:58Z</dcterms:created>
  <dc:creator>ДС-36</dc:creator>
  <dc:description/>
  <dc:language>en-US</dc:language>
  <cp:lastModifiedBy>79516</cp:lastModifiedBy>
  <dcterms:modified xsi:type="dcterms:W3CDTF">2022-12-18T08:46:23Z</dcterms:modified>
  <cp:revision>18</cp:revision>
  <dc:subject/>
  <dc:title>Презентация PowerPoint</dc:title>
</cp:coreProperties>
</file>