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8287-5947-442B-B60F-E6B8C74C07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Вообраз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9C32-00FF-484A-A20C-A040CE5C87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9267-E93B-4DED-8705-EB23FCDA5E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-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FC04-2804-4DF6-9199-853BF6312A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лес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C72D-A788-4440-ACA5-75D5117F0A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лес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6757-95B3-44E1-8807-511F8369B2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лес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6F0-1EDF-42ED-9DEB-76CBA259A9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9DE7-1C82-4CF4-9421-80F76130BE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850-F770-4AA3-9B6C-2F59772AD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C47-2E0D-43C5-8527-ABC8E209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F4D-2B88-4550-9C92-A586D222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AF0-D274-491A-AD1C-3AD7CAC8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3F6-A233-4ED7-B5CF-09700CF0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301-897E-4667-BFE2-03DC5F86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DD0-B29A-4274-BD31-FB5864E6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A2E-3F11-4F4F-B569-F679B1AD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6B3-A605-464C-B28A-DEF0902C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415-1006-45F9-A9BB-298AA5D7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77E-A1C1-499E-B06D-77A1088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E00-8BC6-437B-B0AC-90B4CA32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271-8D97-42DC-AD50-50F68E37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9CFF-B665-4E8F-BC05-EF39FDBFD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2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8" descr=""/>
          <p:cNvPicPr/>
          <p:nvPr/>
        </p:nvPicPr>
        <p:blipFill>
          <a:blip r:embed="rId1"/>
          <a:stretch/>
        </p:blipFill>
        <p:spPr>
          <a:xfrm>
            <a:off x="0" y="0"/>
            <a:ext cx="64580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62866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63435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343560" y="-9360"/>
            <a:ext cx="584856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2T11:27:58Z</dcterms:created>
  <dc:creator>ДС-36</dc:creator>
  <dc:description/>
  <dc:language>en-US</dc:language>
  <cp:lastModifiedBy>79516</cp:lastModifiedBy>
  <dcterms:modified xsi:type="dcterms:W3CDTF">2022-12-18T08:46:23Z</dcterms:modified>
  <cp:revision>18</cp:revision>
  <dc:subject/>
  <dc:title>Презентация PowerPoint</dc:title>
</cp:coreProperties>
</file>