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17.jpeg" ContentType="image/jpeg"/>
  <Override PartName="/ppt/media/image4.jpeg" ContentType="image/jpeg"/>
  <Override PartName="/ppt/media/image16.jpeg" ContentType="image/jpeg"/>
  <Override PartName="/ppt/media/image15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30AA-414C-4D3B-8F75-8CFB8E7B3B0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8C763-CDF2-4624-BFAE-0F3427058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919F1-E8CE-4596-A6BA-D3EE3C9DB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02CD2-BF97-4F4D-81AE-A2AC52FAA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9EEB4-9A17-4B89-89BC-038D246BF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0664-0E89-43C3-8909-B0B987D0D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0B51-6349-4F1D-B4CD-3FDD42B7F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6122-A5D4-4479-BF7A-5AB68EA2C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A12F-0195-4F96-B34B-B41B84C78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F614-53BB-4106-AD5E-F74BE4BE1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F5BC-1A64-4E88-BABF-E1BEB4187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1244-0C4E-4B43-A455-AC89DCFBB1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0764-96C5-4F50-A156-362C02DE6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C0F5-B5F1-49E6-B581-63D84B530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4B31-FF49-4B7D-819B-4BCEBE685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3B36-F047-493C-A14E-9EB803618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AB4A-2DF4-4CC2-B21E-A9A0ED972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410E-E734-4B58-B03D-71DF017E7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1C1A-CBE4-4B77-806D-753F020B2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0939-1116-460E-918F-0ECE5328BE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6852-4163-42B9-A253-0ED445E950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693D-4164-4DAA-9A37-B8970AEC2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2DE1-C560-4E7F-9B95-665E1CBF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8008-2122-4849-A702-6DF3078A7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D1A1-A71E-4B25-B1A4-0653DF6B1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671A-5841-4B02-A63B-C18ABB42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B94-FDCC-4BAB-A23C-6FE9BCBF0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B852-464D-47B0-8CCD-BD09EE604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FC28-A046-45C4-BC06-996B334AD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2120" cy="4871880"/>
            <a:chOff x="0" y="0"/>
            <a:chExt cx="8682120" cy="4871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4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1240" cy="177840"/>
              <a:chOff x="380880" y="1417680"/>
              <a:chExt cx="8301240" cy="17784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4120" cy="177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124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694F-5FDF-4CCB-89D4-626531D855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8080" cy="5938920"/>
            <a:chOff x="0" y="0"/>
            <a:chExt cx="8758080" cy="59389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7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8080" cy="2433600"/>
              <a:chOff x="0" y="3505320"/>
              <a:chExt cx="8758080" cy="24336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7360" cy="2433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3880" cy="21333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56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2280" cy="299880"/>
              <a:chOff x="635040" y="533520"/>
              <a:chExt cx="8072280" cy="2998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3600" cy="299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22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0CFE8D-3D80-4F79-AB76-63F5E106DFB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6;&#1077;&#1083;&#1077;&#1079;&#1085;&#1086;&#1076;&#1086;&#1088;&#1086;&#1078;&#1085;&#1086;&#1077;_&#1084;&#1072;&#1096;&#1080;&#1085;&#1086;&#1089;&#1090;&#1088;&#1086;&#1077;&#1085;&#1080;&#1077;_&#1056;&#1086;&#1089;&#1089;&#1080;&#1080;&amp;action=edit&amp;redlink=1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География машиностро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Ли́кинский авто́бусный заво́д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(ЛиАЗ)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 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  Ликино-Дулёво Московской област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9280" y="243216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8360" y="4100400"/>
            <a:ext cx="370836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урганский автобусный завод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АвЗ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00200"/>
            <a:ext cx="91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54680" y="1103400"/>
            <a:ext cx="3811320" cy="254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4118040"/>
            <a:ext cx="4229280" cy="2624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418320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260280"/>
            <a:ext cx="7667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Железнодорожное машиностроение Росси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86868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г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ской вагоностроительный завод - выпускает пассажирские вагоны. Уралвагонзавод (Нижний Тагил) - грузовые вагоны и цист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гоностроительная компания Мордовии (Саранск) - производит цистер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гонмаш (Санкт-Петербург) - занимается выпуском пассажирских ваг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жокский вагоностроительный завод - занимается выпуском электропоез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ровагонмаш (Мытищи) - является основным производителем вагонов метрополитена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омотивы 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менский завод - выпускает теплов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черкасский электровозостроительный завод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янский машиностроительный завод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новский тепловозостроительный завод - выпускает маневровые теплов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верской вагоностроительный зав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600200"/>
            <a:ext cx="89280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701880" cy="252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88000" y="922320"/>
            <a:ext cx="3384360" cy="23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024440" y="3402000"/>
            <a:ext cx="4787640" cy="30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30240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77920"/>
            <a:ext cx="82915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О «Научно-производственная корпорация «Уралвагонзавод» имени Ф. Э. Дзержинского» </a:t>
            </a:r>
            <a:br>
              <a:rPr sz="1600"/>
            </a:br>
            <a:r>
              <a:rPr b="0" lang="ru-RU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Нижний Тагил  Свердл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600200"/>
            <a:ext cx="8435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яжелая БМП. На сегодня это самая высокозащищенная БМП в мире. Боевая машина пехоты на гусеничной платформе «Армата» оснащена дистанционно-управляемым универсальным боевым модулем. Отличительная особенность новых бронемашин УВЗ – это противоминная конструкция корпусов, которая защищает экипаж с возимым десантом от подрыва даже мощных фугасов, а также наличие комплексов активной защ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102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2040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Боевая машина огневой поддержки (БМПТ), выполненная на базе шасси танка Т-72, обладает высоким уровнем защищенности, огневой мощи и управляемости. Она способна эффективно бороться с танками, БМП и другими бронированными целями противника, уничтожать огневые сооружения противника, а также поражать пехоту, применяющую гранатометы и противотанковые компле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997360"/>
            <a:ext cx="735480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4494240" cy="237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27640" y="4273560"/>
            <a:ext cx="459900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елезнодорожные цистерн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600200"/>
            <a:ext cx="8507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возки сер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270080"/>
            <a:ext cx="391320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27720" y="2422440"/>
            <a:ext cx="4528800" cy="3167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61960" y="4156200"/>
            <a:ext cx="302436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ровагонмаш .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. Мытищи Моск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0240" y="1484280"/>
            <a:ext cx="782172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ломенский зав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60020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овозы                             электров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480" y="1773360"/>
            <a:ext cx="3851280" cy="2558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59200" y="2492280"/>
            <a:ext cx="51004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000" y="277920"/>
            <a:ext cx="88869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овочеркасский электровозостроительный завод (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остовская область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ее предприятие в России по выпуску магистральных грузовых и пассажирских электров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600200"/>
            <a:ext cx="90727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3440" y="1581120"/>
            <a:ext cx="3853080" cy="257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000" y="4199040"/>
            <a:ext cx="3968640" cy="2671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148360" y="15890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054760" y="4199040"/>
            <a:ext cx="3859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втомобилестроение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7640" y="1944720"/>
            <a:ext cx="424836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11640" y="4103640"/>
            <a:ext cx="3959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ь-Катавский вагоностроительный завод имени С. М. Киро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Челябинская область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основной поставщик трамвайных вагонов на рынок России и стран СНГ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44640"/>
            <a:ext cx="86868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3384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47577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лза</a:t>
            </a:r>
            <a:br>
              <a:rPr sz="3800"/>
            </a:br>
            <a:r>
              <a:rPr b="0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Энгельс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 Саратовская облас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0020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82932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539880" cy="2486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827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актор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гоград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ВгТЗ) — крупнейший производитель гусеничных тракторов в России. (закрыт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тербург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. С.М. К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лябин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ЧТЗ–Уралтра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028600" cy="179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2336760" cy="1787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25196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7920"/>
            <a:ext cx="868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виастроение.    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Авиастар-СП. Ульян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-204-С                                                                 ТУ-204-300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-124 «Руслан»                                                    ИЛ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284720" cy="1944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450072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4427640" cy="18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643280" y="1484280"/>
            <a:ext cx="4500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0"/>
            <a:ext cx="88200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ОАО «Корпорация „Ирку́т“»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 — российская авиастроительная корпорация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Штаб-квартира расположена в Москве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В настоящее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ремя завод производит самолёт-амфибию Бе-200,многоцелевой боевой самолёт Су-30МК, учебно-боевой самолёт Як-130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277920"/>
            <a:ext cx="91440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омсомольский-на-Амуре авиационный завод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мени Ю. А. Гагарина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Ведущее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производственное предприятие Авиационной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Холдинговой Компании «Сухой»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844640"/>
            <a:ext cx="85075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khoi Superjet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ронежское акционерное самолетостроительное общество (ВАСО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600200"/>
            <a:ext cx="85075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-148                              ИЛ-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0720" y="4448160"/>
            <a:ext cx="3486240" cy="2309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427640" y="2638440"/>
            <a:ext cx="444636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азанский вертолётный заво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 —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оизводитель вертолетов семейства Ми-8/17, входящий в российский вертолетостроительный холдинг "Вертолеты России"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4188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4175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Арсеньевская авиационная компания «Прогресс» имени Н. И. Сазыкина  (Приморский кра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-50 «Чёрная акула»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-52 « Аллигат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277920"/>
            <a:ext cx="8435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рское суд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413000"/>
            <a:ext cx="91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 –Петербур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лтийский судостроительный завод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дмиралтейские верф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ининградский судостроительный завод   «Янтар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одвинск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ые подводные лод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072040" y="4462560"/>
            <a:ext cx="3861000" cy="2376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0760" y="4581360"/>
            <a:ext cx="31716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89000"/>
            <a:ext cx="8673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втоВАЗ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Тольятти (Самарская область)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ий производитель легковых автомобилей в России                                                и Восточной Европ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68280"/>
            <a:ext cx="899784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7080" y="4443480"/>
            <a:ext cx="269388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91360" y="4541760"/>
            <a:ext cx="2706480" cy="1839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10040" y="4305240"/>
            <a:ext cx="311616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0080" y="1628640"/>
            <a:ext cx="4197240" cy="236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364000" y="1873080"/>
            <a:ext cx="324036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яжелое машин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О «Уралмашзавод» г. Екатеринбург. Одно из крупнейших в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товилихинские заводы» г. Пер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ябин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кут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лта — телефонный завод .       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ыми заказчиками техники «ТЕЛТА» остаются силовые ведомства, погранвойска, военно-морской флот — все кому нужна надежная, защищенная от прослушивания спец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место в ряду продукции, изготовляемой специалистами ОАО ПТЗ «ТЕЛТА», занимает техника карточной тематики: универсальный таксофон ТМГС-15280, таксофон местной (городской) связи ТГС-15360, устройство предпродажной проверки дебетных карт, выносной программирующий модуль, аппаратура защиты таксофона от несанкционированного подключения к услугам таксофонов, оборудование дистанционного управления и контроля таксофон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АЗ  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 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азель»                 «Волга»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яты с производ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3880" y="21556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00720" y="2276640"/>
            <a:ext cx="3936960" cy="204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55640" y="46893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530600" y="4410000"/>
            <a:ext cx="39070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АЗ    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Ульян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1927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2950920" cy="187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148360" y="1557360"/>
            <a:ext cx="366084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277920"/>
            <a:ext cx="761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мАЗ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Набережные Челны</a:t>
            </a:r>
            <a:br>
              <a:rPr sz="24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ий производитель дизельных грузовиков и дизельных двигателей в  России, действующий с 1976 года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840" y="1547640"/>
            <a:ext cx="2808360" cy="235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32000" y="16527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5520" y="4508640"/>
            <a:ext cx="37083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96040" y="15336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148360" y="42418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втомобильный завод „Урал“ город Миасс (</a:t>
            </a:r>
            <a:r>
              <a:rPr b="0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Челябинская област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)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00200"/>
            <a:ext cx="86868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612360" y="1413000"/>
            <a:ext cx="3313080" cy="23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4416480" cy="2462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9640" y="3876840"/>
            <a:ext cx="3600720" cy="2954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932360" y="2235240"/>
            <a:ext cx="3672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вод имени Лихачёва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ЗиЛ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Москва (закры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68840" y="4365720"/>
            <a:ext cx="3024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2360" y="4149720"/>
            <a:ext cx="3311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З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авловский автобусный завод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Павлово, Нижегоро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002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456000" cy="244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456000" cy="22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505480" y="4508640"/>
            <a:ext cx="3459240" cy="206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3672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03:15Z</dcterms:created>
  <dc:creator>1</dc:creator>
  <dc:description/>
  <dc:language>en-US</dc:language>
  <cp:lastModifiedBy>Екатерина Охотникова</cp:lastModifiedBy>
  <dcterms:modified xsi:type="dcterms:W3CDTF">2022-12-20T17:04:25Z</dcterms:modified>
  <cp:revision>16</cp:revision>
  <dc:subject/>
  <dc:title>География машиностроения</dc:title>
</cp:coreProperties>
</file>