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41.jpeg" ContentType="image/jpeg"/>
  <Override PartName="/ppt/media/image14.jpeg" ContentType="image/jpeg"/>
  <Override PartName="/ppt/media/image20.jpeg" ContentType="image/jpeg"/>
  <Override PartName="/ppt/media/image21.jpeg" ContentType="image/jpeg"/>
  <Override PartName="/ppt/media/image80.jpeg" ContentType="image/jpeg"/>
  <Override PartName="/ppt/media/image17.jpeg" ContentType="image/jpeg"/>
  <Override PartName="/ppt/media/image4.jpeg" ContentType="image/jpeg"/>
  <Override PartName="/ppt/media/image16.jpeg" ContentType="image/jpeg"/>
  <Override PartName="/ppt/media/image15.jpeg" ContentType="image/jpeg"/>
  <Override PartName="/ppt/media/image61.jpeg" ContentType="image/jpeg"/>
  <Override PartName="/ppt/media/image74.png" ContentType="image/png"/>
  <Override PartName="/ppt/media/image78.jpeg" ContentType="image/jpeg"/>
  <Override PartName="/ppt/media/image18.jpeg" ContentType="image/jpeg"/>
  <Override PartName="/ppt/media/image5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81.jpeg" ContentType="image/jpe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7B622-AFC7-423D-A9A7-51F0834E7EC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21DA-5984-4F01-A959-26C5B4B7E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BA8A-DC2D-4A0F-A6AD-5FD5735EE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AB42B-CE2D-49B3-82BC-6FCF2FF2C9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74C17-365D-4BDA-AEF1-4EA61C290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2538-9DA3-4CD2-B524-609CEF900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BF8A5-B67B-405B-9D15-49CF29474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B795-8062-4F42-8A4F-3C6D5068F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02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6680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02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6680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887D-C671-44D5-9845-2C417E44E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D6A7-2E52-488E-AD2C-6CBAE88408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B4B3-F3F8-45EB-BBA6-6725D9A84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C436-769E-49D7-840B-B62CE1D415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CC1A-17C1-479C-B9CE-C8B30FA967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2253-5BEB-4BCF-86EC-BE9A65B2BB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767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6ADB-0685-4019-B10A-00D0083D9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FD56-846B-41C7-8562-4C73A60F30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AD5C-8FBB-49E1-84D9-36DFBE6CA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1247-EA20-4A34-B68F-56864A1173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782A-3E00-40A6-A5DB-DA261C4564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B4287-DE13-4978-AEBD-363C1A0D0A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293D-F781-47C3-9259-63A1763375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024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66800" y="160020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024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66800" y="3964320"/>
            <a:ext cx="250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1ED8-A9B9-461F-A345-4DD013424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3FBA-6B49-4B20-B315-0FD643782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9432-E2F6-40CA-8504-EDB96C7C3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617DF-0B33-4DFD-8692-6E78B4E75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7677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9ED2-00E8-47EB-B0B5-328051057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45A8-CB42-4311-9B57-B00DD4A7A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4560" y="396432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5F4A-FD02-4DD1-80B2-B97AA717B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4560" y="1600200"/>
            <a:ext cx="3790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64320"/>
            <a:ext cx="776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07DC-814F-45E3-93EB-F56E00BD4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2120" cy="4871880"/>
            <a:chOff x="0" y="0"/>
            <a:chExt cx="8682120" cy="48718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4800" cy="4871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1240" cy="177840"/>
              <a:chOff x="380880" y="1417680"/>
              <a:chExt cx="8301240" cy="17784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4120" cy="177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1240" cy="0"/>
              </a:xfrm>
              <a:prstGeom prst="line">
                <a:avLst/>
              </a:prstGeom>
              <a:ln cap="sq"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E54DB-1E3B-4D2E-BBCA-C6B7BD0B67E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1440"/>
          </a:xfrm>
          <a:prstGeom prst="line">
            <a:avLst/>
          </a:prstGeom>
          <a:ln cap="sq"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58080" cy="5938920"/>
            <a:chOff x="0" y="0"/>
            <a:chExt cx="8758080" cy="59389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47800" cy="4871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58080" cy="2433600"/>
              <a:chOff x="0" y="3505320"/>
              <a:chExt cx="8758080" cy="24336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67360" cy="2433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3880" cy="21333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85680" cy="0"/>
              </a:xfrm>
              <a:prstGeom prst="line">
                <a:avLst/>
              </a:prstGeom>
              <a:ln cap="sq"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2280" cy="299880"/>
              <a:chOff x="635040" y="533520"/>
              <a:chExt cx="8072280" cy="29988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3600" cy="299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2280" cy="0"/>
              </a:xfrm>
              <a:prstGeom prst="line">
                <a:avLst/>
              </a:prstGeom>
              <a:ln cap="sq"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7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040" y="1600200"/>
            <a:ext cx="776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296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2"/>
          </p:nvPr>
        </p:nvSpPr>
        <p:spPr>
          <a:xfrm>
            <a:off x="67813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4985A75-0C99-4EDC-875D-0C77ED3B137D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6;&#1077;&#1083;&#1077;&#1079;&#1085;&#1086;&#1076;&#1086;&#1088;&#1086;&#1078;&#1085;&#1086;&#1077;_&#1084;&#1072;&#1096;&#1080;&#1085;&#1086;&#1089;&#1090;&#1088;&#1086;&#1077;&#1085;&#1080;&#1077;_&#1056;&#1086;&#1089;&#1089;&#1080;&#1080;&amp;action=edit&amp;redlink=1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География машиностро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Ли́кинский авто́бусный заво́д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(ЛиАЗ)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 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  Ликино-Дулёво Московской област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0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59280" y="2432160"/>
            <a:ext cx="3959280" cy="2879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8360" y="4100400"/>
            <a:ext cx="370836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урганский автобусный завод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АвЗ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600200"/>
            <a:ext cx="9144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54680" y="1103400"/>
            <a:ext cx="3811320" cy="2541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4118040"/>
            <a:ext cx="4229280" cy="2624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418320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00000" y="260280"/>
            <a:ext cx="7667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Железнодорожное машиностроение России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97000"/>
            <a:ext cx="86868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го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ской вагоностроительный завод - выпускает пассажирские вагоны. Уралвагонзавод (Нижний Тагил) - грузовые вагоны и цисте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гоностроительная компания Мордовии (Саранск) - производит цистер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гонмаш (Санкт-Петербург) - занимается выпуском пассажирских ваго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лининградский вагоностроительный за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жокский вагоностроительный завод - занимается выпуском электропоез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ровагонмаш (Мытищи) - является основным производителем вагонов метрополитена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комотивы 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менский завод - выпускает теплов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черкасский электровозостроительный завод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янский машиностроительный завод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диновский тепловозостроительный завод - выпускает маневровые теплов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верской вагоностроительный заво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000" y="1600200"/>
            <a:ext cx="892800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701880" cy="2521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88000" y="922320"/>
            <a:ext cx="3384360" cy="23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024440" y="3402000"/>
            <a:ext cx="4787640" cy="3033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30240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277920"/>
            <a:ext cx="82915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О «Научно-производственная корпорация «Уралвагонзавод» имени Ф. Э. Дзержинского» </a:t>
            </a:r>
            <a:br>
              <a:rPr sz="1600"/>
            </a:br>
            <a:r>
              <a:rPr b="0" lang="ru-RU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330033"/>
                </a:solidFill>
                <a:latin typeface="Times New Roman"/>
              </a:rPr>
              <a:t>Нижний Тагил  Свердл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600200"/>
            <a:ext cx="8435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яжелая БМП. На сегодня это самая высокозащищенная БМП в мире. Боевая машина пехоты на гусеничной платформе «Армата» оснащена дистанционно-управляемым универсальным боевым модулем. Отличительная особенность новых бронемашин УВЗ – это противоминная конструкция корпусов, которая защищает экипаж с возимым десантом от подрыва даже мощных фугасов, а также наличие комплексов активной защи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10228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68360" y="333360"/>
            <a:ext cx="82040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Боевая машина огневой поддержки (БМПТ), выполненная на базе шасси танка Т-72, обладает высоким уровнем защищенности, огневой мощи и управляемости. Она способна эффективно бороться с танками, БМП и другими бронированными целями противника, уничтожать огневые сооружения противника, а также поражать пехоту, применяющую гранатометы и противотанковые комплек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2997360"/>
            <a:ext cx="7354800" cy="31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4494240" cy="2376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27640" y="4273560"/>
            <a:ext cx="459900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Железнодорожные цистерн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1600200"/>
            <a:ext cx="8507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еревозки сер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270080"/>
            <a:ext cx="391320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27720" y="2422440"/>
            <a:ext cx="4528800" cy="3167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61960" y="4156200"/>
            <a:ext cx="302436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ровагонмаш . 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г. Мытищи Москов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0240" y="1484280"/>
            <a:ext cx="7821720" cy="50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ломенский завод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600200"/>
            <a:ext cx="86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ловозы                             электров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480" y="1773360"/>
            <a:ext cx="3851280" cy="2558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59200" y="2492280"/>
            <a:ext cx="51004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000" y="277920"/>
            <a:ext cx="88869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Новочеркасский электровозостроительный завод (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Ростовская область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)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рупнейшее предприятие в России по выпуску магистральных грузовых и пассажирских электров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600200"/>
            <a:ext cx="907272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3440" y="1581120"/>
            <a:ext cx="3853080" cy="257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000" y="4199040"/>
            <a:ext cx="3968640" cy="2671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148360" y="15890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054760" y="4199040"/>
            <a:ext cx="38592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втомобилестроение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7640" y="1944720"/>
            <a:ext cx="4248360" cy="244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11640" y="4103640"/>
            <a:ext cx="395928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9144000" cy="14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сть-Катавский вагоностроительный завод имени С. М. Киро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Челябинская область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- </a:t>
            </a: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основной поставщик трамвайных вагонов на рынок России и стран СНГ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844640"/>
            <a:ext cx="86868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338472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924360" y="1628640"/>
            <a:ext cx="47577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Тролза</a:t>
            </a:r>
            <a:br>
              <a:rPr sz="3800"/>
            </a:br>
            <a:r>
              <a:rPr b="0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Энгельс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 Саратовская область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600200"/>
            <a:ext cx="8686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382932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3539880" cy="2486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827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акторостро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олгоградский тракторный за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ВгТЗ) — крупнейший производитель гусеничных тракторов в России. (закрыт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етербургский тракторный за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. С.М. Кир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лябинский тракторный за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(ЧТЗ–Уралтра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028600" cy="1791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700360" y="4581360"/>
            <a:ext cx="2336760" cy="1787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724360" y="4581360"/>
            <a:ext cx="251964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77920"/>
            <a:ext cx="868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виастроение.    </a:t>
            </a:r>
            <a:r>
              <a:rPr b="0" i="1" lang="ru-RU" sz="3200" spc="-1" strike="noStrike">
                <a:solidFill>
                  <a:srgbClr val="330033"/>
                </a:solidFill>
                <a:latin typeface="Times New Roman"/>
              </a:rPr>
              <a:t>Авиастар-СП. Ульянов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-204-С                                                                 ТУ-204-300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-124 «Руслан»                                                    ИЛ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284720" cy="1944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450072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4427640" cy="18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643280" y="1484280"/>
            <a:ext cx="4500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0"/>
            <a:ext cx="882000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ОАО «Корпорация „Ирку́т“»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 — российская авиастроительная корпорация. 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Штаб-квартира расположена в Москве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330033"/>
                </a:solidFill>
                <a:latin typeface="Times New Roman"/>
              </a:rPr>
              <a:t>В настоящее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время завод производит самолёт-амфибию Бе-200,многоцелевой боевой самолёт Су-30МК, учебно-боевой самолёт Як-130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3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435640" y="234936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277920"/>
            <a:ext cx="91440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омсомольский-на-Амуре авиационный завод </a:t>
            </a:r>
            <a:r>
              <a:rPr b="1" lang="ru-RU" sz="2000" spc="-1" strike="noStrike">
                <a:solidFill>
                  <a:srgbClr val="330033"/>
                </a:solidFill>
                <a:latin typeface="Times New Roman"/>
              </a:rPr>
              <a:t>имени Ю. А. Гагарина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Ведущее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производственное предприятие Авиационной</a:t>
            </a:r>
            <a:br>
              <a:rPr sz="1800"/>
            </a:br>
            <a:r>
              <a:rPr b="1" lang="ru-RU" sz="1800" spc="-1" strike="noStrike">
                <a:solidFill>
                  <a:srgbClr val="330033"/>
                </a:solidFill>
                <a:latin typeface="Times New Roman"/>
              </a:rPr>
              <a:t>Холдинговой Компании «Сухой»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9280" y="1844640"/>
            <a:ext cx="850752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ukhoi Superjet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10544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43280" y="3500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Воронежское акционерное самолетостроительное общество (ВАСО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600200"/>
            <a:ext cx="85075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-148                              ИЛ-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50720" y="4448160"/>
            <a:ext cx="3486240" cy="2309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427640" y="2638440"/>
            <a:ext cx="444636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Казанский вертолётный завод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 —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оизводитель вертолетов семейства Ми-8/17, входящий в российский вертолетостроительный холдинг "Вертолеты России"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1844640"/>
            <a:ext cx="77724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384360" cy="2303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341880" cy="223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2484360" y="4437000"/>
            <a:ext cx="41752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Арсеньевская авиационная компания «Прогресс» имени Н. И. Сазыкина  (Приморский кра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-50 «Чёрная акула»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-52 « Аллигат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140360" cy="2879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427640" y="3141720"/>
            <a:ext cx="43923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277920"/>
            <a:ext cx="84358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орское судостро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413000"/>
            <a:ext cx="91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 –Петербур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алтийский судостроительный завод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дмиралтейские верф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лининградский судостроительный завод   «Янтар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веродвинск.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ые подводные лод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072040" y="4462560"/>
            <a:ext cx="3861000" cy="2376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20760" y="4581360"/>
            <a:ext cx="31716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89000"/>
            <a:ext cx="86738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втоВАЗ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Тольятти (Самарская область) 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рупнейший производитель легковых автомобилей в России                                                и Восточной Европ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68280"/>
            <a:ext cx="899784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7080" y="4443480"/>
            <a:ext cx="2693880" cy="208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91360" y="4541760"/>
            <a:ext cx="2706480" cy="1839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110040" y="4305240"/>
            <a:ext cx="3116160" cy="23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00080" y="1628640"/>
            <a:ext cx="4197240" cy="236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364000" y="1873080"/>
            <a:ext cx="324036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яжелое машиностроени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600200"/>
            <a:ext cx="85075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О «Уралмашзавод» г. Екатеринбург. Одно из крупнейших в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отовилихинские заводы» г. Перм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ябин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ркут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елта — телефонный завод .       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. Перм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ыми заказчиками техники «ТЕЛТА» остаются силовые ведомства, погранвойска, военно-морской флот — все кому нужна надежная, защищенная от прослушивания спец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ое место в ряду продукции, изготовляемой специалистами ОАО ПТЗ «ТЕЛТА», занимает техника карточной тематики: универсальный таксофон ТМГС-15280, таксофон местной (городской) связи ТГС-15360, устройство предпродажной проверки дебетных карт, выносной программирующий модуль, аппаратура защиты таксофона от несанкционированного подключения к услугам таксофонов, оборудование дистанционного управления и контроля таксофон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ГАЗ  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 Нижний Нов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азель»                 «Волга»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яты с производ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3880" y="21556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00720" y="2276640"/>
            <a:ext cx="3936960" cy="2044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55640" y="46893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530600" y="4410000"/>
            <a:ext cx="39070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АЗ    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Ульянов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192720" cy="1809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556000" cy="1943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2881440" cy="201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12000" y="4221000"/>
            <a:ext cx="2950920" cy="1872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148360" y="1557360"/>
            <a:ext cx="366084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277920"/>
            <a:ext cx="761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мАЗ  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Набережные Челны</a:t>
            </a:r>
            <a:br>
              <a:rPr sz="2400"/>
            </a:b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крупнейший производитель дизельных грузовиков и дизельных двигателей в  России, действующий с 1976 года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4840" y="1547640"/>
            <a:ext cx="2808360" cy="2351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32000" y="16527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5520" y="4508640"/>
            <a:ext cx="37083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96040" y="15336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5148360" y="42418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втомобильный завод „Урал“ город Миасс (</a:t>
            </a:r>
            <a:r>
              <a:rPr b="0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Челябинская область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)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00200"/>
            <a:ext cx="868680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612360" y="1413000"/>
            <a:ext cx="3313080" cy="23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4416480" cy="2462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39640" y="3876840"/>
            <a:ext cx="3600720" cy="2954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932360" y="2235240"/>
            <a:ext cx="367200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Завод имени Лихачёва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        ЗиЛ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Москва (закры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768840" y="4365720"/>
            <a:ext cx="3024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52360" y="4149720"/>
            <a:ext cx="3311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003640" y="1413000"/>
            <a:ext cx="40323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АЗ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авловский автобусный завод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город Павлово, Нижегород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6002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456000" cy="2449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456000" cy="2271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505480" y="4508640"/>
            <a:ext cx="3459240" cy="206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755640" y="4292640"/>
            <a:ext cx="3672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03:15Z</dcterms:created>
  <dc:creator>1</dc:creator>
  <dc:description/>
  <dc:language>en-US</dc:language>
  <cp:lastModifiedBy>Екатерина Охотникова</cp:lastModifiedBy>
  <dcterms:modified xsi:type="dcterms:W3CDTF">2022-12-20T17:04:25Z</dcterms:modified>
  <cp:revision>16</cp:revision>
  <dc:subject/>
  <dc:title>География машиностроения</dc:title>
</cp:coreProperties>
</file>