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438-022C-46F3-BDE7-E2046844E1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8C9-6FF9-4FF2-8652-DAF7DE45459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A2E7-D982-4B21-9F64-B90E567164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6AE7-A1CE-412D-B082-36A35668C3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823-47EA-4800-B045-E97212F2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AD5-2C7B-437D-B35A-1FE97FB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4F6-86D5-4270-9BD8-D79C74FF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8FA-B942-4C5B-9F1C-630D09BD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267-7022-437F-B26B-A10067AC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B0AA-5FCB-41EC-955E-2FBFD412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92FB-7FD5-4107-B7E2-F8B3323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4DAC-F627-4389-9471-F76B906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DCE-5606-43D2-A291-866E8903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BC1D-2ACD-4580-A0F2-8C221431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300D-92C2-49E7-BDE6-A014F27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4AA-C4E1-429F-9F0E-81F21AF4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719F-6418-46E7-BCFE-0D08F147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A79D-D3C7-4852-9903-1D17DBF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6E6C-397F-47D8-93E8-B3E429EE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C015-E23B-472F-9899-39460031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2442-0D60-4661-840E-86518BCA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FF5-5BAC-4F2F-9951-99E78F62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D43-6741-4AC0-9338-788F516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046-D3B3-4C83-B269-62C085EA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2F5-93D7-48E9-9429-78F421B0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6FA-5A67-4673-8E14-0693D2B6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188-06D7-4289-AFF2-A1929D3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A50-0E36-4701-B9A9-F1EB3DF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737C-02F3-4675-9B85-DFFB02B1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1EF-9865-4163-991D-829330E0B8B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hyperlink" Target="http://smiles.33b.ru/smile.52685.html" TargetMode="External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b0d27"/>
                </a:solidFill>
                <a:latin typeface="Times New Roman"/>
              </a:rPr>
              <a:t>С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i="1" lang="en-US" sz="3600" spc="-1" strike="noStrike">
                <a:solidFill>
                  <a:srgbClr val="808080"/>
                </a:solidFill>
                <a:latin typeface="Times New Roman"/>
              </a:rPr>
              <a:t>р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i="1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н </a:t>
            </a:r>
            <a:r>
              <a:rPr b="1" i="1" lang="en-US" sz="3600" spc="-1" strike="noStrike">
                <a:solidFill>
                  <a:srgbClr val="99cc00"/>
                </a:solidFill>
                <a:latin typeface="Times New Roman"/>
              </a:rPr>
              <a:t>а   </a:t>
            </a:r>
            <a:r>
              <a:rPr b="1" i="1" lang="en-US" sz="3600" spc="-1" strike="noStrike">
                <a:solidFill>
                  <a:srgbClr val="ab0d27"/>
                </a:solidFill>
                <a:latin typeface="Times New Roman"/>
              </a:rPr>
              <a:t>З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н </a:t>
            </a:r>
            <a:r>
              <a:rPr b="1" i="1" lang="en-US" sz="3600" spc="-1" strike="noStrike">
                <a:solidFill>
                  <a:srgbClr val="e41235"/>
                </a:solidFill>
                <a:latin typeface="Times New Roman"/>
              </a:rPr>
              <a:t>и </a:t>
            </a:r>
            <a:r>
              <a:rPr b="1" i="1" lang="en-US" sz="3600" spc="-1" strike="noStrike">
                <a:solidFill>
                  <a:srgbClr val="008080"/>
                </a:solidFill>
                <a:latin typeface="Times New Roman"/>
              </a:rPr>
              <a:t>м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а </a:t>
            </a: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т </a:t>
            </a: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и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1" i="1" lang="en-US" sz="3600" spc="-1" strike="noStrike">
                <a:solidFill>
                  <a:srgbClr val="ab0d27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341360"/>
            <a:ext cx="8280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егодня мы совершим путешествие в Страну веселой Зани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Если вы ответите на все  вопросы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станете частыми и Почетными гостями  этой  страны: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i="1" lang="ru-RU" sz="3600" spc="-1" strike="noStrike">
                <a:solidFill>
                  <a:srgbClr val="ab0d27"/>
                </a:solidFill>
                <a:latin typeface="Times New Roman"/>
              </a:rPr>
              <a:t>С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 </a:t>
            </a:r>
            <a:r>
              <a:rPr b="1" i="1" lang="ru-RU" sz="3600" spc="-1" strike="noStrike">
                <a:solidFill>
                  <a:srgbClr val="808080"/>
                </a:solidFill>
                <a:latin typeface="Times New Roman"/>
              </a:rPr>
              <a:t>р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н </a:t>
            </a:r>
            <a:r>
              <a:rPr b="1" i="1" lang="ru-RU" sz="3600" spc="-1" strike="noStrike">
                <a:solidFill>
                  <a:srgbClr val="99cc00"/>
                </a:solidFill>
                <a:latin typeface="Times New Roman"/>
              </a:rPr>
              <a:t>ы   </a:t>
            </a:r>
            <a:r>
              <a:rPr b="1" i="1" lang="ru-RU" sz="3600" spc="-1" strike="noStrike">
                <a:solidFill>
                  <a:srgbClr val="ab0d27"/>
                </a:solidFill>
                <a:latin typeface="Times New Roman"/>
              </a:rPr>
              <a:t>З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а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н </a:t>
            </a:r>
            <a:r>
              <a:rPr b="1" i="1" lang="ru-RU" sz="3600" spc="-1" strike="noStrike">
                <a:solidFill>
                  <a:srgbClr val="e41235"/>
                </a:solidFill>
                <a:latin typeface="Times New Roman"/>
              </a:rPr>
              <a:t>и </a:t>
            </a:r>
            <a:r>
              <a:rPr b="1" i="1" lang="ru-RU" sz="3600" spc="-1" strike="noStrike">
                <a:solidFill>
                  <a:srgbClr val="008080"/>
                </a:solidFill>
                <a:latin typeface="Times New Roman"/>
              </a:rPr>
              <a:t>м 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а </a:t>
            </a:r>
            <a:r>
              <a:rPr b="1" i="1" lang="ru-RU" sz="3600" spc="-1" strike="noStrike">
                <a:solidFill>
                  <a:srgbClr val="3399ff"/>
                </a:solidFill>
                <a:latin typeface="Times New Roman"/>
              </a:rPr>
              <a:t>т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и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1" i="1" lang="ru-RU" sz="3600" spc="-1" strike="noStrike">
                <a:solidFill>
                  <a:srgbClr val="ab0d27"/>
                </a:solidFill>
                <a:latin typeface="Times New Roman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b0d27"/>
                </a:solidFill>
                <a:latin typeface="Times New Roman"/>
              </a:rPr>
              <a:t>и встретитесь с царицей 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8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6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с. 62 №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2332080"/>
            <a:ext cx="452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Задачкино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с. 62 №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48000" cy="21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611280" y="2928960"/>
          <a:ext cx="7848000" cy="1868040"/>
        </p:xfrm>
        <a:graphic>
          <a:graphicData uri="http://schemas.openxmlformats.org/drawingml/2006/table">
            <a:tbl>
              <a:tblPr/>
              <a:tblGrid>
                <a:gridCol w="2710800"/>
                <a:gridCol w="2704680"/>
                <a:gridCol w="2432520"/>
              </a:tblGrid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ы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дном аквариу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вариум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ы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8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 шт. (одинаково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-181080" y="1700280"/>
            <a:ext cx="9529920" cy="439560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-209520" y="287280"/>
            <a:ext cx="9529560" cy="8352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9"/>
          <p:cNvSpPr/>
          <p:nvPr/>
        </p:nvSpPr>
        <p:spPr>
          <a:xfrm>
            <a:off x="8453520" y="6242040"/>
            <a:ext cx="3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E888-0045-48E3-AB34-7250803188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0" descr=""/>
          <p:cNvPicPr/>
          <p:nvPr/>
        </p:nvPicPr>
        <p:blipFill>
          <a:blip r:embed="rId2"/>
          <a:stretch/>
        </p:blipFill>
        <p:spPr>
          <a:xfrm>
            <a:off x="7767720" y="4437000"/>
            <a:ext cx="1376280" cy="1376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"/>
          <p:cNvPicPr/>
          <p:nvPr/>
        </p:nvPicPr>
        <p:blipFill>
          <a:blip r:embed="rId3"/>
          <a:stretch/>
        </p:blipFill>
        <p:spPr>
          <a:xfrm>
            <a:off x="7905600" y="5614920"/>
            <a:ext cx="1609920" cy="1603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816120" y="351000"/>
            <a:ext cx="78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Calibri"/>
                <a:ea typeface="Arial"/>
              </a:rPr>
              <a:t>Заголовок слай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291960" y="20113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rial"/>
              </a:rPr>
              <a:t>с. 62 №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203640" y="334008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К вам обращается царица 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6920" y="609300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1788840" y="1086480"/>
            <a:ext cx="5597640" cy="5367960"/>
            <a:chOff x="1788840" y="1086480"/>
            <a:chExt cx="5597640" cy="5367960"/>
          </a:xfrm>
        </p:grpSpPr>
        <p:grpSp>
          <p:nvGrpSpPr>
            <p:cNvPr id="135" name=""/>
            <p:cNvGrpSpPr/>
            <p:nvPr/>
          </p:nvGrpSpPr>
          <p:grpSpPr>
            <a:xfrm>
              <a:off x="1788840" y="1766880"/>
              <a:ext cx="5597640" cy="3904560"/>
              <a:chOff x="1788840" y="1766880"/>
              <a:chExt cx="5597640" cy="3904560"/>
            </a:xfrm>
          </p:grpSpPr>
          <p:pic>
            <p:nvPicPr>
              <p:cNvPr id="136" name="" descr=""/>
              <p:cNvPicPr/>
              <p:nvPr/>
            </p:nvPicPr>
            <p:blipFill>
              <a:blip r:embed="rId2"/>
              <a:stretch/>
            </p:blipFill>
            <p:spPr>
              <a:xfrm rot="508800">
                <a:off x="1763640" y="3647520"/>
                <a:ext cx="5334120" cy="5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 rot="8013600">
                <a:off x="2120400" y="3690360"/>
                <a:ext cx="5333760" cy="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 rot="9983400">
                <a:off x="2120400" y="3690720"/>
                <a:ext cx="5334120" cy="5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5"/>
              <a:stretch/>
            </p:blipFill>
            <p:spPr>
              <a:xfrm rot="2021400">
                <a:off x="1904760" y="3475080"/>
                <a:ext cx="533376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" descr="disney"/>
            <p:cNvPicPr/>
            <p:nvPr/>
          </p:nvPicPr>
          <p:blipFill>
            <a:blip r:embed="rId6"/>
            <a:srcRect l="13557" t="0" r="0" b="0"/>
            <a:stretch/>
          </p:blipFill>
          <p:spPr>
            <a:xfrm>
              <a:off x="2987640" y="1270080"/>
              <a:ext cx="3384720" cy="51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558000">
              <a:off x="4140000" y="1127160"/>
              <a:ext cx="546120" cy="50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-181080" y="1700280"/>
            <a:ext cx="9529920" cy="439560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"/>
          <p:cNvSpPr/>
          <p:nvPr/>
        </p:nvSpPr>
        <p:spPr>
          <a:xfrm>
            <a:off x="-209520" y="287280"/>
            <a:ext cx="9529560" cy="8352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9"/>
          <p:cNvSpPr/>
          <p:nvPr/>
        </p:nvSpPr>
        <p:spPr>
          <a:xfrm>
            <a:off x="8453520" y="6242040"/>
            <a:ext cx="3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66E0-4666-4255-A53C-5380F9B081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0" descr=""/>
          <p:cNvPicPr/>
          <p:nvPr/>
        </p:nvPicPr>
        <p:blipFill>
          <a:blip r:embed="rId2"/>
          <a:stretch/>
        </p:blipFill>
        <p:spPr>
          <a:xfrm>
            <a:off x="7767720" y="4437000"/>
            <a:ext cx="1376280" cy="13762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1" descr=""/>
          <p:cNvPicPr/>
          <p:nvPr/>
        </p:nvPicPr>
        <p:blipFill>
          <a:blip r:embed="rId3"/>
          <a:stretch/>
        </p:blipFill>
        <p:spPr>
          <a:xfrm>
            <a:off x="7905600" y="5614920"/>
            <a:ext cx="1609920" cy="1603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3"/>
          <p:cNvSpPr/>
          <p:nvPr/>
        </p:nvSpPr>
        <p:spPr>
          <a:xfrm>
            <a:off x="816120" y="351000"/>
            <a:ext cx="78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Calibri"/>
                <a:ea typeface="Arial"/>
              </a:rPr>
              <a:t>Заголовок слай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291960" y="2011320"/>
            <a:ext cx="86439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С. 62 № 1, 4 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4780080"/>
            <a:ext cx="20779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ановка «Молча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41371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тановка «Ошибкин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см2мм &gt; 80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м1дм &lt; 31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дм = 40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98920" y="3570120"/>
            <a:ext cx="464508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тановка «Геометр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356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2276640"/>
            <a:ext cx="3168720" cy="16570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7148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-181080" y="1700280"/>
            <a:ext cx="9529920" cy="439560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-209520" y="287280"/>
            <a:ext cx="9529560" cy="8352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9"/>
          <p:cNvSpPr/>
          <p:nvPr/>
        </p:nvSpPr>
        <p:spPr>
          <a:xfrm>
            <a:off x="8453520" y="6242040"/>
            <a:ext cx="349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11EC-18C0-4B54-B896-62C6289E24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7767720" y="4437000"/>
            <a:ext cx="1376280" cy="13762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7905600" y="5614920"/>
            <a:ext cx="1609920" cy="1603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3"/>
          <p:cNvSpPr/>
          <p:nvPr/>
        </p:nvSpPr>
        <p:spPr>
          <a:xfrm>
            <a:off x="816120" y="351000"/>
            <a:ext cx="78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62626"/>
                </a:solidFill>
                <a:latin typeface="Calibri"/>
                <a:ea typeface="Arial"/>
              </a:rPr>
              <a:t>Заголовок слай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291960" y="201132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2 • 8            4 • 8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6 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3 • 8   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5 • 8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7 •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Как найти значение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произведения 8 • 8?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8:25:18Z</dcterms:created>
  <dc:creator>Масько Л.Г.</dc:creator>
  <dc:description/>
  <dc:language>en-US</dc:language>
  <cp:lastModifiedBy>user</cp:lastModifiedBy>
  <dcterms:modified xsi:type="dcterms:W3CDTF">2014-11-18T21:35:10Z</dcterms:modified>
  <cp:revision>102</cp:revision>
  <dc:subject/>
  <dc:title>Состав числа 8</dc:title>
</cp:coreProperties>
</file>