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FB8-10C7-4015-A9A2-3FE5B276E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8C5A-4DC6-4234-9FE4-E171184170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CA30-6DAD-4FF4-B80A-EBA722B8A7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941B-91EE-4C63-8729-4B5A7F10CC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22D-34E2-48CE-A299-A158D196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2DF-20F2-4FE8-947E-2299E39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78E-BF8E-41A8-B96F-81FA7499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23F-5BE9-40F4-8719-E0F138F3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E2DA-C0CA-48B7-8628-1D008650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FAD-EA2C-4B13-9B14-375177B5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EDB-7912-458F-85B6-4D19E38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2734-A5AC-4B8B-A49F-2689506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8821-1E2D-40C2-9D5B-E6BB676C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CEB-6987-4EBE-BFDA-7D3A8088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9246-6EC7-4EB0-B04E-8C8DF30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AE4-C443-4A16-9A94-897DECB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684F-8B9A-4FB1-B478-C5C06EA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1668-089F-4568-8A92-039CB11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5E0C-C719-491E-AE72-4D2A1728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4C33-48BC-42FE-BA56-2BFD5F0D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EF4-E6A6-48B0-9D9B-AA158E0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247-7ABF-465D-B004-BF5CF0A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E01-B5E6-4A3B-8288-1C87EA3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E3E-F39A-46E7-A141-EA8B667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80D-42EE-4ED2-BDED-2875441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CAA-BC64-401A-A110-6D71015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E4F-8D56-46D3-8D50-31E29F9E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A0-2CF1-4021-9316-9A10E88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296-E299-4629-BB33-F6DCEEA8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2AFD-CDBB-4087-9E95-9D5B124B3D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hyperlink" Target="http://smiles.33b.ru/smile.52685.html" TargetMode="External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р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н </a:t>
            </a:r>
            <a:r>
              <a:rPr b="1" i="1" lang="en-US" sz="3600" spc="-1" strike="noStrike">
                <a:solidFill>
                  <a:srgbClr val="99cc00"/>
                </a:solidFill>
                <a:latin typeface="Times New Roman"/>
              </a:rPr>
              <a:t>а   </a:t>
            </a: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З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н </a:t>
            </a:r>
            <a:r>
              <a:rPr b="1" i="1" lang="en-US" sz="3600" spc="-1" strike="noStrike">
                <a:solidFill>
                  <a:srgbClr val="e41235"/>
                </a:solidFill>
                <a:latin typeface="Times New Roman"/>
              </a:rPr>
              <a:t>и </a:t>
            </a:r>
            <a:r>
              <a:rPr b="1" i="1" lang="en-US" sz="3600" spc="-1" strike="noStrike">
                <a:solidFill>
                  <a:srgbClr val="008080"/>
                </a:solidFill>
                <a:latin typeface="Times New Roman"/>
              </a:rPr>
              <a:t>м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т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341360"/>
            <a:ext cx="8280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егодня мы совершим путешествие в Страну веселой Зани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Если вы ответите на все  вопросы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танете частыми и Почетными гостями  этой  страны: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ru-RU" sz="3600" spc="-1" strike="noStrike">
                <a:solidFill>
                  <a:srgbClr val="808080"/>
                </a:solidFill>
                <a:latin typeface="Times New Roman"/>
              </a:rPr>
              <a:t>р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н </a:t>
            </a: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ы  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З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н </a:t>
            </a:r>
            <a:r>
              <a:rPr b="1" i="1" lang="ru-RU" sz="3600" spc="-1" strike="noStrike">
                <a:solidFill>
                  <a:srgbClr val="e41235"/>
                </a:solidFill>
                <a:latin typeface="Times New Roman"/>
              </a:rPr>
              <a:t>и </a:t>
            </a:r>
            <a:r>
              <a:rPr b="1" i="1" lang="ru-RU" sz="3600" spc="-1" strike="noStrike">
                <a:solidFill>
                  <a:srgbClr val="008080"/>
                </a:solidFill>
                <a:latin typeface="Times New Roman"/>
              </a:rPr>
              <a:t>м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3399ff"/>
                </a:solidFill>
                <a:latin typeface="Times New Roman"/>
              </a:rPr>
              <a:t>т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b0d27"/>
                </a:solidFill>
                <a:latin typeface="Times New Roman"/>
              </a:rPr>
              <a:t>и встретитесь с царицей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6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. 62 №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2332080"/>
            <a:ext cx="45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Задачкино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. 62 №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48000" cy="21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611280" y="2928960"/>
          <a:ext cx="7848000" cy="1868040"/>
        </p:xfrm>
        <a:graphic>
          <a:graphicData uri="http://schemas.openxmlformats.org/drawingml/2006/table">
            <a:tbl>
              <a:tblPr/>
              <a:tblGrid>
                <a:gridCol w="2710800"/>
                <a:gridCol w="2704680"/>
                <a:gridCol w="243252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ы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дном аквариу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вариу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ы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шт. (одинако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CA6-399B-40C3-B664-BB35443B46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291960" y="20113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с. 62 №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03640" y="334008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 вам обращается царица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6093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1788840" y="1086480"/>
            <a:ext cx="5597640" cy="5367960"/>
            <a:chOff x="1788840" y="1086480"/>
            <a:chExt cx="5597640" cy="5367960"/>
          </a:xfrm>
        </p:grpSpPr>
        <p:grpSp>
          <p:nvGrpSpPr>
            <p:cNvPr id="135" name=""/>
            <p:cNvGrpSpPr/>
            <p:nvPr/>
          </p:nvGrpSpPr>
          <p:grpSpPr>
            <a:xfrm>
              <a:off x="1788840" y="1766880"/>
              <a:ext cx="5597640" cy="3904560"/>
              <a:chOff x="1788840" y="1766880"/>
              <a:chExt cx="5597640" cy="3904560"/>
            </a:xfrm>
          </p:grpSpPr>
          <p:pic>
            <p:nvPicPr>
              <p:cNvPr id="136" name="" descr=""/>
              <p:cNvPicPr/>
              <p:nvPr/>
            </p:nvPicPr>
            <p:blipFill>
              <a:blip r:embed="rId2"/>
              <a:stretch/>
            </p:blipFill>
            <p:spPr>
              <a:xfrm rot="508800">
                <a:off x="1763640" y="3647520"/>
                <a:ext cx="5334120" cy="5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 rot="8013600">
                <a:off x="2120400" y="3690360"/>
                <a:ext cx="533376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 rot="9983400">
                <a:off x="2120400" y="3690720"/>
                <a:ext cx="5334120" cy="5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5"/>
              <a:stretch/>
            </p:blipFill>
            <p:spPr>
              <a:xfrm rot="2021400">
                <a:off x="1904760" y="3475080"/>
                <a:ext cx="533376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" descr="disney"/>
            <p:cNvPicPr/>
            <p:nvPr/>
          </p:nvPicPr>
          <p:blipFill>
            <a:blip r:embed="rId6"/>
            <a:srcRect l="13557" t="0" r="0" b="0"/>
            <a:stretch/>
          </p:blipFill>
          <p:spPr>
            <a:xfrm>
              <a:off x="2987640" y="1270080"/>
              <a:ext cx="3384720" cy="51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558000">
              <a:off x="4140000" y="1127160"/>
              <a:ext cx="546120" cy="50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8F5E-2461-4D93-ADB7-9130D90DD44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291960" y="2011320"/>
            <a:ext cx="86439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С. 62 № 1, 4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4780080"/>
            <a:ext cx="20779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ановка «Молча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тановка «Ошибкин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см2мм &gt; 80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м1дм &lt; 31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дм = 40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98920" y="3570120"/>
            <a:ext cx="46450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ановка «Геометр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35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2276640"/>
            <a:ext cx="3168720" cy="16570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714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523-CC0A-4707-B3E1-056B576BB9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91960" y="201132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2 • 8            4 • 8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6 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3 • 8   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5 • 8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7 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Как найти значение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произведения 8 • 8?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8:25:18Z</dcterms:created>
  <dc:creator>Масько Л.Г.</dc:creator>
  <dc:description/>
  <dc:language>en-US</dc:language>
  <cp:lastModifiedBy>user</cp:lastModifiedBy>
  <dcterms:modified xsi:type="dcterms:W3CDTF">2014-11-18T21:35:10Z</dcterms:modified>
  <cp:revision>102</cp:revision>
  <dc:subject/>
  <dc:title>Состав числа 8</dc:title>
</cp:coreProperties>
</file>