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6B3-F76D-4E98-B49A-C3053B3C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DFA3-4794-42C1-8E5A-B16801B0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576-8A78-4403-8713-D60DE6FF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AB4-FAEC-43CB-8322-8FF872FA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6E5-F84A-4D85-A4BB-19D9B51A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B1D-CC6B-4438-BED5-75AC7572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900-7621-433F-87FB-A79DE997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C44-C367-4306-902E-D5CDBB46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057D-673F-443A-BE00-606F36FD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440-1A6D-4E6F-AE64-48054EB8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B8F-560D-45D2-A8E7-D3C14B58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4CB-7132-4812-91AD-E2FE2AE2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82D3-E8E1-4B68-8A38-4D1BECB63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611280" y="620640"/>
            <a:ext cx="7993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Times New Roman"/>
              </a:rPr>
              <a:t>Виды уг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00"/>
                  </a:gs>
                  <a:gs pos="100000">
                    <a:srgbClr val="ff99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PubTriangle"/>
          <p:cNvSpPr/>
          <p:nvPr/>
        </p:nvSpPr>
        <p:spPr>
          <a:xfrm rot="11410200">
            <a:off x="6516720" y="4221000"/>
            <a:ext cx="1828800" cy="1828800"/>
          </a:xfrm>
          <a:custGeom>
            <a:avLst/>
            <a:gdLst>
              <a:gd name="textAreaLeft" fmla="*/ 685800 w 1828800"/>
              <a:gd name="textAreaRight" fmla="*/ 1371600 w 1828800"/>
              <a:gd name="textAreaTop" fmla="*/ 457200 h 1828800"/>
              <a:gd name="textAreaBottom" fmla="*/ 1143000 h 18288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ubTriangle"/>
          <p:cNvSpPr/>
          <p:nvPr/>
        </p:nvSpPr>
        <p:spPr>
          <a:xfrm rot="10308600">
            <a:off x="6443640" y="3212640"/>
            <a:ext cx="1828800" cy="1828800"/>
          </a:xfrm>
          <a:custGeom>
            <a:avLst/>
            <a:gdLst>
              <a:gd name="textAreaLeft" fmla="*/ 685800 w 1828800"/>
              <a:gd name="textAreaRight" fmla="*/ 1371600 w 1828800"/>
              <a:gd name="textAreaTop" fmla="*/ 457200 h 1828800"/>
              <a:gd name="textAreaBottom" fmla="*/ 1143000 h 18288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троение уг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/>
          <p:cNvSpPr/>
          <p:nvPr/>
        </p:nvSpPr>
        <p:spPr>
          <a:xfrm>
            <a:off x="2771640" y="508464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2843280" y="5157720"/>
            <a:ext cx="374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V="1">
            <a:off x="2843280" y="2924280"/>
            <a:ext cx="3024000" cy="223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V="1">
            <a:off x="2843280" y="2060280"/>
            <a:ext cx="0" cy="309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H="1" flipV="1">
            <a:off x="1116000" y="2565000"/>
            <a:ext cx="1727280" cy="25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ямой уг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рвгшпг"/>
          <p:cNvPicPr/>
          <p:nvPr/>
        </p:nvPicPr>
        <p:blipFill>
          <a:blip r:embed="rId1"/>
          <a:stretch/>
        </p:blipFill>
        <p:spPr>
          <a:xfrm>
            <a:off x="468360" y="1628640"/>
            <a:ext cx="3527280" cy="213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Прямой угол"/>
          <p:cNvPicPr/>
          <p:nvPr/>
        </p:nvPicPr>
        <p:blipFill>
          <a:blip r:embed="rId2"/>
          <a:stretch/>
        </p:blipFill>
        <p:spPr>
          <a:xfrm>
            <a:off x="5292720" y="1628640"/>
            <a:ext cx="3311640" cy="21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оапришпарпшр"/>
          <p:cNvPicPr/>
          <p:nvPr/>
        </p:nvPicPr>
        <p:blipFill>
          <a:blip r:embed="rId3"/>
          <a:stretch/>
        </p:blipFill>
        <p:spPr>
          <a:xfrm>
            <a:off x="2484360" y="3933720"/>
            <a:ext cx="3167280" cy="211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8"/>
          <p:cNvPicPr/>
          <p:nvPr/>
        </p:nvPicPr>
        <p:blipFill>
          <a:blip r:embed="rId4"/>
          <a:stretch/>
        </p:blipFill>
        <p:spPr>
          <a:xfrm>
            <a:off x="395280" y="1557360"/>
            <a:ext cx="341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2 0.10867 C -0.01476 0.11029 -0.01563 0.11306 -0.01736 0.11422 C -0.01875 0.11538 -0.02066 0.11399 -0.02222 0.11515 C -0.03524 0.12093 -0.03247 0.12393 -0.04636 0.12624 C -0.0566 0.12809 -0.04653 0.12624 -0.0566 0.12809 C -0.05799 0.12832 -0.06129 0.12902 -0.06129 0.12925 C -0.07379 0.14035 -0.06736 0.13549 -0.08108 0.14358 C -0.08455 0.14543 -0.08733 0.14913 -0.09045 0.15191 C -0.09236 0.15353 -0.10313 0.1563 -0.10556 0.15676 C -0.11632 0.16648 -0.13195 0.16925 -0.14462 0.17087 C -0.15399 0.1785 -0.14167 0.16925 -0.16146 0.17503 C -0.16406 0.17595 -0.16597 0.17873 -0.16858 0.17989 C -0.17639 0.18428 -0.1842 0.18937 -0.19271 0.19075 C -0.25868 0.17411 -0.32483 0.15908 -0.39045 0.13989 C -0.39271 0.13896 -0.39271 0.13434 -0.39445 0.13226 C -0.39566 0.13087 -0.39705 0.13017 -0.39879 0.12902 C -0.40365 0.11977 -0.41094 0.11491 -0.41892 0.11121 C -0.425 0.10798 -0.43698 0.10243 -0.43715 0.10266 C -0.44392 0.09711 -0.4507 0.09318 -0.45764 0.08856 C -0.46754 0.08208 -0.47153 0.07676 -0.48247 0.07168 C -0.49514 0.06243 -0.50868 0.05665 -0.52136 0.04717 C -0.5257 0.04393 -0.53004 0.04046 -0.53438 0.037 C -0.53577 0.0363 -0.53889 0.03376 -0.53889 0.03399 C -0.54132 0.03098 -0.54254 0.02659 -0.54549 0.02382 C -0.54861 0.02058 -0.55261 0.01942 -0.5559 0.01688 C -0.55278 0.00971 -0.55434 0.01318 -0.55122 0.00694 E">
                                      <p:cBhvr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-0.11283 C -0.00191 -0.12208 -0.00191 -0.11699 -0.01077 -0.11931 C -0.01702 -0.12786 -0.02379 -0.13896 -0.03212 -0.1422 C -0.03768 -0.14821 -0.04219 -0.15399 -0.04879 -0.15815 C -0.05504 -0.16555 -0.06389 -0.16809 -0.07222 -0.16902 C -0.07778 -0.17503 -0.0816 -0.18312 -0.08681 -0.1889 C -0.09861 -0.21064 -0.11268 -0.23676 -0.1316 -0.2467 C -0.14097 -0.25896 -0.15018 -0.27422 -0.16302 -0.27884 C -0.17448 -0.29202 -0.18108 -0.29133 -0.19479 -0.29988 C -0.19601 -0.30081 -0.19722 -0.30312 -0.19879 -0.30428 C -0.20851 -0.31168 -0.20625 -0.31029 -0.21476 -0.31075 C -0.22049 -0.31468 -0.22361 -0.31538 -0.23004 -0.31607 C -0.23316 -0.31792 -0.23646 -0.31838 -0.23958 -0.32092 C -0.24097 -0.32185 -0.24184 -0.32416 -0.24323 -0.32485 C -0.24462 -0.32555 -0.24636 -0.32555 -0.24774 -0.32647 C -0.24913 -0.32694 -0.25208 -0.32786 -0.25191 -0.32763 E">
                                      <p:cBhvr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33 0.01549 C -0.0092 0.01734 0.01389 0.01064 0.03733 0.0259 C 0.04045 0.03029 0.04427 0.03607 0.04844 0.03861 C 0.05608 0.04301 0.06476 0.04301 0.07222 0.04925 C 0.0809 0.05642 0.08594 0.06798 0.09601 0.07237 C 0.10121 0.08185 0.10712 0.08948 0.11337 0.09781 C 0.11615 0.10151 0.12014 0.10289 0.12292 0.10636 C 0.12743 0.11214 0.13142 0.1163 0.13733 0.11908 C 0.14115 0.12925 0.14375 0.13295 0.15156 0.13804 C 0.15365 0.14659 0.15851 0.15191 0.16267 0.15908 C 0.16476 0.17064 0.16979 0.18636 0.17691 0.19307 C 0.17899 0.20463 0.18003 0.20393 0.18802 0.20786 C 0.19826 0.22104 0.18646 0.20763 0.20226 0.21827 C 0.2224 0.23191 0.1908 0.21804 0.21979 0.2289 C 0.23125 0.24 0.22361 0.23515 0.24514 0.23515 E">
                                      <p:cBhvr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11"/>
          <p:cNvPicPr/>
          <p:nvPr/>
        </p:nvPicPr>
        <p:blipFill>
          <a:blip r:embed="rId1"/>
          <a:stretch/>
        </p:blipFill>
        <p:spPr>
          <a:xfrm>
            <a:off x="5003640" y="2133720"/>
            <a:ext cx="3754440" cy="2412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трый уг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9"/>
          <p:cNvPicPr/>
          <p:nvPr/>
        </p:nvPicPr>
        <p:blipFill>
          <a:blip r:embed="rId2"/>
          <a:stretch/>
        </p:blipFill>
        <p:spPr>
          <a:xfrm>
            <a:off x="468360" y="2133720"/>
            <a:ext cx="3743280" cy="240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10"/>
          <p:cNvPicPr/>
          <p:nvPr/>
        </p:nvPicPr>
        <p:blipFill>
          <a:blip r:embed="rId3"/>
          <a:stretch/>
        </p:blipFill>
        <p:spPr>
          <a:xfrm>
            <a:off x="4572000" y="2133720"/>
            <a:ext cx="424800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65 0.00278 C 0.08056 0.02127 0.0842 0.03029 0.0882 0.04717 C 0.09011 0.08301 0.08507 0.07145 0.09931 0.0874 C 0.11389 0.10359 0.08959 0.08093 0.11354 0.1022 C 0.11511 0.10359 0.11823 0.10636 0.11823 0.10659 C 0.12275 0.12278 0.13229 0.13364 0.14219 0.14428 C 0.14584 0.14821 0.14931 0.15376 0.1533 0.157 C 0.15608 0.15931 0.15973 0.15954 0.16268 0.16139 C 0.16493 0.16255 0.16702 0.16393 0.1691 0.16555 C 0.17066 0.16671 0.17205 0.16856 0.17379 0.16971 C 0.18247 0.17549 0.19167 0.1785 0.20087 0.18243 C 0.2125 0.19792 0.21945 0.19607 0.23733 0.19931 C 0.24514 0.20971 0.25382 0.21804 0.26441 0.22266 C 0.2724 0.2296 0.28212 0.23445 0.29132 0.23746 C 0.29549 0.23885 0.304 0.24162 0.304 0.24185 C 0.31511 0.24093 0.32622 0.24116 0.33733 0.23954 C 0.34063 0.23908 0.34688 0.23538 0.34688 0.23561 C 0.35782 0.22567 0.35278 0.22844 0.36111 0.22474 C 0.3717 0.21064 0.36059 0.22359 0.37066 0.21619 C 0.38091 0.20879 0.38629 0.20093 0.39775 0.19723 C 0.40174 0.19445 0.40643 0.19376 0.41042 0.19099 C 0.41563 0.18752 0.42049 0.17734 0.42622 0.17388 C 0.4441 0.16324 0.42934 0.17549 0.44045 0.16555 C 0.45226 0.14243 0.44705 0.1133 0.46754 0.09573 C 0.4691 0.09295 0.47153 0.09064 0.47223 0.0874 C 0.47865 0.05734 0.46806 0.07353 0.47865 0.05989 C 0.48507 0.03353 0.48334 0.05711 0.48334 0.00486 E">
                                      <p:cBhvr>
                                        <p:cTn id="7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9711E-006 C -0.00174 -0.00694 -0.00121 -0.01457 -0.00312 -0.02127 C -0.00451 -0.0259 -0.00729 -0.02983 -0.00937 -0.03399 C -0.01233 -0.04 -0.02222 -0.04647 -0.02222 -0.04647 C -0.03021 -0.06312 -0.01996 -0.0437 -0.03003 -0.05711 C -0.03611 -0.0652 -0.03924 -0.07445 -0.04757 -0.07838 C -0.08663 -0.07769 -0.12587 -0.07815 -0.16493 -0.07607 C -0.17882 -0.07538 -0.19236 -0.07075 -0.20625 -0.06983 C -0.21094 -0.0659 -0.21441 -0.06127 -0.21892 -0.05711 C -0.22326 -0.04879 -0.22569 -0.04046 -0.23003 -0.03168 C -0.23108 -0.0296 -0.23333 -0.02543 -0.23333 -0.02543 C -0.23455 -0.01526 -0.23611 -0.00578 -0.23802 0.00416 C -0.23924 0.01064 -0.23906 0.01827 -0.24271 0.02312 E">
                                      <p:cBhvr>
                                        <p:cTn id="8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11"/>
          <p:cNvPicPr/>
          <p:nvPr/>
        </p:nvPicPr>
        <p:blipFill>
          <a:blip r:embed="rId1"/>
          <a:stretch/>
        </p:blipFill>
        <p:spPr>
          <a:xfrm>
            <a:off x="4788000" y="2060640"/>
            <a:ext cx="3851280" cy="2798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упой уг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3"/>
          <p:cNvPicPr/>
          <p:nvPr/>
        </p:nvPicPr>
        <p:blipFill>
          <a:blip r:embed="rId2"/>
          <a:stretch/>
        </p:blipFill>
        <p:spPr>
          <a:xfrm>
            <a:off x="4859280" y="1916280"/>
            <a:ext cx="3997440" cy="287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12"/>
          <p:cNvPicPr/>
          <p:nvPr/>
        </p:nvPicPr>
        <p:blipFill>
          <a:blip r:embed="rId3"/>
          <a:stretch/>
        </p:blipFill>
        <p:spPr>
          <a:xfrm>
            <a:off x="395280" y="1989000"/>
            <a:ext cx="388944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1087 C 0.07657 0.02266 0.07709 0.02567 0.08663 0.02983 C 0.09688 0.04347 0.11233 0.04948 0.12483 0.05942 C 0.13681 0.06913 0.15174 0.08139 0.16598 0.08486 C 0.20139 0.09341 0.23629 0.09804 0.2724 0.09966 C 0.32066 0.11006 0.36667 0.09781 0.40573 0.0615 C 0.41875 0.04948 0.43073 0.03353 0.44219 0.01919 C 0.44775 0.01249 0.45278 0.00509 0.45816 -0.00185 C 0.45973 -0.00393 0.46285 -0.00809 0.46285 -0.00786 C 0.46598 -0.01665 0.47084 -0.02312 0.47396 -0.03144 E">
                                      <p:cBhvr>
                                        <p:cTn id="9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27168E-006 C -0.06997 0.0037 -0.13768 0.00925 -0.20799 0.01063 C -0.21754 0.01318 -0.22709 0.01364 -0.23646 0.01688 C -0.23803 0.01826 -0.24011 0.01896 -0.24132 0.02104 C -0.24688 0.03029 -0.23768 0.02589 -0.24757 0.03167 C -0.2507 0.03352 -0.25712 0.03584 -0.25712 0.03584 C -0.25973 0.04624 -0.25868 0.04 -0.25868 0.05503 E">
                                      <p:cBhvr>
                                        <p:cTn id="10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вни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4"/>
          <p:cNvPicPr/>
          <p:nvPr/>
        </p:nvPicPr>
        <p:blipFill>
          <a:blip r:embed="rId1"/>
          <a:stretch/>
        </p:blipFill>
        <p:spPr>
          <a:xfrm>
            <a:off x="4140360" y="2924280"/>
            <a:ext cx="4649760" cy="331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15"/>
          <p:cNvPicPr/>
          <p:nvPr/>
        </p:nvPicPr>
        <p:blipFill>
          <a:blip r:embed="rId2"/>
          <a:stretch/>
        </p:blipFill>
        <p:spPr>
          <a:xfrm>
            <a:off x="395280" y="1413000"/>
            <a:ext cx="4216320" cy="3303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3205440" y="37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7506000" y="517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9 упр.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4:33:55Z</dcterms:created>
  <dc:creator>Школа</dc:creator>
  <dc:description/>
  <dc:language>en-US</dc:language>
  <cp:lastModifiedBy>Смагин С</cp:lastModifiedBy>
  <dcterms:modified xsi:type="dcterms:W3CDTF">2014-01-17T18:54:06Z</dcterms:modified>
  <cp:revision>28</cp:revision>
  <dc:subject/>
  <dc:title>гео</dc:title>
</cp:coreProperties>
</file>