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1D9-4289-4430-8DA1-BFD375EE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013-4DCE-4B76-8969-C5CCD862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CE1E-D3AC-4DCC-ACA4-6DBCBBCA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CFF2-E46D-4FE7-802F-54F3324D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4D5EF-9605-463D-A3FF-C5AB41E6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50FE4-4453-4B18-9701-C673697D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6AFB3-8CB3-442D-B002-E5ACC0B4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745E3-9A7D-4A78-8053-3741AFF3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01A4D-D644-47DC-A16E-FD8060B7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4BAFD-B144-4A6F-AA53-BD382EEA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DF281-B2A0-4C64-94B3-FDDEAE72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0786-9E2D-400B-A44C-2AF97940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24099-8B89-4128-927A-CBDF8518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EC3D4-1EEE-410A-BFF5-23E4E6C0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7DF6F-76CB-4B76-8236-B519C661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3E38A-5A40-4B3E-B6A8-B5503948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6108C-D058-4503-A18E-9C29C5461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E88-C888-44A4-A3F2-7F3F1C4F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EB7-CCEA-487C-A010-A57A1E93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C997-806D-49F0-B49F-55849163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076-A614-4BCE-9EBB-A3E33932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4CBD-E4FB-4E88-8747-0776284C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779C-0BFD-45C8-A422-B9DEBDDA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1DA4-0B70-495D-9B7F-8642CC9A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FB4B-7562-4438-A85F-28510A438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D8EC-0300-41DC-B7D5-8BC42C90EA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Использовани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игровой технологии </a:t>
            </a:r>
            <a:br>
              <a:rPr sz="3600"/>
            </a:b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на уроках физической культуры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20"/>
          <p:cNvSpPr/>
          <p:nvPr/>
        </p:nvSpPr>
        <p:spPr>
          <a:xfrm>
            <a:off x="755640" y="185508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«Каков ребенок в игре, таков во мног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он будет в работе когда вырастет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А.С. Макарен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Чтобы игра приносила пользу следу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4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соблюдать правила иг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технику безопас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Times New Roman"/>
              </a:rPr>
              <a:t>проводить игру с дидактической направленность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11"/>
          <p:cNvPicPr/>
          <p:nvPr/>
        </p:nvPicPr>
        <p:blipFill>
          <a:blip r:embed="rId2"/>
          <a:stretch/>
        </p:blipFill>
        <p:spPr>
          <a:xfrm>
            <a:off x="4788000" y="2060640"/>
            <a:ext cx="367164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Требования к отбору игр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гра должна давать новые поня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 игре должны развиваться способности правильно оценивать пространственные и временные отношения , быстро реагировать на часто меняющуюся обстанов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Дидактическое и двигательное содержание игры должно соответствовать особенностям программного материа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тепень сложности игры должна соответствовать усвоенным умениям и навык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При проведении игры необходимо соблюдать следующие прав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641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Простота и доступ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Ребенок  -  активный участник иг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Безопасность используемого инвентар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Игра не должна унижать достоинства играющ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Учитывать принцип: от трудного к легкому; от сложного, к просто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12"/>
          <p:cNvPicPr/>
          <p:nvPr/>
        </p:nvPicPr>
        <p:blipFill>
          <a:blip r:embed="rId2"/>
          <a:stretch/>
        </p:blipFill>
        <p:spPr>
          <a:xfrm>
            <a:off x="6659640" y="2060640"/>
            <a:ext cx="1968480" cy="1944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6"/>
          <p:cNvPicPr/>
          <p:nvPr/>
        </p:nvPicPr>
        <p:blipFill>
          <a:blip r:embed="rId3"/>
          <a:stretch/>
        </p:blipFill>
        <p:spPr>
          <a:xfrm>
            <a:off x="6732720" y="4653000"/>
            <a:ext cx="194292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0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25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Для изучения отношения обучающихся к уроку физкультуры были проведены исследования с применением следующих методов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92392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Метод неоконченных предлож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Рейтинговая оценка предм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2" descr="G:\Учитель 2015\человечки\3.jpg"/>
          <p:cNvPicPr/>
          <p:nvPr/>
        </p:nvPicPr>
        <p:blipFill>
          <a:blip r:embed="rId2"/>
          <a:stretch/>
        </p:blipFill>
        <p:spPr>
          <a:xfrm>
            <a:off x="5940360" y="2276640"/>
            <a:ext cx="2808360" cy="2747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 опросах участвовали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ки 5 класса – 19 ч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ки 6 класса – 13 ч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ки 10 класса – 7 ч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ки 11 класса – 17 ч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 56 челове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обработке результатов было выявлено, ч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имущественно учащиеся выбирают либо подвиж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, либо спортивные игры (баскетбол, волейбол, футбол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2" descr="G:\Учитель 2015\человечки\13.jpg"/>
          <p:cNvPicPr/>
          <p:nvPr/>
        </p:nvPicPr>
        <p:blipFill>
          <a:blip r:embed="rId2"/>
          <a:stretch/>
        </p:blipFill>
        <p:spPr>
          <a:xfrm>
            <a:off x="5148360" y="1628640"/>
            <a:ext cx="3456000" cy="28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Анализ рейтинга показал, что три из четырех опрошенных классов предпочитают физкультур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20464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льзя утверждать, что только выбор игровой деятельности, как основного метода, является причиной высокого рейтин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о дети в любом возрасте с большим удовольствием играют в игры, а, следовательно, если их умело использовать, можно добиться большей эффективности ур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" descr="G:\Учитель 2015\человечки\1.jpg"/>
          <p:cNvPicPr/>
          <p:nvPr/>
        </p:nvPicPr>
        <p:blipFill>
          <a:blip r:embed="rId2"/>
          <a:stretch/>
        </p:blipFill>
        <p:spPr>
          <a:xfrm>
            <a:off x="6732720" y="5013360"/>
            <a:ext cx="1450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Содержимое 6" descr="14.jpeg"/>
          <p:cNvPicPr/>
          <p:nvPr/>
        </p:nvPicPr>
        <p:blipFill>
          <a:blip r:embed="rId2"/>
          <a:stretch/>
        </p:blipFill>
        <p:spPr>
          <a:xfrm>
            <a:off x="395280" y="404640"/>
            <a:ext cx="8280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Игровая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технология – это уникальная форма обуче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Игра позволяет сделать обычный урок интересным и увлекательн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В игре ребенок учится познавать себя, познавать окружающий его мир и свое место в н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8" descr="7"/>
          <p:cNvPicPr/>
          <p:nvPr/>
        </p:nvPicPr>
        <p:blipFill>
          <a:blip r:embed="rId2"/>
          <a:stretch/>
        </p:blipFill>
        <p:spPr>
          <a:xfrm>
            <a:off x="4648320" y="2060640"/>
            <a:ext cx="40384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Игровая деятельность используетс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в качестве самостоятельных технологий для освоения понятия темы и даже разде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как элементы более обширной технолог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в качестве урока или его ча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как технология внеклассной раб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Игровые технологии используются дл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33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развития физических качест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формирования умений и навыков в выполнении физических упражн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активизации и совершенствовании основных психических процесс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8"/>
          <p:cNvPicPr/>
          <p:nvPr/>
        </p:nvPicPr>
        <p:blipFill>
          <a:blip r:embed="rId2"/>
          <a:stretch/>
        </p:blipFill>
        <p:spPr>
          <a:xfrm>
            <a:off x="4859280" y="1989000"/>
            <a:ext cx="3522600" cy="388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Игры на уроках выступают как средство побуждения, стимулирования учащихся к учебной деятельности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Для успешного решения задач урока дидактическая цель ставится перед учащимися  в форме игровой задач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учебная деятельность подчиняется правилам игр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учебный материал используется в качестве его средства,  в учебную деятельность вводится элемент соревнования, который переводит дидактическую задачу в игровую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успешное выполнение дидактического задания связывается с результатом иг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16720" y="1904760"/>
            <a:ext cx="369720" cy="83880"/>
          </a:xfrm>
          <a:prstGeom prst="rect">
            <a:avLst/>
          </a:prstGeom>
          <a:noFill/>
          <a:ln w="0">
            <a:noFill/>
          </a:ln>
        </p:spPr>
        <p:txBody>
          <a:bodyPr tIns="38160" bIns="3816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Подвижные игры это доступный и очень эффективный метод воздействия на ребенка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6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В игре используются естественные движения  в развлекательной ненавязчивой фор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Главный признак подвижных игр - наличие двигательных действий, благодаря чему они являются отличным средством и методом физического разви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8"/>
          <p:cNvPicPr/>
          <p:nvPr/>
        </p:nvPicPr>
        <p:blipFill>
          <a:blip r:embed="rId2"/>
          <a:stretch/>
        </p:blipFill>
        <p:spPr>
          <a:xfrm>
            <a:off x="5219640" y="2662200"/>
            <a:ext cx="3467160" cy="2600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Подвижные игры развивают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Физические  качеств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быстро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си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ловк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вынослив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гибк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Интеллектуаль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качеств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ам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наблюдате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ообразите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G:\Учитель 2015\человечки\12.jpg"/>
          <p:cNvPicPr/>
          <p:nvPr/>
        </p:nvPicPr>
        <p:blipFill>
          <a:blip r:embed="rId2"/>
          <a:stretch/>
        </p:blipFill>
        <p:spPr>
          <a:xfrm>
            <a:off x="5292720" y="4869000"/>
            <a:ext cx="2158920" cy="1662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Игра – жизненно важная потребность детей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61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Игра способству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разностороннему физическому и умственному развит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воспитанию морально - волевых качест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укреплению организма ребен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067280" y="1904760"/>
            <a:ext cx="4619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Развивается ориентиров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 пространств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ординац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ырабатываются и закрепляются движ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8" descr="2"/>
          <p:cNvPicPr/>
          <p:nvPr/>
        </p:nvPicPr>
        <p:blipFill>
          <a:blip r:embed="rId2"/>
          <a:stretch/>
        </p:blipFill>
        <p:spPr>
          <a:xfrm>
            <a:off x="4284720" y="4038480"/>
            <a:ext cx="3743280" cy="2414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3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3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3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3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В игре развиваются познавательные процес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76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ебенок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мыслит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мгновенно реагирует 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действия соперника 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артнер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выбирает из множ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действий одно, котор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наиболее целесообраз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9"/>
          <p:cNvPicPr/>
          <p:nvPr/>
        </p:nvPicPr>
        <p:blipFill>
          <a:blip r:embed="rId2"/>
          <a:stretch/>
        </p:blipFill>
        <p:spPr>
          <a:xfrm>
            <a:off x="5076720" y="1844640"/>
            <a:ext cx="374328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11:00:52Z</dcterms:created>
  <dc:creator>C-Sportzal</dc:creator>
  <dc:description/>
  <dc:language>en-US</dc:language>
  <cp:lastModifiedBy>Наталья</cp:lastModifiedBy>
  <dcterms:modified xsi:type="dcterms:W3CDTF">2022-12-17T10:20:59Z</dcterms:modified>
  <cp:revision>10</cp:revision>
  <dc:subject/>
  <dc:title>Использование игровой технологии  на уроках физической культуры. </dc:title>
</cp:coreProperties>
</file>