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3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10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229C-A007-4FA5-AEA6-E6B5FFEB9E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13F8-C15C-48C5-AA35-26F226D268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BE3-7327-4A37-A0D3-6C1F3B5D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184-A96B-4900-BABC-149FE007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2E1-DBC5-414B-8D4F-5ACEE5D1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D76-68C3-4D34-8A6D-B1C9F561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CAA2-8EA5-472C-BA65-DCA1553E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D502-BDFF-4F7B-A24F-18F9289D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F831-E036-470D-A223-1FEFCC9B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0207-516D-4E4E-9560-47225147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74C7-76FF-42AD-A51C-55811426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3EE7-E654-4A1C-81A0-48FD6A74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FDF3-0125-4CFB-84E7-B33571B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4C6-6E2B-4049-A670-CAD7DAF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6277-88C9-4CA3-9486-2089CD70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06E-39FF-49D2-9E33-4CD7CA1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6F5C-30C6-4B34-B9D9-DF5D79F7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124C-D6EB-4D81-B2EC-0BB01B21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0099-2309-4D94-80CA-86429F79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EC44-9D48-4927-A049-236DBF1E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3005-7711-4078-B814-C4ABAFCE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21C7-6B37-4BE7-A8CC-FB968DE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9972-8BAD-4CA9-B00F-C0C2C8B7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50C6-8E1A-45C4-9592-52C00D7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985-4CB1-41BC-B35B-240852CC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60B89-7F30-41EC-BAEE-202A58BC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3863-5949-41F8-A326-1E2FB043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73B0-4CE7-4DC8-96C3-978313E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8634-9D9A-4311-828A-DF4162D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010F-0D25-4A93-99D4-23FDB416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CE75-391A-43FB-A6A5-7C4A2F66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17191-2C9D-4801-8FB3-975532A3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91A28-ED75-4DC1-B2D0-223F3B6B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D4B4-3CC2-4A0D-8E2A-76306C36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E099-0447-40B4-8697-ABA01847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CCC-BAEA-4EBC-95AA-73001CA0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CFC2-97A7-4B1E-8C2D-A6E841D9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2122-34C6-4C76-905A-270D1F58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F6E6-0BB7-4012-9CCE-F4A5FEAA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5AAAF-453D-4216-A27C-8037D050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08886-F3A7-42A4-9E39-4D8A7817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DECC9-D898-45D2-AC04-B42132E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CC4A-FA45-457B-BC56-4BFC5A64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8F2DD-99A2-4387-B6BD-3A21E69F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7353-DBB5-456F-95F2-782AA855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31B-2955-42AF-8407-BCC8ABC5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E8E-485A-4C69-A5DB-A9F8549A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3B6-2171-4552-B5F6-71E6F0C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F11-A872-442E-82F1-9512457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952-E1E1-4736-83FF-D715114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3C09-08C3-4AF1-87A2-AEA28191B79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04F9-38BB-4B47-9230-20B007AF86D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9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880E-ED59-4FA6-84BE-BE386014467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A5C9-B621-428D-9B86-32F4DA903E9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50920" y="691920"/>
            <a:ext cx="7921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«Вы – талантливые дети! Когда-нибудь вы сами приятно поразитесь, какие вы умные, как много и хорошо умеете, если будете постоянно работать над собой, ставить новые цели и стремиться к их достижению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Ж. – Ж. Русс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6" name="" descr="Laurie Fendrich - Brainstorm - Blogs - The Chronicle of Higher Education"/>
          <p:cNvPicPr/>
          <p:nvPr/>
        </p:nvPicPr>
        <p:blipFill>
          <a:blip r:embed="rId2"/>
          <a:stretch/>
        </p:blipFill>
        <p:spPr>
          <a:xfrm>
            <a:off x="0" y="2838600"/>
            <a:ext cx="2868480" cy="401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Решение задачи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с. 31 № 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Trebuchet MS"/>
              </a:rPr>
              <a:t>Ц          К          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3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       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1 : 3 = 0 (ост. 1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5" descr="C:\Users\1\Pictures\2013-11-30\Mail.JPG"/>
          <p:cNvPicPr/>
          <p:nvPr/>
        </p:nvPicPr>
        <p:blipFill>
          <a:blip r:embed="rId2"/>
          <a:srcRect l="4709" t="0" r="1941" b="12268"/>
          <a:stretch/>
        </p:blipFill>
        <p:spPr>
          <a:xfrm>
            <a:off x="622764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28600" y="762120"/>
          <a:ext cx="8748720" cy="4552920"/>
        </p:xfrm>
        <a:graphic>
          <a:graphicData uri="http://schemas.openxmlformats.org/drawingml/2006/table">
            <a:tbl>
              <a:tblPr/>
              <a:tblGrid>
                <a:gridCol w="5113440"/>
                <a:gridCol w="3635280"/>
              </a:tblGrid>
              <a:tr h="45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работаем отлично,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охнуть не прочь сейчас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зарядка к нам привычно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урок приходит в класс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ше руки, выше пятки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ыбнитесь веселей!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попрыгаем как зайки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зу станем всех бодрей!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янулись и вздохнули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охнули?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охнули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4e7ed"/>
                      </a:solidFill>
                    </a:lnL>
                    <a:lnR w="13680">
                      <a:solidFill>
                        <a:srgbClr val="f4e7ed"/>
                      </a:solidFill>
                    </a:lnR>
                    <a:lnT w="13680">
                      <a:solidFill>
                        <a:srgbClr val="f4e7ed"/>
                      </a:solidFill>
                    </a:lnT>
                    <a:lnB w="13680">
                      <a:solidFill>
                        <a:srgbClr val="f4e7e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али и потянул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яхнули р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няли руки ввер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4e7ed"/>
                      </a:solidFill>
                    </a:lnL>
                    <a:lnR w="13680">
                      <a:solidFill>
                        <a:srgbClr val="f4e7ed"/>
                      </a:solidFill>
                    </a:lnR>
                    <a:lnT w="13680">
                      <a:solidFill>
                        <a:srgbClr val="f4e7ed"/>
                      </a:solidFill>
                    </a:lnT>
                    <a:lnB w="13680">
                      <a:solidFill>
                        <a:srgbClr val="f4e7e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Picture 12" descr="frog5-10"/>
          <p:cNvPicPr/>
          <p:nvPr/>
        </p:nvPicPr>
        <p:blipFill>
          <a:blip r:embed="rId2"/>
          <a:stretch/>
        </p:blipFill>
        <p:spPr>
          <a:xfrm>
            <a:off x="2286000" y="419112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frog5-10"/>
          <p:cNvPicPr/>
          <p:nvPr/>
        </p:nvPicPr>
        <p:blipFill>
          <a:blip r:embed="rId3"/>
          <a:stretch/>
        </p:blipFill>
        <p:spPr>
          <a:xfrm flipH="1">
            <a:off x="3733920" y="4191120"/>
            <a:ext cx="1828800" cy="239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:64=                                  0 (ост. 22)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:42=                                  0 (ост. 58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4:234=                                0 (ост. 1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:23=                                  0 (ост. 84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8:59=                                  0 (ост. 13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"/>
          <p:cNvSpPr/>
          <p:nvPr/>
        </p:nvSpPr>
        <p:spPr>
          <a:xfrm>
            <a:off x="1763640" y="2349360"/>
            <a:ext cx="338472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3640" y="2997360"/>
            <a:ext cx="34560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3573360"/>
            <a:ext cx="3240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63640" y="2420640"/>
            <a:ext cx="33847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692360" y="2997000"/>
            <a:ext cx="34560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050920" y="4678200"/>
            <a:ext cx="2907000" cy="21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:64=                              0 ( ост. 21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:42=                              0 (ост. 5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2:234=                            0 (ост. 14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:23=                              0 (ост. 8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5:59=                              0 (ост. 1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2492280"/>
            <a:ext cx="3095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068640"/>
            <a:ext cx="316692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645000"/>
            <a:ext cx="288000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763640" y="2492280"/>
            <a:ext cx="302436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763640" y="2997000"/>
            <a:ext cx="3024360" cy="1726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25923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:64=                            0 (ост. 5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:42=                            0 (ост. 89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9:234=                          0 (ост. 1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:23=                            0 (ост. 20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7:59=                            0 (ост. 18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"/>
          <p:cNvSpPr/>
          <p:nvPr/>
        </p:nvSpPr>
        <p:spPr>
          <a:xfrm>
            <a:off x="1763640" y="2349360"/>
            <a:ext cx="280836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2997360"/>
            <a:ext cx="287964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08000" y="2997000"/>
            <a:ext cx="2664000" cy="50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4076640"/>
            <a:ext cx="295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763640" y="2421000"/>
            <a:ext cx="287964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25923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: 64 =                               0 (ост. 19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 : 42 =                               0 (ост. 1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3 : 234 =                             0 (ост. 56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 : 23 =                               0 (ост. 1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 : 59 =                               0 (ост. 83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349360"/>
            <a:ext cx="3168720" cy="57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2924280"/>
            <a:ext cx="31687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3500280"/>
            <a:ext cx="28800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979640" y="2420640"/>
            <a:ext cx="31687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050920" y="3500280"/>
            <a:ext cx="316872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979640" y="4797360"/>
            <a:ext cx="25923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 : 64 =                                0 (ост. 13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: 42 =                                0 (ост. 11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7 : 234 =                              0 (ост. 4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 : 23 =                                0 (ост. 16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5 : 59 =                                0 (ост. 8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2421000"/>
            <a:ext cx="32418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0920" y="292428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68360" y="3500280"/>
            <a:ext cx="309564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050920" y="2420640"/>
            <a:ext cx="324180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050920" y="3499920"/>
            <a:ext cx="324180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68360" y="4797360"/>
            <a:ext cx="259272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Проверяем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 : 64 =                                0 (ост. 22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1 : 42 =                                0 (ост. 25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7 : 234 =                              0 (ост. 1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 : 23 =                                0 (ост. 41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 : 59 =                                0 (ост. 97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2421000"/>
            <a:ext cx="3241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50920" y="2997360"/>
            <a:ext cx="32418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3573360"/>
            <a:ext cx="302436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050920" y="2492280"/>
            <a:ext cx="3241800" cy="165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050920" y="3573000"/>
            <a:ext cx="32418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411280" y="4869000"/>
            <a:ext cx="2592360" cy="180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97488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Марафон правил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2556000" cy="24922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997600" y="4319640"/>
            <a:ext cx="3146400" cy="253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Марафон правил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Рисунок 3" descr="Рисунок14.jpg"/>
          <p:cNvPicPr/>
          <p:nvPr/>
        </p:nvPicPr>
        <p:blipFill>
          <a:blip r:embed="rId2"/>
          <a:stretch/>
        </p:blipFill>
        <p:spPr>
          <a:xfrm>
            <a:off x="6012000" y="3726000"/>
            <a:ext cx="3132000" cy="313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2276640"/>
            <a:ext cx="79200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2349360"/>
            <a:ext cx="792000" cy="8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43640" y="2276640"/>
            <a:ext cx="79236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242100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40000" y="242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8360" y="2492280"/>
            <a:ext cx="57492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2421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2421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64000" y="2492280"/>
            <a:ext cx="360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2349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573360"/>
            <a:ext cx="4967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5» - нет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4» - 1 оши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3» - 2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2» - 3 ошибки и бо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" descr="Ассортимент магазинов &quot;Белый Кролик&quot; - Книги, канцтовары, развивающие игры, подарки Белый Кролик - Сеть магазинов развития"/>
          <p:cNvPicPr/>
          <p:nvPr/>
        </p:nvPicPr>
        <p:blipFill>
          <a:blip r:embed="rId2"/>
          <a:stretch/>
        </p:blipFill>
        <p:spPr>
          <a:xfrm>
            <a:off x="4932360" y="333360"/>
            <a:ext cx="2849400" cy="2414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Фотоконкурс: &quot;Маленькие исследователи&quot;"/>
          <p:cNvPicPr/>
          <p:nvPr/>
        </p:nvPicPr>
        <p:blipFill>
          <a:blip r:embed="rId3"/>
          <a:stretch/>
        </p:blipFill>
        <p:spPr>
          <a:xfrm>
            <a:off x="539640" y="3645000"/>
            <a:ext cx="2627280" cy="262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ff00"/>
                </a:solidFill>
                <a:latin typeface="Trebuchet MS"/>
              </a:rPr>
              <a:t>Самостоятельная работа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EA5E-031B-46E9-89C9-1CEF7BF23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55280" y="1198440"/>
            <a:ext cx="79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айдите значение выражения: а:23, если а=19,15, 6, 9</a:t>
            </a:r>
            <a:endParaRPr b="0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684360" y="2930760"/>
            <a:ext cx="799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19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856800" y="4508640"/>
            <a:ext cx="587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6  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6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6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8"/>
          <p:cNvSpPr/>
          <p:nvPr/>
        </p:nvSpPr>
        <p:spPr>
          <a:xfrm>
            <a:off x="928080" y="5300640"/>
            <a:ext cx="575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9 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9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785880" y="3645000"/>
            <a:ext cx="647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а=15   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5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23=0(ост.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15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)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80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300"/>
                            </p:stCondLst>
                            <p:childTnLst>
                              <p:par>
                                <p:cTn id="3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егодня мы: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двинули …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ставили…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ьзовались данным алгоритмом… 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428760" y="928800"/>
          <a:ext cx="7191360" cy="3076560"/>
        </p:xfrm>
        <a:graphic>
          <a:graphicData uri="http://schemas.openxmlformats.org/drawingml/2006/table">
            <a:tbl>
              <a:tblPr/>
              <a:tblGrid>
                <a:gridCol w="7191360"/>
              </a:tblGrid>
              <a:tr h="30765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Домашнее задани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7030a0"/>
                          </a:solidFill>
                          <a:latin typeface="Comic Sans MS"/>
                          <a:ea typeface="Times New Roman"/>
                        </a:rPr>
                        <a:t>стр. 31 №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7" descr="j0292122"/>
          <p:cNvPicPr/>
          <p:nvPr/>
        </p:nvPicPr>
        <p:blipFill>
          <a:blip r:embed="rId2"/>
          <a:stretch/>
        </p:blipFill>
        <p:spPr>
          <a:xfrm>
            <a:off x="4788000" y="2924280"/>
            <a:ext cx="2879640" cy="25239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5"/>
          <p:cNvSpPr/>
          <p:nvPr/>
        </p:nvSpPr>
        <p:spPr>
          <a:xfrm>
            <a:off x="2268360" y="5013360"/>
            <a:ext cx="2922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Спасибо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5" descr="C:\Users\1\Pictures\2013-11-30\Mail.JPG"/>
          <p:cNvPicPr/>
          <p:nvPr/>
        </p:nvPicPr>
        <p:blipFill>
          <a:blip r:embed="rId3"/>
          <a:srcRect l="4709" t="0" r="1941" b="12268"/>
          <a:stretch/>
        </p:blipFill>
        <p:spPr>
          <a:xfrm>
            <a:off x="395280" y="3500280"/>
            <a:ext cx="1905120" cy="266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55640" y="2421000"/>
            <a:ext cx="7056000" cy="3671640"/>
            <a:chOff x="755640" y="2421000"/>
            <a:chExt cx="7056000" cy="3671640"/>
          </a:xfrm>
        </p:grpSpPr>
        <p:grpSp>
          <p:nvGrpSpPr>
            <p:cNvPr id="194" name=""/>
            <p:cNvGrpSpPr/>
            <p:nvPr/>
          </p:nvGrpSpPr>
          <p:grpSpPr>
            <a:xfrm>
              <a:off x="755640" y="3378960"/>
              <a:ext cx="7056000" cy="2713680"/>
              <a:chOff x="755640" y="3378960"/>
              <a:chExt cx="7056000" cy="2713680"/>
            </a:xfrm>
          </p:grpSpPr>
          <p:sp>
            <p:nvSpPr>
              <p:cNvPr id="195" name=""/>
              <p:cNvSpPr/>
              <p:nvPr/>
            </p:nvSpPr>
            <p:spPr>
              <a:xfrm>
                <a:off x="7211160" y="5454360"/>
                <a:ext cx="600480" cy="63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5640" y="4496400"/>
                <a:ext cx="599400" cy="63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59120" y="4017240"/>
                <a:ext cx="601560" cy="635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56960" y="3378960"/>
                <a:ext cx="600840" cy="637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57560" y="4816080"/>
                <a:ext cx="599400" cy="64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60680" y="4017240"/>
                <a:ext cx="599400" cy="638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356480" y="3858120"/>
                <a:ext cx="750600" cy="79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56720" y="3858120"/>
                <a:ext cx="750600" cy="9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758400" y="4496400"/>
                <a:ext cx="90036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59960" y="433692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10320" y="4496400"/>
                <a:ext cx="750600" cy="957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956960" y="2421000"/>
              <a:ext cx="4653000" cy="63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аршрутный ли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Архив материалов - Сайт МАУ ШИЛИ"/>
          <p:cNvPicPr/>
          <p:nvPr/>
        </p:nvPicPr>
        <p:blipFill>
          <a:blip r:embed="rId2"/>
          <a:stretch/>
        </p:blipFill>
        <p:spPr>
          <a:xfrm>
            <a:off x="0" y="0"/>
            <a:ext cx="2397240" cy="300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«Зарядка для ума»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5, 18, 02.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928960" y="571680"/>
            <a:ext cx="378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1216080" y="642960"/>
          <a:ext cx="7400880" cy="49291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6080" y="642960"/>
                    <a:ext cx="740088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Прямоугольник 3"/>
          <p:cNvSpPr/>
          <p:nvPr/>
        </p:nvSpPr>
        <p:spPr>
          <a:xfrm>
            <a:off x="1258920" y="642960"/>
            <a:ext cx="7416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18 февраля.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Классная работ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Заголовок 2" descr="Ассортимент магазинов &quot;Белый Кролик&quot; - Книги, канцтовары, развивающие игры, подарки Белый Кролик - Сеть магазинов развития"/>
          <p:cNvPicPr/>
          <p:nvPr/>
        </p:nvPicPr>
        <p:blipFill>
          <a:blip r:embed="rId2"/>
          <a:stretch/>
        </p:blipFill>
        <p:spPr>
          <a:xfrm>
            <a:off x="5867280" y="4081320"/>
            <a:ext cx="3276720" cy="27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9218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 * 3 : 6 + 16 * 4 : 8 – 49 : 7 * 2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 * 3 : 6 + 16 * 4 : 8 – 49 : 7 * 2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71640" y="404640"/>
            <a:ext cx="6072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0" bIns="0"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Возьмите 3 па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omic Sans MS"/>
                <a:ea typeface="Times New Roman"/>
              </a:rPr>
              <a:t>постройте квадр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58920" y="1844640"/>
          <a:ext cx="3929040" cy="27860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2786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:4=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Прямоугольник 5"/>
          <p:cNvSpPr/>
          <p:nvPr/>
        </p:nvSpPr>
        <p:spPr>
          <a:xfrm>
            <a:off x="3026520" y="19162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ост.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571680" y="3857760"/>
            <a:ext cx="7215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Если делитель больше делимого, то в частном получим нуль, а остаток будет равен делим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Решение задачи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с. 31 № 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Trebuchet MS"/>
              </a:rPr>
              <a:t>Ц          К          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3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rebuchet MS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       10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10 : 3 = 3 (ост. 1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Рисунок 3" descr="Рисунок14.jpg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C:\Users\1\Pictures\2013-11-30\Mail.JPG"/>
          <p:cNvPicPr/>
          <p:nvPr/>
        </p:nvPicPr>
        <p:blipFill>
          <a:blip r:embed="rId3"/>
          <a:srcRect l="4709" t="0" r="1941" b="12268"/>
          <a:stretch/>
        </p:blipFill>
        <p:spPr>
          <a:xfrm>
            <a:off x="622764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5-02-21T02:08:20Z</dcterms:modified>
  <cp:revision>29</cp:revision>
  <dc:subject/>
  <dc:title>Случаи деления, когда делитель больше делимого.</dc:title>
</cp:coreProperties>
</file>