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85C4-4FEE-4E7E-A518-CC2C2327D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18FE-C764-443E-B7AC-DC438C3C98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661-8223-4A1A-B5EE-C3AD9BDF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1D7-549A-4B3E-BF2F-BD5CDFA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744-5B08-4442-9BE5-EA85FB30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A1F-1EBE-4415-8FCE-07309590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F565-0286-49FB-9472-B86B4635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950A-0CF8-44A0-828C-798F2028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3071-0E96-49EE-9300-8FD7A89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AE24-65DF-4B5D-92A9-1300453C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1FA-3F61-4405-96A5-9E00710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61F-9E7F-48B9-9794-FC8B610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4CB9-1F12-48A7-B17C-0CF3115C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339-6424-4021-BE93-28A693E6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546A-9B12-44BA-B246-32D6EA5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6115-87BF-48FF-A68D-52BF608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B55B-947F-4C20-AEBF-CEF8E2F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5A4-40B5-4C78-91B5-7FB85F27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712-EA2E-4B62-842F-71997945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23F8-4E56-4DD4-9581-30FD606E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0D7E-8F17-4A1D-BB6A-7F5ACDF5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75BA-40FC-4787-A659-03D66183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E782-8835-49E3-89AC-065B3C4D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D1D5-A918-4235-96FF-83BCFF6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ACB-2B0F-4E7C-B3F6-ED0DC1B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121E-9EAD-4D20-804A-8FAE2A16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A784-3256-4BAD-8BB6-5FA1990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C64A-3C9F-4298-A718-EC24E8F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0F5F-C26D-4600-9901-605BE92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7142-FFE2-4627-A5E2-7FF3113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B2AF-529D-4F9E-852A-F9B7A098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0C88-1C80-49CA-A81E-D99E2CB2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13DE-0FBC-4BAC-AF70-4935D9B5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B89A-2610-407F-B243-BD5095A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4386-0123-43C1-9ACC-9FDA2CA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C5C-3E3F-4E32-B7AD-31DB706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8401-17A9-4407-92A6-5EF34A79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2E02-B88B-43A4-AA8D-26C1252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7346-9009-41D0-8EE3-3FBF42DA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D147-5BA2-41A5-9A8A-D736E9D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7CCE-510D-4F7B-B593-2B3EC4B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C691-2C8E-4EB1-B157-B213334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A999-986C-49CD-8210-4102179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2780-B0AE-4D4D-A652-F5AFE5E6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F087-A30D-4248-B1C1-528F67DA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380-5494-4907-8091-D81441F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1C7-562C-4164-99AB-D9CA02B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12A-00C8-4973-BBE9-54C97FF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43A-869B-4E86-A9B7-7BCD9B7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058-373C-40CB-B117-3DBCD21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410-C95C-45F9-B9B2-01CF699AE37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EB2-EE40-4950-B61D-B3EF57BE4FF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79E-DA6D-48BE-AA59-0285FC41B70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5B58-1D0C-490D-A8C5-1B857486F46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«Вы –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и стремиться к их достижению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. – Ж. Русс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6" name="" descr="Laurie Fendrich - Brainstorm - Blogs - The Chronicle of Higher Education"/>
          <p:cNvPicPr/>
          <p:nvPr/>
        </p:nvPicPr>
        <p:blipFill>
          <a:blip r:embed="rId2"/>
          <a:stretch/>
        </p:blipFill>
        <p:spPr>
          <a:xfrm>
            <a:off x="0" y="2838600"/>
            <a:ext cx="2868480" cy="40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Решение задачи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с. 31 № 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rebuchet MS"/>
              </a:rPr>
              <a:t>Ц          К          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3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       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1 : 3 = 0 (ост. 1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5" descr="C:\Users\1\Pictures\2013-11-30\Mail.JPG"/>
          <p:cNvPicPr/>
          <p:nvPr/>
        </p:nvPicPr>
        <p:blipFill>
          <a:blip r:embed="rId2"/>
          <a:srcRect l="4709" t="0" r="1941" b="12268"/>
          <a:stretch/>
        </p:blipFill>
        <p:spPr>
          <a:xfrm>
            <a:off x="622764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8600" y="762120"/>
          <a:ext cx="8748720" cy="4552920"/>
        </p:xfrm>
        <a:graphic>
          <a:graphicData uri="http://schemas.openxmlformats.org/drawingml/2006/table">
            <a:tbl>
              <a:tblPr/>
              <a:tblGrid>
                <a:gridCol w="5113440"/>
                <a:gridCol w="3635280"/>
              </a:tblGrid>
              <a:tr h="45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работаем отлично,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ть не прочь сейчас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зарядка к нам привычн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урок приходит в класс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руки, выше пятк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ыбнитесь веселей!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попрыгаем как зайк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зу станем всех бодрей!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янулись и вздохнули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ли?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ли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4e7ed"/>
                      </a:solidFill>
                    </a:lnL>
                    <a:lnR w="13680">
                      <a:solidFill>
                        <a:srgbClr val="f4e7ed"/>
                      </a:solidFill>
                    </a:lnR>
                    <a:lnT w="13680">
                      <a:solidFill>
                        <a:srgbClr val="f4e7ed"/>
                      </a:solidFill>
                    </a:lnT>
                    <a:lnB w="13680">
                      <a:solidFill>
                        <a:srgbClr val="f4e7e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али и потянул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яхнули р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няли руки ввер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4e7ed"/>
                      </a:solidFill>
                    </a:lnL>
                    <a:lnR w="13680">
                      <a:solidFill>
                        <a:srgbClr val="f4e7ed"/>
                      </a:solidFill>
                    </a:lnR>
                    <a:lnT w="13680">
                      <a:solidFill>
                        <a:srgbClr val="f4e7ed"/>
                      </a:solidFill>
                    </a:lnT>
                    <a:lnB w="13680">
                      <a:solidFill>
                        <a:srgbClr val="f4e7e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Picture 12" descr="frog5-10"/>
          <p:cNvPicPr/>
          <p:nvPr/>
        </p:nvPicPr>
        <p:blipFill>
          <a:blip r:embed="rId2"/>
          <a:stretch/>
        </p:blipFill>
        <p:spPr>
          <a:xfrm>
            <a:off x="2286000" y="419112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frog5-10"/>
          <p:cNvPicPr/>
          <p:nvPr/>
        </p:nvPicPr>
        <p:blipFill>
          <a:blip r:embed="rId3"/>
          <a:stretch/>
        </p:blipFill>
        <p:spPr>
          <a:xfrm flipH="1">
            <a:off x="3733920" y="4191120"/>
            <a:ext cx="1828800" cy="23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:64=                                  0 (ост. 22)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:42=                                  0 (ост. 5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4:234=                                0 (ост. 1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:23=                                  0 (ост. 84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8:59=                                  0 (ост. 1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349360"/>
            <a:ext cx="338472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2997360"/>
            <a:ext cx="34560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3573360"/>
            <a:ext cx="3240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63640" y="2420640"/>
            <a:ext cx="33847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92360" y="2997000"/>
            <a:ext cx="34560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050920" y="4678200"/>
            <a:ext cx="2907000" cy="21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:64=                              0 ( ост. 2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:42=                              0 (ост. 5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2:234=                            0 (ост. 14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:23=                              0 (ост. 8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5:59=                              0 (ост. 1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492280"/>
            <a:ext cx="3095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068640"/>
            <a:ext cx="316692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645000"/>
            <a:ext cx="2880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763640" y="2492280"/>
            <a:ext cx="302436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763640" y="2997000"/>
            <a:ext cx="302436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:64=                            0 (ост. 5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:42=                            0 (ост. 89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9:234=                          0 (ост. 1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:23=                            0 (ост. 20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7:59=                            0 (ост. 1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2349360"/>
            <a:ext cx="280836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997360"/>
            <a:ext cx="2879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08000" y="2997000"/>
            <a:ext cx="266400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4076640"/>
            <a:ext cx="29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763640" y="2421000"/>
            <a:ext cx="287964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: 64 =                               0 (ост. 19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: 42 =                               0 (ост. 1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3 : 234 =                             0 (ост. 56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 : 23 =                               0 (ост. 1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 : 59 =                               0 (ост. 8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349360"/>
            <a:ext cx="316872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2924280"/>
            <a:ext cx="3168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3500280"/>
            <a:ext cx="2880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979640" y="2420640"/>
            <a:ext cx="31687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0920" y="3500280"/>
            <a:ext cx="316872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: 64 =                                0 (ост. 1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: 42 =                                0 (ост. 1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: 234 =                              0 (ост. 4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 : 23 =                                0 (ост. 16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 : 59 =                                0 (ост. 8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2421000"/>
            <a:ext cx="3241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292428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8360" y="3500280"/>
            <a:ext cx="3095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050920" y="2420640"/>
            <a:ext cx="3241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50920" y="3499920"/>
            <a:ext cx="32418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68360" y="4797360"/>
            <a:ext cx="259272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 : 64 =                                0 (ост. 2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 : 42 =                                0 (ост. 2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7 : 234 =                              0 (ост. 1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 : 23 =                                0 (ост. 4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: 59 =                                0 (ост. 9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2421000"/>
            <a:ext cx="3241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2997360"/>
            <a:ext cx="32418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3573360"/>
            <a:ext cx="302436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0920" y="2492280"/>
            <a:ext cx="3241800" cy="165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050920" y="3573000"/>
            <a:ext cx="32418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411280" y="4869000"/>
            <a:ext cx="2592360" cy="18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9748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Марафон правил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556000" cy="2492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997600" y="4319640"/>
            <a:ext cx="3146400" cy="253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Марафон правил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Рисунок 3" descr="Рисунок14.jpg"/>
          <p:cNvPicPr/>
          <p:nvPr/>
        </p:nvPicPr>
        <p:blipFill>
          <a:blip r:embed="rId2"/>
          <a:stretch/>
        </p:blipFill>
        <p:spPr>
          <a:xfrm>
            <a:off x="6012000" y="372600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276640"/>
            <a:ext cx="79200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2349360"/>
            <a:ext cx="79200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43640" y="2276640"/>
            <a:ext cx="79236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2421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242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2492280"/>
            <a:ext cx="574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2421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242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64000" y="2492280"/>
            <a:ext cx="360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234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573360"/>
            <a:ext cx="496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5» - нет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4» - 1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3» - 2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2» - 3 ошибки и бо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" descr="Ассортимент магазинов &quot;Белый Кролик&quot; - Книги, канцтовары, развивающие игры, подарки Белый Кролик - Сеть магазинов развития"/>
          <p:cNvPicPr/>
          <p:nvPr/>
        </p:nvPicPr>
        <p:blipFill>
          <a:blip r:embed="rId2"/>
          <a:stretch/>
        </p:blipFill>
        <p:spPr>
          <a:xfrm>
            <a:off x="4932360" y="333360"/>
            <a:ext cx="2849400" cy="2414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Фотоконкурс: &quot;Маленькие исследователи&quot;"/>
          <p:cNvPicPr/>
          <p:nvPr/>
        </p:nvPicPr>
        <p:blipFill>
          <a:blip r:embed="rId3"/>
          <a:stretch/>
        </p:blipFill>
        <p:spPr>
          <a:xfrm>
            <a:off x="539640" y="364500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ff00"/>
                </a:solidFill>
                <a:latin typeface="Trebuchet MS"/>
              </a:rPr>
              <a:t>Самостоятельная работа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08B-878A-411E-AFD6-B4F9DE28C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280" y="1198440"/>
            <a:ext cx="79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айдите значение выражения: а:23, если а=19,15, 6, 9</a:t>
            </a:r>
            <a:endParaRPr b="0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684360" y="293076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19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856800" y="4508640"/>
            <a:ext cx="587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6 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6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6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928080" y="5300640"/>
            <a:ext cx="575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9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785880" y="3645000"/>
            <a:ext cx="64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15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5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5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300"/>
                            </p:stCondLst>
                            <p:childTnLst>
                              <p:par>
                                <p:cTn id="3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егодня мы: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двинули 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ставили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ьзовались данным алгоритмом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28760" y="928800"/>
          <a:ext cx="7191360" cy="3076560"/>
        </p:xfrm>
        <a:graphic>
          <a:graphicData uri="http://schemas.openxmlformats.org/drawingml/2006/table">
            <a:tbl>
              <a:tblPr/>
              <a:tblGrid>
                <a:gridCol w="7191360"/>
              </a:tblGrid>
              <a:tr h="30765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Домашнее задани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стр. 31 №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7" descr="j0292122"/>
          <p:cNvPicPr/>
          <p:nvPr/>
        </p:nvPicPr>
        <p:blipFill>
          <a:blip r:embed="rId2"/>
          <a:stretch/>
        </p:blipFill>
        <p:spPr>
          <a:xfrm>
            <a:off x="4788000" y="292428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2268360" y="5013360"/>
            <a:ext cx="2922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пасиб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5" descr="C:\Users\1\Pictures\2013-11-30\Mail.JPG"/>
          <p:cNvPicPr/>
          <p:nvPr/>
        </p:nvPicPr>
        <p:blipFill>
          <a:blip r:embed="rId3"/>
          <a:srcRect l="4709" t="0" r="1941" b="12268"/>
          <a:stretch/>
        </p:blipFill>
        <p:spPr>
          <a:xfrm>
            <a:off x="395280" y="3500280"/>
            <a:ext cx="1905120" cy="266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5640" y="2421000"/>
            <a:ext cx="7056000" cy="3671640"/>
            <a:chOff x="755640" y="2421000"/>
            <a:chExt cx="7056000" cy="3671640"/>
          </a:xfrm>
        </p:grpSpPr>
        <p:grpSp>
          <p:nvGrpSpPr>
            <p:cNvPr id="194" name=""/>
            <p:cNvGrpSpPr/>
            <p:nvPr/>
          </p:nvGrpSpPr>
          <p:grpSpPr>
            <a:xfrm>
              <a:off x="755640" y="3378960"/>
              <a:ext cx="7056000" cy="2713680"/>
              <a:chOff x="755640" y="3378960"/>
              <a:chExt cx="7056000" cy="2713680"/>
            </a:xfrm>
          </p:grpSpPr>
          <p:sp>
            <p:nvSpPr>
              <p:cNvPr id="195" name=""/>
              <p:cNvSpPr/>
              <p:nvPr/>
            </p:nvSpPr>
            <p:spPr>
              <a:xfrm>
                <a:off x="7211160" y="5454360"/>
                <a:ext cx="60048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5640" y="4496400"/>
                <a:ext cx="59940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9120" y="4017240"/>
                <a:ext cx="601560" cy="635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56960" y="3378960"/>
                <a:ext cx="600840" cy="63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57560" y="4816080"/>
                <a:ext cx="599400" cy="64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60680" y="4017240"/>
                <a:ext cx="59940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356480" y="3858120"/>
                <a:ext cx="750600" cy="79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6720" y="3858120"/>
                <a:ext cx="750600" cy="9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758400" y="4496400"/>
                <a:ext cx="90036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59960" y="433692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0320" y="4496400"/>
                <a:ext cx="750600" cy="9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956960" y="2421000"/>
              <a:ext cx="4653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аршрутный ли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Архив материалов - Сайт МАУ ШИЛИ"/>
          <p:cNvPicPr/>
          <p:nvPr/>
        </p:nvPicPr>
        <p:blipFill>
          <a:blip r:embed="rId2"/>
          <a:stretch/>
        </p:blipFill>
        <p:spPr>
          <a:xfrm>
            <a:off x="0" y="0"/>
            <a:ext cx="2397240" cy="300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«Зарядка для ума»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5, 18, 02.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928960" y="571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1216080" y="642960"/>
          <a:ext cx="7400880" cy="49291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642960"/>
                    <a:ext cx="74008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Прямоугольник 3"/>
          <p:cNvSpPr/>
          <p:nvPr/>
        </p:nvSpPr>
        <p:spPr>
          <a:xfrm>
            <a:off x="1258920" y="642960"/>
            <a:ext cx="7416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18 февраля.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Заголовок 2" descr="Ассортимент магазинов &quot;Белый Кролик&quot; - Книги, канцтовары, развивающие игры, подарки Белый Кролик - Сеть магазинов развития"/>
          <p:cNvPicPr/>
          <p:nvPr/>
        </p:nvPicPr>
        <p:blipFill>
          <a:blip r:embed="rId2"/>
          <a:stretch/>
        </p:blipFill>
        <p:spPr>
          <a:xfrm>
            <a:off x="5867280" y="4081320"/>
            <a:ext cx="3276720" cy="27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921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 * 3 : 6 + 16 * 4 : 8 – 49 : 7 * 2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 * 3 : 6 + 16 * 4 : 8 – 49 : 7 * 2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1640" y="404640"/>
            <a:ext cx="607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Возьмите 3 па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постройте квадр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58920" y="1844640"/>
          <a:ext cx="3929040" cy="27860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2786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:4=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Прямоугольник 5"/>
          <p:cNvSpPr/>
          <p:nvPr/>
        </p:nvSpPr>
        <p:spPr>
          <a:xfrm>
            <a:off x="3026520" y="19162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ост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71680" y="385776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Если делитель больше делимого, то в частном получим нуль, а остаток будет равен делим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Решение задачи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с. 31 № 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rebuchet MS"/>
              </a:rPr>
              <a:t>Ц          К          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3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       10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10 : 3 = 3 (ост. 1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3" descr="Рисунок14.jpg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C:\Users\1\Pictures\2013-11-30\Mail.JPG"/>
          <p:cNvPicPr/>
          <p:nvPr/>
        </p:nvPicPr>
        <p:blipFill>
          <a:blip r:embed="rId3"/>
          <a:srcRect l="4709" t="0" r="1941" b="12268"/>
          <a:stretch/>
        </p:blipFill>
        <p:spPr>
          <a:xfrm>
            <a:off x="622764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5-02-21T02:08:20Z</dcterms:modified>
  <cp:revision>29</cp:revision>
  <dc:subject/>
  <dc:title>Случаи деления, когда делитель больше делимого.</dc:title>
</cp:coreProperties>
</file>