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F52-EC06-4C2E-8F23-0B261AA6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16D-E772-41FC-A423-452E48AD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B29-D631-4810-9008-342FE9B3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2CC-80C3-46A9-BE48-3094B6A9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8F38-3BA8-464E-AE3C-29AD231C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F44E-2209-448F-A144-21265D7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A9DB-1854-43FD-AF84-04F490EC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2858-B708-4AE3-8BF7-6F6537B5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7B47-C702-48C7-A78F-7BC59DFA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8C78-2F99-47D0-94D5-689D47D2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4EF6-108C-4AB5-834D-F003208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090-442E-45D2-9CCD-52DB060C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C3F2-C8B2-4C74-B358-98221FFC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537E-5208-4A2F-8FE9-E83F0423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6DE4-F7E9-4394-9DAF-915E967B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91D9-CE65-4444-B1E4-A54A0EA4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381F-D15A-4384-AEAA-50F53A4D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879-1BA2-4BBC-BAF4-04961174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E15-394B-414E-B822-4A36DD93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BC0-79E3-4CEC-8438-DF0CC5CA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95F-4A34-409A-B192-88952B97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F43-EA9C-446F-977E-25B058B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F52-35AF-457E-8A99-D12E3FD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CE6-FA61-4268-A924-3522C796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75DF-E9B5-4BF1-A5C4-4211A3861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83DB-7FC9-44D6-83B0-443979729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0520" y="3772080"/>
            <a:ext cx="8001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35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42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50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64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69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е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94920" y="3901320"/>
            <a:ext cx="579132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мбинирован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Пользователь</cp:lastModifiedBy>
  <dcterms:modified xsi:type="dcterms:W3CDTF">2022-12-22T07:19:24Z</dcterms:modified>
  <cp:revision>56</cp:revision>
  <dc:subject/>
  <dc:title>PowerPoint Template</dc:title>
</cp:coreProperties>
</file>