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11.jpeg" ContentType="image/jpeg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443-052D-4787-8E0C-346EA9EE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8F1-BD9F-4620-812B-D840BB5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C15C-DC08-42BB-80D1-30EADE40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557-A622-48EA-90DB-6155FE17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A74A-97EB-4C18-AF71-7B7E9B1D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4B0D-02BD-41BB-9133-782CC2E4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8CCA-F03F-4978-B216-852608E9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60A7-32AD-44B2-B57D-7CA933A0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A7C-0AE1-4118-BB5E-E2425FF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90C2-2226-4A6C-B50D-F7364E9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201-557C-41A8-B544-32B4A55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F32-D951-4EF9-8152-CB0D6C2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6D8B-A609-41BD-90D8-B6C0422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7F4-03AF-43F8-9041-162F379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34A-8078-4978-8F0A-B045E8FE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8605-094E-42E8-8EF3-0BB777C2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90B4-5BB4-45E8-B74D-1CE81BAD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39A-C916-4B25-9E42-95D03581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CDF-8E94-4AA6-A402-7EA22BBB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0F0-036B-4D4E-8254-100DC6E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A04-69F2-43CE-92EF-871E0B4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FDC-EB41-48BD-B824-37F0C2E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1F9-F67E-4603-9496-92E7105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842-7976-490E-9333-E76CF3F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7FA0-E00D-496E-83A5-A5864A7AB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641E-B6AC-4211-B3C4-9F347A627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4840" y="303480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</a:rPr>
              <a:t>Родительское собрание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4038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ервая оценка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к ней относи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относиться к отметкам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отметку. Ему очень хочется быть в ваших глазах хоро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врать и изворачиваться, чтобы быть в ваших глазах хоро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j0282745"/>
          <p:cNvPicPr/>
          <p:nvPr/>
        </p:nvPicPr>
        <p:blipFill>
          <a:blip r:embed="rId1"/>
          <a:stretch/>
        </p:blipFill>
        <p:spPr>
          <a:xfrm>
            <a:off x="3780000" y="4869000"/>
            <a:ext cx="15127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. Объясните ему, что важен не только высокий результат. Больше важны знания, которые он сможет приобрести в результате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G00319_"/>
          <p:cNvPicPr/>
          <p:nvPr/>
        </p:nvPicPr>
        <p:blipFill>
          <a:blip r:embed="rId1"/>
          <a:stretch/>
        </p:blipFill>
        <p:spPr>
          <a:xfrm>
            <a:off x="3851280" y="3141720"/>
            <a:ext cx="468000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ребёнку оценки всл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сомнения - идите в школу и  попытайтесь объективно разобраться в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обвиняйте беспричинно других взрослых и детей в проблемах собств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15960" cy="1403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4114800"/>
            <a:ext cx="92736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своего труда, чтобы ребёнку хотелось вам подраж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076204"/>
          <p:cNvPicPr/>
          <p:nvPr/>
        </p:nvPicPr>
        <p:blipFill>
          <a:blip r:embed="rId1"/>
          <a:stretch/>
        </p:blipFill>
        <p:spPr>
          <a:xfrm>
            <a:off x="3048120" y="3886200"/>
            <a:ext cx="5616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Хорошее, как и плохое, запоминается ребёнком надолго и его хочется повторить. Пусть ребёнок получает хорошую отметку ради того, чтобы его отметили. Вскоре это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80520" y="3772080"/>
            <a:ext cx="80010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135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142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150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164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169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46"/>
          <p:cNvSpPr/>
          <p:nvPr/>
        </p:nvSpPr>
        <p:spPr>
          <a:xfrm>
            <a:off x="533520" y="24382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8"/>
          <p:cNvSpPr/>
          <p:nvPr/>
        </p:nvSpPr>
        <p:spPr>
          <a:xfrm>
            <a:off x="5943600" y="2362320"/>
            <a:ext cx="320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самостоятельно, но не бесконтро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сните трудности, с которыми встречается ребенок при выполнении домашнего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ойте ребенка на выполнение заданий тех уроков, которые были сегодня, а задания на следующий день надо только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индивидуален для каждого ребенка.            Не следует ни торопиться, ни затяг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ребёнка самостоятельн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ч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ша родительская обяза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j0088510"/>
          <p:cNvPicPr/>
          <p:nvPr/>
        </p:nvPicPr>
        <p:blipFill>
          <a:blip r:embed="rId1"/>
          <a:stretch/>
        </p:blipFill>
        <p:spPr>
          <a:xfrm>
            <a:off x="5715000" y="3733920"/>
            <a:ext cx="30052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1120" y="1294920"/>
            <a:ext cx="49528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специалистам: психологу, логопеду, оку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4920" y="3901320"/>
            <a:ext cx="5791320" cy="32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мбинирован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Пользователь</cp:lastModifiedBy>
  <dcterms:modified xsi:type="dcterms:W3CDTF">2022-12-22T07:19:24Z</dcterms:modified>
  <cp:revision>56</cp:revision>
  <dc:subject/>
  <dc:title>PowerPoint Template</dc:title>
</cp:coreProperties>
</file>