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296-49C8-4B00-9CA3-52C920ED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612-69A3-4069-ADE0-B484B5AA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9E2-8EBF-41E2-A2ED-F5168E24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532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164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532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164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2D7-0BA6-4E22-9BF7-B0C79D72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78A-9F8F-4225-BC02-97B7A988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532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1640" y="222372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5532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21640" y="4711680"/>
            <a:ext cx="27295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309-B8BC-4893-94EE-5258C2F0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AFB-24ED-4FCC-96A3-0E55AD9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AA5-1A34-4B14-9B1F-B359AA22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754-F9BD-457D-8EF1-4C721DB3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E33-BA5D-4FE2-9D8D-05E799E9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3120" y="471168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1D5-38DE-4EE5-90B0-C45F5A6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3120" y="2223720"/>
            <a:ext cx="41367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1680"/>
            <a:ext cx="84772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075-6956-4944-A39C-3B58DE3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375-A113-4415-8770-19A1473AC0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«Мы в Бузулуке рождены и в город свой мы влюблены»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4989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47200" y="1260000"/>
            <a:ext cx="5032440" cy="56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Comic Sans MS"/>
                <a:ea typeface="Lucida Sans Unicode"/>
              </a:rPr>
              <a:t>Город Бузулук основан в 1736 году. Самым живописным местом Бузулукского района считается Бузулукский бор. Бор занимает очень большую площадь. В нём собрано большое разнообразие растений и животных. В нашем городе проживает около 90 тысяч человек. С каждым годом наш город преображается. В нём появляются красивые парки, фонтаны и детские площадки. Зимой на центральной площади устанавливают красивую большую ёлку. А для детворы строят огромную горку и ледяные крепости. Наш город самый красивый на планете.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6e6e6"/>
                </a:solidFill>
                <a:latin typeface="Comic Sans MS"/>
                <a:ea typeface="Lucida Sans Unicode"/>
              </a:rPr>
              <a:t>Сочинение ученика 3 «Б» класса Овчинникова Александра</a:t>
            </a:r>
            <a:endParaRPr b="0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759280" y="1079640"/>
            <a:ext cx="414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8920" y="900000"/>
            <a:ext cx="5040360" cy="667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й город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ак ты дорог для меня!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г город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божаю я тебя!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И твои леса больши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тепи, горы и поля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Много вас таких в России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Но ведь родина одн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Ранняя зоря уныл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Озарит твои дома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 вечеру всё тихо стыл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И закат накрыл тебя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Ночью тихо. Только ветер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Шелестит листвой сухой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А потом их кружит где-то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месте в танце под луной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Утром звёзды сменит солнц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Птицы песни запоют.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он наш выглянет в оконце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Все на улицу уйду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й город,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Как ты дорог для меня!</a:t>
            </a:r>
            <a:br>
              <a:rPr sz="1600"/>
            </a:br>
            <a:r>
              <a:rPr b="1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Бузулук - родной мог город</a:t>
            </a:r>
            <a:br>
              <a:rPr sz="1600"/>
            </a:b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Стихи бузулукских поэтов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7380360" y="485928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2"/>
          <a:stretch/>
        </p:blipFill>
        <p:spPr>
          <a:xfrm>
            <a:off x="6480000" y="306072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3"/>
          <a:stretch/>
        </p:blipFill>
        <p:spPr>
          <a:xfrm>
            <a:off x="4848120" y="900000"/>
            <a:ext cx="253224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ff"/>
                </a:solidFill>
                <a:latin typeface="Arial"/>
              </a:rPr>
              <a:t>Мой 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19280" y="1260360"/>
            <a:ext cx="50576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Город Бузулук основан в 1736 году. Бузулучане гордятся Бузулукским бором. В Бору есть музей. Там есть образцы животных, схема бора и книги про бор. В Бузулуке тоже есть музей. Там есть стариные предметы обихода, которые рассказывают как жили люди в разные годы. В парке есть фонтан, детская площадка. Ещё памятник Ленина. По близости памятник Романенко. В этом году установили новый памятник, посвящённый людям, погибшим в 1920-1930 годы от голода. Мне нравится мой город.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Сочинение ученицы 3 «Б» класса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Марфиной Алёны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360360" y="1260360"/>
            <a:ext cx="3780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178920"/>
            <a:ext cx="86072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Спорт в Бузулуке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94" name="Рисунок 2" descr=""/>
          <p:cNvPicPr/>
          <p:nvPr/>
        </p:nvPicPr>
        <p:blipFill>
          <a:blip r:embed="rId1"/>
          <a:stretch/>
        </p:blipFill>
        <p:spPr>
          <a:xfrm>
            <a:off x="539640" y="1380960"/>
            <a:ext cx="4140360" cy="2399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6119640" y="5032440"/>
            <a:ext cx="3780000" cy="2347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3"/>
          <a:stretch/>
        </p:blipFill>
        <p:spPr>
          <a:xfrm>
            <a:off x="3419640" y="3419640"/>
            <a:ext cx="3600360" cy="231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4"/>
          <a:stretch/>
        </p:blipFill>
        <p:spPr>
          <a:xfrm>
            <a:off x="539640" y="4500720"/>
            <a:ext cx="2548080" cy="2339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"/>
          <p:cNvPicPr/>
          <p:nvPr/>
        </p:nvPicPr>
        <p:blipFill>
          <a:blip r:embed="rId5"/>
          <a:stretch/>
        </p:blipFill>
        <p:spPr>
          <a:xfrm>
            <a:off x="7199280" y="1260360"/>
            <a:ext cx="252108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607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ff00"/>
                </a:solidFill>
                <a:latin typeface="Arial"/>
              </a:rPr>
              <a:t>Город 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640" y="853920"/>
            <a:ext cx="9180720" cy="29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Город Бузулук — промышленный, сельскохозяйственный и культурный центр Западного Оренбуржья. Один из самых старых населённых пунктов на территории обширного степного края. Город Бузулук основан как крепость в 1736 году. Расположен в Предуралье на реке Самара близ впадения в неё реки Бузулук. Занимает площадь 5331 га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Достопримечательностью города являются: спортивный комплекс «Олимпиец», памятник воинам — интернационалистам, мемориал «Победы и Воинской славы», водонапорная башня. Городской краеведческий музей. Также достопримечательностью города является Бузулукский бор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Бузулукский бор — это огромного размера лесной массив, котрый имеет форму треугольника. Посредине Бузулукского бора протекает река Боровка, которая впадает на юге в реку Самара. Бузулукский бор занимает площадь свыше 111 га. В нём обитает до 180 видов зверей и птиц. Достопримечательностью бора являются две сосны в возрасте 300-350 лет. Бузулукский бор является национальным парком.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ff00"/>
                </a:solidFill>
                <a:latin typeface="Times New Roman"/>
                <a:ea typeface="Lucida Sans Unicode"/>
              </a:rPr>
              <a:t>Сочинение ученицы 3 «Б» класса Родионовой Алины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539640" y="4140360"/>
            <a:ext cx="936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16200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6e6e6"/>
                </a:solidFill>
                <a:latin typeface="Arial"/>
              </a:rPr>
              <a:t>Бузулук.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82720" y="1440000"/>
            <a:ext cx="3797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Город Бузулук основан в 1736 году. В нашем городе есть три реки: Самара, Бузулук и Домашка. Не далеко от города расположен Бузулукский бор. С каждым годом наш Бузулук  развивается всё больше и больше. В Бузулуке есть три стадиона, спортивно-оздоровительный комплекс «Олимпиец». Ещё в городе есть два дома культуры и бассейн. В этом году нашему городу было 275 лет. В Бузулуке основная промышленная деятельность — добыча нефти. На территории города есть заводы. Я люблю свой город и очень горжусь им!</a:t>
            </a:r>
            <a:endParaRPr b="0" lang="en-US" sz="1800" spc="-1" strike="noStrike">
              <a:solidFill>
                <a:srgbClr val="e6e6e6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Сочинение ученика 3 «Б» класса Платонова Владислава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5400720" y="4680000"/>
            <a:ext cx="4405320" cy="2700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"/>
          <p:cNvPicPr/>
          <p:nvPr/>
        </p:nvPicPr>
        <p:blipFill>
          <a:blip r:embed="rId2"/>
          <a:stretch/>
        </p:blipFill>
        <p:spPr>
          <a:xfrm>
            <a:off x="5400720" y="144000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31:46Z</dcterms:created>
  <dc:creator>Admin</dc:creator>
  <dc:description/>
  <dc:language>en-US</dc:language>
  <cp:lastModifiedBy>Пользователь Windows</cp:lastModifiedBy>
  <dcterms:modified xsi:type="dcterms:W3CDTF">2013-01-28T05:41:52Z</dcterms:modified>
  <cp:revision>4</cp:revision>
  <dc:subject/>
  <dc:title>«Мы в Бузулуке рождены и в город свой мы влюблены»</dc:title>
</cp:coreProperties>
</file>