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3DA-E88E-442B-907E-EDF8C308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9000" y="4711680"/>
            <a:ext cx="8477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D69-8495-4376-9470-927472FF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9000" y="471168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33120" y="471168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0E9-34D9-4003-A4BB-61AAF728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5320" y="222372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21640" y="222372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9000" y="471168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55320" y="471168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21640" y="471168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893-99FC-4FAE-A9CE-5DCB4A0E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1240" y="11736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89000" y="471168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267-50EF-48B8-8AE3-A629A493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33120" y="471168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89000" y="4711680"/>
            <a:ext cx="8477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89000" y="4711680"/>
            <a:ext cx="8477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89000" y="471168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33120" y="471168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55320" y="222372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21640" y="222372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89000" y="471168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955320" y="471168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821640" y="471168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EE2-1AAA-4053-9BB9-C70FAB6F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85D-4859-4F29-BBAE-C0CB9886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148-2D34-409D-9A1F-2774A6DA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11736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CC2-226B-437F-B7A4-61203FFD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9000" y="471168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492-9A62-45D6-8B42-855B53C9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33120" y="471168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32BA-3E72-475A-BC68-3FC6E9D8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9000" y="4711680"/>
            <a:ext cx="8477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2B3-9E0B-4C3C-8804-0C1C4C8B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2F6B-5417-417B-BF2A-1453EB52FB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«Мы в Бузулуке рождены и в город свой мы влюблены»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1"/>
          <a:stretch/>
        </p:blipFill>
        <p:spPr>
          <a:xfrm>
            <a:off x="720720" y="1800360"/>
            <a:ext cx="449892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Бузулук.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47200" y="1260000"/>
            <a:ext cx="5032440" cy="56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e6"/>
                </a:solidFill>
                <a:latin typeface="Comic Sans MS"/>
                <a:ea typeface="Lucida Sans Unicode"/>
              </a:rPr>
              <a:t>Город Бузулук основан в 1736 году. Самым живописным местом Бузулукского района считается Бузулукский бор. Бор занимает очень большую площадь. В нём собрано большое разнообразие растений и животных. В нашем городе проживает около 90 тысяч человек. С каждым годом наш город преображается. В нём появляются красивые парки, фонтаны и детские площадки. Зимой на центральной площади устанавливают красивую большую ёлку. А для детворы строят огромную горку и ледяные крепости. Наш город самый красивый на планете.</a:t>
            </a:r>
            <a:endParaRPr b="0" lang="en-US" sz="1800" spc="-1" strike="noStrike">
              <a:solidFill>
                <a:srgbClr val="e6e6e6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e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6e6e6"/>
                </a:solidFill>
                <a:latin typeface="Comic Sans MS"/>
                <a:ea typeface="Lucida Sans Unicode"/>
              </a:rPr>
              <a:t>Сочинение ученика 3 «Б» класса Овчинникова Александра</a:t>
            </a:r>
            <a:endParaRPr b="0" lang="en-US" sz="1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5759280" y="1079640"/>
            <a:ext cx="414036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78920" y="900000"/>
            <a:ext cx="5040360" cy="66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Бузулук - родной мой город,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Как ты дорог для меня!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Бузулук - родной мог город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божаю я тебя!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И твои леса большие,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Степи, горы и поля.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Много вас таких в России,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Но ведь родина одна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Ранняя зоря уныло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зарит твои дома.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К вечеру всё тихо стыло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И закат накрыл тебя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Ночью тихо. Только ветер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Шелестит листвой сухой,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А потом их кружит где-то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Вместе в танце под луной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Утром звёзды сменит солнце,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Птицы песни запоют.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Сон наш выглянет в оконце,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Все на улицу уйдут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Бузулук - родной мой город,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Как ты дорог для меня!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Бузулук - родной мог город</a:t>
            </a:r>
            <a:br>
              <a:rPr sz="1600"/>
            </a:b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741240" y="162000"/>
            <a:ext cx="860760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Стихи бузулукских поэтов.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7380360" y="4859280"/>
            <a:ext cx="251928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"/>
          <p:cNvPicPr/>
          <p:nvPr/>
        </p:nvPicPr>
        <p:blipFill>
          <a:blip r:embed="rId2"/>
          <a:stretch/>
        </p:blipFill>
        <p:spPr>
          <a:xfrm>
            <a:off x="6480000" y="3060720"/>
            <a:ext cx="2519640" cy="2519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"/>
          <p:cNvPicPr/>
          <p:nvPr/>
        </p:nvPicPr>
        <p:blipFill>
          <a:blip r:embed="rId3"/>
          <a:stretch/>
        </p:blipFill>
        <p:spPr>
          <a:xfrm>
            <a:off x="4848120" y="900000"/>
            <a:ext cx="253224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16200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Arial"/>
              </a:rPr>
              <a:t>Мой Бузулук.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319280" y="1260360"/>
            <a:ext cx="50576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Times New Roman"/>
                <a:ea typeface="Lucida Sans Unicode"/>
              </a:rPr>
              <a:t>Город Бузулук основан в 1736 году. Бузулучане гордятся Бузулукским бором. В Бору есть музей. Там есть образцы животных, схема бора и книги про бор. В Бузулуке тоже есть музей. Там есть стариные предметы обихода, которые рассказывают как жили люди в разные годы. В парке есть фонтан, детская площадка. Ещё памятник Ленина. По близости памятник Романенко. В этом году установили новый памятник, посвящённый людям, погибшим в 1920-1930 годы от голода. Мне нравится мой город.</a:t>
            </a:r>
            <a:endParaRPr b="0" lang="en-US" sz="1800" spc="-1" strike="noStrike">
              <a:solidFill>
                <a:srgbClr val="e6e6e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Times New Roman"/>
                <a:ea typeface="Lucida Sans Unicode"/>
              </a:rPr>
              <a:t>Сочинение ученицы 3 «Б» класса</a:t>
            </a:r>
            <a:endParaRPr b="0" lang="en-US" sz="1800" spc="-1" strike="noStrike">
              <a:solidFill>
                <a:srgbClr val="e6e6e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Times New Roman"/>
                <a:ea typeface="Lucida Sans Unicode"/>
              </a:rPr>
              <a:t>Марфиной Алёны</a:t>
            </a:r>
            <a:endParaRPr b="0" lang="en-US" sz="18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92" name="Рисунок 3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378000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1680" y="178920"/>
            <a:ext cx="86072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Спорт в Бузулуке.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94" name="Рисунок 2" descr=""/>
          <p:cNvPicPr/>
          <p:nvPr/>
        </p:nvPicPr>
        <p:blipFill>
          <a:blip r:embed="rId1"/>
          <a:stretch/>
        </p:blipFill>
        <p:spPr>
          <a:xfrm>
            <a:off x="539640" y="1380960"/>
            <a:ext cx="4140360" cy="2399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"/>
          <p:cNvPicPr/>
          <p:nvPr/>
        </p:nvPicPr>
        <p:blipFill>
          <a:blip r:embed="rId2"/>
          <a:stretch/>
        </p:blipFill>
        <p:spPr>
          <a:xfrm>
            <a:off x="6119640" y="5032440"/>
            <a:ext cx="3780000" cy="23479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"/>
          <p:cNvPicPr/>
          <p:nvPr/>
        </p:nvPicPr>
        <p:blipFill>
          <a:blip r:embed="rId3"/>
          <a:stretch/>
        </p:blipFill>
        <p:spPr>
          <a:xfrm>
            <a:off x="3419640" y="3419640"/>
            <a:ext cx="3600360" cy="23176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"/>
          <p:cNvPicPr/>
          <p:nvPr/>
        </p:nvPicPr>
        <p:blipFill>
          <a:blip r:embed="rId4"/>
          <a:stretch/>
        </p:blipFill>
        <p:spPr>
          <a:xfrm>
            <a:off x="539640" y="4500720"/>
            <a:ext cx="2548080" cy="2339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"/>
          <p:cNvPicPr/>
          <p:nvPr/>
        </p:nvPicPr>
        <p:blipFill>
          <a:blip r:embed="rId5"/>
          <a:stretch/>
        </p:blipFill>
        <p:spPr>
          <a:xfrm>
            <a:off x="7199280" y="1260360"/>
            <a:ext cx="252108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607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6ff00"/>
                </a:solidFill>
                <a:latin typeface="Arial"/>
              </a:rPr>
              <a:t>Город Бузулук.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9640" y="853920"/>
            <a:ext cx="9180720" cy="29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ff00"/>
                </a:solidFill>
                <a:latin typeface="Times New Roman"/>
                <a:ea typeface="Lucida Sans Unicode"/>
              </a:rPr>
              <a:t>Город Бузулук — промышленный, сельскохозяйственный и культурный центр Западного Оренбуржья. Один из самых старых населённых пунктов на территории обширного степного края. Город Бузулук основан как крепость в 1736 году. Расположен в Предуралье на реке Самара близ впадения в неё реки Бузулук. Занимает площадь 5331 га.</a:t>
            </a: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ff00"/>
                </a:solidFill>
                <a:latin typeface="Times New Roman"/>
                <a:ea typeface="Lucida Sans Unicode"/>
              </a:rPr>
              <a:t>Достопримечательностью города являются: спортивный комплекс «Олимпиец», памятник воинам — интернационалистам, мемориал «Победы и Воинской славы», водонапорная башня. Городской краеведческий музей. Также достопримечательностью города является Бузулукский бор.</a:t>
            </a: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ff00"/>
                </a:solidFill>
                <a:latin typeface="Times New Roman"/>
                <a:ea typeface="Lucida Sans Unicode"/>
              </a:rPr>
              <a:t>Бузулукский бор — это огромного размера лесной массив, котрый имеет форму треугольника. Посредине Бузулукского бора протекает река Боровка, которая впадает на юге в реку Самара. Бузулукский бор занимает площадь свыше 111 га. В нём обитает до 180 видов зверей и птиц. Достопримечательностью бора являются две сосны в возрасте 300-350 лет. Бузулукский бор является национальным парком.</a:t>
            </a: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ff00"/>
                </a:solidFill>
                <a:latin typeface="Times New Roman"/>
                <a:ea typeface="Lucida Sans Unicode"/>
              </a:rPr>
              <a:t>Сочинение ученицы 3 «Б» класса Родионовой Алины</a:t>
            </a: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101" name="Рисунок 3" descr=""/>
          <p:cNvPicPr/>
          <p:nvPr/>
        </p:nvPicPr>
        <p:blipFill>
          <a:blip r:embed="rId1"/>
          <a:stretch/>
        </p:blipFill>
        <p:spPr>
          <a:xfrm>
            <a:off x="539640" y="4140360"/>
            <a:ext cx="93600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16200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Бузулук.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82720" y="1440000"/>
            <a:ext cx="3797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Город Бузулук основан в 1736 году. В нашем городе есть три реки: Самара, Бузулук и Домашка. Не далеко от города расположен Бузулукский бор. С каждым годом наш Бузулук  развивается всё больше и больше. В Бузулуке есть три стадиона, спортивно-оздоровительный комплекс «Олимпиец». Ещё в городе есть два дома культуры и бассейн. В этом году нашему городу было 275 лет. В Бузулуке основная промышленная деятельность — добыча нефти. На территории города есть заводы. Я люблю свой город и очень горжусь им!</a:t>
            </a:r>
            <a:endParaRPr b="0" lang="en-US" sz="1800" spc="-1" strike="noStrike">
              <a:solidFill>
                <a:srgbClr val="e6e6e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Сочинение ученика 3 «Б» класса Платонова Владислава</a:t>
            </a: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5400720" y="4680000"/>
            <a:ext cx="4405320" cy="27003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"/>
          <p:cNvPicPr/>
          <p:nvPr/>
        </p:nvPicPr>
        <p:blipFill>
          <a:blip r:embed="rId2"/>
          <a:stretch/>
        </p:blipFill>
        <p:spPr>
          <a:xfrm>
            <a:off x="5400720" y="1440000"/>
            <a:ext cx="4319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8:31:46Z</dcterms:created>
  <dc:creator>Admin</dc:creator>
  <dc:description/>
  <dc:language>en-US</dc:language>
  <cp:lastModifiedBy>Пользователь Windows</cp:lastModifiedBy>
  <dcterms:modified xsi:type="dcterms:W3CDTF">2013-01-28T05:41:52Z</dcterms:modified>
  <cp:revision>4</cp:revision>
  <dc:subject/>
  <dc:title>«Мы в Бузулуке рождены и в город свой мы влюблены»</dc:title>
</cp:coreProperties>
</file>