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3387-6179-4476-B379-6C26B0BB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60B6-31E2-47B5-8660-03D294D3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1349-8F46-4F10-AB42-DD516AF7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4329-A37F-49AC-B007-6ECB2CA9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2D57-7AC3-41D4-ADCA-128D5B2D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1BE0-498D-440D-8896-8B8F034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4FB4-CD17-42DF-AE51-CBC520F2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C4E3-8ED1-4D79-8EDD-618F62F9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FCF5-8720-4CBB-A9C4-7E96E23D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BE19-4CED-4E0B-80B2-7B9EE36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4AED-85D3-4805-8E18-029796E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C45C-0174-4F0B-82FE-4E5D0648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6C80-CCFA-480B-82F4-0E62CAE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E64-B778-424B-B693-840AE79E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A803-5E02-434D-BFEE-47C33EA8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676D-8AD1-4E99-9EAE-119A51D5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1B5C-41A8-47B6-97CF-4A7A8813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7284-ED62-4881-AF46-9553A36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EE4D-EC36-44EA-B4D6-DF89002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DD11-F9B9-4CFB-92FB-A3939DA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46B2-7378-41BB-B541-6846754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05D9-3A00-4317-94A6-13967D95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33DC-16A9-4A0E-9AA9-6698322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BD33-AF72-4F9C-A8F7-F808544B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611A-D1AA-47DF-9569-CEFABDC113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CF4-F2E7-4B02-BCC8-9A739B4F16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&#1058;&#1077;&#1093;&#1085;&#1086;&#1083;&#1086;&#1075;&#1080;&#1103; &#1089;&#1087;&#1072;&#1080;&#1074;&#1072;&#1085;&#1080;&#1103; (2012).mp4" TargetMode="External"/><Relationship Id="rId2" Type="http://schemas.openxmlformats.org/officeDocument/2006/relationships/hyperlink" Target="../&#1058;&#1077;&#1093;&#1085;&#1086;&#1083;&#1086;&#1075;&#1080;&#1103; &#1089;&#1087;&#1072;&#1080;&#1074;&#1072;&#1085;&#1080;&#1103; (2012).mp4" TargetMode="External"/><Relationship Id="rId3" Type="http://schemas.openxmlformats.org/officeDocument/2006/relationships/hyperlink" Target="&#1055;&#1088;&#1077;&#1079;&#1077;&#1085;&#1090;&#1072;&#1094;&#1080;&#1103;1.ppt" TargetMode="External"/><Relationship Id="rId4" Type="http://schemas.openxmlformats.org/officeDocument/2006/relationships/hyperlink" Target="&#1055;&#1088;&#1077;&#1079;&#1077;&#1085;&#1090;&#1072;&#1094;&#1080;&#1103;1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4572000" y="1773360"/>
            <a:ext cx="4457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дным привычкам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жем "НЕТ!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1133640"/>
            <a:ext cx="42926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Особенности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семейного воспита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опасно семей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ОПЕ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д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я и заб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дети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ируются, 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ными сами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небрежение родительскими обязанност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конфликты между родите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загруженность родителей  на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асен и противоположны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я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ЕРОПЕ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ют каждый шаг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ают проявить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не может отстаивать своё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5148360" y="4862520"/>
            <a:ext cx="2987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Очень важ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4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 атмосферы, складывающийся д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или отсутствие эмоциональной близости и доверия между взросл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3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Выработка стратегий поведения ро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сь  слушать и понима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зна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интересны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мир,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я и трев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айтесь поня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беспокоит,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он пы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в настоя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. Выразите с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словную любовь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у, веру в его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24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одумайте о своем прим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предположить, что кто-то поверит советам родителей, злоупотребляющий курение и алког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rcRect l="0" t="0" r="4631" b="0"/>
          <a:stretch/>
        </p:blipFill>
        <p:spPr>
          <a:xfrm>
            <a:off x="1763640" y="233208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9912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авайте советы, но не давите со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сток с детства стремится вырваться из под диктата взрослых.  Надо с детства ставить ребенка в ситуации, когда он должен самостоятельно что-то реш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05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чаще задавайте детям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Что думаешь об этом? А как бы поступил твой приятель? А т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 поступайтесь твердостью ре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тарайтесь сохранять открытость в общении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учите ребенка говорить «спасибо, 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Поддерживайте в ребенке самоуважение и думайте о его само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384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ое воз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 то профилактическое действие или решение существующих проблем, должно стро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принципах уваж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5219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2700360" y="765000"/>
            <a:ext cx="396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539640" y="620640"/>
            <a:ext cx="532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ростковый возра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564000" y="2349360"/>
            <a:ext cx="2355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3348000" y="3573360"/>
            <a:ext cx="487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кованное повед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79280" y="441972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400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ставляют действов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j-lt"/>
              </a:rPr>
              <a:t>Подросток</a:t>
            </a:r>
            <a:endParaRPr b="0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j-lt"/>
              <a:ea typeface="+mj-lt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50920" y="1628640"/>
            <a:ext cx="2449440" cy="14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ЗН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6156360" y="1628640"/>
            <a:ext cx="27367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627280" y="350028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УТВЕРЖД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3132000" y="2060640"/>
            <a:ext cx="281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ЩУЩ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11"/>
          <p:cNvSpPr/>
          <p:nvPr/>
        </p:nvSpPr>
        <p:spPr>
          <a:xfrm rot="5400000">
            <a:off x="4341960" y="4595760"/>
            <a:ext cx="976320" cy="6588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4520 h 658800"/>
              <a:gd name="textAreaBottom" fmla="*/ 494280 h 658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самых простых и быстрых способов удовлетворения потребностей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3924360" y="1600200"/>
            <a:ext cx="504036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WordArt 7"/>
          <p:cNvSpPr txBox="1"/>
          <p:nvPr/>
        </p:nvSpPr>
        <p:spPr>
          <a:xfrm>
            <a:off x="2124000" y="404640"/>
            <a:ext cx="51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КОГО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Пивн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проблема стра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атистике Минздрава РФ в Москве около 60% молодежи страдает пивным алкогол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3635280" y="1895400"/>
            <a:ext cx="5508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вышающие вероятност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него приобщения ребен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алкоголю или ку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9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Государственная поли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Биолог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Характерологические особенност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Особенности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0" y="1412640"/>
            <a:ext cx="518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неустойчивым типом акцентуации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ая переключае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длительно сосредотачиваться на выполнении зад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ая утомляемость, вызванная даже не очень сложной работ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не доводят дело до ко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ые перепады настро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о выражена жажда развлеч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новых ощу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такие дети легко идут на «эксперименты» с алкоголем,  курением, наркот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Акцентуация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резмерное заострение некоторых личностных че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256360" y="1555200"/>
            <a:ext cx="38876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я требуют и дети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ероидным типом акценту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тличаются сильнейшим желанием постоянно быть в центре внимания окружающих (не важно, хвалят их или осуждаю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могут использовать алкоголь, курить даже не потому, что это им нравится, а для того, чтобы завоевать авторитет, подчеркнуть свою знач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одвержены внешнему вли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ажно!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суметь научить ребен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ть своё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ять потребность в получении удовольствия за счет разнообразных источников, не разрушающих его физическое и псих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4103640" y="1413000"/>
            <a:ext cx="5040360" cy="38448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7812000" y="5877000"/>
            <a:ext cx="682560" cy="539640"/>
          </a:xfrm>
          <a:custGeom>
            <a:avLst/>
            <a:gdLst>
              <a:gd name="textAreaLeft" fmla="*/ 34920 w 682560"/>
              <a:gd name="textAreaRight" fmla="*/ 647640 w 682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17" h="21600">
                <a:moveTo>
                  <a:pt x="0" y="0"/>
                </a:moveTo>
                <a:lnTo>
                  <a:pt x="27317" y="0"/>
                </a:lnTo>
                <a:lnTo>
                  <a:pt x="27317" y="21600"/>
                </a:lnTo>
                <a:lnTo>
                  <a:pt x="0" y="21600"/>
                </a:lnTo>
                <a:close/>
              </a:path>
              <a:path fill="lightenLess" w="27317" h="21600">
                <a:moveTo>
                  <a:pt x="0" y="0"/>
                </a:moveTo>
                <a:lnTo>
                  <a:pt x="27317" y="0"/>
                </a:lnTo>
                <a:lnTo>
                  <a:pt x="25917" y="1400"/>
                </a:lnTo>
                <a:lnTo>
                  <a:pt x="1400" y="1400"/>
                </a:lnTo>
                <a:close/>
              </a:path>
              <a:path fill="darken" w="27317" h="21600">
                <a:moveTo>
                  <a:pt x="27317" y="0"/>
                </a:moveTo>
                <a:lnTo>
                  <a:pt x="27317" y="21600"/>
                </a:lnTo>
                <a:lnTo>
                  <a:pt x="25917" y="20200"/>
                </a:lnTo>
                <a:lnTo>
                  <a:pt x="25917" y="1400"/>
                </a:lnTo>
                <a:close/>
              </a:path>
              <a:path fill="darkenLess" w="27317" h="21600">
                <a:moveTo>
                  <a:pt x="27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7" y="20200"/>
                </a:lnTo>
                <a:close/>
              </a:path>
              <a:path fill="lighten" w="27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7" h="21600">
                <a:moveTo>
                  <a:pt x="1365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317" h="21600">
                <a:moveTo>
                  <a:pt x="1365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317" h="21600">
                <a:moveTo>
                  <a:pt x="11082" y="8224"/>
                </a:moveTo>
                <a:lnTo>
                  <a:pt x="14947" y="8224"/>
                </a:lnTo>
                <a:lnTo>
                  <a:pt x="14947" y="15221"/>
                </a:lnTo>
                <a:lnTo>
                  <a:pt x="16235" y="15221"/>
                </a:lnTo>
                <a:lnTo>
                  <a:pt x="16235" y="16144"/>
                </a:lnTo>
                <a:lnTo>
                  <a:pt x="11082" y="16144"/>
                </a:lnTo>
                <a:lnTo>
                  <a:pt x="11082" y="15221"/>
                </a:lnTo>
                <a:lnTo>
                  <a:pt x="12370" y="15221"/>
                </a:lnTo>
                <a:lnTo>
                  <a:pt x="12370" y="9129"/>
                </a:lnTo>
                <a:lnTo>
                  <a:pt x="11082" y="91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58:30Z</dcterms:created>
  <dc:creator>зам по УВР</dc:creator>
  <dc:description/>
  <dc:language>en-US</dc:language>
  <cp:lastModifiedBy>User</cp:lastModifiedBy>
  <dcterms:modified xsi:type="dcterms:W3CDTF">2022-12-22T18:44:26Z</dcterms:modified>
  <cp:revision>11</cp:revision>
  <dc:subject/>
  <dc:title>Слайд 1</dc:title>
</cp:coreProperties>
</file>