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DA72-4E70-44C1-8B2A-483A55BA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F0F3-6858-4E49-B4AA-3217727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6CA2-8EDC-4272-9F74-58E63B5D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55E6-5F8E-4B13-B27D-991A0B9A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591-DB2E-410E-87B8-22FB5A36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420A-C613-4A3D-BD9D-770D90C2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CE1-009E-42AE-8F06-BBFDFC3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7F1-BFC8-4E44-91D3-158BE9D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AB9-8B06-4A21-A9C2-F719756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F5AB-A499-4EC7-9E7F-3FF6F4A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DF18-B682-4956-A6EE-5DCDD04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3A84-FBF2-4ACE-A1DA-DEC5388B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671B-321C-4DC6-AB07-0B9D5C7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94B5-A40F-4D7B-AAEF-F6CBD58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8B5-8D1D-4571-9BFA-5C417F91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EF1-5A1D-44DB-A882-1D7D86A3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EBF3-5AEA-4FF2-84B8-2270624D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34F1-B3B2-4544-BC03-7FE811B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AE24-7480-44A4-B0EC-1C83AF4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14A8-28C0-43E9-B6B7-7BFB2E83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B260-2926-4CAD-8499-21E4735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D810-1B11-4359-AEBB-15A5898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05F2-5410-4179-8909-2F877B9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F98E-8606-4AA9-A55D-112FBBD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1CDB-2BE9-4B8E-9793-3A50727131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B141-DC17-4A37-B4F3-F66E845C52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&#1058;&#1077;&#1093;&#1085;&#1086;&#1083;&#1086;&#1075;&#1080;&#1103; &#1089;&#1087;&#1072;&#1080;&#1074;&#1072;&#1085;&#1080;&#1103; (2012).mp4" TargetMode="External"/><Relationship Id="rId2" Type="http://schemas.openxmlformats.org/officeDocument/2006/relationships/hyperlink" Target="../&#1058;&#1077;&#1093;&#1085;&#1086;&#1083;&#1086;&#1075;&#1080;&#1103; &#1089;&#1087;&#1072;&#1080;&#1074;&#1072;&#1085;&#1080;&#1103; (2012).mp4" TargetMode="External"/><Relationship Id="rId3" Type="http://schemas.openxmlformats.org/officeDocument/2006/relationships/hyperlink" Target="&#1055;&#1088;&#1077;&#1079;&#1077;&#1085;&#1090;&#1072;&#1094;&#1080;&#1103;1.ppt" TargetMode="External"/><Relationship Id="rId4" Type="http://schemas.openxmlformats.org/officeDocument/2006/relationships/hyperlink" Target="&#1055;&#1088;&#1077;&#1079;&#1077;&#1085;&#1090;&#1072;&#1094;&#1080;&#1103;1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4572000" y="1773360"/>
            <a:ext cx="4457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м привычка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жем "НЕТ!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1133640"/>
            <a:ext cx="42926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собенности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семейного воспит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опасно семей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ОПЕ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я и заб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дети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ируются, 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ными сами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небрежение родительскими обязанност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конфликты между родите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загруженность родителей 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сен и противополож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ЕРОПЕ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т каждый шаг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ют проявить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не может отстаи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5148360" y="4862520"/>
            <a:ext cx="298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Очень важ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 атмосферы, складывающийся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или отсутствие эмоциональной близости и доверия между взросл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Выработка стратегий поведения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сь  слушать и понима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зна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интересны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мир,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я и трев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айтесь поня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беспокоит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он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в настоя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. Выразите с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ую любовь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у, веру в его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4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одумайте о своем прим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предположить, что кто-то поверит советам родителей, злоупотребляющий курение и алког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0" t="0" r="4631" b="0"/>
          <a:stretch/>
        </p:blipFill>
        <p:spPr>
          <a:xfrm>
            <a:off x="1763640" y="233208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991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авайте советы, но не давите со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сток с детства стремится вырваться из под диктата взрослых.  Надо с детства ставить ребенка в ситуации, когда он должен самостоятельно что-то реш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чаще задавайте детям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Что думаешь об этом? А как бы поступил твой приятель? А т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 поступайтесь твердостью ре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тарайтесь сохранять открытость в общении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учите ребенка говорить «спасибо, 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оддерживайте в ребенке самоуважение и думайте о его само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8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ое воз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 то профилактическое действие или решение существующих проблем, должно стро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принципах уваж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5219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2700360" y="765000"/>
            <a:ext cx="396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620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ый возра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564000" y="2349360"/>
            <a:ext cx="235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3348000" y="3573360"/>
            <a:ext cx="487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кованное повед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ставляют действов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j-lt"/>
              </a:rPr>
              <a:t>Подросток</a:t>
            </a:r>
            <a:endParaRPr b="0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50920" y="1628640"/>
            <a:ext cx="244944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ЗН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6156360" y="1628640"/>
            <a:ext cx="2736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627280" y="350028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УТВЕРЖ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3132000" y="2060640"/>
            <a:ext cx="281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ЩУЩ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 rot="5400000">
            <a:off x="4341960" y="4595760"/>
            <a:ext cx="976320" cy="6588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4520 h 658800"/>
              <a:gd name="textAreaBottom" fmla="*/ 494280 h 658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самых простых и быстрых способов удовлетворения потребностей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3924360" y="1600200"/>
            <a:ext cx="504036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7"/>
          <p:cNvSpPr txBox="1"/>
          <p:nvPr/>
        </p:nvSpPr>
        <p:spPr>
          <a:xfrm>
            <a:off x="212400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КО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проблема стра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атистике Минздрава РФ в Москве около 60% молодежи страдает пивным алкогол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635280" y="1895400"/>
            <a:ext cx="55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вышающие вероятнос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его приобщения ребен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алкоголю или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9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Государственная поли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Характерологические особенност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Особенности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518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неустойчивым типом 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ая переключае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длительно сосредотачиваться на выполнении за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, вызванная даже не очень сложной работ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не доводят дело до ко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ые перепады настро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о выражена жажда развлеч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новых ощ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такие дети легко идут на «эксперименты» с алкоголем,  курением, нарко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Акцентуация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резмерное заострение некоторых личностных че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256360" y="1555200"/>
            <a:ext cx="38876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я требуют и дети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ероидным типом акценту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тличаются сильнейшим желанием постоянно быть в центре внимания окружающих (не важно, хвалят их или осужда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могут использовать алкоголь, курить даже не потому, что это им нравится, а для того, чтобы завоевать авторитет, подчеркнуть сво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одвержены внешнему вли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ажно!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суметь научить ребе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ть своё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ять потребность в получении удовольствия за счет разнообразных источников, не разрушающих его физическое и 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4103640" y="1413000"/>
            <a:ext cx="5040360" cy="3844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7812000" y="5877000"/>
            <a:ext cx="682560" cy="539640"/>
          </a:xfrm>
          <a:custGeom>
            <a:avLst/>
            <a:gdLst>
              <a:gd name="textAreaLeft" fmla="*/ 34920 w 682560"/>
              <a:gd name="textAreaRight" fmla="*/ 647640 w 682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17" h="21600">
                <a:moveTo>
                  <a:pt x="0" y="0"/>
                </a:moveTo>
                <a:lnTo>
                  <a:pt x="27317" y="0"/>
                </a:lnTo>
                <a:lnTo>
                  <a:pt x="27317" y="21600"/>
                </a:lnTo>
                <a:lnTo>
                  <a:pt x="0" y="21600"/>
                </a:lnTo>
                <a:close/>
              </a:path>
              <a:path fill="lightenLess" w="27317" h="21600">
                <a:moveTo>
                  <a:pt x="0" y="0"/>
                </a:moveTo>
                <a:lnTo>
                  <a:pt x="27317" y="0"/>
                </a:lnTo>
                <a:lnTo>
                  <a:pt x="25917" y="1400"/>
                </a:lnTo>
                <a:lnTo>
                  <a:pt x="1400" y="1400"/>
                </a:lnTo>
                <a:close/>
              </a:path>
              <a:path fill="darken" w="27317" h="21600">
                <a:moveTo>
                  <a:pt x="27317" y="0"/>
                </a:moveTo>
                <a:lnTo>
                  <a:pt x="27317" y="21600"/>
                </a:lnTo>
                <a:lnTo>
                  <a:pt x="25917" y="20200"/>
                </a:lnTo>
                <a:lnTo>
                  <a:pt x="25917" y="1400"/>
                </a:lnTo>
                <a:close/>
              </a:path>
              <a:path fill="darkenLess" w="27317" h="21600">
                <a:moveTo>
                  <a:pt x="27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7" y="20200"/>
                </a:lnTo>
                <a:close/>
              </a:path>
              <a:path fill="lighten" w="27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7" h="21600">
                <a:moveTo>
                  <a:pt x="1365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317" h="21600">
                <a:moveTo>
                  <a:pt x="1365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317" h="21600">
                <a:moveTo>
                  <a:pt x="11082" y="8224"/>
                </a:moveTo>
                <a:lnTo>
                  <a:pt x="14947" y="8224"/>
                </a:lnTo>
                <a:lnTo>
                  <a:pt x="14947" y="15221"/>
                </a:lnTo>
                <a:lnTo>
                  <a:pt x="16235" y="15221"/>
                </a:lnTo>
                <a:lnTo>
                  <a:pt x="16235" y="16144"/>
                </a:lnTo>
                <a:lnTo>
                  <a:pt x="11082" y="16144"/>
                </a:lnTo>
                <a:lnTo>
                  <a:pt x="11082" y="15221"/>
                </a:lnTo>
                <a:lnTo>
                  <a:pt x="12370" y="15221"/>
                </a:lnTo>
                <a:lnTo>
                  <a:pt x="12370" y="9129"/>
                </a:lnTo>
                <a:lnTo>
                  <a:pt x="11082" y="91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8:30Z</dcterms:created>
  <dc:creator>зам по УВР</dc:creator>
  <dc:description/>
  <dc:language>en-US</dc:language>
  <cp:lastModifiedBy>User</cp:lastModifiedBy>
  <dcterms:modified xsi:type="dcterms:W3CDTF">2022-12-22T18:44:26Z</dcterms:modified>
  <cp:revision>11</cp:revision>
  <dc:subject/>
  <dc:title>Слайд 1</dc:title>
</cp:coreProperties>
</file>