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5F7-5A73-4874-BF70-94CF3697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959-B945-46FE-BE78-9E370B5D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AFA-7C84-4422-AFFB-A4AC6E0E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171-1054-4FA5-B01D-C650E32E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303-55D4-4297-BFDB-B86FEEBD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B0D-BEA4-4378-934E-A32AD450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0C2-D9E5-41EB-907A-996ED13B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F0E-2F92-4B01-B72D-81B34351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D5E-400B-43C6-9327-0C8FEAE3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E4D-DB77-44D1-B5E4-A3DF8928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DBE-9DED-4DCB-B265-FC06D7B5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909-80A1-4594-870D-712F610E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66ffff"/>
            </a:gs>
            <a:gs pos="100000">
              <a:srgbClr val="00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1043-1522-4178-9D98-41D1C05B8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5"/>
          <p:cNvSpPr/>
          <p:nvPr/>
        </p:nvSpPr>
        <p:spPr>
          <a:xfrm>
            <a:off x="6012000" y="4005360"/>
            <a:ext cx="1296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4"/>
          <p:cNvSpPr/>
          <p:nvPr/>
        </p:nvSpPr>
        <p:spPr>
          <a:xfrm>
            <a:off x="1116000" y="4076640"/>
            <a:ext cx="12254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12"/>
          <p:cNvSpPr/>
          <p:nvPr/>
        </p:nvSpPr>
        <p:spPr>
          <a:xfrm>
            <a:off x="1116000" y="2276640"/>
            <a:ext cx="1224000" cy="129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403280" y="69228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476360" y="4292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372360" y="4292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476360" y="249228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6372360" y="256536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300720" y="765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1187280" y="836640"/>
            <a:ext cx="1152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 flipV="1">
            <a:off x="5867280" y="836280"/>
            <a:ext cx="14414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 flipV="1">
            <a:off x="5940360" y="2708280"/>
            <a:ext cx="1368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2643120" y="21420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59280" y="90792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Наре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68360" y="2997360"/>
            <a:ext cx="23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м образо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492360" y="364500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времен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164360" y="2421000"/>
            <a:ext cx="144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у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26920" y="3933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851280" y="45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093080" y="38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есто  или на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H="1">
            <a:off x="971280" y="1700280"/>
            <a:ext cx="3095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4356000" y="1700280"/>
            <a:ext cx="21600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5076720" y="170028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916360" y="5373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тоя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2843280" y="595008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man Old Style"/>
              </a:rPr>
              <a:t>Нареч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сок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ом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н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оматн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сив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л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дал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сна пришла рано.  Щедро разлилась 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полая во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  В лесу всюду появились голубые оз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059280" y="90792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Наре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360" y="2997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образо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492360" y="4797360"/>
            <a:ext cx="23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ремен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164360" y="2421000"/>
            <a:ext cx="144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у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826920" y="3933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и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4140360" y="580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093080" y="3860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есто  или на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 flipH="1">
            <a:off x="971280" y="1700280"/>
            <a:ext cx="3095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3780000" y="1700280"/>
            <a:ext cx="79200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5076720" y="170028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5786280" y="3500280"/>
            <a:ext cx="1297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964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чные светила вымылись в дожде и приветливо смотрели на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ушистые молодые сосёнки приманивают издал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Яркое солнце сильно гр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чные светила вымылись в дожд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ветливо смотрели на зе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2268360" y="2133720"/>
            <a:ext cx="16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2728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4067280" y="213372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067280" y="2276640"/>
            <a:ext cx="208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71636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3132000" y="393372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3132000" y="407664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780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97164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6732720" y="213372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020000" y="134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300720" y="134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8101080" y="134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611280" y="393372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 flipV="1">
            <a:off x="341964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 flipH="1">
            <a:off x="1476360" y="32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1476360" y="3213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205092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1763640" y="321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53964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5796000" y="393372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601200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521964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29"/>
          <p:cNvSpPr/>
          <p:nvPr/>
        </p:nvSpPr>
        <p:spPr>
          <a:xfrm>
            <a:off x="500040" y="2071800"/>
            <a:ext cx="1671840" cy="1429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ушистые молодые сосё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иманивают издал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788000" y="278136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14836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708360" y="450864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3708360" y="465300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78800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348000" y="19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187280" y="19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730872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659640" y="4508640"/>
            <a:ext cx="1800000" cy="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543564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5435640" y="357336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7885080" y="35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940360" y="321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уд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802800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16"/>
          <p:cNvSpPr/>
          <p:nvPr/>
        </p:nvSpPr>
        <p:spPr>
          <a:xfrm>
            <a:off x="500040" y="2714760"/>
            <a:ext cx="2071800" cy="1429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2714760" y="2714760"/>
            <a:ext cx="1928520" cy="1429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560" y="2276640"/>
            <a:ext cx="71391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Яркое солнце сильно гр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916360" y="285264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1320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76364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78800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72360" y="206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43564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6084720" y="2781360"/>
            <a:ext cx="100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6084720" y="2924280"/>
            <a:ext cx="100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4500720" y="2852640"/>
            <a:ext cx="1366560" cy="0"/>
          </a:xfrm>
          <a:prstGeom prst="line">
            <a:avLst/>
          </a:prstGeom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11"/>
          <p:cNvSpPr/>
          <p:nvPr/>
        </p:nvSpPr>
        <p:spPr>
          <a:xfrm>
            <a:off x="1071720" y="2786040"/>
            <a:ext cx="1795320" cy="1332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9:58:39Z</dcterms:created>
  <dc:creator>Ученик 9</dc:creator>
  <dc:description/>
  <dc:language>en-US</dc:language>
  <cp:lastModifiedBy>Учитель</cp:lastModifiedBy>
  <dcterms:modified xsi:type="dcterms:W3CDTF">2008-04-24T10:42:05Z</dcterms:modified>
  <cp:revision>17</cp:revision>
  <dc:subject/>
  <dc:title>Слайд 1</dc:title>
</cp:coreProperties>
</file>