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364-4F03-4300-893B-AD6A0928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68D-79DF-485F-BFD2-C85A3C10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F03-ADBC-4308-9847-D98DE9E9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5CB-B288-43D9-904F-4DF9B36A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D9F-6492-48FD-B6DB-BCF00B16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F21-457E-4DF6-B1F8-B1FD3A9F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F5C-6DE3-4B1E-9AB0-4C6A388A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C10-B854-4F17-B369-D45BB7EA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CF3-7166-4ED2-9495-814F0C99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441-9171-4C16-919A-56DE411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822-2367-4309-87FC-661BA9B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2F6-4F8E-45E4-85F9-F4D3DCCA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ffff"/>
            </a:gs>
            <a:gs pos="100000">
              <a:srgbClr val="00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930F-ECD8-4BBD-9B0A-4DBE22619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5"/>
          <p:cNvSpPr/>
          <p:nvPr/>
        </p:nvSpPr>
        <p:spPr>
          <a:xfrm>
            <a:off x="6012000" y="4005360"/>
            <a:ext cx="1296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4"/>
          <p:cNvSpPr/>
          <p:nvPr/>
        </p:nvSpPr>
        <p:spPr>
          <a:xfrm>
            <a:off x="1116000" y="4076640"/>
            <a:ext cx="12254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2"/>
          <p:cNvSpPr/>
          <p:nvPr/>
        </p:nvSpPr>
        <p:spPr>
          <a:xfrm>
            <a:off x="1116000" y="2276640"/>
            <a:ext cx="122400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403280" y="69228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476360" y="4292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372360" y="4292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76360" y="249228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372360" y="25653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300720" y="765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1187280" y="836640"/>
            <a:ext cx="1152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 flipV="1">
            <a:off x="5867280" y="836280"/>
            <a:ext cx="144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 flipV="1">
            <a:off x="5940360" y="2708280"/>
            <a:ext cx="1368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2643120" y="21420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59280" y="90792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Наре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68360" y="299736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м образо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492360" y="364500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времен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164360" y="2421000"/>
            <a:ext cx="144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26920" y="3933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851280" y="45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093080" y="38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есто  или на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H="1">
            <a:off x="971280" y="1700280"/>
            <a:ext cx="3095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4356000" y="1700280"/>
            <a:ext cx="21600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5076720" y="170028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916360" y="5373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тоя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2843280" y="595008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Нареч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ок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н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оматн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ив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дал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на пришла рано.  Щедро разлилась 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полая во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  В лесу всюду появились голубые оз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059280" y="90792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Наре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2997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образо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492360" y="479736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ремен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164360" y="2421000"/>
            <a:ext cx="144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826920" y="3933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140360" y="580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093080" y="38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есто  или на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 flipH="1">
            <a:off x="971280" y="1700280"/>
            <a:ext cx="3095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3780000" y="1700280"/>
            <a:ext cx="7920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076720" y="170028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5786280" y="3500280"/>
            <a:ext cx="129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964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чные светила вымылись в дожде и приветливо смотрели на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ушистые молодые сосёнки приманивают издал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Яркое солнце сильно гр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чные светила вымылись в дожд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ветливо смотрели на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2268360" y="2133720"/>
            <a:ext cx="16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2728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4067280" y="213372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067280" y="2276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71636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3132000" y="393372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3132000" y="407664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780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97164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6732720" y="2133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02000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300720" y="134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8101080" y="134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611280" y="393372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 flipV="1">
            <a:off x="341964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 flipH="1">
            <a:off x="1476360" y="32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1476360" y="3213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05092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1763640" y="321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53964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5796000" y="393372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6012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521964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29"/>
          <p:cNvSpPr/>
          <p:nvPr/>
        </p:nvSpPr>
        <p:spPr>
          <a:xfrm>
            <a:off x="500040" y="2071800"/>
            <a:ext cx="1671840" cy="1429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ушистые молодые сосё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манивают издал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788000" y="278136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14836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708360" y="450864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3708360" y="465300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34800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18728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308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659640" y="4508640"/>
            <a:ext cx="1800000" cy="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543564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5435640" y="3573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788508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94036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802800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16"/>
          <p:cNvSpPr/>
          <p:nvPr/>
        </p:nvSpPr>
        <p:spPr>
          <a:xfrm>
            <a:off x="500040" y="2714760"/>
            <a:ext cx="2071800" cy="1429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2714760" y="2714760"/>
            <a:ext cx="1928520" cy="1429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560" y="2276640"/>
            <a:ext cx="71391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Яркое солнце сильно гр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916360" y="285264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1320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76364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78800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7236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43564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6084720" y="2781360"/>
            <a:ext cx="10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6084720" y="2924280"/>
            <a:ext cx="10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500720" y="2852640"/>
            <a:ext cx="1366560" cy="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11"/>
          <p:cNvSpPr/>
          <p:nvPr/>
        </p:nvSpPr>
        <p:spPr>
          <a:xfrm>
            <a:off x="1071720" y="2786040"/>
            <a:ext cx="1795320" cy="1332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9:58:39Z</dcterms:created>
  <dc:creator>Ученик 9</dc:creator>
  <dc:description/>
  <dc:language>en-US</dc:language>
  <cp:lastModifiedBy>Учитель</cp:lastModifiedBy>
  <dcterms:modified xsi:type="dcterms:W3CDTF">2008-04-24T10:42:05Z</dcterms:modified>
  <cp:revision>17</cp:revision>
  <dc:subject/>
  <dc:title>Слайд 1</dc:title>
</cp:coreProperties>
</file>