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7A2-C4AA-4F6B-9990-871D4DA5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ED9-1F86-4A31-991B-CB573B08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68A-6CF9-44DE-9E0C-C26D257D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FE4-F457-4AB5-897D-F8DFFA12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7038-39EF-405E-A71B-823F610D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ACAA-79E1-4B9E-AE31-B95C086B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45E5-CD2A-4D42-8FE8-5B118C8C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9D3F-D613-4C67-A194-B65380CD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8800-FB2C-4B28-9CF5-A7B0F0F2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AB89-3062-47A0-9AA5-98F5C719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EB17-D43C-4CE5-BB5A-78464FE5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963-E29F-461A-B6C3-2BE9E8A1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B8DD-04EE-4194-8C25-E69CE295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9FC2-E591-43E7-948C-3C829202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816E-4846-41B5-87A5-C83AD160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603C-945A-4A5A-AC54-6F732FE0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CD72-6AAC-4F3C-9A0B-BA0CC034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F34-DE47-43C9-A8EF-D661CBE8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88E-333B-4ACB-A847-E8E783FC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5B8-5557-4426-A942-AAE2DE97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D67-B72D-4B66-8F8F-C70C9513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136-3943-4CF6-B925-353C7DA7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87C-AB77-4201-8563-B511D66E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306-8F22-48C6-BDDE-31C2D716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9579-0B53-4559-8863-F9F90884B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5492-52A2-4045-B51F-DBF3CF68A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Школа №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141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роект сделали ученики 3Б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брагимов Бахра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Назаренков Яросла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уторьма Виктор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ладимирова Татьяна Никола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Истор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Школ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кола была открыта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 сентября 1971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ым директором школы была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ванова Раиса Иванов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на плечи которой выпала основная работа по завершению строительства, оснащению школы и её открытию. Далее руководителями школы были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ирюкова Анна Викторов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огель Виктор Андреевич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вражнов Алексей Иванович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льских Владимир Александрович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кулова Алла Александро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стоящее время  учреждением руководит 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лисеева Татьяна Николаев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152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ыпускники нашей школ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огожкин Валерий Анатольевич 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лава города Бузулу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мков Николай Николаевич – 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лава города Бузулу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2010г. по 2013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юков Александр Николаевич 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ректор Филиала ОАО «Газпром газораспределение Оренбург» в г.Бузулуке «Бузулукмежрайгаз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2089440" cy="144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516720" y="2852640"/>
            <a:ext cx="1643040" cy="1711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55640" y="5084640"/>
            <a:ext cx="209556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броскок Александр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2июня 1982г.) – заслуженный мастер спорта, серебряный призёр по прыжкам в воду Олимпиады в Сиднее, неоднократный чемпион мира и Европ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броскок Дмитри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марта 1984г.) - мастер спорта международного класса, неоднократный победитель и призёр чемпионатов мира и Европы по прыжкам в во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зин Серге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16июля 1987г.) - неоднократный победитель и призёр чемпионатов мира и Европы по прыжкам в вод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учителей школы – её бывшие выпускники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: Корсун И.В., Дергачёва И.Ю., Алексеева Е.И., Петрунина И.М., Лукин А.Б., Козлякова И.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1439640" cy="194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19280" y="3429000"/>
            <a:ext cx="1584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Традиции школ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ень знаний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ервое сентября — вечный символ знаний, начало начал школьной поры. Переступив порог школы, сотни мальчишек и девчонок попадают в театр, где учитель — это режиссёр, гимназисты - актёры, а репетиция продолжается долгие 40 л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ень рождения школы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сентября 1971 года в торжественной обстановке была открыта первая в микрорайонах школа. Этот день стал Днём рождения школы и отмечается ежегодно. Поздравления от общественности, родителей, выпускников сменяются яркими представлениями и играми, организованными учителями и учени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038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40384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уристический слёт.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им из самых долгожданных и приятных событий ученики, безусловно, считают турслёт, который проводится в сентябре, а подготовка к нему ведётся с начала года. Впервые туристический слёт был проведён в 1972 году. На слётах происходит единение педагогов, родителей, детей через участие в соревнованиях, обустройство бивака, приготовление обеда, исполнение походных песен и тесного общения у пылающего кост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ечер встречи выпускников.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лнующий и долгожданный момент для бывших учеников наступает в первую субботу февраля. Именно тогда они собираются, чтобы вспомнить весёлые, беззаботные годы, проведённые в родных стенах, чтобы хоть на мгновение вернуться в удивительный мир детства и юности, любви и надеж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248000" cy="3029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00720" y="3573360"/>
            <a:ext cx="43084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День влюблённых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У каждого в день 14 февраля есть возможность признаться в своих чувствах посредством эпистолярного жанра, обмена подарками и даже оформления отношений в шуточном загсе. Не редко первая школьная любовь венчается узами настоящего и крепкого брака. В этот трогательный момент счастливые молодожёны наносят праздничный визит в родную школ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Последний звонок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Знаменательным событием в жизни школы, демонстрирующим неразрывную связь всего школьного сообщества, является праздник Последнего звонка. Традиционно в этот день проходит линейка, выпуск воздушных шаров в небо. Выставка достижений выпускников — гордость и достояние учителей, учеников, родител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3887640" cy="252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788000" y="3068640"/>
            <a:ext cx="39607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4:17:31Z</dcterms:created>
  <dc:creator>admin</dc:creator>
  <dc:description/>
  <dc:language>en-US</dc:language>
  <cp:lastModifiedBy>admin</cp:lastModifiedBy>
  <dcterms:modified xsi:type="dcterms:W3CDTF">2018-04-01T16:17:04Z</dcterms:modified>
  <cp:revision>2</cp:revision>
  <dc:subject/>
  <dc:title>Школа №3</dc:title>
</cp:coreProperties>
</file>