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4E6-CC95-4DE4-8F27-E7FE818A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CE6-FCCA-4CD2-B07A-4904ECF5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EF3-3F6C-4014-93E8-41CD1D3F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694-A8B6-44E3-B2A3-62043516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CE81-1111-4FF1-BDED-42B0D870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ED4B-EE11-40EE-8276-2CDF9BCD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9327-8F08-4B08-8147-87B268C8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C31C-029C-4ABB-9CF3-B2C144D9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5768-79A7-4263-BA24-6BE5D541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C3D3-7FBC-4EEB-8F9A-B3D0E79B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052F-3038-4011-BBB0-CF8B6048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065-57F3-42D2-864D-35C9683A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19F6-5B1D-4F4C-B8FC-D330F8ED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2F37-33EE-4B2D-85AE-D5BDBBB9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680B-DFFB-45BB-ABCE-0782C2A1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8D63-1E06-4727-BC8A-D243EA20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CC18-4886-4B8F-9F7A-5D0123F7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6CC-C7CC-4CB4-9E99-82EE2235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156-0621-417E-A942-8844E75B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FCE-330B-4B15-AFCD-CF5622D1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D07-DF36-4644-8C19-E3631AAA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57E-5886-4BC6-963E-C34B4401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8C7-7B62-4C26-A997-0476BD68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9C4-533D-46E8-8F6E-093A108C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EC70-0BBD-419C-8619-0074598EA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F2B7-9773-4427-BABA-6F82D05D5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Школа №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141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роект сделали ученики 3Б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брагимов Бахр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заренков Яросла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уторьма Викт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ладимирова Татьяна Никола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Истор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Школ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кола была открыта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 сентября 1971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ым директором школы была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ванова Раиса Иванов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на плечи которой выпала основная работа по завершению строительства, оснащению школы и её открытию. Далее руководителями школы были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ирюкова Анна Викторов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огель Виктор Андреевич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вражнов Алексей Иванович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льских Владимир Александрович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кулова Алла Александро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стоящее время  учреждением руководит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лисеева Татьяна Николае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152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ыпускники нашей школ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огожкин Валерий Анатольевич 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лава города Бузулу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мков Николай Николаевич – 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лава города Бузулу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2010г. по 2013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юков Александр Николаевич 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ректор Филиала ОАО «Газпром газораспределение Оренбург» в г.Бузулуке «Бузулукмежрайгаз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2089440" cy="144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516720" y="2852640"/>
            <a:ext cx="1643040" cy="171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55640" y="5084640"/>
            <a:ext cx="20955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броскок Александр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2июня 1982г.) – заслуженный мастер спорта, серебряный призёр по прыжкам в воду Олимпиады в Сиднее, неоднократный чемпион мира и Европ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броскок Дмитри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марта 1984г.) - мастер спорта международного класса, неоднократный победитель и призёр чемпионатов мира и Европы по прыжкам в во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зин Серге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6июля 1987г.) - неоднократный победитель и призёр чемпионатов мира и Европы по прыжкам в вод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учителей школы – её бывшие выпускники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: Корсун И.В., Дергачёва И.Ю., Алексеева Е.И., Петрунина И.М., Лукин А.Б., Козлякова И.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1439640" cy="194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19280" y="3429000"/>
            <a:ext cx="1584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Традиции школ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ень знаний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ервое сентября — вечный символ знаний, начало начал школьной поры. Переступив порог школы, сотни мальчишек и девчонок попадают в театр, где учитель — это режиссёр, гимназисты - актёры, а репетиция продолжается долгие 40 л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ень рождения школы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сентября 1971 года в торжественной обстановке была открыта первая в микрорайонах школа. Этот день стал Днём рождения школы и отмечается ежегодно. Поздравления от общественности, родителей, выпускников сменяются яркими представлениями и играми, организованными учителями и учени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038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40384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уристический слёт.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им из самых долгожданных и приятных событий ученики, безусловно, считают турслёт, который проводится в сентябре, а подготовка к нему ведётся с начала года. Впервые туристический слёт был проведён в 1972 году. На слётах происходит единение педагогов, родителей, детей через участие в соревнованиях, обустройство бивака, приготовление обеда, исполнение походных песен и тесного общения у пылающего кост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ечер встречи выпускников.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лнующий и долгожданный момент для бывших учеников наступает в первую субботу февраля. Именно тогда они собираются, чтобы вспомнить весёлые, беззаботные годы, проведённые в родных стенах, чтобы хоть на мгновение вернуться в удивительный мир детства и юности, любви и надеж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248000" cy="3029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00720" y="3573360"/>
            <a:ext cx="43084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ень влюблённых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У каждого в день 14 февраля есть возможность признаться в своих чувствах посредством эпистолярного жанра, обмена подарками и даже оформления отношений в шуточном загсе. Не редко первая школьная любовь венчается узами настоящего и крепкого брака. В этот трогательный момент счастливые молодожёны наносят праздничный визит в родную школ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оследний звонок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наменательным событием в жизни школы, демонстрирующим неразрывную связь всего школьного сообщества, является праздник Последнего звонка. Традиционно в этот день проходит линейка, выпуск воздушных шаров в небо. Выставка достижений выпускников — гордость и достояние учителей, учеников, родител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3887640" cy="252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788000" y="306864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4:17:31Z</dcterms:created>
  <dc:creator>admin</dc:creator>
  <dc:description/>
  <dc:language>en-US</dc:language>
  <cp:lastModifiedBy>admin</cp:lastModifiedBy>
  <dcterms:modified xsi:type="dcterms:W3CDTF">2018-04-01T16:17:04Z</dcterms:modified>
  <cp:revision>2</cp:revision>
  <dc:subject/>
  <dc:title>Школа №3</dc:title>
</cp:coreProperties>
</file>