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A87-5F5B-40EC-9460-C12F128F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251-2B36-4B23-9528-CD4F33BD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908-7B31-48B8-BF81-526C3C80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7E2-5C07-468D-8318-236DF27B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EDF4-30B9-41FA-94FA-9AF2D4FC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129A-5EC1-4E23-9D27-C5C79959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FBBC-C563-455D-8517-00201548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CA0B-2387-415B-ADBD-43EAE5EE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CC26-BB1D-4169-9A08-435083CB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A989-2A40-4146-9F72-ADEF0A70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4490-39E2-47FC-920F-5A21F31C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646-920E-4685-BE6F-9C269303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F23C-31F9-4F8A-A6CC-2068E02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38B1-20D8-4C7B-9185-F5E7052F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3108-E48D-4214-BFE1-A05EC063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95A1-3257-4F8E-BE94-7862D4A8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5601-7866-4948-80CA-45DEECF8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6177F-1679-45EE-BD9E-2D732F5A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02DEC-1EA3-4841-8216-33BF78A7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506B5-199C-4038-B118-95365EB0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8A591-B934-4829-BE9A-9F88881D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53226-9A85-43FA-A55D-25F6B65D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865-989D-4320-BE42-77DC3223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86FA9-0D2D-4A51-9A11-5A31C642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AEEA2-0AB9-4668-A7FE-F0E1C323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9CDC2-4475-43B8-8FFB-DFC20C4F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2B811-FC37-4BBB-A724-8E3EF135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5889D-F925-44C2-A481-0F5368CD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594CF-1054-4762-B17D-104F3016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47907-9866-42CC-83C6-70AF7944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71854-B361-4E89-B482-D8677597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602C5-C9B6-485B-9E7E-719B8874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12635-18AA-49A9-91C6-4298AF5F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C0E-2481-4E87-AF53-A37032D7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2CB4C-C8BA-4CDF-9492-2A9636A6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2593-D300-4FA3-8B7C-563994D5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7E79D-BF40-4AB9-AF3D-4E9722F7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C53F-601A-49FC-BCD0-B5E5EF79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8DB43-1DE0-4598-BDE5-EB9FA0F3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2B59D-22D5-41A5-83EA-0BB68ABF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E0BA7-12E9-4845-9B9A-A7DD15BD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169A8-227D-4220-A7EF-C634D915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46753-75FA-47EC-AB6B-5E8B33E3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A9CDE-D956-4C48-9402-9FB01C54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A3B-120D-412A-8DEF-0192FCB7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553AB-DAF4-490F-A270-84484E4F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4A1FD-986F-4052-BA75-3330253C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DA548-C9E7-4435-8681-AD14D393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482FE-CB7D-4423-A847-5B6D1834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53CAB-CDA8-4D68-BB29-F72BBF14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A3997-2768-42D3-A251-B5814991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9AC47-A211-490E-A1F0-F5AA0DAF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AC7F2-9F87-4438-91D3-664E8E26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91671C-36E7-4674-BA3B-81DBB206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E5CAA-1948-4E34-A7E6-9EE84FE2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742-FB50-4A5E-B369-4820B9A5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E0CBC-EA4A-49E9-8D22-585F7D78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E9CA3-717E-4D8F-86CE-F24A48D9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37DC6-3FE0-4E1C-920A-8435E301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BE866-C0B3-48C1-A2B2-4B349860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C9D77-6A8E-4BC1-A491-FBDAC4BA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E55608-2EE5-4B5F-BD95-B1279ED9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1B4B6-B0A1-46E1-AD02-972F10A3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5C5CC-497B-4893-9082-1064C983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91010-05D3-40F4-9631-4236A748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4FF8D-8FDC-4610-8A93-09339AC0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881-44B4-4059-909F-DFD2042C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BE323-053B-4DA6-945E-E2DED527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40417-93A5-40C2-B4F0-53B37F12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EF2F2-C509-4357-A027-C0594DC0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0C4BC-D437-4480-87AD-39F21399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9D320-09DC-4F36-9426-302B28D6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7CC2F-16AC-4C7D-B07D-9B90A72D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07428-AC26-4042-AA87-9BC02CC3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9517B-5DA1-4C32-84FA-15C1D390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5A7597-6707-45A0-80E8-475DF1BF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56A6F-CA42-44BE-9AD9-56C25026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66C-71FD-474B-A90D-D67660F1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0C528-6284-4AC8-BA38-3F29FBA8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94F19-7BF4-4A7D-97B3-9331CC15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CB205-04CC-4287-A85F-73FDD4C4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E516EB-CEF5-4BFA-B12F-86759009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4777A0-D398-4206-8CEF-C6F1FC63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3D4-A5E3-45D6-8FE6-1DC3D935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73CE-70C0-4368-A7A9-2048CF1DB5E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6369-DB02-4D62-A608-9DB4F5123E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A8A8-CF5E-4D44-ACEB-0C3BB45CA2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77F3-6220-497A-ADEE-BEFE14BD2E5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8B37-F1AB-4B99-A745-DF6C5D1CD8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CF0B-B8CD-4AFE-AB80-BD9FF510C4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343A-3FBF-4663-8434-0B8369A2733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0256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АВТОМАТИЗАЦИЯ ЗВУКА Л В СЛОВАХ И ПРЕДЛОЖЕНИЯХ</a:t>
            </a: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 C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 ИСПОЛЬЗОВАНИЕМ АППЛИКАТОРА КУЗНЕЦОВА.</a:t>
            </a: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3200"/>
            </a:b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-7740720" y="517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27352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ЗОВИ КАРТИНКИ. КАК ИХ МОЖНО НАЗВАТЬ ОДНИМ СЛОВО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611280" y="2376360"/>
            <a:ext cx="2305080" cy="2213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3276720" y="206064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3"/>
          <a:stretch/>
        </p:blipFill>
        <p:spPr>
          <a:xfrm>
            <a:off x="6391440" y="2319480"/>
            <a:ext cx="19969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1"/>
          <p:cNvSpPr/>
          <p:nvPr/>
        </p:nvSpPr>
        <p:spPr>
          <a:xfrm>
            <a:off x="6083280" y="2276640"/>
            <a:ext cx="280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ошад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ошад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ежи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громк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ч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-го-го, и-го-г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бег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гк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-ка, вот, вот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лошадки длинны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во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ногах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пы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спешит к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ыт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е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од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хвост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ути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4032000" cy="2655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ТВОРЧЕСКОЕ ЗАДАНИЕ: ПОДОБРАТЬ ДВИЖЕНИЯ ПАЛЬЦЕВ РУК ПО АППЛИКАТОРУ В СООТВЕТСТВИИ СТЕКСТОМ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3760" y="260280"/>
            <a:ext cx="8589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ЗОВИ КАРТИНКИ. ГДЕ СЛЫШИМ ЗВУК Л (В НАЧАЛЕ, СЕРЕДИНЕ, КОНЦЕ СЛОВА?) ПРИ ПРОИЗНЕСЕНИИ НАЖИМАЕМ НА МОДУЛИ ВСЕЙ ЛАДОШКОЙ</a:t>
            </a: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1465200" cy="1825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3576600" y="1773360"/>
            <a:ext cx="1427040" cy="1825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3"/>
          <a:stretch/>
        </p:blipFill>
        <p:spPr>
          <a:xfrm>
            <a:off x="6299280" y="1773360"/>
            <a:ext cx="2233440" cy="2087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4"/>
          <a:stretch/>
        </p:blipFill>
        <p:spPr>
          <a:xfrm>
            <a:off x="1403280" y="4076640"/>
            <a:ext cx="187344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5"/>
          <a:stretch/>
        </p:blipFill>
        <p:spPr>
          <a:xfrm>
            <a:off x="4067280" y="3860640"/>
            <a:ext cx="1224000" cy="1622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6"/>
          <a:stretch/>
        </p:blipFill>
        <p:spPr>
          <a:xfrm>
            <a:off x="6732720" y="3838680"/>
            <a:ext cx="16174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591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ЗОВИ КАРТИНКИ. ГДЕ СЛЫШИМ ЗВУК Л (В НАЧАЛЕ, СЕРЕДИНЕ, КОНЦЕ СЛОВА?) ПРИ ПРОИЗНЕСЕНИИ НАЖИМАЕМ НА МОДУЛИ ВСЕЙ ЛАДОШКОЙ</a:t>
            </a: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1800000" cy="1631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1427040" cy="149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1532160" cy="1906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4"/>
          <a:stretch/>
        </p:blipFill>
        <p:spPr>
          <a:xfrm>
            <a:off x="3638520" y="3917880"/>
            <a:ext cx="1473120" cy="1505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5"/>
          <a:stretch/>
        </p:blipFill>
        <p:spPr>
          <a:xfrm>
            <a:off x="6767640" y="4292640"/>
            <a:ext cx="1103040" cy="10317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"/>
          <p:cNvPicPr/>
          <p:nvPr/>
        </p:nvPicPr>
        <p:blipFill>
          <a:blip r:embed="rId6"/>
          <a:stretch/>
        </p:blipFill>
        <p:spPr>
          <a:xfrm>
            <a:off x="3492360" y="1817640"/>
            <a:ext cx="14734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ЗОВИ КАРТИНКИ. ГДЕ СЛЫШИМ ЗВУК Л (В НАЧАЛЕ, СЕРЕДИНЕ, КОНЦЕ СЛОВА?) ПРИ ПРОИЗНЕСЕНИИ НАЖИМАЕМ НА МОДУЛИ ВСЕЙ ЛАДОШКОЙ</a:t>
            </a: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1943280" cy="2068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4067280" y="2276640"/>
            <a:ext cx="1512720" cy="2376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3"/>
          <a:stretch/>
        </p:blipFill>
        <p:spPr>
          <a:xfrm>
            <a:off x="6156360" y="2205000"/>
            <a:ext cx="208764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500"/>
            </a:br>
            <a:br>
              <a:rPr sz="2500"/>
            </a:br>
            <a:br>
              <a:rPr sz="29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ЗАКОНЧИ ПРЕДЛОЖЕНИЯ, ВЫБИРАЯ ПО СМЫСЛУ НУЖНЫЕ СЛОВА: 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ДЕЖУРНЫЕ В СТОЛОВОЙ РАЗДАЮТ….ЛОЖКИ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ЭТОТ ЗВЕРЬ ЗОВЁТСЯ…ЛОСЬ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АЛЛА КУПИЛА В МАГАЗИНЕ …БУЛАВКУ.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1152720" cy="2887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054080" cy="2452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2771640" y="1557360"/>
            <a:ext cx="3510000" cy="2309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6548400" y="3287880"/>
            <a:ext cx="18399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438f"/>
                </a:solidFill>
                <a:latin typeface="Century Schoolbook"/>
              </a:rPr>
              <a:t>НАЗОВИ КАРТИНКИ. ЧТО ЗДЕСЬ ЛИШНЕЕ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016360" cy="24512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3486240" y="2664000"/>
            <a:ext cx="2427120" cy="2736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3"/>
          <a:stretch/>
        </p:blipFill>
        <p:spPr>
          <a:xfrm>
            <a:off x="5979960" y="2651040"/>
            <a:ext cx="2448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ЗОВИ КАРТИНКИ. КАК ИХ МОЖНО НАЗВАТЬ ОДНИМ СЛОВО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1620720" cy="2232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3564000" y="2468520"/>
            <a:ext cx="1315800" cy="2040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3"/>
          <a:stretch/>
        </p:blipFill>
        <p:spPr>
          <a:xfrm>
            <a:off x="6227640" y="2705040"/>
            <a:ext cx="20113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ЗОВИ КАРТИНКИ. КАК ИХ МОЖНО НАЗВАТЬ ОДНИМ СЛОВО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826920" y="2830680"/>
            <a:ext cx="1873440" cy="1979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3924360" y="2952720"/>
            <a:ext cx="1660320" cy="2016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6659640" y="2951280"/>
            <a:ext cx="18000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НАЗОВИ КАРТИНКИ. КАК ИХ МОЖНО НАЗВАТЬ ОДНИМ СЛОВО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1860480" cy="1474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6459480" y="2997360"/>
            <a:ext cx="18716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11:25:50Z</dcterms:created>
  <dc:creator>Булат</dc:creator>
  <dc:description/>
  <dc:language>en-US</dc:language>
  <cp:lastModifiedBy>Admin</cp:lastModifiedBy>
  <dcterms:modified xsi:type="dcterms:W3CDTF">2022-12-29T02:23:21Z</dcterms:modified>
  <cp:revision>14</cp:revision>
  <dc:subject/>
  <dc:title>Автоматизация звука Л</dc:title>
</cp:coreProperties>
</file>