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81F-DAE6-46D1-87A6-4F0A3DE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877-9B73-49DE-9775-54B004F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B8E-12A9-4437-A306-213665C7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709-D554-4C58-BA76-982B1708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351-5E11-4466-A521-F6162064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FFF-7AD1-4531-8A6D-BA88948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E27D-DFE0-4D86-88EA-61A72C37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C8E3-3751-4E3F-88EE-68A6EC9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7B61-B898-4228-9381-58FCCE2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4CFF-A5F7-463C-9F13-872E383D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FD0A-B9E2-4463-8C63-0D5579E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FF8-6C64-4E01-9CCA-63B5226F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C68E-C445-4521-A8EB-06507F8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F976-C567-4A44-958B-EC45F18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5ED-3043-4B35-83EC-CF1DED2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8D70-DC17-414B-9B5D-D8AEAFDB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EE0-1396-4D64-8B8B-1CCE47D2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6E218-82CE-4794-AF20-ED6C9F54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33137-2D70-45A0-AED6-19D8B63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4ADA2-129D-41D5-9D10-FE95BF6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449CA-E4F7-4BB8-9224-0D4B1CD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1B954-24FD-4539-8E09-B9A5E122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9CC-B5B5-4E26-9A33-49DDB49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C3BF3-7B9B-4036-A1F7-9E0733E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2EA1A-54F2-4A91-814F-647503A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54BD4-F20A-49E5-B68C-F839174F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3C1FE-3D20-4D80-ACF4-32F6F1EF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9CAD8-DEF8-467E-834B-306F6A1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25309-876F-4CDE-9643-043664E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CD90B-D00E-42F5-9DA0-2A19DAB0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2B13-840E-40E7-9466-2E579D60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2CEE-F0B8-4F53-ADAA-75F8D292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6EE5-C785-4908-8639-3668212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2B2-B17B-4373-827B-71CBB3A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64B51-9729-4D77-AD68-03C97AC8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23A39-97CE-4118-A263-0457013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6DBA-1924-446F-ABBD-AD8AC62D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50EE-2099-4F3B-A015-1C0AD2E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63B8-62AC-456A-A8CB-4A23E36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93B2-FB7C-4F49-A1B8-5F86D4B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F3C8-5B91-4A32-9A3C-295ED44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068D-C7EC-4AD3-9EB0-C7ADFCAA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86DD-30E4-4AEB-BD27-7B81ACDA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22AB4-5CD7-4875-B51C-6BF50BB6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BA7-BD70-4FE6-92B4-10F5681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D11D4-E5E2-4A1A-8CC1-816901CF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EFED3-C9BF-4546-B429-29BB63F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5C4F3-0560-4D22-AFD4-A7DFCE7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8F874-2E35-45F1-ACA7-5188E5F8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52156-3757-4276-9FEA-D72035BD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BE206-68DE-46CE-B8B3-20F53AE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0F5D4-369D-4881-B788-BC11980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A24A9-B812-474B-AC3F-72289E7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6981C-5B5C-482F-A321-6F3BFCF8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ABA74-0AFC-4001-842B-8E76D9AC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E1C-C6FF-40CF-9ED3-BBDCCB0E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C37CF-94C7-432B-ACB5-4F8EAF08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8C000-F70B-4D50-A56F-9145E832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3EE8F-ECA2-4791-9FE3-91785497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10497-7816-4A8D-B934-45C2794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2C94F-3150-470C-9312-C55F1DF0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944B3-22F8-4794-9D5E-F3B01B8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FB465-25F6-4E6B-AED7-30DC7D7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185AE-7D0A-46AA-B92D-EBF0FE5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922FA-9A1F-44A4-AC84-2B81AB4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7FEF2-6C65-4095-BE6F-DD9B65B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FC5-E112-4678-ADD7-C6B136A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CD286-BD4B-40C1-A5EA-9A9D4F7C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485FD-07A8-495A-9705-C47E6CC3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D4F73-A0F2-4690-93EE-D4B609F8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921F4-D6A8-4C6F-972F-03EA9663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5AD05-B332-4E0F-84A3-E1AA925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789CC-DA7E-47BA-8F54-5A1917E4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1BBBD-F011-42BF-AF2D-99601AB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4D1AC-BABB-4298-A496-DC48EAA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DDF99-A941-4A16-9008-3593463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60709-39AD-4A85-A5F7-CCEEE3D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D33-719E-4233-ACB9-FF9D1A1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38797-4CF4-4D9B-96D8-892ABD3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A253F-C335-4088-B3B2-55D806F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DE079-CD98-442C-9B79-85F9843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F4572-8F1B-4BC6-B363-49AC5E96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8B692-365B-4887-B203-6E72D24B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D50-BB2A-4904-BF20-A4FC49F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DF1-1906-4224-8DC8-AF5B35AB27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392-2D02-42CA-B0F3-2F78F92847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393A-D36C-4958-9835-C5E82017F0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B58F-8A68-4B5E-9291-2B63534368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9AAF-C161-42D5-BEC8-974A5A2795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7660-8B8F-4AE0-8C0B-0C811A592F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A00-3D6C-49A4-97AD-1A4CFE0F37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АВТОМАТИЗАЦИЯ ЗВУКА Л В СЛОВАХ И ПРЕДЛОЖЕНИЯХ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C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ИСПОЛЬЗОВАНИЕМ АППЛИКАТОРА КУЗНЕЦОВА.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2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-7740720" y="517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735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11280" y="2376360"/>
            <a:ext cx="2305080" cy="2213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6391440" y="2319480"/>
            <a:ext cx="1996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6083280" y="2276640"/>
            <a:ext cx="280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ж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громк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ч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-го-го, и-го-г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бег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г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-ка, вот, вот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лошадки длинны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во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ога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пы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спешит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ы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хвост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ут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032000" cy="2655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ТВОРЧЕСКОЕ ЗАДАНИЕ: ПОДОБРАТЬ ДВИЖЕНИЯ ПАЛЬЦЕВ РУК ПО АППЛИКАТОРУ В СООТВЕТСТВИИ СТЕКСТОМ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3760" y="260280"/>
            <a:ext cx="8589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1465200" cy="1825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576600" y="1773360"/>
            <a:ext cx="1427040" cy="1825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6299280" y="1773360"/>
            <a:ext cx="2233440" cy="2087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1403280" y="4076640"/>
            <a:ext cx="187344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4067280" y="3860640"/>
            <a:ext cx="1224000" cy="1622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6"/>
          <a:stretch/>
        </p:blipFill>
        <p:spPr>
          <a:xfrm>
            <a:off x="6732720" y="3838680"/>
            <a:ext cx="16174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91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42704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1532160" cy="1906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4"/>
          <a:stretch/>
        </p:blipFill>
        <p:spPr>
          <a:xfrm>
            <a:off x="3638520" y="3917880"/>
            <a:ext cx="1473120" cy="1505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6767640" y="4292640"/>
            <a:ext cx="1103040" cy="1031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6"/>
          <a:stretch/>
        </p:blipFill>
        <p:spPr>
          <a:xfrm>
            <a:off x="3492360" y="1817640"/>
            <a:ext cx="1473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943280" cy="2068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067280" y="2276640"/>
            <a:ext cx="1512720" cy="23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0876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500"/>
            </a:br>
            <a:br>
              <a:rPr sz="2500"/>
            </a:br>
            <a:br>
              <a:rPr sz="29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КОНЧИ ПРЕДЛОЖЕНИЯ, ВЫБИРАЯ ПО СМЫСЛУ НУЖНЫЕ СЛОВА: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ДЕЖУРНЫЕ В СТОЛОВОЙ РАЗДАЮТ….ЛОЖКИ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ЭТОТ ЗВЕРЬ ЗОВЁТСЯ…ЛОСЬ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АЛЛА КУПИЛА В МАГАЗИНЕ …БУЛАВКУ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1152720" cy="288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054080" cy="2452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771640" y="1557360"/>
            <a:ext cx="3510000" cy="2309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6548400" y="3287880"/>
            <a:ext cx="18399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438f"/>
                </a:solidFill>
                <a:latin typeface="Century Schoolbook"/>
              </a:rPr>
              <a:t>НАЗОВИ КАРТИНКИ. ЧТО ЗДЕСЬ ЛИШНЕЕ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016360" cy="2451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3486240" y="2664000"/>
            <a:ext cx="2427120" cy="2736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5979960" y="2651040"/>
            <a:ext cx="244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162072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3564000" y="2468520"/>
            <a:ext cx="1315800" cy="2040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227640" y="2705040"/>
            <a:ext cx="201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26920" y="2830680"/>
            <a:ext cx="1873440" cy="1979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924360" y="2952720"/>
            <a:ext cx="1660320" cy="201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6659640" y="2951280"/>
            <a:ext cx="1800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1860480" cy="147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6459480" y="2997360"/>
            <a:ext cx="18716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11:25:50Z</dcterms:created>
  <dc:creator>Булат</dc:creator>
  <dc:description/>
  <dc:language>en-US</dc:language>
  <cp:lastModifiedBy>Admin</cp:lastModifiedBy>
  <dcterms:modified xsi:type="dcterms:W3CDTF">2022-12-29T02:23:21Z</dcterms:modified>
  <cp:revision>14</cp:revision>
  <dc:subject/>
  <dc:title>Автоматизация звука Л</dc:title>
</cp:coreProperties>
</file>