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568F-6E51-4C02-AA81-981E58962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7A2A-4122-42F1-9C26-1CA0613C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845F-D850-4BFC-B4D4-EA11447A2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25A3-B190-459C-9C09-6D631C702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05B4-2A91-4ABD-A020-8C97BC34E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8215-A891-4A37-8DD4-732125E2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BE6C-F02D-4905-9771-343CEC69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0969-2616-4D9C-BE9C-3FCF5985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BEBC-3DCB-42D4-8E6B-45C8017B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40A8-2851-482C-83F0-980A3ED1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4C5F-7F4F-4C3F-AB54-2388D409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27F2-57EC-4A47-922D-EDD7EE48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E2D9-8D36-42E5-8360-CF50E497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C1C8-5AFB-47C0-A594-7DC408B9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CF10-9D0E-494D-B056-57CC3CA7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6886-2237-4FAB-B243-5567F4B00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E5C6-9CEC-472D-8647-FF160C6D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395900-1F56-4FCF-9C13-F8C12F422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053B86-A4DE-4AA2-BC61-D73FF319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2F983F-663B-4AEC-845D-0890D612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F4E743-A72A-4A99-887F-A9E86690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2F6647-6BF4-49E1-9C3A-56262B30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B261-86AD-478A-B01C-6700F10C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14B1B6-2E00-405B-99FB-45EE91CC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5DA235-473A-4F9B-9460-3C388C66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93DAD9-66FE-4E8D-97EC-2D017706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095F37-DAF2-4D23-A46E-529266E0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4D47BD-FC77-400E-A26F-83B33F17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DF8E54-01D5-4DFC-AF01-733826C74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B12EC5-3078-4956-8F4B-80FD8E105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C2659-C2D1-474B-8DCB-7F9606D33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470BC-0A6A-46F2-87DE-7B6D72D7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98A2B-39CA-4106-9A9E-F624782C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3298-5CDB-4A5C-BCEC-D0102CAE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9BCE0-E72C-4291-BC87-B991BA38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31ECB-AD15-4361-AD23-556308A8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6A5AA-E9CC-4953-8E22-BBE56356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B63C6-0CA8-45FD-ADF9-2E6A1E2A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C8AD7-D72B-43FF-96FA-404F9328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F1AF1-FCEA-4D4F-8A61-03B6D751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8F999-FD4D-4831-B348-01650D14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EFA87-42CE-4BEE-BB1A-4AEC362BF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E54C1-F575-43F9-9E72-42F6093F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D7EB66-85ED-4E86-8DC1-B44C62D53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3053-6859-47F5-AFD0-FF576E55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9E23D3-F62C-469E-A99B-6EF23289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A25CD7-E38B-476C-925C-E91D7ABD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961042-1BFE-46EF-8E56-4958B37C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039BBA-DF46-4F7E-AA33-68454F65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4ED6E1-841E-459C-8446-D0D05C34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87751D-5171-4F1D-A4EF-87B60D1B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1C8753-BEE9-443E-94CF-7DF689F6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02EE61-5D3B-46CE-9BEF-F452B764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16BAA0-4A88-42D2-9981-F8C7F659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07CD9A-CB94-47AF-A87A-1388044C9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4124-4F44-4B09-ABE7-DB14C8FF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5012D1-D03E-4CB4-BF0E-65443AB06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76F77D-7402-45EC-AF64-915212E7C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FEF4A9-BD93-4530-9555-349E8362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7AF267-FFD4-4D8F-B686-74C767A1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98681F-52D2-4BAC-AB50-EECDEF96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D8BC55-9D97-4AB7-BB04-0FD4C949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65D294-9D75-4D74-9F3C-2132E58B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8BA194-32EC-4032-9F9F-1A4870C0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62CA98-4109-46AB-89BB-F58BDC5C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6CA1AD-67A6-414A-9150-DA6E25D0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5E5E-89F2-4DF9-B061-8D18C201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BF288C-E4C9-432B-B398-7C4CEB23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902447-4431-4AEF-9126-727238003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D5E843-77DB-4ED8-A6E2-6D3CCE269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C4BB31-8D57-4D22-914D-4C2E80CB5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A8121C-AFDA-43A6-8575-41D9AC87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02EACD-E8EA-4EC2-BCFB-227FC92A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7A1DCD-0B4F-492F-A7DA-FC1E60C9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C833FD-61D4-4F24-A326-6B42550F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E8D8F5-5B16-4E41-8D01-392CA3E8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868D8C-B21D-4516-AAC9-D89E1C64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3A71-6F62-492A-9781-03CD5C14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E9B3E2-115F-45FB-AA3E-C6183C38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4412AC-87CB-40CE-ACF9-5E83F45C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699185-2B99-4A50-A536-9BE6DD0D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AD053C-75E1-44B8-AF07-217A145E7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7FB896-41AB-4415-8283-1009EA229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E003-0084-4AA6-84F9-F19D4CA2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2A01-FAAE-4B00-80B4-CB8BFD0FD83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6AF2-DDD9-4BA6-AA76-C2BC7B4440E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78AB-5A35-435A-9C10-78D061DB73D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E009-D183-4DC7-AAC7-458CE064FE0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5357-CE8B-45B6-8508-5450AF72B6A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8149-8F5E-44F1-8361-4C62E26328F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9582-A045-4203-916F-49B95B3E5DE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4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0256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АВТОМАТИЗАЦИЯ ЗВУКА Л В СЛОВАХ И ПРЕДЛОЖЕНИЯХ</a:t>
            </a:r>
            <a:r>
              <a:rPr b="1" lang="en-US" sz="3200" spc="-1" strike="noStrike">
                <a:solidFill>
                  <a:srgbClr val="575f6d"/>
                </a:solidFill>
                <a:latin typeface="Century Schoolbook"/>
              </a:rPr>
              <a:t> C</a:t>
            </a: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 ИСПОЛЬЗОВАНИЕМ АППЛИКАТОРА КУЗНЕЦОВА.</a:t>
            </a:r>
            <a:r>
              <a:rPr b="1" lang="en-US" sz="32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3200"/>
            </a:b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-7740720" y="5172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3492360" y="3789360"/>
            <a:ext cx="273528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НАЗОВИ КАРТИНКИ. КАК ИХ МОЖНО НАЗВАТЬ ОДНИМ СЛОВОМ?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611280" y="2376360"/>
            <a:ext cx="2305080" cy="22132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"/>
          <p:cNvPicPr/>
          <p:nvPr/>
        </p:nvPicPr>
        <p:blipFill>
          <a:blip r:embed="rId2"/>
          <a:stretch/>
        </p:blipFill>
        <p:spPr>
          <a:xfrm>
            <a:off x="3276720" y="2060640"/>
            <a:ext cx="2519280" cy="24480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4" descr=""/>
          <p:cNvPicPr/>
          <p:nvPr/>
        </p:nvPicPr>
        <p:blipFill>
          <a:blip r:embed="rId3"/>
          <a:stretch/>
        </p:blipFill>
        <p:spPr>
          <a:xfrm>
            <a:off x="6391440" y="2319480"/>
            <a:ext cx="199692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Прямоугольник 1"/>
          <p:cNvSpPr/>
          <p:nvPr/>
        </p:nvSpPr>
        <p:spPr>
          <a:xfrm>
            <a:off x="6083280" y="2276640"/>
            <a:ext cx="2809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ошад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т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ошад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бежит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чень громко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ичи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И-го-го, и-го-го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 бегу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егк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!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-ка, вот, вот –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лошадки длинный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вос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ногах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пыт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а спешит к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рыт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уде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воду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хвостом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утит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1"/>
          <a:stretch/>
        </p:blipFill>
        <p:spPr>
          <a:xfrm>
            <a:off x="324000" y="3284640"/>
            <a:ext cx="4032000" cy="265572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ТВОРЧЕСКОЕ ЗАДАНИЕ: ПОДОБРАТЬ ДВИЖЕНИЯ ПАЛЬЦЕВ РУК ПО АППЛИКАТОРУ В СООТВЕТСТВИИ СТЕКСТОМ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3760" y="260280"/>
            <a:ext cx="85899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НАЗОВИ КАРТИНКИ. ГДЕ СЛЫШИМ ЗВУК Л (В НАЧАЛЕ, СЕРЕДИНЕ, КОНЦЕ СЛОВА?) ПРИ ПРОИЗНЕСЕНИИ НАЖИМАЕМ НА МОДУЛИ ВСЕЙ ЛАДОШКОЙ</a:t>
            </a:r>
            <a:r>
              <a:rPr b="0" lang="ru-RU" sz="2900" spc="-1" strike="noStrike">
                <a:solidFill>
                  <a:srgbClr val="575f6d"/>
                </a:solidFill>
                <a:latin typeface="Century Schoolbook"/>
              </a:rPr>
              <a:t>.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1465200" cy="18255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" descr=""/>
          <p:cNvPicPr/>
          <p:nvPr/>
        </p:nvPicPr>
        <p:blipFill>
          <a:blip r:embed="rId2"/>
          <a:stretch/>
        </p:blipFill>
        <p:spPr>
          <a:xfrm>
            <a:off x="3576600" y="1773360"/>
            <a:ext cx="1427040" cy="18255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"/>
          <p:cNvPicPr/>
          <p:nvPr/>
        </p:nvPicPr>
        <p:blipFill>
          <a:blip r:embed="rId3"/>
          <a:stretch/>
        </p:blipFill>
        <p:spPr>
          <a:xfrm>
            <a:off x="6299280" y="1773360"/>
            <a:ext cx="2233440" cy="20872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5" descr=""/>
          <p:cNvPicPr/>
          <p:nvPr/>
        </p:nvPicPr>
        <p:blipFill>
          <a:blip r:embed="rId4"/>
          <a:stretch/>
        </p:blipFill>
        <p:spPr>
          <a:xfrm>
            <a:off x="1403280" y="4076640"/>
            <a:ext cx="1873440" cy="17146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"/>
          <p:cNvPicPr/>
          <p:nvPr/>
        </p:nvPicPr>
        <p:blipFill>
          <a:blip r:embed="rId5"/>
          <a:stretch/>
        </p:blipFill>
        <p:spPr>
          <a:xfrm>
            <a:off x="4067280" y="3860640"/>
            <a:ext cx="1224000" cy="16225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7" descr=""/>
          <p:cNvPicPr/>
          <p:nvPr/>
        </p:nvPicPr>
        <p:blipFill>
          <a:blip r:embed="rId6"/>
          <a:stretch/>
        </p:blipFill>
        <p:spPr>
          <a:xfrm>
            <a:off x="6732720" y="3838680"/>
            <a:ext cx="161748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591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НАЗОВИ КАРТИНКИ. ГДЕ СЛЫШИМ ЗВУК Л (В НАЧАЛЕ, СЕРЕДИНЕ, КОНЦЕ СЛОВА?) ПРИ ПРОИЗНЕСЕНИИ НАЖИМАЕМ НА МОДУЛИ ВСЕЙ ЛАДОШКОЙ</a:t>
            </a:r>
            <a:r>
              <a:rPr b="0" lang="ru-RU" sz="2900" spc="-1" strike="noStrike">
                <a:solidFill>
                  <a:srgbClr val="575f6d"/>
                </a:solidFill>
                <a:latin typeface="Century Schoolbook"/>
              </a:rPr>
              <a:t>.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1800000" cy="1631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"/>
          <p:cNvPicPr/>
          <p:nvPr/>
        </p:nvPicPr>
        <p:blipFill>
          <a:blip r:embed="rId2"/>
          <a:stretch/>
        </p:blipFill>
        <p:spPr>
          <a:xfrm>
            <a:off x="6443640" y="1628640"/>
            <a:ext cx="1427040" cy="14907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5" descr=""/>
          <p:cNvPicPr/>
          <p:nvPr/>
        </p:nvPicPr>
        <p:blipFill>
          <a:blip r:embed="rId3"/>
          <a:stretch/>
        </p:blipFill>
        <p:spPr>
          <a:xfrm>
            <a:off x="826920" y="3716280"/>
            <a:ext cx="1532160" cy="19065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6" descr=""/>
          <p:cNvPicPr/>
          <p:nvPr/>
        </p:nvPicPr>
        <p:blipFill>
          <a:blip r:embed="rId4"/>
          <a:stretch/>
        </p:blipFill>
        <p:spPr>
          <a:xfrm>
            <a:off x="3638520" y="3917880"/>
            <a:ext cx="1473120" cy="15051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7" descr=""/>
          <p:cNvPicPr/>
          <p:nvPr/>
        </p:nvPicPr>
        <p:blipFill>
          <a:blip r:embed="rId5"/>
          <a:stretch/>
        </p:blipFill>
        <p:spPr>
          <a:xfrm>
            <a:off x="6767640" y="4292640"/>
            <a:ext cx="1103040" cy="10317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8" descr=""/>
          <p:cNvPicPr/>
          <p:nvPr/>
        </p:nvPicPr>
        <p:blipFill>
          <a:blip r:embed="rId6"/>
          <a:stretch/>
        </p:blipFill>
        <p:spPr>
          <a:xfrm>
            <a:off x="3492360" y="1817640"/>
            <a:ext cx="147348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94920" y="115920"/>
            <a:ext cx="8591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НАЗОВИ КАРТИНКИ. ГДЕ СЛЫШИМ ЗВУК Л (В НАЧАЛЕ, СЕРЕДИНЕ, КОНЦЕ СЛОВА?) ПРИ ПРОИЗНЕСЕНИИ НАЖИМАЕМ НА МОДУЛИ ВСЕЙ ЛАДОШКОЙ</a:t>
            </a:r>
            <a:r>
              <a:rPr b="0" lang="ru-RU" sz="2900" spc="-1" strike="noStrike">
                <a:solidFill>
                  <a:srgbClr val="575f6d"/>
                </a:solidFill>
                <a:latin typeface="Century Schoolbook"/>
              </a:rPr>
              <a:t>.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900000" y="2276640"/>
            <a:ext cx="1943280" cy="20682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"/>
          <p:cNvPicPr/>
          <p:nvPr/>
        </p:nvPicPr>
        <p:blipFill>
          <a:blip r:embed="rId2"/>
          <a:stretch/>
        </p:blipFill>
        <p:spPr>
          <a:xfrm>
            <a:off x="4067280" y="2276640"/>
            <a:ext cx="1512720" cy="2376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"/>
          <p:cNvPicPr/>
          <p:nvPr/>
        </p:nvPicPr>
        <p:blipFill>
          <a:blip r:embed="rId3"/>
          <a:stretch/>
        </p:blipFill>
        <p:spPr>
          <a:xfrm>
            <a:off x="6156360" y="2205000"/>
            <a:ext cx="208764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2500" spc="-1" strike="noStrike">
                <a:solidFill>
                  <a:srgbClr val="575f6d"/>
                </a:solidFill>
                <a:latin typeface="Century Schoolbook"/>
              </a:rPr>
              <a:t>.</a:t>
            </a:r>
            <a:br>
              <a:rPr sz="2500"/>
            </a:br>
            <a:br>
              <a:rPr sz="2500"/>
            </a:br>
            <a:br>
              <a:rPr sz="29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ЗАКОНЧИ ПРЕДЛОЖЕНИЯ, ВЫБИРАЯ ПО СМЫСЛУ НУЖНЫЕ СЛОВА: 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ДЕЖУРНЫЕ В СТОЛОВОЙ РАЗДАЮТ….ЛОЖКИ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ЭТОТ ЗВЕРЬ ЗОВЁТСЯ…ЛОСЬ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АЛЛА КУПИЛА В МАГАЗИНЕ …БУЛАВКУ.</a:t>
            </a: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1908000" y="3500280"/>
            <a:ext cx="1152720" cy="28879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1054080" cy="24526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"/>
          <p:cNvPicPr/>
          <p:nvPr/>
        </p:nvPicPr>
        <p:blipFill>
          <a:blip r:embed="rId3"/>
          <a:stretch/>
        </p:blipFill>
        <p:spPr>
          <a:xfrm>
            <a:off x="2771640" y="1557360"/>
            <a:ext cx="3510000" cy="23097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"/>
          <p:cNvPicPr/>
          <p:nvPr/>
        </p:nvPicPr>
        <p:blipFill>
          <a:blip r:embed="rId4"/>
          <a:stretch/>
        </p:blipFill>
        <p:spPr>
          <a:xfrm>
            <a:off x="6548400" y="3287880"/>
            <a:ext cx="183996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438f"/>
                </a:solidFill>
                <a:latin typeface="Century Schoolbook"/>
              </a:rPr>
              <a:t>НАЗОВИ КАРТИНКИ. ЧТО ЗДЕСЬ ЛИШНЕЕ?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2016360" cy="24512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"/>
          <p:cNvPicPr/>
          <p:nvPr/>
        </p:nvPicPr>
        <p:blipFill>
          <a:blip r:embed="rId2"/>
          <a:stretch/>
        </p:blipFill>
        <p:spPr>
          <a:xfrm>
            <a:off x="3486240" y="2664000"/>
            <a:ext cx="2427120" cy="27367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"/>
          <p:cNvPicPr/>
          <p:nvPr/>
        </p:nvPicPr>
        <p:blipFill>
          <a:blip r:embed="rId3"/>
          <a:stretch/>
        </p:blipFill>
        <p:spPr>
          <a:xfrm>
            <a:off x="5979960" y="2651040"/>
            <a:ext cx="2448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НАЗОВИ КАРТИНКИ. КАК ИХ МОЖНО НАЗВАТЬ ОДНИМ СЛОВОМ?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1620720" cy="22320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"/>
          <p:cNvPicPr/>
          <p:nvPr/>
        </p:nvPicPr>
        <p:blipFill>
          <a:blip r:embed="rId2"/>
          <a:stretch/>
        </p:blipFill>
        <p:spPr>
          <a:xfrm>
            <a:off x="3564000" y="2468520"/>
            <a:ext cx="1315800" cy="20401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"/>
          <p:cNvPicPr/>
          <p:nvPr/>
        </p:nvPicPr>
        <p:blipFill>
          <a:blip r:embed="rId3"/>
          <a:stretch/>
        </p:blipFill>
        <p:spPr>
          <a:xfrm>
            <a:off x="6227640" y="2705040"/>
            <a:ext cx="201132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НАЗОВИ КАРТИНКИ. КАК ИХ МОЖНО НАЗВАТЬ ОДНИМ СЛОВОМ?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826920" y="2830680"/>
            <a:ext cx="1873440" cy="19792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"/>
          <p:cNvPicPr/>
          <p:nvPr/>
        </p:nvPicPr>
        <p:blipFill>
          <a:blip r:embed="rId2"/>
          <a:stretch/>
        </p:blipFill>
        <p:spPr>
          <a:xfrm>
            <a:off x="3924360" y="2952720"/>
            <a:ext cx="1660320" cy="2016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"/>
          <p:cNvPicPr/>
          <p:nvPr/>
        </p:nvPicPr>
        <p:blipFill>
          <a:blip r:embed="rId3"/>
          <a:stretch/>
        </p:blipFill>
        <p:spPr>
          <a:xfrm>
            <a:off x="6659640" y="2951280"/>
            <a:ext cx="180000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НАЗОВИ КАРТИНКИ. КАК ИХ МОЖНО НАЗВАТЬ ОДНИМ СЛОВОМ?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971640" y="3213000"/>
            <a:ext cx="1860480" cy="14749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"/>
          <p:cNvPicPr/>
          <p:nvPr/>
        </p:nvPicPr>
        <p:blipFill>
          <a:blip r:embed="rId2"/>
          <a:stretch/>
        </p:blipFill>
        <p:spPr>
          <a:xfrm>
            <a:off x="3564000" y="299736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"/>
          <p:cNvPicPr/>
          <p:nvPr/>
        </p:nvPicPr>
        <p:blipFill>
          <a:blip r:embed="rId3"/>
          <a:stretch/>
        </p:blipFill>
        <p:spPr>
          <a:xfrm>
            <a:off x="6459480" y="2997360"/>
            <a:ext cx="18716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6T11:25:50Z</dcterms:created>
  <dc:creator>Булат</dc:creator>
  <dc:description/>
  <dc:language>en-US</dc:language>
  <cp:lastModifiedBy>Admin</cp:lastModifiedBy>
  <dcterms:modified xsi:type="dcterms:W3CDTF">2022-12-29T02:23:21Z</dcterms:modified>
  <cp:revision>14</cp:revision>
  <dc:subject/>
  <dc:title>Автоматизация звука Л</dc:title>
</cp:coreProperties>
</file>