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BF9F-72D0-4326-B6BF-1D12282042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3586-5A0A-42D0-A064-B0A35B27D04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9DD0-619A-4D40-BD77-59CB47053A5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335A-A5CA-4BC0-B0E8-8680A66B0C8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A5F6-6CBA-4747-A024-792129D8E55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4224-1AFD-473B-A9BD-23F5A152FB9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7FCA-13DE-41C1-B527-F19F384DFE6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FFF2-DFDC-43D6-A75D-83812370BFF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F819-197A-4CA8-B5D1-33C64A43978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4EC5-BB99-4AEF-81F7-7A315FE8C90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079A-F904-47E8-A9BD-FDC257F95C3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2147-D91B-473D-BDD2-AB34F32EE28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D612-020A-4294-BADA-3B922F293EA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6977-392C-4222-8F55-29F54FA0363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4ECE-60EA-4A45-A096-1FAB16BE165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A98-26B7-47DA-B505-EBB582FD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D96-5668-4E6F-82A9-B5A37C45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933E-A0E6-4605-9ACD-EB1B6F2C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D848-32EF-4506-A6F5-9481B5DF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68C5-4DCE-4552-BD9D-84AB84E5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EE90-BC64-40A2-9AE8-F04A0DDE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994C-2850-4B1C-B77C-24F70A0F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3CAA-41DA-4B18-9FA4-836409BF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3010-BFB6-4CD7-A83D-431F644B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96C3-B759-4B39-891E-AD581975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FDBD-034F-4E6D-AB3C-073A7D27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18DF-C222-44A6-8297-280940F5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4F4C-56A8-431F-A517-C56E7C8B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20D0-9481-440E-B5A8-5D99BE7B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1787-7E4F-4C6B-AF97-63138B7E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7A27-2BE8-41B3-B1BF-CB8F91FD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B87E-674C-4177-BA8D-FC929D0C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E849A-B8F4-42AB-8E35-332E4B73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E8A42-0E95-4214-A204-3CF0192E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A0876-8E6C-430A-BD1E-5563A234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B80EF-35F7-4AAE-A212-9F881439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BCD29-3295-4E43-9A83-457210FF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506-3393-4B5D-90FF-81530860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CA903-AC20-427A-B901-96438816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EAB14-AEC1-4E92-9D59-A160AB48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6FD6F-A03C-4909-B4AA-D36FEB41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2CBEE-F617-42F7-AE1C-BC521667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88638-B697-4389-8156-AD5EFF1A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9533B-9A0F-4A26-805F-A45D98E9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C0017-934E-4A3A-9FEE-2FBD8707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74FA4-B1B7-464F-95DB-BC8601B0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7519A-83CD-4FF5-A3CB-E5229DE4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9858C-C6C4-4B2D-8715-2424C576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E934-4B60-48CB-B9BB-8B8972C1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375CD-D21E-4326-9F29-66FF22A6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38E25-B231-4DA4-B952-B1188773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E08E9-591C-42A1-B2BD-4998BC85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94689-740D-4581-B40A-AC1EA1FD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6387F-B177-4ABD-B8A4-473FB120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D016E-693C-443A-A7F0-48E69815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5654F-DE1B-4AAF-BDD7-4711D652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0F7D5-B023-468F-99A7-1CD7514E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C2C9F-42EC-4506-AAEA-6D955EF2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88C9A-A117-411F-8015-B8B9B9F2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A03D-6F23-4545-8299-07A16318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33DD6-E1EB-459D-BD74-322F017B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8A967-8D14-4318-B35F-D857D4EF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F7717-0EDC-4E50-A07C-4BD00393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D7662-2403-44BB-B354-5B5C4BF5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8E46D-8C3C-4E04-885C-920B28C3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98EFB-F7BB-48B7-8FA2-E261253F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676C2-FE74-4E70-9003-C4585AEA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7E991-E82E-4C3D-B79E-2D2C9EB4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2B137-F3EF-4521-B254-C973DA88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B3155-062A-4A1E-B74A-F29488B9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BDA0-C205-4139-A927-2722EE82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99F6F-722D-43F0-BB8C-86627DFC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53A5A-63CB-4305-B3FE-F64FB183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BF9A4-52C6-4275-AB53-C4686ED6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CAC2F-AB21-41D2-94D4-94BD81C3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0A869-070B-40E1-A018-81631686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025A0-A389-4216-B014-C495F5C1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8BCB5-C31D-497B-BD5D-4A238D74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52A23-0EE2-4993-949A-C7DB7FD0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EDEEE-FDA7-4837-B852-31C95DFF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5C26D-FBA1-40E2-9D99-D256267B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4EE2-30BC-4E66-B53E-7A39103B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AECEA-FD1F-4852-8ED4-2DAE6DCB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F2E12-3C0E-40D7-BBE6-DCB6D611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69EBB-250D-44E8-9993-2E93D1A5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46CC5-4EBB-4692-B4FE-C5CDD2A8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975C8-EBD2-41F9-A07F-7835C74D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7CA8E-F983-4D58-A345-40049102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306E7-E190-4835-892A-F5FC7964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D4BC4-B077-4477-82FB-862D76D6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342A1-8B0B-44EF-A234-FE61B262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BE094-5AC5-4B3C-9ED9-2CBA8953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889F-8DEA-45F7-9B1D-574689BB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1D7F4-CC3D-42FA-A181-D15A8057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D2C55-B04B-4E5D-A1AF-70DA8B3F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E648B-B446-45CF-A953-13E627E6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F2A71-A9DD-4AE8-9F00-1347FFF9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2898B-4443-4F35-8970-858A621A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5ED18-2043-45BD-8467-DAB7B69F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EC9A8-B171-48D4-A59D-EC3AE0AE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A9478-D792-4EDF-B665-6D484B19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D568A-0F63-4D5D-813E-F5F3DFF3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E482C-8B0A-4885-9323-C6B6AB17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66D-4CCD-4DF6-A039-D4E77125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262C2-FA66-429B-9F50-9EC6B899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F3FD5-0F47-4E1F-B541-ACA4EA84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B7743-6C3A-461E-8758-FB12154A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4CAA0-D871-44EC-BC68-6102A742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89B2B-4387-42EE-9960-18DF5F7F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D38B8-5CDE-40EF-9635-D807D3C8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165E8-69E9-44B2-B3C0-59B4E395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4DEF-3CCE-4997-8D9C-D69716D786F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68FE-33A8-48B1-9B50-699405AFEC0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D1A1-ED63-4A2A-AE8E-524B94AE6BD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E1DE-1D43-46FD-AED5-806FEE918B1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B2F2-45A4-4332-85A4-C5507CB83C4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5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C724-6606-4ECF-B469-161A3FBABFB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1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5BC8-8140-48CB-8B9F-1B1BF19CC0B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7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2B5D-BB3D-4460-B98E-9D733746883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0920" y="1699920"/>
            <a:ext cx="705636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tt-RU" sz="5400" spc="-1" strike="noStrike">
                <a:solidFill>
                  <a:srgbClr val="90c226"/>
                </a:solidFill>
                <a:latin typeface="Trebuchet MS"/>
              </a:rPr>
              <a:t> </a:t>
            </a:r>
            <a:br>
              <a:rPr sz="5400"/>
            </a:br>
            <a:r>
              <a:rPr b="1" lang="tt-RU" sz="5400" spc="-1" strike="noStrike">
                <a:solidFill>
                  <a:srgbClr val="90c226"/>
                </a:solidFill>
                <a:latin typeface="Trebuchet MS"/>
              </a:rPr>
              <a:t> </a:t>
            </a:r>
            <a:br>
              <a:rPr sz="5400"/>
            </a:br>
            <a:r>
              <a:rPr b="1" lang="tt-RU" sz="5400" spc="-1" strike="noStrike">
                <a:solidFill>
                  <a:srgbClr val="90c226"/>
                </a:solidFill>
                <a:latin typeface="Trebuchet MS"/>
              </a:rPr>
              <a:t> </a:t>
            </a:r>
            <a:br>
              <a:rPr sz="5400"/>
            </a:br>
            <a:r>
              <a:rPr b="1" lang="tt-RU" sz="5400" spc="-1" strike="noStrike">
                <a:solidFill>
                  <a:srgbClr val="90c226"/>
                </a:solidFill>
                <a:latin typeface="Trebuchet MS"/>
              </a:rPr>
              <a:t> </a:t>
            </a:r>
            <a:br>
              <a:rPr sz="5400"/>
            </a:br>
            <a:r>
              <a:rPr b="1" lang="tt-RU" sz="5400" spc="-1" strike="noStrike">
                <a:solidFill>
                  <a:srgbClr val="90c226"/>
                </a:solidFill>
                <a:latin typeface="Trebuchet MS"/>
              </a:rPr>
              <a:t> 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tt-RU" sz="4800" spc="-1" strike="noStrike">
                <a:solidFill>
                  <a:srgbClr val="90c226"/>
                </a:solidFill>
                <a:latin typeface="Times New Roman"/>
              </a:rPr>
              <a:t> </a:t>
            </a:r>
            <a:br>
              <a:rPr sz="5400"/>
            </a:br>
            <a:r>
              <a:rPr b="1" lang="tt-RU" sz="4800" spc="-1" strike="noStrike">
                <a:solidFill>
                  <a:srgbClr val="90c226"/>
                </a:solidFill>
                <a:latin typeface="Times New Roman"/>
              </a:rPr>
              <a:t> </a:t>
            </a:r>
            <a:br>
              <a:rPr sz="5400"/>
            </a:br>
            <a:r>
              <a:rPr b="1" lang="tt-RU" sz="4800" spc="-1" strike="noStrike">
                <a:solidFill>
                  <a:srgbClr val="90c226"/>
                </a:solidFill>
                <a:latin typeface="Times New Roman"/>
              </a:rPr>
              <a:t>  </a:t>
            </a:r>
            <a:br>
              <a:rPr sz="5400"/>
            </a:br>
            <a:r>
              <a:rPr b="1" lang="tt-RU" sz="4400" spc="-1" strike="noStrike">
                <a:solidFill>
                  <a:srgbClr val="90c226"/>
                </a:solidFill>
                <a:latin typeface="Times New Roman"/>
              </a:rPr>
              <a:t> </a:t>
            </a:r>
            <a:br>
              <a:rPr sz="4800"/>
            </a:br>
            <a:r>
              <a:rPr b="1" lang="tt-RU" sz="4400" spc="-1" strike="noStrike">
                <a:solidFill>
                  <a:srgbClr val="90c226"/>
                </a:solidFill>
                <a:latin typeface="Times New Roman"/>
              </a:rPr>
              <a:t> </a:t>
            </a:r>
            <a:br>
              <a:rPr sz="4800"/>
            </a:br>
            <a:r>
              <a:rPr b="1" lang="tt-RU" sz="25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ема:</a:t>
            </a:r>
            <a:r>
              <a:rPr b="0" lang="ru-RU" sz="25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tt-RU" sz="25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Әмирхан Еникинең “Матурлык” хикәясе</a:t>
            </a:r>
            <a:br>
              <a:rPr sz="2500"/>
            </a:br>
            <a:r>
              <a:rPr b="1" lang="tt-RU" sz="25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әдәбият дәресенең план-конспекты</a:t>
            </a:r>
            <a:r>
              <a:rPr b="1" lang="tt-RU" sz="23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250560" y="4365360"/>
            <a:ext cx="58100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1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Төзүче: Шагараева Алинә Илсур  кызы,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ts val="216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1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Казан шәһәре  Яңа Савин районы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ts val="216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1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муниципаль бюджет гомуми белем бирү учреждениесе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ts val="216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1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“</a:t>
            </a:r>
            <a:r>
              <a:rPr b="1" lang="tt-RU" sz="1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Татар телендә белем бирүче 13 нче гимназия”нең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ts val="216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1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беренче квалификацион категорияле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ts val="216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1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туган  тел (татар теле һәм әдәбияты) укытучысы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1600" spc="-1" strike="noStrike">
                <a:solidFill>
                  <a:srgbClr val="7f7f7f"/>
                </a:solidFill>
                <a:latin typeface="Trebuchet MS"/>
              </a:rPr>
              <a:t> 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1800" spc="-1" strike="noStrike">
                <a:solidFill>
                  <a:srgbClr val="7f7f7f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ьсезлек</a:t>
            </a:r>
            <a:r>
              <a:rPr b="1" i="1" lang="tt-RU" sz="36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  –  матурлык  </a:t>
            </a:r>
            <a:r>
              <a:rPr b="1" i="1" lang="tt-RU" sz="3600" spc="-1" strike="noStrike">
                <a:solidFill>
                  <a:srgbClr val="c42f1a"/>
                </a:solidFill>
                <a:latin typeface="Times New Roman"/>
                <a:ea typeface="Times New Roman"/>
              </a:rPr>
              <a:t>каршы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c42f1a"/>
                </a:solidFill>
                <a:latin typeface="Times New Roman"/>
                <a:ea typeface="Times New Roman"/>
              </a:rPr>
              <a:t>Нәрсә</a:t>
            </a:r>
            <a:r>
              <a:rPr b="1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ямьсез?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c42f1a"/>
                </a:solidFill>
                <a:latin typeface="Times New Roman"/>
                <a:ea typeface="Times New Roman"/>
              </a:rPr>
              <a:t>Нәрсә</a:t>
            </a:r>
            <a:r>
              <a:rPr b="1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tt-RU" sz="36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матур?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Табигать матур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Бәдретдиннең күңел матур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Гаилә мөнәсәбәтләренең матур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Ана белән бала мәхәббәтенең матур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Шәкертләрнең матур мөгамәләс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Табигать матурлыг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Бәдретдиннең күңел матурлыг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Гаилә мөнәсәбәтләренең матурлыг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Ана белән бала мәхәббәтенең матурлыг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Шәкертләрнең матур мөгамәләс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4" name="Рисунок 1" descr=""/>
          <p:cNvPicPr/>
          <p:nvPr/>
        </p:nvPicPr>
        <p:blipFill>
          <a:blip r:embed="rId1"/>
          <a:stretch/>
        </p:blipFill>
        <p:spPr>
          <a:xfrm>
            <a:off x="0" y="36360"/>
            <a:ext cx="3648240" cy="31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108000" y="-15840"/>
            <a:ext cx="9145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6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Хикәянең идеясе – </a:t>
            </a: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60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белән бала мәхәббә</a:t>
            </a:r>
            <a:r>
              <a:rPr b="1" i="1" lang="tt-RU" sz="58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те </a:t>
            </a:r>
            <a:endParaRPr b="0" lang="en-US" sz="5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24360" y="264600"/>
            <a:ext cx="5148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Ана - бөек исем!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Нәрсә җитә ана булуга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Хатын-кызның бөтен матурлыгы,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Бөтен күрке ана булуда..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4645080" y="622440"/>
            <a:ext cx="3597120" cy="48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-541440" y="260280"/>
            <a:ext cx="9144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48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Татар халык мәкал</a:t>
            </a:r>
            <a:r>
              <a:rPr b="1" i="1" lang="ru-RU" sz="48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ь</a:t>
            </a:r>
            <a:r>
              <a:rPr b="1" i="1" lang="tt-RU" sz="48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ләре: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күңеле балада, бала күңеле далада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теләге диңгез төбеннән чыгарыр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куены туннан җылырак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Уч төбендә тәбә пешереп ашатсаң да, анаң каршындагы изге бурычны үти алмыйсың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Баласы суга төшәр, анасы утка төшәр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– шәфкат</a:t>
            </a:r>
            <a:r>
              <a:rPr b="1" i="1" lang="ru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ь</a:t>
            </a: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 диңгезе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Өйнең яме ана белә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916000" y="260280"/>
            <a:ext cx="58323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t-RU" sz="1800" spc="-1" strike="noStrike">
                <a:solidFill>
                  <a:srgbClr val="b9d181"/>
                </a:solidFill>
                <a:latin typeface="Trebuchet MS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9360" y="549000"/>
            <a:ext cx="8569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50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Өй эше: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“</a:t>
            </a:r>
            <a:r>
              <a:rPr b="1" lang="tt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Тормышта матурлыкның чагылышы”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дигән темага иҗади язма эш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7056720" cy="52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       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              </a:t>
            </a:r>
            <a:r>
              <a:rPr b="1" i="1" lang="ru-RU" sz="20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Д</a:t>
            </a:r>
            <a:r>
              <a:rPr b="1" i="1" lang="tt-RU" sz="20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әреснең проект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br>
              <a:rPr sz="1400"/>
            </a:br>
            <a:r>
              <a:rPr b="1" lang="ru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редмет:</a:t>
            </a:r>
            <a:r>
              <a:rPr b="0" lang="ru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Әдәбият</a:t>
            </a:r>
            <a:br>
              <a:rPr sz="1500"/>
            </a:br>
            <a:r>
              <a:rPr b="1" lang="ru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Сыйныф</a:t>
            </a:r>
            <a:r>
              <a:rPr b="0" lang="ru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: 11 (татар сыйныфы)    </a:t>
            </a:r>
            <a:br>
              <a:rPr sz="1500"/>
            </a:br>
            <a:r>
              <a:rPr b="1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ланлаштырылган нәтиҗәләр:</a:t>
            </a:r>
            <a:br>
              <a:rPr sz="1500"/>
            </a:br>
            <a:r>
              <a:rPr b="1" i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Шәхескә кагылышлы</a:t>
            </a:r>
            <a:r>
              <a:rPr b="1" i="1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: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герой кылган гамәлләр аша рухи матурлык сыйфатлары турында төшенү, аналарны кадерләргә кирәклекне аңлау;</a:t>
            </a:r>
            <a:br>
              <a:rPr sz="1500"/>
            </a:br>
            <a:r>
              <a:rPr b="1" i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Метапредмет:</a:t>
            </a:r>
            <a:r>
              <a:rPr b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1500"/>
            </a:br>
            <a:r>
              <a:rPr b="0" i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Танып белү УУГ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: аңлап уку һәм сөйләм күнекмәләре формалашу, текстны кабул итү һәм аның эчтәлегендә ориентлашу, нәтиҗәләр чыгара белү.</a:t>
            </a:r>
            <a:br>
              <a:rPr sz="1500"/>
            </a:br>
            <a:r>
              <a:rPr b="0" i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Регулятив УУГ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: әсәрнең төп идеясен табу, герой эшчәнлеген бәяләгәндә, үзеңнең һәм башкаларның фикерен дөрес бәяләү, төп нәтиҗәне чыгару эшчәнлегендә катнашу өчен тырышу.</a:t>
            </a:r>
            <a:br>
              <a:rPr sz="1500"/>
            </a:br>
            <a:r>
              <a:rPr b="0" i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Коммуникатив УУГ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:  сораулар бирә, тыңлый һәм башкаларның сорауларына җавап бирә белү; үз карашыңны әйтү һәм дәлилләү, эшлекле мөнәсәбәтләр урнаштыра алу.</a:t>
            </a:r>
            <a:br>
              <a:rPr sz="1500"/>
            </a:br>
            <a:r>
              <a:rPr b="1" i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Предмет:</a:t>
            </a:r>
            <a:r>
              <a:rPr b="0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хикәянең эчтәлеген аңлау һәм анализлый алу; темасын, идеясен күрсәтү.</a:t>
            </a:r>
            <a:br>
              <a:rPr sz="1500"/>
            </a:br>
            <a:r>
              <a:rPr b="1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Эшне оештыру: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фронталь, төркемдә, парларда, индивидуаль.</a:t>
            </a:r>
            <a:br>
              <a:rPr sz="1500"/>
            </a:br>
            <a:r>
              <a:rPr b="1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Метод һәм алымнар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:  репродуктив һәм эзләнү методлары, укытучы сөйләве, укытучы  һәм укучыларның сәнгатьле укуы, әңгәмә, дәреслек белән эш,  (ТАЙМД-ПЭА-ШЭА, ЭЙ АР ГАЙД структуралары)</a:t>
            </a:r>
            <a:br>
              <a:rPr sz="1500"/>
            </a:br>
            <a:r>
              <a:rPr b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Чыганаклар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: төп:  Әдәбияттан хрестоматия: татар урта гомуми белем бирү мәктәпләренең 11 нче сыйныфы өчен/Казан: “Мәгариф” нәшрияты; </a:t>
            </a:r>
            <a:br>
              <a:rPr sz="1500"/>
            </a:br>
            <a:r>
              <a:rPr b="1" i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өстәмә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: слайдлар күрсәтү өчен проектор, экран, ноутбук, кәгазь битләре, «Салкын чишмә» көе язмасы.</a:t>
            </a:r>
            <a:br>
              <a:rPr sz="1500"/>
            </a:br>
            <a:br>
              <a:rPr sz="1400"/>
            </a:br>
            <a:endParaRPr b="0" lang="en-US" sz="1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6804000" y="4076280"/>
            <a:ext cx="58104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1600" spc="-1" strike="noStrike">
                <a:solidFill>
                  <a:srgbClr val="7f7f7f"/>
                </a:solidFill>
                <a:latin typeface="Trebuchet MS"/>
              </a:rPr>
              <a:t> 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1800" spc="-1" strike="noStrike">
                <a:solidFill>
                  <a:srgbClr val="7f7f7f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436" name="матурлык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768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179280" y="333360"/>
            <a:ext cx="8785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3f7819"/>
                </a:solidFill>
                <a:latin typeface="Times New Roman"/>
                <a:ea typeface="Calibri"/>
              </a:rPr>
              <a:t>Матурлык</a:t>
            </a:r>
            <a:r>
              <a:rPr b="1" lang="tt-RU" sz="3400" spc="-1" strike="noStrike">
                <a:solidFill>
                  <a:srgbClr val="f0d578"/>
                </a:solidFill>
                <a:latin typeface="Times New Roman"/>
                <a:ea typeface="Calibri"/>
              </a:rPr>
              <a:t>  </a:t>
            </a:r>
            <a:r>
              <a:rPr b="1" lang="tt-RU" sz="3400" spc="-1" strike="noStrike">
                <a:solidFill>
                  <a:srgbClr val="2a5010"/>
                </a:solidFill>
                <a:latin typeface="Times New Roman"/>
                <a:ea typeface="Calibri"/>
              </a:rPr>
              <a:t>-</a:t>
            </a:r>
            <a:r>
              <a:rPr b="1" lang="tt-RU" sz="3400" spc="-1" strike="noStrike">
                <a:solidFill>
                  <a:srgbClr val="f0d578"/>
                </a:solidFill>
                <a:latin typeface="Times New Roman"/>
                <a:ea typeface="Calibri"/>
              </a:rPr>
              <a:t>  </a:t>
            </a: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барлык матур, гүзәл, күңелгә рәхәтлек, ләззәт бирә торган нәрсә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табигатьтә матур, сокланырлык урыннар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сөйкемле, үзенә нык җәлеп итә торган тышкы кыяфәт, чибәрлек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кеше характерындагы, эшчәнлегендәге  уңай, хуплана торган сыйфат.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2916000" y="260280"/>
            <a:ext cx="58323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t-RU" sz="1800" spc="-1" strike="noStrike">
                <a:solidFill>
                  <a:srgbClr val="b9d181"/>
                </a:solidFill>
                <a:latin typeface="Trebuchet MS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24000" y="1628640"/>
            <a:ext cx="54007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65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Әмирхан Еникинең </a:t>
            </a:r>
            <a:r>
              <a:rPr b="1" i="1" lang="tt-RU" sz="65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“Матурлык” </a:t>
            </a:r>
            <a:r>
              <a:rPr b="1" lang="tt-RU" sz="65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хикәясе</a:t>
            </a:r>
            <a:endParaRPr b="0" lang="en-US" sz="65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1" name="Picture 5" descr="C:\Users\Ляйсан\Desktop\Eniki.jpg"/>
          <p:cNvPicPr/>
          <p:nvPr/>
        </p:nvPicPr>
        <p:blipFill>
          <a:blip r:embed="rId1"/>
          <a:stretch/>
        </p:blipFill>
        <p:spPr>
          <a:xfrm>
            <a:off x="5145120" y="1195560"/>
            <a:ext cx="3602160" cy="47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79280" y="3193920"/>
            <a:ext cx="1843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-108000" y="44280"/>
          <a:ext cx="9252000" cy="6810480"/>
        </p:xfrm>
        <a:graphic>
          <a:graphicData uri="http://schemas.openxmlformats.org/drawingml/2006/table">
            <a:tbl>
              <a:tblPr/>
              <a:tblGrid>
                <a:gridCol w="1376280"/>
                <a:gridCol w="5888160"/>
                <a:gridCol w="1987560"/>
              </a:tblGrid>
              <a:tr h="501840"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ЭЛ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ФАРАЗЛ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О</a:t>
                      </a:r>
                      <a:r>
                        <a:rPr b="1" lang="tt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ҢЫНН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шьлек – иң матур чак. Хикәя яшьлек хатирәләре турында.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дә матур табигать күренешләре турында сүз бар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83988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 шәфкатьле эш-гамәлләр турын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дә рухи матурлык турында сүз бар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26216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 яшь егет белән кыз арасындагы мәхәббәт хисләре турын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 берәр рәссам, матур сәнгать әсәрләре турын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әлки хикәядә матур, чибәр туташлар катнашады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179280" y="333360"/>
            <a:ext cx="8785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3f7819"/>
                </a:solidFill>
                <a:latin typeface="Times New Roman"/>
                <a:ea typeface="Calibri"/>
              </a:rPr>
              <a:t>Матурлык</a:t>
            </a:r>
            <a:r>
              <a:rPr b="1" lang="tt-RU" sz="3400" spc="-1" strike="noStrike">
                <a:solidFill>
                  <a:srgbClr val="f0d578"/>
                </a:solidFill>
                <a:latin typeface="Times New Roman"/>
                <a:ea typeface="Calibri"/>
              </a:rPr>
              <a:t>  </a:t>
            </a:r>
            <a:r>
              <a:rPr b="1" lang="tt-RU" sz="3400" spc="-1" strike="noStrike">
                <a:solidFill>
                  <a:srgbClr val="2a5010"/>
                </a:solidFill>
                <a:latin typeface="Times New Roman"/>
                <a:ea typeface="Calibri"/>
              </a:rPr>
              <a:t>-</a:t>
            </a:r>
            <a:r>
              <a:rPr b="1" lang="tt-RU" sz="3400" spc="-1" strike="noStrike">
                <a:solidFill>
                  <a:srgbClr val="f0d578"/>
                </a:solidFill>
                <a:latin typeface="Times New Roman"/>
                <a:ea typeface="Calibri"/>
              </a:rPr>
              <a:t>  </a:t>
            </a: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барлык матур, гүзәл, күңелгә рәхәтлек, ләззәт бирә торган нәрсә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табигатьтә матур, сокланырлык урыннар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сөйкемле, үзенә нык җәлеп итә торган тышкы кыяфәт, чибәрлек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кеше характерындагы, эшчәнлегендәге  уңай, хуплана торган сыйфат.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916000" y="260280"/>
            <a:ext cx="58323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t-RU" sz="1800" spc="-1" strike="noStrike">
                <a:solidFill>
                  <a:srgbClr val="b9d181"/>
                </a:solidFill>
                <a:latin typeface="Trebuchet MS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6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Хикәянең темасы -</a:t>
            </a: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67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рухи матурлык </a:t>
            </a: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0" name="AudioCutter_салкын чишмә.mp3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0062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0:08:48Z</dcterms:created>
  <dc:creator>Христина</dc:creator>
  <dc:description/>
  <dc:language>en-US</dc:language>
  <cp:lastModifiedBy>User</cp:lastModifiedBy>
  <dcterms:modified xsi:type="dcterms:W3CDTF">2020-01-25T05:52:25Z</dcterms:modified>
  <cp:revision>49</cp:revision>
  <dc:subject/>
  <dc:title>Слайд 1</dc:title>
</cp:coreProperties>
</file>