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29B0-F407-45F0-AC07-F73B25FB95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C2B0-3FD8-43FC-9E94-4B8CB8D5324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D624-0F32-483A-B924-B243AB0A5B0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4A0C-F68E-434F-8808-CE22FF5ACB8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1847-704E-44A8-BE25-3C48BFDDD8A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4878-F992-4CEE-8ABE-FB089116492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88BD-DBA0-4AE2-8AD1-2F15B34F798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66B7-51A7-4D1D-8BA8-95E57566B9D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40F9-895E-4856-885A-20D36310168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EE12-33F2-40F1-A3B8-5D45F256EAB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0020-83E8-4111-AC43-0C426E56B6A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6546-878C-4909-9A8A-227A2D985ED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425C-7505-48C8-AD6E-A31D3C84486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E342-796A-4D45-A641-2817B50CC6D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107A-77ED-4C21-89E1-5D8DDB98FBD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A12-C483-40F6-93A8-1BC6DCB1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BD2-5744-4DFF-BC88-7E78E0B3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F1E-D3B9-4D6D-8807-883656404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199E-403C-47CF-B077-643B444B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46A6-EF3A-4CB9-B248-4BD13319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4A50-D7EE-4E39-835E-271B9167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1ECF-924F-4472-B97F-E942686E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3174-94CC-425A-846A-AD136BB4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E846-AD70-4787-8796-4186FCD0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0945-6958-4505-9A41-0A1FEEA8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2E3B-5947-494C-BE78-5144B0FC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F4B-476B-4C2D-96FB-B55764F8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06D9-5AFF-4426-BBED-AA5B83EA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C5A4-E768-44D0-883F-F0596F41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C318-21B5-4F30-BBC5-A1E54F3E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0735-25F2-4D86-92EA-537679B0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F4B1-AA22-458A-809E-370847B5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A076-8E31-431C-A117-5E5B5B25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57E1A-F437-440F-B16C-0BA9DED1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279BD-CE75-43B5-A3A4-B929A6D8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3744B-72E8-4AA1-9EC6-201279F3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028B-B588-49E5-B0D3-1ADCA04E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A17-BD9F-41A4-9163-BD1F3579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EDF4E-FFF7-42E4-9EEA-F470BB2D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B3999-09C1-4ED7-803D-7AA15113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CF763-1844-4DF5-BA6B-CEBAAA78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0937D-37C1-4BC5-B1BE-07971F5F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D6F2-31A0-4BB5-9A7A-EC7F0829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F5E36-F54F-493F-A8DF-65FCC5F3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CB902-A9BE-4A00-B785-5AEE0CB0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F5110-3EED-405E-9061-CF5C2A43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D36A3-C839-4490-BBB0-FC34D982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28D69-A72B-460F-92B0-6DC7DF16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E03-95BC-4959-A7FB-034980ED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90E42-13BD-433E-9B42-E07B082C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E4BE8-8EB1-49FE-9207-BB2E3A51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E848C-0242-41C7-A88B-EF0590ED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8C17F-761D-4EF1-9D8E-D7D4BBE1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F1423-6C41-40F1-909E-DA1C7246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EF11B-718A-41AF-9E3F-039B7A42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BB4E5-5ED5-4E2C-A866-B8D5202D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DA46C-BD67-42CF-9CB0-1C45C5E5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AC540-2C1F-4E61-8292-3481CCB9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C29F9-C2AE-436C-8D7C-C2F75609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432-21CF-422D-9627-7EBE6713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BB8A8-3EE5-496D-A80E-EF59B7C3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F73B3-4FAE-4BA5-A42F-E0B063F4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B344C-E49C-4243-BEA6-723F1C74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02314-D9C3-4D3A-A0D2-11B72F09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C123A-A7B6-42C4-9239-E211756D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CE3F8-5409-4992-8126-8B6CE511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76419-45AB-4189-87C4-7334F37A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D816E-8904-4817-A004-2D14C53A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370EB-EE09-454B-A7FF-1612C8FA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7A8A8-A6DC-4192-B3DC-8D992C49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143B-1324-4905-8807-39226853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183E4-4AAE-412E-8F63-0D63BA30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E20A7-CB90-4224-A7DE-2886FAE6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61F47-3EF9-48C9-92E4-8EEBFE35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60E19-CEC5-4C13-A689-33B2C0B1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18D28-1FC7-4324-8DFD-B75AC2F6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E659F-B9F7-4A38-8BF2-E469B0BF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F4386-381D-4EA8-9719-E96277D6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10540-3318-4275-BB5C-809733FD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D6C7C-9BA3-4610-9FB5-E8A58EFF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4A960-FF31-4558-ABC4-A0F76545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0A6-9051-433F-8F2B-FDCCE23F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EEA7E-0E3A-4563-90EA-95B2D7E0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2D3FB-2A9B-4989-BB62-2DC15F95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F43CF-513B-419A-A388-075C0BC6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9CD51-8583-4717-A445-79B036B9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8D345-B1FE-4744-AC14-68BF5912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9989B-214B-400C-9E85-1E0E7625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508A8-53C1-4BF5-B86B-2D27C432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7580A-5233-43B3-94D7-F617561A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414F3-6214-4C7D-B890-251CB567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3BCDA-A996-40EF-AD55-BE3AD9FE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4EBA-4B1B-44C8-B892-29AD2CD9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954A9-E100-413C-AF4D-690F0D56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F8516-CF07-4B7B-9A2F-5CFFBDC8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90244-BEF2-47B1-A6AF-F59C26D1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905DB-9D8A-4D1F-B837-96D04759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94C95-95B7-402F-9C4B-464C72B9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B2AF2-F3F1-4D9A-A81F-6724EAC5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4399A-F95F-4054-80C9-D0B0D9CB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D06C4-BD0C-45FF-93BF-072EBE60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BE331-332D-42BF-993A-526973F6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F075E-2BA9-4501-9AB7-0F065B4B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421-6040-4C31-8CF2-9DB93D29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7F16B-3D41-4392-9949-44D2C529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DE856-D9CA-4F5F-A243-B551334B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410CD-1A69-49D4-BA69-501BA002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E5477-F6F1-45E7-8FED-856714F1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D042E-7AA4-47B3-9FF9-D30B39C5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78374-1BB9-42B7-B567-B6CAD228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09912-E1B9-4C34-A3CC-C5F00B82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D953-0509-4CFF-96E9-67E0B352816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8982-A754-45F3-AEFE-88087849400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DE7A-6AD0-4535-A24D-15D1A1AA52E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ACF8-DD91-4747-8E6C-3C5E83F4D5F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05E3-6B4C-4AF5-B02E-B4486AA33F8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B571-A803-41A7-9CDC-F5D96BDEF1F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4749-6EC0-4672-869F-4E0543380A8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7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DBCD-FA61-472D-91F5-C3AD1164ADF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0920" y="1699920"/>
            <a:ext cx="705636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tt-RU" sz="5400" spc="-1" strike="noStrike">
                <a:solidFill>
                  <a:srgbClr val="90c226"/>
                </a:solidFill>
                <a:latin typeface="Trebuchet MS"/>
              </a:rPr>
              <a:t> </a:t>
            </a:r>
            <a:br>
              <a:rPr sz="5400"/>
            </a:br>
            <a:r>
              <a:rPr b="1" lang="tt-RU" sz="5400" spc="-1" strike="noStrike">
                <a:solidFill>
                  <a:srgbClr val="90c226"/>
                </a:solidFill>
                <a:latin typeface="Trebuchet MS"/>
              </a:rPr>
              <a:t> </a:t>
            </a:r>
            <a:br>
              <a:rPr sz="5400"/>
            </a:br>
            <a:r>
              <a:rPr b="1" lang="tt-RU" sz="5400" spc="-1" strike="noStrike">
                <a:solidFill>
                  <a:srgbClr val="90c226"/>
                </a:solidFill>
                <a:latin typeface="Trebuchet MS"/>
              </a:rPr>
              <a:t> </a:t>
            </a:r>
            <a:br>
              <a:rPr sz="5400"/>
            </a:br>
            <a:r>
              <a:rPr b="1" lang="tt-RU" sz="5400" spc="-1" strike="noStrike">
                <a:solidFill>
                  <a:srgbClr val="90c226"/>
                </a:solidFill>
                <a:latin typeface="Trebuchet MS"/>
              </a:rPr>
              <a:t> </a:t>
            </a:r>
            <a:br>
              <a:rPr sz="5400"/>
            </a:br>
            <a:r>
              <a:rPr b="1" lang="tt-RU" sz="5400" spc="-1" strike="noStrike">
                <a:solidFill>
                  <a:srgbClr val="90c226"/>
                </a:solidFill>
                <a:latin typeface="Trebuchet MS"/>
              </a:rPr>
              <a:t> </a:t>
            </a: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tt-RU" sz="4800" spc="-1" strike="noStrike">
                <a:solidFill>
                  <a:srgbClr val="90c226"/>
                </a:solidFill>
                <a:latin typeface="Times New Roman"/>
              </a:rPr>
              <a:t> </a:t>
            </a:r>
            <a:br>
              <a:rPr sz="5400"/>
            </a:br>
            <a:r>
              <a:rPr b="1" lang="tt-RU" sz="4800" spc="-1" strike="noStrike">
                <a:solidFill>
                  <a:srgbClr val="90c226"/>
                </a:solidFill>
                <a:latin typeface="Times New Roman"/>
              </a:rPr>
              <a:t> </a:t>
            </a:r>
            <a:br>
              <a:rPr sz="5400"/>
            </a:br>
            <a:r>
              <a:rPr b="1" lang="tt-RU" sz="4800" spc="-1" strike="noStrike">
                <a:solidFill>
                  <a:srgbClr val="90c226"/>
                </a:solidFill>
                <a:latin typeface="Times New Roman"/>
              </a:rPr>
              <a:t>  </a:t>
            </a:r>
            <a:br>
              <a:rPr sz="5400"/>
            </a:br>
            <a:r>
              <a:rPr b="1" lang="tt-RU" sz="4400" spc="-1" strike="noStrike">
                <a:solidFill>
                  <a:srgbClr val="90c226"/>
                </a:solidFill>
                <a:latin typeface="Times New Roman"/>
              </a:rPr>
              <a:t> </a:t>
            </a:r>
            <a:br>
              <a:rPr sz="4800"/>
            </a:br>
            <a:r>
              <a:rPr b="1" lang="tt-RU" sz="4400" spc="-1" strike="noStrike">
                <a:solidFill>
                  <a:srgbClr val="90c226"/>
                </a:solidFill>
                <a:latin typeface="Times New Roman"/>
              </a:rPr>
              <a:t> </a:t>
            </a:r>
            <a:br>
              <a:rPr sz="4800"/>
            </a:br>
            <a:r>
              <a:rPr b="1" lang="tt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ема:</a:t>
            </a:r>
            <a:r>
              <a:rPr b="0" lang="ru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tt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Әмирхан Еникинең “Матурлык” хикәясе</a:t>
            </a:r>
            <a:br>
              <a:rPr sz="2500"/>
            </a:br>
            <a:r>
              <a:rPr b="1" lang="tt-RU" sz="25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әдәбият дәресенең план-конспекты</a:t>
            </a:r>
            <a:r>
              <a:rPr b="1" lang="tt-RU" sz="23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50560" y="4365360"/>
            <a:ext cx="58100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өзүче: Шагараева Алинә Илсур  кызы,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ts val="216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Казан шәһәре  Яңа Савин районы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ts val="216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муниципаль бюджет гомуми белем бирү учреждениесе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ts val="216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“</a:t>
            </a: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атар телендә белем бирүче 13 нче гимназия”нең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ts val="216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беренче квалификацион категорияле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ts val="216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уган  тел (татар теле һәм әдәбияты) укытучысы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1600" spc="-1" strike="noStrike">
                <a:solidFill>
                  <a:srgbClr val="7f7f7f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800" spc="-1" strike="noStrike">
                <a:solidFill>
                  <a:srgbClr val="7f7f7f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ьсезлек</a:t>
            </a:r>
            <a:r>
              <a:rPr b="1" i="1" lang="tt-RU" sz="36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  –  матурлык  </a:t>
            </a: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каршы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Нәрсә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ямьсез?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Нәрсә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tt-RU" sz="36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матур?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Табигать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Бәдретдиннең күңел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Гаилә мөнәсәбәтләренең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Ана белән бала мәхәббәтенең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Шәкертләрнең матур мөгамәләс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Табигать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Бәдретдиннең күңел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Гаилә мөнәсәбәтләренең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Ана белән бала мәхәббәтенең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Шәкертләрнең матур мөгамәләс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4" name="Рисунок 1" descr=""/>
          <p:cNvPicPr/>
          <p:nvPr/>
        </p:nvPicPr>
        <p:blipFill>
          <a:blip r:embed="rId1"/>
          <a:stretch/>
        </p:blipFill>
        <p:spPr>
          <a:xfrm>
            <a:off x="0" y="36360"/>
            <a:ext cx="364824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108000" y="-15840"/>
            <a:ext cx="914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нең идеясе – 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0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белән бала мәхәббә</a:t>
            </a:r>
            <a:r>
              <a:rPr b="1" i="1" lang="tt-RU" sz="58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те </a:t>
            </a:r>
            <a:endParaRPr b="0" lang="en-US" sz="5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24360" y="264600"/>
            <a:ext cx="5148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Ана - бөек исем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Нәрсә җитә ана булуг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атын-кызның бөтен матурлыгы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Бөтен күрке ана булуда..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4645080" y="622440"/>
            <a:ext cx="359712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-541440" y="260280"/>
            <a:ext cx="9144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атар халык мәкал</a:t>
            </a:r>
            <a:r>
              <a:rPr b="1" i="1" lang="ru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ь</a:t>
            </a:r>
            <a:r>
              <a:rPr b="1" i="1" lang="tt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ләре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күңеле балада, бала күңеле далад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теләге диңгез төбеннән чыгарыр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куены туннан җылырак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Уч төбендә тәбә пешереп ашатсаң да, анаң каршындагы изге бурычны үти алмыйсың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Баласы суга төшәр, анасы утка төшәр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– шәфкат</a:t>
            </a: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ь</a:t>
            </a: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 диңгезе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Өйнең яме ана белә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9360" y="54900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0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Өй эше: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“</a:t>
            </a:r>
            <a:r>
              <a:rPr b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ормышта матурлыкның чагылышы”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дигән темага иҗади язма эш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7056720" cy="52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      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              </a:t>
            </a:r>
            <a:r>
              <a:rPr b="1" i="1" lang="ru-RU" sz="2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Д</a:t>
            </a:r>
            <a:r>
              <a:rPr b="1" i="1" lang="tt-RU" sz="20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әреснең проект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br>
              <a:rPr sz="1400"/>
            </a:br>
            <a:r>
              <a:rPr b="1" lang="ru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редмет:</a:t>
            </a:r>
            <a:r>
              <a:rPr b="0" lang="ru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Әдәбият</a:t>
            </a:r>
            <a:br>
              <a:rPr sz="1500"/>
            </a:br>
            <a:r>
              <a:rPr b="1" lang="ru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Сыйныф</a:t>
            </a:r>
            <a:r>
              <a:rPr b="0" lang="ru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11 (татар сыйныфы)    </a:t>
            </a:r>
            <a:br>
              <a:rPr sz="1500"/>
            </a:br>
            <a:r>
              <a:rPr b="1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Планлаштырылган нәтиҗәләр:</a:t>
            </a:r>
            <a:br>
              <a:rPr sz="1500"/>
            </a:br>
            <a:r>
              <a:rPr b="1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Шәхескә кагылышлы</a:t>
            </a:r>
            <a:r>
              <a:rPr b="1" i="1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герой кылган гамәлләр аша рухи матурлык сыйфатлары турында төшенү, аналарны кадерләргә кирәклекне аңлау;</a:t>
            </a:r>
            <a:br>
              <a:rPr sz="1500"/>
            </a:br>
            <a:r>
              <a:rPr b="1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Метапредмет:</a:t>
            </a:r>
            <a:r>
              <a:rPr b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1500"/>
            </a:br>
            <a:r>
              <a:rPr b="0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Танып белү УУГ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аңлап уку һәм сөйләм күнекмәләре формалашу, текстны кабул итү һәм аның эчтәлегендә ориентлашу, нәтиҗәләр чыгара белү.</a:t>
            </a:r>
            <a:br>
              <a:rPr sz="1500"/>
            </a:br>
            <a:r>
              <a:rPr b="0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Регулятив УУГ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әсәрнең төп идеясен табу, герой эшчәнлеген бәяләгәндә, үзеңнең һәм башкаларның фикерен дөрес бәяләү, төп нәтиҗәне чыгару эшчәнлегендә катнашу өчен тырышу.</a:t>
            </a:r>
            <a:br>
              <a:rPr sz="1500"/>
            </a:br>
            <a:r>
              <a:rPr b="0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Коммуникатив УУГ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 сораулар бирә, тыңлый һәм башкаларның сорауларына җавап бирә белү; үз карашыңны әйтү һәм дәлилләү, эшлекле мөнәсәбәтләр урнаштыра алу.</a:t>
            </a:r>
            <a:br>
              <a:rPr sz="1500"/>
            </a:br>
            <a:r>
              <a:rPr b="1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Предмет:</a:t>
            </a:r>
            <a:r>
              <a:rPr b="0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хикәянең эчтәлеген аңлау һәм анализлый алу; темасын, идеясен күрсәтү.</a:t>
            </a:r>
            <a:br>
              <a:rPr sz="1500"/>
            </a:br>
            <a:r>
              <a:rPr b="1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Эшне оештыру: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фронталь, төркемдә, парларда, индивидуаль.</a:t>
            </a:r>
            <a:br>
              <a:rPr sz="1500"/>
            </a:br>
            <a:r>
              <a:rPr b="1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Метод һәм алымнар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 репродуктив һәм эзләнү методлары, укытучы сөйләве, укытучы  һәм укучыларның сәнгатьле укуы, әңгәмә, дәреслек белән эш,  (ТАЙМД-ПЭА-ШЭА, ЭЙ АР ГАЙД структуралары)</a:t>
            </a:r>
            <a:br>
              <a:rPr sz="1500"/>
            </a:br>
            <a:r>
              <a:rPr b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Чыганаклар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төп:  Әдәбияттан хрестоматия: татар урта гомуми белем бирү мәктәпләренең 11 нче сыйныфы өчен/Казан: “Мәгариф” нәшрияты; </a:t>
            </a:r>
            <a:br>
              <a:rPr sz="1500"/>
            </a:br>
            <a:r>
              <a:rPr b="1" i="1" lang="tt-RU" sz="1500" spc="-1" strike="noStrike" u="sng">
                <a:solidFill>
                  <a:srgbClr val="2a5010"/>
                </a:solidFill>
                <a:uFillTx/>
                <a:latin typeface="Times New Roman"/>
                <a:ea typeface="Times New Roman"/>
              </a:rPr>
              <a:t>өстәмә</a:t>
            </a:r>
            <a:r>
              <a:rPr b="0" lang="tt-RU" sz="15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: слайдлар күрсәтү өчен проектор, экран, ноутбук, кәгазь битләре, «Салкын чишмә» көе язмасы.</a:t>
            </a:r>
            <a:br>
              <a:rPr sz="1500"/>
            </a:br>
            <a:br>
              <a:rPr sz="1400"/>
            </a:br>
            <a:endParaRPr b="0" lang="en-US" sz="1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804000" y="4076280"/>
            <a:ext cx="58104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t-RU" sz="1600" spc="-1" strike="noStrike">
                <a:solidFill>
                  <a:srgbClr val="7f7f7f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1800" spc="-1" strike="noStrike">
                <a:solidFill>
                  <a:srgbClr val="7f7f7f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36" name="матурлык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768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3f7819"/>
                </a:solidFill>
                <a:latin typeface="Times New Roman"/>
                <a:ea typeface="Calibri"/>
              </a:rPr>
              <a:t>Матурлык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</a:t>
            </a:r>
            <a:r>
              <a:rPr b="1" lang="tt-RU" sz="3400" spc="-1" strike="noStrike">
                <a:solidFill>
                  <a:srgbClr val="2a5010"/>
                </a:solidFill>
                <a:latin typeface="Times New Roman"/>
                <a:ea typeface="Calibri"/>
              </a:rPr>
              <a:t>-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</a:t>
            </a: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барлык матур, гүзәл, күңелгә рәхәтлек, ләззәт бирә торган нәрсә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табигатьтә матур, сокланырлык урыннар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сөйкемле, үзенә нык җәлеп итә торган тышкы кыяфәт, чибәрлек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кеше характерындагы, эшчәнлегендәге  уңай, хуплана торган сыйфат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24000" y="1628640"/>
            <a:ext cx="54007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Әмирхан Еникинең </a:t>
            </a:r>
            <a:r>
              <a:rPr b="1" i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“Матурлык” </a:t>
            </a:r>
            <a:r>
              <a:rPr b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се</a:t>
            </a:r>
            <a:endParaRPr b="0" lang="en-US" sz="6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1" name="Picture 5" descr="C:\Users\Ляйсан\Desktop\Eniki.jpg"/>
          <p:cNvPicPr/>
          <p:nvPr/>
        </p:nvPicPr>
        <p:blipFill>
          <a:blip r:embed="rId1"/>
          <a:stretch/>
        </p:blipFill>
        <p:spPr>
          <a:xfrm>
            <a:off x="5145120" y="1195560"/>
            <a:ext cx="360216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79280" y="3193920"/>
            <a:ext cx="184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-108000" y="44280"/>
          <a:ext cx="9252000" cy="6810480"/>
        </p:xfrm>
        <a:graphic>
          <a:graphicData uri="http://schemas.openxmlformats.org/drawingml/2006/table">
            <a:tbl>
              <a:tblPr/>
              <a:tblGrid>
                <a:gridCol w="1376280"/>
                <a:gridCol w="5888160"/>
                <a:gridCol w="1987560"/>
              </a:tblGrid>
              <a:tr h="501840"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ЭЛ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РАЗЛ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</a:t>
                      </a: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ҢЫНН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шьлек – иң матур чак. Хикәя яшьлек хатирәләре турында.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дә матур табигать күренешләре турында сүз ба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3988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шәфкатьле эш-гамәлләр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дә рухи матурлык турында сүз ба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26216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яшь егет белән кыз арасындагы мәхәббәт хисләре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берәр рәссам, матур сәнгать әсәрләре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әлки хикәядә матур, чибәр туташлар катнашады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3f7819"/>
                </a:solidFill>
                <a:latin typeface="Times New Roman"/>
                <a:ea typeface="Calibri"/>
              </a:rPr>
              <a:t>Матурлык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</a:t>
            </a:r>
            <a:r>
              <a:rPr b="1" lang="tt-RU" sz="3400" spc="-1" strike="noStrike">
                <a:solidFill>
                  <a:srgbClr val="2a5010"/>
                </a:solidFill>
                <a:latin typeface="Times New Roman"/>
                <a:ea typeface="Calibri"/>
              </a:rPr>
              <a:t>-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</a:t>
            </a: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барлык матур, гүзәл, күңелгә рәхәтлек, ләззәт бирә торган нәрсә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табигатьтә матур, сокланырлык урыннар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сөйкемле, үзенә нык җәлеп итә торган тышкы кыяфәт, чибәрлек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кеше характерындагы, эшчәнлегендәге  уңай, хуплана торган сыйфат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нең темасы -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рухи матурлык 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0" name="AudioCutter_салкын чишмә.mp3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0062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08:48Z</dcterms:created>
  <dc:creator>Христина</dc:creator>
  <dc:description/>
  <dc:language>en-US</dc:language>
  <cp:lastModifiedBy>User</cp:lastModifiedBy>
  <dcterms:modified xsi:type="dcterms:W3CDTF">2020-01-25T05:52:25Z</dcterms:modified>
  <cp:revision>49</cp:revision>
  <dc:subject/>
  <dc:title>Слайд 1</dc:title>
</cp:coreProperties>
</file>