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5CA0-851F-4744-AA93-129AFFB330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2D0C-5671-4ACB-87C8-FF37A22B295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6EF0-4B00-4421-8076-2AA21F146D1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0EC8-2B9A-4421-A4F6-D357A9F46CB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A9D3-D70C-406F-B1C9-3370036CBD7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4A4C-844E-4B23-AC1A-B4AD31194E9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18FD-5913-46C6-ACC1-C60D968B7AB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8677-2384-43B3-A7C6-747D7562178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2F30-9AE9-4DA1-BD01-A871ABFCEC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34A1-9BBE-4116-BE88-6C3F8DB44D4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3BA8-D4A3-436A-823E-B717EB99334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1C09-B25B-4334-86EE-51806C698B1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6ED7-D879-4670-8DCE-38F411B4C08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ED2F-EC7C-4710-80B9-A16C8C6EE31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F62C-5CC7-4EA8-A8C1-FC72E6207FF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E9F-6F88-469B-9B9A-00180878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5AA-F352-4A94-8BB6-98A42034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1E8-466F-48CB-888C-50ACEE34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132-C2F4-444C-BDD6-BB6107D1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A386-FE42-4507-9769-BBDCA9B3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C4D6-1A01-4E99-9793-CE4E83FE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78E3-7217-49BD-BBFC-9E6653A7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13FE-D116-4FFC-B127-651EA4A3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1D7D-A083-46F1-9FD5-67511406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A93C-5169-4BCC-A749-A80416A7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36BD-80A1-4995-BFC7-D92D15A6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3F5-AD3C-499C-8787-97FA083B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2FF4-2F57-4B59-AE93-C3E4B76D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3019-D0F4-4382-BF6E-BDA80777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029C-AD94-4573-9BD4-B4D2E01D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3529-B4B6-4264-8463-7C59020B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A579-7EF9-4B6A-B06F-6B2BC480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0F044-6B0E-479F-8434-A90975AA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468D-4EA6-4578-85D1-79C16993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23D65-2B14-4523-8C5D-C3491A11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ECE7D-8265-416C-9522-A34258F9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34180-294C-43BB-9BC0-E070C8F8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2AF-D49E-4CBB-BD66-6E2165AC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06F50-CD6A-457C-AA2C-12571B17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0B0D0-0555-4725-906D-7CE3A8AA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1A7C6-A967-422C-AE6B-66D0BACC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2303-1E53-41D4-90C2-F8D9520D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CB713-9D53-43F3-B373-F8F5C01A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21896-8AA0-467E-819D-3D6C16A7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FA645-24FC-4BCE-B537-12B74CE2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5B496-308E-4B98-9993-2869FF94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CD4F2-CA76-4F28-9F99-100BE034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16F53-7FF2-4717-A3C2-CE322CCF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2BD-AF05-436F-987F-1E8E21A4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AA064-931B-4B1C-B6A3-8CC18CF2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12322-D4D8-41CD-9D3B-E4A16ED1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D9AC4-240A-45DC-BBBA-445B28B6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8DB49-422C-4C37-8B91-EEBEC6AA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D2F22-31C1-4967-AC1D-C2C7D3A4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C7806-9E33-4D26-A51B-22F41EB2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B4E68-41AC-4335-92BF-A2AAAC89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E2C11-C4C5-4EF1-8835-A48B2A11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37040-2DAA-47B0-94D4-AFD23CAF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DD43A-C1AF-471F-8551-2A0CD9D0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997-F900-427D-A42E-C7446203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61556-A025-495B-9263-DD116716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FFC77-5DDD-4556-B47E-969549F0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711B0-9DAA-46A9-AFE3-CE5101F9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F0B2C-3D26-4EE3-86C3-8F89C03D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47907-7004-44CD-94D8-5A81D85D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CBA03-4C59-407A-B348-7FEC0B53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AD2BC-F01A-4C15-96CC-444EF4E0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A2D9F-AC2D-4D62-9104-5F0DDB5B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AE612-C678-4657-AE9C-6B881BBC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BF0D2-49F8-4382-8E45-20861ED4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298-B42D-4869-A3DB-479FED1A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F14E3-A19B-49BF-BD6D-8D98BE66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117B5-BED3-450B-9F23-5215E16B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6C543-15E1-4009-A25A-11124D05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FBF60-1A2E-4DC6-AE10-CD7B3DA3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0D944-943B-4468-8C1C-35827138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C0C83-B38D-484D-85A0-C5A5BD6E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D40FE-B299-4D4A-8A03-FCCE5E2A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E4519-4230-497C-9ED8-45C7EB2F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04F61-C4AF-4DBD-9289-D14EF4F8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CF1C8-0A1D-4696-970C-95D99F96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604-53F2-4A80-A27D-079838FA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2609B-BBEE-4FC3-BB43-00ABE926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DBE19-FF1D-435B-9BF4-BDD7C40F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07B86-8D2E-4F00-A577-DF501D32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009BA-1203-4CAA-87B8-AFBA27E9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F2D89-1D14-4D61-8082-AD03FA9E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6421A-BC35-46DC-91CA-2AC8CD24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53EBA-96C2-46C3-80CE-E03FF8FC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E7634-5082-48A9-8141-EAC7F204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C1D20-4038-451D-9E17-D1B51976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23CB6-72C5-4A3C-8E32-D18B83B0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28B-0ABF-4B4D-AE46-FC08674B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90ADD-6EA9-4CD4-ADEE-66CDD8FC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945C5-2F23-4310-B85B-957ABE1B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F536E-EE35-48C4-8CF4-DAE65FB5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57DDB-CB0F-4859-9D87-01675B2B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F71EF-6E18-4EBB-957A-09A5AB22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38F73-82D7-46F4-BD07-AE4E618E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F5492-4436-46B7-AC71-10CC7B8E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C2154-2D5D-4ACE-8480-07CADF2F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F351B-253A-41DB-B084-C4BF2068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F23EE-4451-48F2-9035-3C4F6865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D5C-A608-44FB-9199-75E9A80C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10B6-9D32-455D-8CDB-DFA51AB9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CDCA6-25D5-48E9-8501-A08C4430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A4BD5-53AC-42C7-9C19-47F243FB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4BDA6-A06D-49B4-AB73-53D848C9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193EC-BBF3-4ADA-8481-4D72E5F9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66343-E3D7-4F74-B6C6-C82F414F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73C5C-0EE6-47E7-AEDD-03104718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1EFD-7D70-4ABE-9849-FC5C57DC5D6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BBFA-B012-49F4-A3E4-07C1EAA496C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BDE8-3DD0-42B6-A74D-48AFFFC336A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9956-9FC5-412E-AD72-D48F806C319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03CB-DEA5-4FAE-984B-441FEC26579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E80C-D1AF-428A-9FF9-1DD6E6A0E6F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FF4B-B032-4663-A818-E9D02AB0B3C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7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E0CB-6C6C-440E-AE81-8923462FB8B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0920" y="1699920"/>
            <a:ext cx="705636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tt-RU" sz="5400" spc="-1" strike="noStrike">
                <a:solidFill>
                  <a:srgbClr val="90c226"/>
                </a:solidFill>
                <a:latin typeface="Trebuchet MS"/>
              </a:rPr>
              <a:t> </a:t>
            </a:r>
            <a:br>
              <a:rPr sz="5400"/>
            </a:br>
            <a:r>
              <a:rPr b="1" lang="tt-RU" sz="5400" spc="-1" strike="noStrike">
                <a:solidFill>
                  <a:srgbClr val="90c226"/>
                </a:solidFill>
                <a:latin typeface="Trebuchet MS"/>
              </a:rPr>
              <a:t> </a:t>
            </a:r>
            <a:br>
              <a:rPr sz="5400"/>
            </a:br>
            <a:r>
              <a:rPr b="1" lang="tt-RU" sz="5400" spc="-1" strike="noStrike">
                <a:solidFill>
                  <a:srgbClr val="90c226"/>
                </a:solidFill>
                <a:latin typeface="Trebuchet MS"/>
              </a:rPr>
              <a:t> </a:t>
            </a:r>
            <a:br>
              <a:rPr sz="5400"/>
            </a:br>
            <a:r>
              <a:rPr b="1" lang="tt-RU" sz="5400" spc="-1" strike="noStrike">
                <a:solidFill>
                  <a:srgbClr val="90c226"/>
                </a:solidFill>
                <a:latin typeface="Trebuchet MS"/>
              </a:rPr>
              <a:t> </a:t>
            </a:r>
            <a:br>
              <a:rPr sz="5400"/>
            </a:br>
            <a:r>
              <a:rPr b="1" lang="tt-RU" sz="5400" spc="-1" strike="noStrike">
                <a:solidFill>
                  <a:srgbClr val="90c226"/>
                </a:solidFill>
                <a:latin typeface="Trebuchet MS"/>
              </a:rPr>
              <a:t> 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tt-RU" sz="4800" spc="-1" strike="noStrike">
                <a:solidFill>
                  <a:srgbClr val="90c226"/>
                </a:solidFill>
                <a:latin typeface="Times New Roman"/>
              </a:rPr>
              <a:t> </a:t>
            </a:r>
            <a:br>
              <a:rPr sz="5400"/>
            </a:br>
            <a:r>
              <a:rPr b="1" lang="tt-RU" sz="4800" spc="-1" strike="noStrike">
                <a:solidFill>
                  <a:srgbClr val="90c226"/>
                </a:solidFill>
                <a:latin typeface="Times New Roman"/>
              </a:rPr>
              <a:t> </a:t>
            </a:r>
            <a:br>
              <a:rPr sz="5400"/>
            </a:br>
            <a:r>
              <a:rPr b="1" lang="tt-RU" sz="4800" spc="-1" strike="noStrike">
                <a:solidFill>
                  <a:srgbClr val="90c226"/>
                </a:solidFill>
                <a:latin typeface="Times New Roman"/>
              </a:rPr>
              <a:t>  </a:t>
            </a:r>
            <a:br>
              <a:rPr sz="5400"/>
            </a:br>
            <a:r>
              <a:rPr b="1" lang="tt-RU" sz="4400" spc="-1" strike="noStrike">
                <a:solidFill>
                  <a:srgbClr val="90c226"/>
                </a:solidFill>
                <a:latin typeface="Times New Roman"/>
              </a:rPr>
              <a:t> </a:t>
            </a:r>
            <a:br>
              <a:rPr sz="4800"/>
            </a:br>
            <a:r>
              <a:rPr b="1" lang="tt-RU" sz="4400" spc="-1" strike="noStrike">
                <a:solidFill>
                  <a:srgbClr val="90c226"/>
                </a:solidFill>
                <a:latin typeface="Times New Roman"/>
              </a:rPr>
              <a:t> </a:t>
            </a:r>
            <a:br>
              <a:rPr sz="4800"/>
            </a:br>
            <a:r>
              <a:rPr b="1" lang="tt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ема:</a:t>
            </a:r>
            <a:r>
              <a:rPr b="0" lang="ru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tt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Әмирхан Еникинең “Матурлык” хикәясе</a:t>
            </a:r>
            <a:br>
              <a:rPr sz="2500"/>
            </a:br>
            <a:r>
              <a:rPr b="1" lang="tt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әдәбият дәресенең план-конспекты</a:t>
            </a:r>
            <a:r>
              <a:rPr b="1" lang="tt-RU" sz="23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50560" y="4365360"/>
            <a:ext cx="58100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өзүче: Шагараева Алинә Илсур  кызы,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ts val="216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Казан шәһәре  Яңа Савин районы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ts val="216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муниципаль бюджет гомуми белем бирү учреждениесе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ts val="216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“</a:t>
            </a: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атар телендә белем бирүче 13 нче гимназия”нең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ts val="216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беренче квалификацион категорияле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ts val="216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уган  тел (татар теле һәм әдәбияты) укытучысы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1600" spc="-1" strike="noStrike">
                <a:solidFill>
                  <a:srgbClr val="7f7f7f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800" spc="-1" strike="noStrike">
                <a:solidFill>
                  <a:srgbClr val="7f7f7f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ьсезлек</a:t>
            </a:r>
            <a:r>
              <a:rPr b="1" i="1" lang="tt-RU" sz="36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  –  матурлык  </a:t>
            </a: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каршы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Нәрсә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ямьсез?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Нәрсә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tt-RU" sz="36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матур?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Табигать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Бәдретдиннең күңел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Гаилә мөнәсәбәтләренең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Ана белән бала мәхәббәтенең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Шәкертләрнең матур мөгамәләс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Табигать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Бәдретдиннең күңел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Гаилә мөнәсәбәтләренең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Ана белән бала мәхәббәтенең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Шәкертләрнең матур мөгамәләс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4" name="Рисунок 1" descr=""/>
          <p:cNvPicPr/>
          <p:nvPr/>
        </p:nvPicPr>
        <p:blipFill>
          <a:blip r:embed="rId1"/>
          <a:stretch/>
        </p:blipFill>
        <p:spPr>
          <a:xfrm>
            <a:off x="0" y="36360"/>
            <a:ext cx="364824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108000" y="-15840"/>
            <a:ext cx="914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нең идеясе – 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0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белән бала мәхәббә</a:t>
            </a:r>
            <a:r>
              <a:rPr b="1" i="1" lang="tt-RU" sz="58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те </a:t>
            </a:r>
            <a:endParaRPr b="0" lang="en-US" sz="5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24360" y="264600"/>
            <a:ext cx="5148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Ана - бөек исем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Нәрсә җитә ана булуг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атын-кызның бөтен матурлыгы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Бөтен күрке ана булуда..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4645080" y="622440"/>
            <a:ext cx="359712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-541440" y="260280"/>
            <a:ext cx="9144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атар халык мәкал</a:t>
            </a:r>
            <a:r>
              <a:rPr b="1" i="1" lang="ru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ь</a:t>
            </a:r>
            <a:r>
              <a:rPr b="1" i="1" lang="tt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ләре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күңеле балада, бала күңеле далад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теләге диңгез төбеннән чыгарыр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куены туннан җылырак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Уч төбендә тәбә пешереп ашатсаң да, анаң каршындагы изге бурычны үти алмыйсың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Баласы суга төшәр, анасы утка төшәр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– шәфкат</a:t>
            </a: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ь</a:t>
            </a: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 диңгезе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Өйнең яме ана белә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9360" y="54900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0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Өй эше: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“</a:t>
            </a:r>
            <a:r>
              <a:rPr b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ормышта матурлыкның чагылышы”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дигән темага иҗади язма эш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056720" cy="52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      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              </a:t>
            </a:r>
            <a:r>
              <a:rPr b="1" i="1" lang="ru-RU" sz="2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Д</a:t>
            </a:r>
            <a:r>
              <a:rPr b="1" i="1" lang="tt-RU" sz="2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әреснең проек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br>
              <a:rPr sz="1400"/>
            </a:br>
            <a:r>
              <a:rPr b="1" lang="ru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едмет:</a:t>
            </a:r>
            <a:r>
              <a:rPr b="0" lang="ru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Әдәбият</a:t>
            </a:r>
            <a:br>
              <a:rPr sz="1500"/>
            </a:br>
            <a:r>
              <a:rPr b="1" lang="ru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Сыйныф</a:t>
            </a:r>
            <a:r>
              <a:rPr b="0" lang="ru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11 (татар сыйныфы)    </a:t>
            </a:r>
            <a:br>
              <a:rPr sz="1500"/>
            </a:br>
            <a:r>
              <a:rPr b="1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ланлаштырылган нәтиҗәләр:</a:t>
            </a:r>
            <a:br>
              <a:rPr sz="1500"/>
            </a:br>
            <a:r>
              <a:rPr b="1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Шәхескә кагылышлы</a:t>
            </a:r>
            <a:r>
              <a:rPr b="1" i="1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герой кылган гамәлләр аша рухи матурлык сыйфатлары турында төшенү, аналарны кадерләргә кирәклекне аңлау;</a:t>
            </a:r>
            <a:br>
              <a:rPr sz="1500"/>
            </a:br>
            <a:r>
              <a:rPr b="1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Метапредмет:</a:t>
            </a:r>
            <a:r>
              <a:rPr b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1500"/>
            </a:br>
            <a:r>
              <a:rPr b="0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Танып белү УУГ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аңлап уку һәм сөйләм күнекмәләре формалашу, текстны кабул итү һәм аның эчтәлегендә ориентлашу, нәтиҗәләр чыгара белү.</a:t>
            </a:r>
            <a:br>
              <a:rPr sz="1500"/>
            </a:br>
            <a:r>
              <a:rPr b="0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Регулятив УУГ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әсәрнең төп идеясен табу, герой эшчәнлеген бәяләгәндә, үзеңнең һәм башкаларның фикерен дөрес бәяләү, төп нәтиҗәне чыгару эшчәнлегендә катнашу өчен тырышу.</a:t>
            </a:r>
            <a:br>
              <a:rPr sz="1500"/>
            </a:br>
            <a:r>
              <a:rPr b="0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Коммуникатив УУГ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 сораулар бирә, тыңлый һәм башкаларның сорауларына җавап бирә белү; үз карашыңны әйтү һәм дәлилләү, эшлекле мөнәсәбәтләр урнаштыра алу.</a:t>
            </a:r>
            <a:br>
              <a:rPr sz="1500"/>
            </a:br>
            <a:r>
              <a:rPr b="1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Предмет:</a:t>
            </a:r>
            <a:r>
              <a:rPr b="0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хикәянең эчтәлеген аңлау һәм анализлый алу; темасын, идеясен күрсәтү.</a:t>
            </a:r>
            <a:br>
              <a:rPr sz="1500"/>
            </a:br>
            <a:r>
              <a:rPr b="1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Эшне оештыру: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фронталь, төркемдә, парларда, индивидуаль.</a:t>
            </a:r>
            <a:br>
              <a:rPr sz="1500"/>
            </a:br>
            <a:r>
              <a:rPr b="1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Метод һәм алымнар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 репродуктив һәм эзләнү методлары, укытучы сөйләве, укытучы  һәм укучыларның сәнгатьле укуы, әңгәмә, дәреслек белән эш,  (ТАЙМД-ПЭА-ШЭА, ЭЙ АР ГАЙД структуралары)</a:t>
            </a:r>
            <a:br>
              <a:rPr sz="1500"/>
            </a:br>
            <a:r>
              <a:rPr b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Чыганаклар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төп:  Әдәбияттан хрестоматия: татар урта гомуми белем бирү мәктәпләренең 11 нче сыйныфы өчен/Казан: “Мәгариф” нәшрияты; </a:t>
            </a:r>
            <a:br>
              <a:rPr sz="1500"/>
            </a:br>
            <a:r>
              <a:rPr b="1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өстәмә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слайдлар күрсәтү өчен проектор, экран, ноутбук, кәгазь битләре, «Салкын чишмә» көе язмасы.</a:t>
            </a:r>
            <a:br>
              <a:rPr sz="1500"/>
            </a:br>
            <a:br>
              <a:rPr sz="1400"/>
            </a:br>
            <a:endParaRPr b="0" lang="en-US" sz="1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804000" y="4076280"/>
            <a:ext cx="5810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1600" spc="-1" strike="noStrike">
                <a:solidFill>
                  <a:srgbClr val="7f7f7f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800" spc="-1" strike="noStrike">
                <a:solidFill>
                  <a:srgbClr val="7f7f7f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36" name="матурлык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768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3f7819"/>
                </a:solidFill>
                <a:latin typeface="Times New Roman"/>
                <a:ea typeface="Calibri"/>
              </a:rPr>
              <a:t>Матурлык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</a:t>
            </a:r>
            <a:r>
              <a:rPr b="1" lang="tt-RU" sz="3400" spc="-1" strike="noStrike">
                <a:solidFill>
                  <a:srgbClr val="2a5010"/>
                </a:solidFill>
                <a:latin typeface="Times New Roman"/>
                <a:ea typeface="Calibri"/>
              </a:rPr>
              <a:t>-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</a:t>
            </a: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барлык матур, гүзәл, күңелгә рәхәтлек, ләззәт бирә торган нәрсә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табигатьтә матур, сокланырлык урыннар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сөйкемле, үзенә нык җәлеп итә торган тышкы кыяфәт, чибәрлек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кеше характерындагы, эшчәнлегендәге  уңай, хуплана торган сыйфат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24000" y="1628640"/>
            <a:ext cx="54007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Әмирхан Еникинең </a:t>
            </a:r>
            <a:r>
              <a:rPr b="1" i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“Матурлык” </a:t>
            </a:r>
            <a:r>
              <a:rPr b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се</a:t>
            </a:r>
            <a:endParaRPr b="0" lang="en-US" sz="6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1" name="Picture 5" descr="C:\Users\Ляйсан\Desktop\Eniki.jpg"/>
          <p:cNvPicPr/>
          <p:nvPr/>
        </p:nvPicPr>
        <p:blipFill>
          <a:blip r:embed="rId1"/>
          <a:stretch/>
        </p:blipFill>
        <p:spPr>
          <a:xfrm>
            <a:off x="5145120" y="1195560"/>
            <a:ext cx="360216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79280" y="3193920"/>
            <a:ext cx="184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-108000" y="44280"/>
          <a:ext cx="9252000" cy="6810480"/>
        </p:xfrm>
        <a:graphic>
          <a:graphicData uri="http://schemas.openxmlformats.org/drawingml/2006/table">
            <a:tbl>
              <a:tblPr/>
              <a:tblGrid>
                <a:gridCol w="1376280"/>
                <a:gridCol w="5888160"/>
                <a:gridCol w="1987560"/>
              </a:tblGrid>
              <a:tr h="501840"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ЭЛ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РАЗЛ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</a:t>
                      </a: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ҢЫНН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шьлек – иң матур чак. Хикәя яшьлек хатирәләре турында.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дә матур табигать күренешләре турында сүз ба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3988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шәфкатьле эш-гамәлләр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дә рухи матурлык турында сүз ба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26216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яшь егет белән кыз арасындагы мәхәббәт хисләре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берәр рәссам, матур сәнгать әсәрләре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әлки хикәядә матур, чибәр туташлар катнашады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3f7819"/>
                </a:solidFill>
                <a:latin typeface="Times New Roman"/>
                <a:ea typeface="Calibri"/>
              </a:rPr>
              <a:t>Матурлык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</a:t>
            </a:r>
            <a:r>
              <a:rPr b="1" lang="tt-RU" sz="3400" spc="-1" strike="noStrike">
                <a:solidFill>
                  <a:srgbClr val="2a5010"/>
                </a:solidFill>
                <a:latin typeface="Times New Roman"/>
                <a:ea typeface="Calibri"/>
              </a:rPr>
              <a:t>-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</a:t>
            </a: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барлык матур, гүзәл, күңелгә рәхәтлек, ләззәт бирә торган нәрсә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табигатьтә матур, сокланырлык урыннар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сөйкемле, үзенә нык җәлеп итә торган тышкы кыяфәт, чибәрлек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кеше характерындагы, эшчәнлегендәге  уңай, хуплана торган сыйфат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нең темасы -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рухи матурлык 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0" name="AudioCutter_салкын чишмә.mp3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0062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08:48Z</dcterms:created>
  <dc:creator>Христина</dc:creator>
  <dc:description/>
  <dc:language>en-US</dc:language>
  <cp:lastModifiedBy>User</cp:lastModifiedBy>
  <dcterms:modified xsi:type="dcterms:W3CDTF">2020-01-25T05:52:25Z</dcterms:modified>
  <cp:revision>49</cp:revision>
  <dc:subject/>
  <dc:title>Слайд 1</dc:title>
</cp:coreProperties>
</file>