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D9F3-4E0A-4D42-AC2B-0DD96539FD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D9DD-2977-4D24-9C95-B51CFAB23D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DECB-BD78-4546-B7E5-6897E808C5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25A1-064A-4642-93C6-FBB26F488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616C-0A92-4596-AE82-9B71720E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B2172-7915-48C1-A214-C8789631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F67B5-90A4-4415-A1EA-CAD89F95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DD4A1-C361-4427-BD6D-E9BC95F5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E6AFE-4C82-43B1-976E-25BA8FEA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8E944-C86A-46F4-8E04-A02058D3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E37B9-4768-4307-B17B-908EE28F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AA710-0412-4962-9BCC-6FAB28F1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1467E-5670-4F68-A725-9E02F0BF4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EC611-9B3A-45EE-9F0F-DBC7756C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D330A-C24B-4952-A841-7AA774C7A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C3E6-D2C5-4D34-8F7E-42CB1C06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24891-1341-4292-B8F1-B9BE9A64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37C06-8ED6-471D-AEA6-E244C82D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82F75-A7A8-403F-ACA6-4ECAA94E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DDE1F-EED2-4B86-8109-804001B6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05A31-736B-4A4C-AC05-731BB6A1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5352C1-A379-4B62-89F1-71F7A4C1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04044-8736-411A-BEEB-2F732EC0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444C8-8A91-466D-B6BC-F09ECD90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C1E76-6C37-4BDA-91B6-35814496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148F6-30CD-4FEC-A4A2-542B024C8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028B-1DBB-460D-906A-EAA73F9A5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3957B-90AC-44CC-BEB5-9087745D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A45C2-BE09-4308-A2CE-54CB9140F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D8880-20B1-426F-8170-ED37EC4A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474CF-420A-472D-BA92-E279345F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810ED-A7F3-4BC5-85D8-0292166D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92E67-1139-47A9-B728-3B5DA470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5D76E-9AF5-4904-A6A0-AF69A000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001A3-0336-4EAB-9C9C-71DC9DE6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3183D-D8DE-47C4-B6F9-401047BE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B75B0-788C-4971-836F-29AAC71A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214B-0587-45AE-A6F2-208A683D0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DD7F0-0D9A-4692-932C-703D2337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69FA1-5B6D-4FAE-AFD8-A3E4FD2F1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EF900-1ECF-4AB9-8059-5E39C3CB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AD270-5452-47E9-8577-9A426D09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EF8E16-879F-4279-927B-E98313CE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A14DD5-441B-4BF9-AC2D-9578696F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C5748-A08C-4634-B321-52F01027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09D2F3-A2D6-4F1A-A306-BF3B44EF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B062E-6987-4ECC-9B4C-28A13B35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24F984-0950-46FF-BE6F-275FDAA7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935D-9F1B-4FF7-A4EC-BAF91728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32503-1628-4671-97A9-FB46CCE1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1C9B88-BF3F-4D30-A4DF-68CC8892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F720F0-B361-4BD6-A789-91602B79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34347-E25D-426E-8825-074B40F4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923C30-E38D-47AF-83E6-BFD5A23A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FEF95A-69AB-4104-B331-433453A6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B0E045-766E-4450-B9BC-39748F03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F04712-C2D5-45B7-8127-5E76C1A1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27DAB6-DCF7-499F-8756-2E681FE0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3B0E62-AD55-46E3-BC15-5750CFA0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896C-3082-410F-8144-20A8EE70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CF2435-2C20-416E-BF39-57D97F96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113DAB-3506-4E00-8E5C-DCA4DDAE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717DFF-BB85-4E37-830D-924B6FDF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D068E4-0FB6-4073-AFB6-CF184B8A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5BEB35-EC35-426E-B272-C9BCBB0B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3C28AB-E65E-465D-BB52-ABD0E412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D5CF42-2653-43ED-8068-AEFD15E5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89FFD5-A57E-42AF-8166-CC12B4FE4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B96D38-0B0B-44CF-89BA-9A2EC7E4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63AC30-C00C-4175-890D-DE5BEF31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D966-8D69-44B5-8E14-19DE7980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413F12-73AF-4F71-B87C-A7D2EE91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26FD63-5085-4A6F-A9EB-14DE2C24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4C3A91-03D9-46BB-B55E-4E6BEB49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60B087-64A7-4EE2-8949-3A85EB4F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733664-85FE-4A59-ADE1-4DE9887C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9F1ABD-D384-4077-9528-56C2A03F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8EF21C-463D-452C-8A0D-BE3EDDE5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849440-8D4E-4760-B44D-5F599F6D6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484D40-C06D-4961-B942-BEEF13EA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268092-7DD6-47B1-9729-842EA462A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1C94-0281-4A52-ADD5-61CD0DED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CABF2F-4D06-4DE0-9194-D5A37456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446D3A-C7E7-414A-96CA-ECF0F18A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C1E141-816A-49DF-B3D4-EDC0F551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CEC1B6-2A1E-429A-BDF8-E1D35583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A14D80-0779-4341-9139-4FB4224D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D496F6-8B6A-477B-9A86-7556E40C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48B10A-BF0E-4574-86D0-885AA5E2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0902E1-E2A4-4D12-896A-023C5AB4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5C0092-3CEE-46F8-8A7B-92EB5778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1B9279-E4DD-4BC2-ADD5-F75310E6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1403-7F99-4C1C-B7EF-EF05C74A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E07E60-B1F0-48B8-80B4-923EC254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880A8F-E794-4948-9206-1CFF5E222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CF3C9C-BC51-4E34-ADE9-A21CF899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7C9449-3D1A-4652-B016-603943C2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9059ED-B2E0-4D0E-92D0-41BEE2F0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F075A3-422E-4D98-B80D-8E72B628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F1B8E2-20CF-4C7F-929A-EF45FD7B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9DB099-192E-4829-B395-64216228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D55F37-9823-4742-A176-A64970A4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D8E296-9941-4C28-9EB8-910FD7CA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6658-5436-4BD2-A720-44948BF8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B2D4F2-549F-46CD-A036-B71F3010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4E6C9E-5AD9-433C-845B-48AAF0BB1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6CF05F-8582-4402-93C7-1152FC11F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928B18-7939-4922-975D-EAAA12806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5A89A3-B6FD-4C22-AEF6-77E59A98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D6610C-B192-41F2-BF97-4F61E804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066751-8D4D-4055-A115-18F274C2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2FEE72-3984-4ACC-A9C1-001D7EB4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7FA576-0C2E-46EB-ABBC-EEB843E1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8091BE-4F38-438E-BD49-1305B92A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9089-7BDC-40F7-835B-65D46388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AA94-1440-4353-B3EF-45D92EEC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3E8E65-E097-44E2-89E0-C4D8424C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A8EE17-D02C-478D-ADEC-4590A954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203001-B351-4968-9FA2-9088C951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A4935A-0A20-434B-8F91-BE412C74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1EBDAB-1C06-44B2-8180-8E3015CB8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839D-95DF-4A76-9858-116FD5D6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3F52-32F9-48BD-A732-09994478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A2F3-FF82-43BF-9182-E4B48A25D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3C78-DBEF-40C0-B885-52AFC8CA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8E47F-E939-4686-85B2-1A0140D24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B9949-CD3E-4B90-AB95-A2B4FF2F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27353-14AE-4AF5-942C-440A07A2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884D8-4682-4422-B1CB-2A019A75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E3741-37C4-4D7D-B083-C1C9920C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908B-E59E-4B11-8893-E8BBFED1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95B34-6F4A-419D-AF93-53BC18C0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CE026-E3FD-4D0E-B293-9B273C77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8346C-6166-4E61-A41E-123DC328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9352C-BAA9-4E85-9986-EA476A93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7FB94-84D3-468E-B221-C44BFA2D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19777-6CE4-4994-BD29-0A5C2AC49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B5AD4-6D3A-422D-BBDE-63402C167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CDF0F-9059-42E5-9D09-8CE768FB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548DF-90ED-4BC6-B544-119578FB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7DAFF-F7D9-48B9-9761-ABAA4128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2794-F81A-4F03-A372-C79D2247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20E55-6285-4D0C-9370-1AB08239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B6FE7-491B-46F4-B3E8-3E94CFC2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F7F23-FA1A-4B3B-9868-583418D7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6DDF5-90C2-47ED-8229-B940982F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C6FF1-68CF-4C90-A603-F89BBA42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80682-1DDF-4048-8E79-F4B951BD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927C2-C8A7-4F89-B55B-4D6A7D5B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D1D18-BE98-4C1C-9789-59A4BD533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1A557-D03B-4A48-894F-AF13DCCA1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598A8-2C2F-47EE-AB25-8D179B67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FC0C-09E2-4183-9F92-F89CD759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0D6C7-4A5D-46F8-8DBA-CE7AF027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56FFB-F5CB-49AB-9FDF-9D4C751F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5521D-0607-4237-AD05-3B4E96CC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70F60-F109-4F03-BF09-4F4A1767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902FE-1489-4508-A883-2CCE36A5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FD91D-D983-485D-B6F3-E67F8C14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83A27-7921-4CE2-9634-392C1E45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B3454-6C21-4A43-9E6E-D355558F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C8BD3-1DBB-4C87-B2C3-E49F33A7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B7DE0-0A77-4AD8-8807-82E3B394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46FD-7AF4-404C-9336-D18BD5FA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CD1B5-D130-4B54-9CF8-CA6F23D74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26FA2-87CD-4F27-B35C-0FDF3D629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E938C-CD3E-4171-A27A-B3F79216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AB197-25BD-4F77-92BD-313D3447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A31EA-DEB2-48B7-B2F6-69185398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2E0BE-D35E-4956-AFB2-C740430B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9F382-1FE3-4B08-9B50-1518C123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C1DCB-6843-4C18-A465-22F6686F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E004F-85F4-4620-8C08-9CD803B3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7AF26-F3FE-4D2E-9217-F06E7887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0493-9D01-4666-9354-856F19AE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330B6-D440-4F93-9A5E-5D525482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7060D-6DF0-4223-832D-35CFAF015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B1D3B-E229-4217-AFDB-4D375671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EE638-BCDD-47F8-934B-DF129610B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77245-EE22-479F-B7B3-379DC03C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96DAB-15ED-4938-9DC0-2C72746E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7C1C1-CD8A-4CEB-8974-E0BE7C6B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08093-A76B-4501-A374-C8CD4C60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FC411-FC3A-459D-B07A-0B624BE9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38EDF-5D65-448F-820C-0278485C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C684-4EFB-4356-8AF5-6462B888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8E1BA-14F2-449B-AC92-621F7DE0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50781-96BF-4DE3-A0F6-B035A768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0D937-089D-4B6A-B325-3D4EC36F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768A7-467A-47E2-8DD0-0C659AF6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D9DEB-A6A9-4DAC-9CF7-2F94C32B4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04230-DF69-4EF0-97C5-EFFE59AB4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CBC3D-FB49-4E21-9B67-D372DB49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3CF77-6322-4180-A0DC-D09C1470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D5D6C-DAB4-4BD1-AD81-C3E7F2F6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06D15-11E1-4E33-9648-FC93356F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1231-0EFC-4360-AD9E-D01EDB3B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9EBAF-5007-45AA-94F6-00AEC7F6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42B15-4836-452F-BB86-BA0CA2DA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F1AB6-1DBF-494C-B1AB-500B9B69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FC32E-CCB5-40CD-B8A0-93B7B3E7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ECED6-B48B-4045-B461-0F0E1DFB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D9DBC-9E93-497D-B443-26CF680F7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AC6CD-A62A-4620-BAF2-C15303A86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1DE5D-A27C-43DB-A7F3-4F7C8E049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2338E-5244-48EC-BD13-D97A7253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383B5-E6DE-490A-893C-9B4649CF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31C6-1BF6-4ABD-BCE0-E45865C7E75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FD4F-9A40-4BF6-A831-5BF75EF1BD2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6F3A-2ADB-4EB7-AA65-7092372F936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1C8B-A03E-4AB7-BA96-4ED2CA53172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E5B5-C751-4AC5-8977-0EE0B76EEF8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8419-5EA1-4B0C-9045-26E4CC7EAEE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F31A-746E-4931-B127-2D0B3699590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0719-809E-4D04-9046-9467EDA67A1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B33D-9D79-4BA0-8124-8533B7BB3E2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E686-226B-4C00-BD4A-61FAEEF3FDF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2544-3271-4745-A4A7-EA2F6A13870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5C4F-A11D-4FE9-9F74-11BF6F4D3C4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175E-1190-4BD3-B815-46EE926764D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FD92-E4DB-48B8-8F32-CFFC4E47BEE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5F53-9E07-4A38-8729-D831F74FE00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61B9-6633-40E0-9840-23F5A739DDF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248A-81FD-460B-A241-8F5AF3F1C3C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TextBox 7"/>
          <p:cNvSpPr/>
          <p:nvPr/>
        </p:nvSpPr>
        <p:spPr>
          <a:xfrm>
            <a:off x="179280" y="2060640"/>
            <a:ext cx="85694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«Җырлар. Нәкый Исәнбәт “Туган ил”» темасы буенча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5 нче сыйныфта әдәбият дәресе өчен презентация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Box 10"/>
          <p:cNvSpPr/>
          <p:nvPr/>
        </p:nvSpPr>
        <p:spPr>
          <a:xfrm>
            <a:off x="3492360" y="4437000"/>
            <a:ext cx="518508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Шәгәрәева  Алинә  Илсур  кызы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3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азан шәһәре Яңа Савин районы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3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“</a:t>
            </a:r>
            <a:r>
              <a:rPr b="1" lang="tt-RU" sz="23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Татар телендә белем бирүче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3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13 нче гимназия”нең туган тел (татар теле) һәм әдәбият укытучысы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5" name="Рисунок 1" descr=""/>
          <p:cNvPicPr/>
          <p:nvPr/>
        </p:nvPicPr>
        <p:blipFill>
          <a:blip r:embed="rId1"/>
          <a:stretch/>
        </p:blipFill>
        <p:spPr>
          <a:xfrm>
            <a:off x="6603840" y="0"/>
            <a:ext cx="252108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6048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ru-RU" sz="5400" spc="-1" strike="noStrike">
              <a:solidFill>
                <a:srgbClr val="993300"/>
              </a:solidFill>
              <a:latin typeface="Century Gothic"/>
            </a:endParaRPr>
          </a:p>
        </p:txBody>
      </p:sp>
      <p:pic>
        <p:nvPicPr>
          <p:cNvPr id="1211" name="Рисунок 4" descr=""/>
          <p:cNvPicPr/>
          <p:nvPr/>
        </p:nvPicPr>
        <p:blipFill>
          <a:blip r:embed="rId1"/>
          <a:stretch/>
        </p:blipFill>
        <p:spPr>
          <a:xfrm>
            <a:off x="6083280" y="36360"/>
            <a:ext cx="2884680" cy="2176560"/>
          </a:xfrm>
          <a:prstGeom prst="rect">
            <a:avLst/>
          </a:prstGeom>
          <a:ln w="0">
            <a:noFill/>
          </a:ln>
        </p:spPr>
      </p:pic>
      <p:pic>
        <p:nvPicPr>
          <p:cNvPr id="1212" name="Рисунок 2" descr=""/>
          <p:cNvPicPr/>
          <p:nvPr/>
        </p:nvPicPr>
        <p:blipFill>
          <a:blip r:embed="rId2"/>
          <a:stretch/>
        </p:blipFill>
        <p:spPr>
          <a:xfrm>
            <a:off x="3713040" y="3138480"/>
            <a:ext cx="5399280" cy="3668760"/>
          </a:xfrm>
          <a:prstGeom prst="rect">
            <a:avLst/>
          </a:prstGeom>
          <a:ln w="0">
            <a:noFill/>
          </a:ln>
        </p:spPr>
      </p:pic>
      <p:pic>
        <p:nvPicPr>
          <p:cNvPr id="1213" name="Объект 5" descr=""/>
          <p:cNvPicPr/>
          <p:nvPr/>
        </p:nvPicPr>
        <p:blipFill>
          <a:blip r:embed="rId3"/>
          <a:srcRect l="12965" t="0" r="0" b="7480"/>
          <a:stretch/>
        </p:blipFill>
        <p:spPr>
          <a:xfrm>
            <a:off x="108000" y="-7920"/>
            <a:ext cx="539892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6985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900"/>
            </a:br>
            <a:r>
              <a:rPr b="1" lang="tt-RU" sz="5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Нәтиҗәләр </a:t>
            </a: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1476360" y="1915920"/>
            <a:ext cx="7221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57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... белдек.</a:t>
            </a: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57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... ачыкладык.</a:t>
            </a: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57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... ныгыттык.</a:t>
            </a: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16" name="Рисунок 4" descr=""/>
          <p:cNvPicPr/>
          <p:nvPr/>
        </p:nvPicPr>
        <p:blipFill>
          <a:blip r:embed="rId1"/>
          <a:stretch/>
        </p:blipFill>
        <p:spPr>
          <a:xfrm>
            <a:off x="6638760" y="103320"/>
            <a:ext cx="2517840" cy="19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06200" y="549360"/>
            <a:ext cx="6985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5000" spc="-1" strike="noStrike">
                <a:solidFill>
                  <a:srgbClr val="993300"/>
                </a:solidFill>
                <a:latin typeface="Century Gothic"/>
              </a:rPr>
              <a:t>     </a:t>
            </a:r>
            <a:r>
              <a:rPr b="1" lang="tt-RU" sz="5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Өй эше: </a:t>
            </a:r>
            <a:endParaRPr b="0" lang="en-US" sz="5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755640" y="1766520"/>
            <a:ext cx="7848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1. “Туган ил” шигырен яттан өйрәнегез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2. Илебез тарихында (ХХ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I  </a:t>
            </a:r>
            <a:r>
              <a:rPr b="1" lang="tt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гасырга кадәр) булган берәр мөһим вакыйга турында рәсем ясагыз.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3. ТАССРның 100 еллыгы уңаеннан гимназиядә үткәреләчәк чаралар планын төзегез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19" name="Рисунок 2" descr=""/>
          <p:cNvPicPr/>
          <p:nvPr/>
        </p:nvPicPr>
        <p:blipFill>
          <a:blip r:embed="rId1"/>
          <a:stretch/>
        </p:blipFill>
        <p:spPr>
          <a:xfrm>
            <a:off x="6624720" y="0"/>
            <a:ext cx="252072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906200" y="549360"/>
            <a:ext cx="6985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5000" spc="-1" strike="noStrike">
                <a:solidFill>
                  <a:srgbClr val="993300"/>
                </a:solidFill>
                <a:latin typeface="Century Gothic"/>
              </a:rPr>
              <a:t>     </a:t>
            </a:r>
            <a:endParaRPr b="0" lang="en-US" sz="5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1" name="Выноска-облако 1"/>
          <p:cNvSpPr/>
          <p:nvPr/>
        </p:nvSpPr>
        <p:spPr>
          <a:xfrm>
            <a:off x="4970520" y="112680"/>
            <a:ext cx="3960720" cy="22766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3cfc2"/>
          </a:solidFill>
          <a:ln cap="rnd" w="9360">
            <a:solidFill>
              <a:srgbClr val="65a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Times New Roman"/>
              </a:rPr>
              <a:t>Дәрес материалы миңа 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Выноска-облако 5"/>
          <p:cNvSpPr/>
          <p:nvPr/>
        </p:nvSpPr>
        <p:spPr>
          <a:xfrm>
            <a:off x="42840" y="9360"/>
            <a:ext cx="3960720" cy="20876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3cfc2"/>
          </a:solidFill>
          <a:ln cap="rnd" w="9360">
            <a:solidFill>
              <a:srgbClr val="65a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Times New Roman"/>
              </a:rPr>
              <a:t>Мин дәрестә … эшләд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Выноска-облако 10"/>
          <p:cNvSpPr/>
          <p:nvPr/>
        </p:nvSpPr>
        <p:spPr>
          <a:xfrm>
            <a:off x="1355760" y="2087640"/>
            <a:ext cx="4464000" cy="20606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3cfc2"/>
          </a:solidFill>
          <a:ln cap="rnd" w="9360">
            <a:solidFill>
              <a:srgbClr val="65a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993300"/>
                </a:solidFill>
                <a:latin typeface="Times New Roman"/>
              </a:rPr>
              <a:t>Мине … гаҗәпләндер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Прямоугольник 7"/>
          <p:cNvSpPr/>
          <p:nvPr/>
        </p:nvSpPr>
        <p:spPr>
          <a:xfrm>
            <a:off x="3234240" y="32446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Выноска-облако 12"/>
          <p:cNvSpPr/>
          <p:nvPr/>
        </p:nvSpPr>
        <p:spPr>
          <a:xfrm>
            <a:off x="5330880" y="4260960"/>
            <a:ext cx="3600360" cy="2087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3cfc2"/>
          </a:solidFill>
          <a:ln cap="rnd" w="9360">
            <a:solidFill>
              <a:srgbClr val="65a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Times New Roman"/>
              </a:rPr>
              <a:t>Дәрестә үз эшемнән мин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Выноска-облако 14"/>
          <p:cNvSpPr/>
          <p:nvPr/>
        </p:nvSpPr>
        <p:spPr>
          <a:xfrm>
            <a:off x="345960" y="4648320"/>
            <a:ext cx="3355920" cy="2079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3cfc2"/>
          </a:solidFill>
          <a:ln cap="rnd" w="9360">
            <a:solidFill>
              <a:srgbClr val="65a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993300"/>
                </a:solidFill>
                <a:latin typeface="Times New Roman"/>
              </a:rPr>
              <a:t>Минем кәефем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 txBox="1"/>
          <p:nvPr/>
        </p:nvSpPr>
        <p:spPr>
          <a:xfrm>
            <a:off x="1619280" y="2565000"/>
            <a:ext cx="722160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7" name="Көй.mp3" descr=""/>
          <p:cNvPicPr/>
          <p:nvPr/>
        </p:nvPicPr>
        <p:blipFill>
          <a:blip r:embed="rId1"/>
          <a:stretch/>
        </p:blipFill>
        <p:spPr>
          <a:xfrm>
            <a:off x="1684440" y="620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9" descr="https://yt3.ggpht.com/a/AATXAJzcP854SIgv8UtI-9nd4ocwNjZBL1bQYxtL7CWO=s900-c-k-c0xffffffff-no-rj-mo"/>
          <p:cNvPicPr/>
          <p:nvPr/>
        </p:nvPicPr>
        <p:blipFill>
          <a:blip r:embed="rId2"/>
          <a:stretch/>
        </p:blipFill>
        <p:spPr>
          <a:xfrm>
            <a:off x="2293920" y="987480"/>
            <a:ext cx="4680000" cy="4968720"/>
          </a:xfrm>
          <a:prstGeom prst="rect">
            <a:avLst/>
          </a:prstGeom>
          <a:ln w="0">
            <a:noFill/>
          </a:ln>
        </p:spPr>
      </p:pic>
      <p:pic>
        <p:nvPicPr>
          <p:cNvPr id="1189" name="Рисунок 1" descr=""/>
          <p:cNvPicPr/>
          <p:nvPr/>
        </p:nvPicPr>
        <p:blipFill>
          <a:blip r:embed="rId3"/>
          <a:stretch/>
        </p:blipFill>
        <p:spPr>
          <a:xfrm>
            <a:off x="6603840" y="0"/>
            <a:ext cx="252108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077" fill="hold"/>
                                        <p:tgtEl>
                                          <p:spTgt spid="1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 txBox="1"/>
          <p:nvPr/>
        </p:nvSpPr>
        <p:spPr>
          <a:xfrm>
            <a:off x="709560" y="1903320"/>
            <a:ext cx="7221600" cy="38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1" name="Рисунок 1" descr=""/>
          <p:cNvPicPr/>
          <p:nvPr/>
        </p:nvPicPr>
        <p:blipFill>
          <a:blip r:embed="rId1"/>
          <a:stretch/>
        </p:blipFill>
        <p:spPr>
          <a:xfrm>
            <a:off x="6603840" y="0"/>
            <a:ext cx="2521080" cy="1903320"/>
          </a:xfrm>
          <a:prstGeom prst="rect">
            <a:avLst/>
          </a:prstGeom>
          <a:ln w="0">
            <a:noFill/>
          </a:ln>
        </p:spPr>
      </p:pic>
      <p:pic>
        <p:nvPicPr>
          <p:cNvPr id="1192" name="Схема 5" descr=""/>
          <p:cNvPicPr/>
          <p:nvPr/>
        </p:nvPicPr>
        <p:blipFill>
          <a:blip r:embed="rId2"/>
          <a:stretch/>
        </p:blipFill>
        <p:spPr>
          <a:xfrm>
            <a:off x="822240" y="549360"/>
            <a:ext cx="7888320" cy="5686200"/>
          </a:xfrm>
          <a:prstGeom prst="rect">
            <a:avLst/>
          </a:prstGeom>
          <a:ln w="0">
            <a:noFill/>
          </a:ln>
        </p:spPr>
      </p:pic>
      <p:sp>
        <p:nvSpPr>
          <p:cNvPr id="1193" name="Прямоугольник 7"/>
          <p:cNvSpPr/>
          <p:nvPr/>
        </p:nvSpPr>
        <p:spPr>
          <a:xfrm>
            <a:off x="4932360" y="2990880"/>
            <a:ext cx="1943280" cy="1079640"/>
          </a:xfrm>
          <a:prstGeom prst="rect">
            <a:avLst/>
          </a:prstGeom>
          <a:solidFill>
            <a:srgbClr val="a5301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300" spc="-1" strike="noStrike">
                <a:solidFill>
                  <a:srgbClr val="ffffff"/>
                </a:solidFill>
                <a:latin typeface="Times New Roman"/>
              </a:rPr>
              <a:t>Тарихи җырлар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Прямая соединительная линия 9"/>
          <p:cNvSpPr/>
          <p:nvPr/>
        </p:nvSpPr>
        <p:spPr>
          <a:xfrm>
            <a:off x="4694400" y="3530520"/>
            <a:ext cx="237960" cy="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24000" y="2349000"/>
            <a:ext cx="8640720" cy="26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4300" spc="-1" strike="noStrike" u="sng">
                <a:solidFill>
                  <a:srgbClr val="993300"/>
                </a:solidFill>
                <a:uFillTx/>
                <a:latin typeface="Times New Roman"/>
                <a:ea typeface="Times New Roman"/>
              </a:rPr>
              <a:t>Дәреснең темасы:</a:t>
            </a:r>
            <a:r>
              <a:rPr b="1" lang="tt-RU" sz="43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br>
              <a:rPr sz="4300"/>
            </a:br>
            <a:r>
              <a:rPr b="1" i="1" lang="tt-RU" sz="39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Җырлар. Нәкый Исәнбәт “Туган ил”</a:t>
            </a:r>
            <a:br>
              <a:rPr sz="3900"/>
            </a:br>
            <a:r>
              <a:rPr b="1" lang="tt-RU" sz="39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39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6" name="Рисунок 4" descr=""/>
          <p:cNvPicPr/>
          <p:nvPr/>
        </p:nvPicPr>
        <p:blipFill>
          <a:blip r:embed="rId1"/>
          <a:stretch/>
        </p:blipFill>
        <p:spPr>
          <a:xfrm>
            <a:off x="6626160" y="122400"/>
            <a:ext cx="2517840" cy="19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311640" y="1631880"/>
            <a:ext cx="5819760" cy="34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Нәкый Исәнбәт</a:t>
            </a:r>
            <a:br>
              <a:rPr sz="4000"/>
            </a:br>
            <a:r>
              <a:rPr b="1" lang="tt-RU" sz="33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1899 – 1992)</a:t>
            </a:r>
            <a:br>
              <a:rPr sz="3300"/>
            </a:br>
            <a:r>
              <a:rPr b="1" lang="tt-RU" sz="3000" spc="-1" strike="noStrike">
                <a:solidFill>
                  <a:srgbClr val="993300"/>
                </a:solidFill>
                <a:latin typeface="Times New Roman"/>
                <a:ea typeface="Calibri"/>
              </a:rPr>
              <a:t>күренекле татар язучысы, шагыйрь, драматург, тәрҗемәче галим-филолог, фольклорчы, </a:t>
            </a:r>
            <a:br>
              <a:rPr sz="3000"/>
            </a:br>
            <a:r>
              <a:rPr b="1" lang="tt-RU" sz="3000" spc="-1" strike="noStrike">
                <a:solidFill>
                  <a:srgbClr val="993300"/>
                </a:solidFill>
                <a:latin typeface="Times New Roman"/>
                <a:ea typeface="Calibri"/>
              </a:rPr>
              <a:t>Г. Тукай исемендәге Дәүләт бүләге лауреаты һәм Татарстанның Халык язучысы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8" name="Объект 1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060720" cy="4486320"/>
          </a:xfrm>
          <a:prstGeom prst="rect">
            <a:avLst/>
          </a:prstGeom>
          <a:ln w="0">
            <a:noFill/>
          </a:ln>
        </p:spPr>
      </p:pic>
      <p:pic>
        <p:nvPicPr>
          <p:cNvPr id="1199" name="Рисунок 2" descr=""/>
          <p:cNvPicPr/>
          <p:nvPr/>
        </p:nvPicPr>
        <p:blipFill>
          <a:blip r:embed="rId2"/>
          <a:stretch/>
        </p:blipFill>
        <p:spPr>
          <a:xfrm>
            <a:off x="7007400" y="-4680"/>
            <a:ext cx="212400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Рисунок 1" descr=""/>
          <p:cNvPicPr/>
          <p:nvPr/>
        </p:nvPicPr>
        <p:blipFill>
          <a:blip r:embed="rId1"/>
          <a:stretch/>
        </p:blipFill>
        <p:spPr>
          <a:xfrm>
            <a:off x="19080" y="0"/>
            <a:ext cx="9107280" cy="6858000"/>
          </a:xfrm>
          <a:prstGeom prst="rect">
            <a:avLst/>
          </a:prstGeom>
          <a:ln w="0">
            <a:noFill/>
          </a:ln>
        </p:spPr>
      </p:pic>
      <p:pic>
        <p:nvPicPr>
          <p:cNvPr id="1201" name="Н. Исәнбәт Туган ил - Валеева Зөлфия башкара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63751" fill="hold"/>
                                        <p:tgtEl>
                                          <p:spTgt spid="1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68360" y="1897200"/>
            <a:ext cx="86025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55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М</a:t>
            </a:r>
            <a:r>
              <a:rPr b="1" i="1" lang="ru-RU" sz="55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ң  </a:t>
            </a:r>
            <a:r>
              <a:rPr b="1" lang="ru-RU" sz="33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- кайгы, аһ-зар, сагыш;</a:t>
            </a:r>
            <a:br>
              <a:rPr sz="3300"/>
            </a:br>
            <a:r>
              <a:rPr b="1" lang="ru-RU" sz="33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              - йөрәк хисе, тирән хис, моңсулык; </a:t>
            </a:r>
            <a:br>
              <a:rPr sz="3300"/>
            </a:br>
            <a:r>
              <a:rPr b="1" lang="ru-RU" sz="33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              - көй, хисләр җыелмасы;</a:t>
            </a:r>
            <a:endParaRPr b="0" lang="en-US" sz="33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3" name="Рисунок 5" descr=""/>
          <p:cNvPicPr/>
          <p:nvPr/>
        </p:nvPicPr>
        <p:blipFill>
          <a:blip r:embed="rId1"/>
          <a:stretch/>
        </p:blipFill>
        <p:spPr>
          <a:xfrm>
            <a:off x="6620040" y="0"/>
            <a:ext cx="252396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403280" y="620640"/>
            <a:ext cx="60501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7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Т</a:t>
            </a:r>
            <a:r>
              <a:rPr b="1" lang="tt-RU" sz="47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өркемнәрдә эш</a:t>
            </a:r>
            <a:endParaRPr b="0" lang="en-US" sz="47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5" name="Рисунок 5" descr=""/>
          <p:cNvPicPr/>
          <p:nvPr/>
        </p:nvPicPr>
        <p:blipFill>
          <a:blip r:embed="rId1"/>
          <a:stretch/>
        </p:blipFill>
        <p:spPr>
          <a:xfrm>
            <a:off x="6626160" y="92160"/>
            <a:ext cx="2517840" cy="1901880"/>
          </a:xfrm>
          <a:prstGeom prst="rect">
            <a:avLst/>
          </a:prstGeom>
          <a:ln w="0">
            <a:noFill/>
          </a:ln>
        </p:spPr>
      </p:pic>
      <p:pic>
        <p:nvPicPr>
          <p:cNvPr id="1206" name="Рисунок 2" descr=""/>
          <p:cNvPicPr/>
          <p:nvPr/>
        </p:nvPicPr>
        <p:blipFill>
          <a:blip r:embed="rId2"/>
          <a:stretch/>
        </p:blipFill>
        <p:spPr>
          <a:xfrm>
            <a:off x="2035080" y="2060640"/>
            <a:ext cx="612000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221760" y="1762200"/>
            <a:ext cx="6078600" cy="34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3000" spc="-1" strike="noStrike">
                <a:solidFill>
                  <a:srgbClr val="993300"/>
                </a:solidFill>
                <a:latin typeface="Times New Roman"/>
                <a:ea typeface="Calibri"/>
              </a:rPr>
              <a:t>    </a:t>
            </a:r>
            <a:r>
              <a:rPr b="1" lang="tt-RU" sz="3000" spc="-1" strike="noStrike">
                <a:solidFill>
                  <a:srgbClr val="008000"/>
                </a:solidFill>
                <a:latin typeface="Times New Roman"/>
                <a:ea typeface="Calibri"/>
              </a:rPr>
              <a:t>Нәкый Исәнбәт </a:t>
            </a:r>
            <a:r>
              <a:rPr b="1" lang="tt-RU" sz="2900" spc="-1" strike="noStrike">
                <a:solidFill>
                  <a:srgbClr val="993300"/>
                </a:solidFill>
                <a:latin typeface="Times New Roman"/>
                <a:ea typeface="Calibri"/>
              </a:rPr>
              <a:t>күп еллар дәвамында татар фольклорын җыя. Ул – “Татар халык мәкальләре”, “Татар халык табышмаклары” җыентыкларын, “Татар теленең фразеологик сүзлеге”н, “Татар теленең аңлатмалы сүзлеге”н төзүче. 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8" name="Рисунок 2" descr=""/>
          <p:cNvPicPr/>
          <p:nvPr/>
        </p:nvPicPr>
        <p:blipFill>
          <a:blip r:embed="rId1"/>
          <a:stretch/>
        </p:blipFill>
        <p:spPr>
          <a:xfrm>
            <a:off x="7415280" y="-6480"/>
            <a:ext cx="1728720" cy="1305000"/>
          </a:xfrm>
          <a:prstGeom prst="rect">
            <a:avLst/>
          </a:prstGeom>
          <a:ln w="0">
            <a:noFill/>
          </a:ln>
        </p:spPr>
      </p:pic>
      <p:pic>
        <p:nvPicPr>
          <p:cNvPr id="1209" name="Рисунок 3" descr=""/>
          <p:cNvPicPr/>
          <p:nvPr/>
        </p:nvPicPr>
        <p:blipFill>
          <a:blip r:embed="rId2"/>
          <a:stretch/>
        </p:blipFill>
        <p:spPr>
          <a:xfrm>
            <a:off x="6372360" y="1557360"/>
            <a:ext cx="262728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User</cp:lastModifiedBy>
  <dcterms:modified xsi:type="dcterms:W3CDTF">2020-12-01T13:32:34Z</dcterms:modified>
  <cp:revision>104</cp:revision>
  <dc:subject/>
  <dc:title>Слайд 1</dc:title>
</cp:coreProperties>
</file>