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81CB-EACC-4D17-BC6A-BA684A5B648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1D9D-11C7-401B-9753-9D5360D06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87A5-87F6-431B-9F44-ADE182A022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9C59-747E-4FF5-9A88-1BEE14E3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C73-41C5-451F-8E56-00A15DE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2730-4A64-4B16-9AB0-6681FFDC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08D4F-D28D-480A-8F0A-498CA574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A31A5-143F-4ED5-AFFA-DAE8C6F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1292F-A868-4B7F-965F-28448DA5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05CA9-C538-4C9D-A102-6EAD5BB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3CD2A-A6D8-4475-BBDD-965254D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7F716-DC69-41F4-924E-577F34FA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062AA-CA09-46C4-ABFF-414ECF39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EC67D-3FFC-4B7A-BD78-1C8622F5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18EB3-A8BA-417B-8190-90068B0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6AE-F2D1-47E1-9CBC-72BC1261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69055-E96A-40AF-B79B-63D399D6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960AD-3C7E-4DFB-897F-68749411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B4298-6016-454F-8C94-5B53364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B0E56-DD56-4C22-9C43-E8291CEA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F0B6D-79D3-4DFD-B241-77E44573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72B41-B1EF-4F95-96C7-DB221565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F9FA3-E899-48AA-8816-425A60CB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FEFC0-13C6-4F67-8678-E8230FB5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285D7-0F4E-4BD2-A566-59A196A8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3C12E-5AF0-4BD9-99F7-5D0B8320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922-DA84-4F76-90B2-7BFC9E4E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71817-7286-45C3-8C05-FBEECE91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68CBC-DF3E-4CA1-A679-5D8F2517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EEF56-E58A-48D0-A27E-4F066F95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CC88-C34D-4956-A529-6D08B4DE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05220-6001-464D-80DB-DAA73784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E4360-0EF4-41F3-B270-64AF83C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B2CCD-43A5-493A-A284-3EDA8E7B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41238-2716-4A79-AFF8-08ECF45B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B5CB9-0EA7-4008-89DB-ED7E380E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7BE66-98D2-442C-BE74-3186F352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6A30-FC3F-415B-BD3D-BC15BBD7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BFFBE-8D07-4AD7-A1AE-DE4D0A40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315D0-66E6-4F7D-B6F3-BEB84D7F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805B2-99FF-484B-86CE-AC36CDF9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E63CE-AEDC-4CFE-AB07-DF3984E2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C8A53-A169-41E3-AC19-45B1EC7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E23D5-9560-4795-B5D8-70F57218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42648-341A-47DB-8906-7505A8A5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30665-F8F1-4B94-AC01-74FD13F4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6DC6C-FF36-4365-96C7-DF0631F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3BB48-713F-400C-9E04-53933B16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1680-4802-49CF-A08C-68D43DD9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AF739-1A1D-4D5E-8C32-FB41D3B1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5CEF7-9EBB-4794-BC8B-BB70D032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5B5D-92BD-442B-878A-F9CAB0EB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C413F-093F-43EA-90E5-B83A3BC9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B9395-02BE-4B03-9DB1-78226A6E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56F4ED-B094-4703-815E-3E6C1058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05A25-F1E3-40AC-A9C8-F4D83405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CC3238-4415-4B0B-AAED-54929798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630E28-B48C-4128-A638-2358655C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E27FB-4CF4-4344-83EE-DC4D3E58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6644-BECB-44A6-A7FC-926938C9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37B19-41E9-4B94-ACFE-3E5A9278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DE344-0D10-4599-9433-5FF5E69B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B1AAD-2942-4AFA-A2DC-5D07E4C1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93ED3-A36A-442F-9197-5E38DB7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18968-B29E-4F6A-A6E9-F03402D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D0F02-3E58-4930-85BA-278C0522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FBBBD-8A79-4D77-902E-6E59E2B5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667F4-DE38-49E9-80A9-EEFECC78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82A1F-E3DB-4856-B2EB-A22CB584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826F5-A718-4013-9D89-116FAD95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4D89-45CB-48EA-B8C0-C7440673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640F4-27F0-4D5D-853F-CDCFDB6A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70CA8-D4DF-4355-BFB2-6930D1D8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03BB7-18CA-4578-B3F9-F3D0E227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C81FA-9417-4D03-BF31-3B6BCD1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65DF6-8826-42FC-9343-1ED3433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E3B9D-2DE0-4868-8549-D426F6D7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C2EF1-9135-4A77-85FB-887781D6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7B4D0-881C-46E2-B917-28C7F8DD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0F396-9829-491D-AF4E-F779FFE7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06BBC-D35B-4327-9EBC-199F665F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B23-1036-4259-822A-A0811CDF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7750A-09FB-44FA-BA02-EDF0E1BF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A277C-13F1-49E5-AB1A-28700579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A5F20-C3AB-485A-ACD8-309480B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D753C-9DF6-4FF7-B78A-A36AF2D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5D6696-4833-4486-BB9C-AEB72A9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0D560-11BC-4558-9CEE-44AA43F5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58C2E-FC2A-467D-AB9A-D5F63453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3B1E6-647F-4141-B4D0-64FB736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5ED07-23F9-4C6A-8E5C-949EE872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E63A7A-B8CF-415B-9210-A1999D2A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2A6-0902-4271-8A07-1FE9E15D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446CF-EE3D-41A7-A290-2354426C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4403A-BAD1-41C8-A403-4A51D9E0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11D195-CA5C-489F-898A-553B46E6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D76A4-E158-400D-BAA0-6914D0BA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410B7-424F-4D82-844A-74538E50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4DA1B-EC71-4727-A01C-AAD47BA0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A518E8-35E2-4B7C-8480-C4129F79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F194C-0104-43EF-A0E3-27ADCC02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42349-3B2C-4C30-8507-2F8B9E2E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D5929-97E4-47E1-8C0E-9FFAD86D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C7BF-CEDE-44F8-B5AF-86BF2B75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28509-43AB-465E-A9B6-106B6B1E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BE29DB-B020-480E-BAF1-4DD11952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833429-7ECC-411C-8FFA-C82FCF77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3BB95-9A40-41C0-9129-0F17AF26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229E2-F046-4913-8D72-8B9FBED6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C98F30-A5DF-45A1-A0CB-32DFE9C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845FB-43B9-4096-B8B0-C5A53D1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28D49-31FD-44E0-A4E7-48861DE3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6E4EB-1A30-48D2-97A0-80FA894B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52678A-4CD2-4E82-B8F6-A5774F4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1CAC-3587-49A4-93C8-174335EE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A2C-35B5-423D-9606-1490BBDD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D7EF64-D83D-4A2B-9018-F6C2A4E2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85EC4-550F-4AE1-AD4C-FC77614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03B25-D0AE-42FB-A852-E4C9A9FD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3D847-9C96-40A2-AB18-8018C3A8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7D0DBA-F433-4E8B-9971-729E4612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538-95EC-4D0C-AEF3-E898B1C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693E-5D08-4EB0-80E0-540DD7CC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F015-3F58-4CAC-B27B-A491C693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0BD-40EB-4838-8513-05291D8B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D04CC-BCEB-4176-989E-E6073F36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165A-6AE7-4BD7-8E04-02D476E1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755D5-B376-4965-AE9B-D237500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8353-CD65-4E59-A0C1-165877F8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C63F7-D0CD-44F1-A9AE-2F69617F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AF1-71DF-4D05-8A3C-48D9AC3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85F6-12DE-48DA-B1BD-10D25594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FAD6-953A-48F5-9AC7-A6446068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6DEA1-4A64-469A-BF81-9F0B50B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FC96-99E8-4E3C-A4E6-1FA51147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C50F0-05E8-409B-AF31-860FEE0F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E856-1F6A-4195-8227-454F2377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8115-A4DF-4846-973A-9AD2DC32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36BD-ED95-4ECB-95E4-8BDA090E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20B9-B2D6-4C1D-8086-FFEAC8D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DDA4-4DBB-402B-BDB8-09D5208A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DE85-C487-4A56-A2E4-18A175C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15C86-9CA6-42E3-A41F-B76DCA4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A012-55F0-426F-85BB-7892F1A0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AEF6-99EB-47F1-916B-6439AC3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75D6B-6BB1-4051-BE4A-36EEBB1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D1A8-6AFA-48C0-967A-42844634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9ED49-06A9-4F04-8C12-AAC30F4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4DB53-5AD1-4885-A331-6C13B1E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547B1-78C0-492E-AF97-8867E660E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3FF0-F4DE-4E21-BE26-A95D17445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AED8-665E-437C-9685-2ACB2BE1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B426-12C1-49D7-B78D-F2FADA76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5B7D4-B575-48DC-B37F-41DBB78F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ABF12-054E-4799-B664-9C0F839C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4B11C-D032-4DC1-9D7A-BB332E20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6B113-EF12-4BCE-A9B6-5CB4182E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21E1A-37DB-4527-870A-33F7A4A1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ABE69-2E30-4A9A-BAFF-E16BFA2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1CE2-F6AA-4AD1-B435-F1AE5C5C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2CCC5-DA67-4F16-AC08-3FDE68C4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19DB-90D5-43AF-974E-9DE44B7C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F1860-F22D-45CE-B1F1-F49D3E60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D5E-77F6-460F-A26C-BE39B5D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D0658-52C2-49F3-A697-0196D1DF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A96CD-9B9B-4D01-89AE-41EC9A68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3455E-6292-4B0F-812D-614EF8BB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2E5EA-0CF7-4C85-A1C3-5984B959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7FE0B-0462-4125-9F92-A3C13B0D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72BF4-CA6A-4211-8A90-86DF3692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091D-5A2B-4D70-832C-07D9B6B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7AC4-7167-4D2A-B1F2-8C5C0B05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F31AD-8346-4B0D-9B06-A1478627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621D1-382C-4F34-BB07-760F31C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DE4-D75D-4A58-AA2F-9A6A263D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C542-FDD6-4D29-B85D-2C8E9569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A3E9-B556-4709-A7EE-01A43157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64ABA-67A2-4626-AF52-883C6499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33C7-A00D-4E20-8CE2-326D6EF3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B9300-21CD-4B4D-91F0-F1E70C95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C169-5F3B-42BD-83E1-C3254DF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FCCD7-B605-467D-93E6-120E3E95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2F874-D6B9-41BF-B222-8BAB1312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2F495-E7CC-4C33-AC8E-45C18913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39B70-E4ED-41E5-B9C9-A654FBD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B64-8D09-43F2-9004-5CA00A3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AA40D-7E90-4612-AA1F-1C923B8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D2A09-4BCD-4F1C-8C17-1244ACC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0BD4F-6A47-4029-8C73-19516828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A03C-9001-4D22-8259-09410C4A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358D4-8B37-4755-B81E-AD783829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E37D-0F80-4C05-9F92-9D676993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B183E-D626-4933-824D-CA318180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60CA6-C196-45DF-B5C9-9F0131B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95A14-EEAC-42EF-85A0-016C261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8FDF-073D-4822-BEAC-252F8EAA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B95-6EAA-47F9-B230-125EE6E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58CBE-FABB-478A-B6D3-7C29B487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2D0E5-F5ED-4654-B2F2-7D052B28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55A7-CC54-4AC7-905A-B659CC1D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268F0-6B4F-4E4F-B6E1-0B65238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D2AEE-CC7A-4A6D-9468-A7A75E44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E42FD-B2C5-438E-8E8D-4E8F11C5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20164-9BFA-419A-A418-4B618ED8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90A40-D720-44D8-BEEC-61F873A84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A9A39-F959-44F5-B436-B73306FD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D7A51-FDA3-4A26-952D-57D8AEA4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30E4-47B1-43E2-A984-DC1AE538C5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A8DA-FC2F-46AE-A62F-0897B7306D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AE63-2CCC-41D0-9386-482E60C2E6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C9C-6CAE-46D0-BB67-9318197BF2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F75E-249B-448F-A63D-C015273F73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117-1E9C-4F66-BC33-48950F5E75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409-5282-4556-9392-B4D9CF1E16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A03B-09A4-4695-9B36-EAE2982E898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AC6-20EC-479D-A036-0D67631FE7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A24-3BF3-4156-A4B3-7E11448430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617A-F063-498E-83FE-A6C714A3386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BC0E-5DB0-4586-B55D-0BAC34A267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37AB-D997-4047-94C3-5B768AB5FD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286-FFB3-4BC8-BFBC-DF845AD44C0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C9EE-A0E9-496B-84E3-BF228736D5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160-686B-4399-9BA0-28E34405829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299-926A-4E7F-A4A9-324E7C3846F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Box 7"/>
          <p:cNvSpPr/>
          <p:nvPr/>
        </p:nvSpPr>
        <p:spPr>
          <a:xfrm>
            <a:off x="179280" y="2060640"/>
            <a:ext cx="8569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Җырлар. Нәкый Исәнбәт “Туган ил”» темасы буенча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5 нче сыйныфта әдәбият дәресе өчен презентация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Box 10"/>
          <p:cNvSpPr/>
          <p:nvPr/>
        </p:nvSpPr>
        <p:spPr>
          <a:xfrm>
            <a:off x="3492360" y="4437000"/>
            <a:ext cx="518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Шәгәрәева  Алинә  Илсур  кызы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азан шәһәре Яңа Савин район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атар телендә белем бирүче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3 нче гимназия”нең туган тел (татар теле) һәм әдәбият укытучыс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08000" y="620640"/>
            <a:ext cx="60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5400" spc="-1" strike="noStrike">
              <a:solidFill>
                <a:srgbClr val="993300"/>
              </a:solidFill>
              <a:latin typeface="Century Gothic"/>
            </a:endParaRPr>
          </a:p>
        </p:txBody>
      </p:sp>
      <p:pic>
        <p:nvPicPr>
          <p:cNvPr id="1211" name="Рисунок 4" descr=""/>
          <p:cNvPicPr/>
          <p:nvPr/>
        </p:nvPicPr>
        <p:blipFill>
          <a:blip r:embed="rId1"/>
          <a:stretch/>
        </p:blipFill>
        <p:spPr>
          <a:xfrm>
            <a:off x="6083280" y="36360"/>
            <a:ext cx="2884680" cy="2176560"/>
          </a:xfrm>
          <a:prstGeom prst="rect">
            <a:avLst/>
          </a:prstGeom>
          <a:ln w="0">
            <a:noFill/>
          </a:ln>
        </p:spPr>
      </p:pic>
      <p:pic>
        <p:nvPicPr>
          <p:cNvPr id="1212" name="Рисунок 2" descr=""/>
          <p:cNvPicPr/>
          <p:nvPr/>
        </p:nvPicPr>
        <p:blipFill>
          <a:blip r:embed="rId2"/>
          <a:stretch/>
        </p:blipFill>
        <p:spPr>
          <a:xfrm>
            <a:off x="3713040" y="3138480"/>
            <a:ext cx="5399280" cy="3668760"/>
          </a:xfrm>
          <a:prstGeom prst="rect">
            <a:avLst/>
          </a:prstGeom>
          <a:ln w="0">
            <a:noFill/>
          </a:ln>
        </p:spPr>
      </p:pic>
      <p:pic>
        <p:nvPicPr>
          <p:cNvPr id="1213" name="Объект 5" descr=""/>
          <p:cNvPicPr/>
          <p:nvPr/>
        </p:nvPicPr>
        <p:blipFill>
          <a:blip r:embed="rId3"/>
          <a:srcRect l="12965" t="0" r="0" b="7480"/>
          <a:stretch/>
        </p:blipFill>
        <p:spPr>
          <a:xfrm>
            <a:off x="108000" y="-7920"/>
            <a:ext cx="53989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900"/>
            </a:br>
            <a:r>
              <a:rPr b="1" lang="tt-RU" sz="5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Нәтиҗәләр 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1476360" y="1915920"/>
            <a:ext cx="7221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белде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ачыклад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.. ныгыттык.</a:t>
            </a: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6" name="Рисунок 4" descr=""/>
          <p:cNvPicPr/>
          <p:nvPr/>
        </p:nvPicPr>
        <p:blipFill>
          <a:blip r:embed="rId1"/>
          <a:stretch/>
        </p:blipFill>
        <p:spPr>
          <a:xfrm>
            <a:off x="6638760" y="10332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r>
              <a:rPr b="1" lang="tt-RU" sz="5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й эше: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755640" y="1766520"/>
            <a:ext cx="78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1. “Туган ил” шигырен яттан өйрән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2. Илебез тарихында (ХХ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I  </a:t>
            </a: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асырга кадәр) булган берәр мөһим вакыйга турында рәсем ясагыз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3. ТАССРның 100 еллыгы уңаеннан гимназиядә үткәреләчәк чаралар планын төзегез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19" name="Рисунок 2" descr=""/>
          <p:cNvPicPr/>
          <p:nvPr/>
        </p:nvPicPr>
        <p:blipFill>
          <a:blip r:embed="rId1"/>
          <a:stretch/>
        </p:blipFill>
        <p:spPr>
          <a:xfrm>
            <a:off x="6624720" y="0"/>
            <a:ext cx="25207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06200" y="54936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5000" spc="-1" strike="noStrike">
                <a:solidFill>
                  <a:srgbClr val="993300"/>
                </a:solidFill>
                <a:latin typeface="Century Gothic"/>
              </a:rPr>
              <a:t>     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Выноска-облако 1"/>
          <p:cNvSpPr/>
          <p:nvPr/>
        </p:nvSpPr>
        <p:spPr>
          <a:xfrm>
            <a:off x="4970520" y="112680"/>
            <a:ext cx="3960720" cy="2276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 материалы миңа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Выноска-облако 5"/>
          <p:cNvSpPr/>
          <p:nvPr/>
        </p:nvSpPr>
        <p:spPr>
          <a:xfrm>
            <a:off x="42840" y="9360"/>
            <a:ext cx="3960720" cy="2087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 дәрестә … эшләд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Выноска-облако 10"/>
          <p:cNvSpPr/>
          <p:nvPr/>
        </p:nvSpPr>
        <p:spPr>
          <a:xfrm>
            <a:off x="1355760" y="2087640"/>
            <a:ext cx="4464000" cy="2060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Мине … гаҗәпләндер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Прямоугольник 7"/>
          <p:cNvSpPr/>
          <p:nvPr/>
        </p:nvSpPr>
        <p:spPr>
          <a:xfrm>
            <a:off x="323424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Выноска-облако 12"/>
          <p:cNvSpPr/>
          <p:nvPr/>
        </p:nvSpPr>
        <p:spPr>
          <a:xfrm>
            <a:off x="5330880" y="4260960"/>
            <a:ext cx="3600360" cy="2087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Times New Roman"/>
              </a:rPr>
              <a:t>Дәрестә үз эшемнән мин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Выноска-облако 14"/>
          <p:cNvSpPr/>
          <p:nvPr/>
        </p:nvSpPr>
        <p:spPr>
          <a:xfrm>
            <a:off x="345960" y="4648320"/>
            <a:ext cx="3355920" cy="2079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3cfc2"/>
          </a:solidFill>
          <a:ln cap="rnd" w="9360">
            <a:solidFill>
              <a:srgbClr val="65a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993300"/>
                </a:solidFill>
                <a:latin typeface="Times New Roman"/>
              </a:rPr>
              <a:t>Минем кәефем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1619280" y="2565000"/>
            <a:ext cx="722160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Көй.mp3" descr=""/>
          <p:cNvPicPr/>
          <p:nvPr/>
        </p:nvPicPr>
        <p:blipFill>
          <a:blip r:embed="rId1"/>
          <a:stretch/>
        </p:blipFill>
        <p:spPr>
          <a:xfrm>
            <a:off x="1684440" y="620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9" descr="https://yt3.ggpht.com/a/AATXAJzcP854SIgv8UtI-9nd4ocwNjZBL1bQYxtL7CWO=s900-c-k-c0xffffffff-no-rj-mo"/>
          <p:cNvPicPr/>
          <p:nvPr/>
        </p:nvPicPr>
        <p:blipFill>
          <a:blip r:embed="rId2"/>
          <a:stretch/>
        </p:blipFill>
        <p:spPr>
          <a:xfrm>
            <a:off x="2293920" y="987480"/>
            <a:ext cx="4680000" cy="4968720"/>
          </a:xfrm>
          <a:prstGeom prst="rect">
            <a:avLst/>
          </a:prstGeom>
          <a:ln w="0">
            <a:noFill/>
          </a:ln>
        </p:spPr>
      </p:pic>
      <p:pic>
        <p:nvPicPr>
          <p:cNvPr id="1189" name="Рисунок 1" descr=""/>
          <p:cNvPicPr/>
          <p:nvPr/>
        </p:nvPicPr>
        <p:blipFill>
          <a:blip r:embed="rId3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077" fill="hold"/>
                                        <p:tgtEl>
                                          <p:spTgt spid="1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09560" y="1903320"/>
            <a:ext cx="72216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1" name="Рисунок 1" descr=""/>
          <p:cNvPicPr/>
          <p:nvPr/>
        </p:nvPicPr>
        <p:blipFill>
          <a:blip r:embed="rId1"/>
          <a:stretch/>
        </p:blipFill>
        <p:spPr>
          <a:xfrm>
            <a:off x="6603840" y="0"/>
            <a:ext cx="2521080" cy="1903320"/>
          </a:xfrm>
          <a:prstGeom prst="rect">
            <a:avLst/>
          </a:prstGeom>
          <a:ln w="0">
            <a:noFill/>
          </a:ln>
        </p:spPr>
      </p:pic>
      <p:pic>
        <p:nvPicPr>
          <p:cNvPr id="1192" name="Схема 5" descr=""/>
          <p:cNvPicPr/>
          <p:nvPr/>
        </p:nvPicPr>
        <p:blipFill>
          <a:blip r:embed="rId2"/>
          <a:stretch/>
        </p:blipFill>
        <p:spPr>
          <a:xfrm>
            <a:off x="822240" y="549360"/>
            <a:ext cx="7888320" cy="5686200"/>
          </a:xfrm>
          <a:prstGeom prst="rect">
            <a:avLst/>
          </a:prstGeom>
          <a:ln w="0">
            <a:noFill/>
          </a:ln>
        </p:spPr>
      </p:pic>
      <p:sp>
        <p:nvSpPr>
          <p:cNvPr id="1193" name="Прямоугольник 7"/>
          <p:cNvSpPr/>
          <p:nvPr/>
        </p:nvSpPr>
        <p:spPr>
          <a:xfrm>
            <a:off x="4932360" y="2990880"/>
            <a:ext cx="1943280" cy="1079640"/>
          </a:xfrm>
          <a:prstGeom prst="rect">
            <a:avLst/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300" spc="-1" strike="noStrike">
                <a:solidFill>
                  <a:srgbClr val="ffffff"/>
                </a:solidFill>
                <a:latin typeface="Times New Roman"/>
              </a:rPr>
              <a:t>Тарихи җырлар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Прямая соединительная линия 9"/>
          <p:cNvSpPr/>
          <p:nvPr/>
        </p:nvSpPr>
        <p:spPr>
          <a:xfrm>
            <a:off x="4694400" y="3530520"/>
            <a:ext cx="237960" cy="0"/>
          </a:xfrm>
          <a:prstGeom prst="line">
            <a:avLst/>
          </a:prstGeom>
          <a:ln cap="rnd" w="9360">
            <a:solidFill>
              <a:srgbClr val="9d2d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640720" cy="26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3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Дәреснең темасы:</a:t>
            </a:r>
            <a:r>
              <a:rPr b="1" lang="tt-RU" sz="4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300"/>
            </a:br>
            <a:r>
              <a:rPr b="1" i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Җырлар. Нәкый Исәнбәт “Туган ил”</a:t>
            </a:r>
            <a:br>
              <a:rPr sz="3900"/>
            </a:br>
            <a:r>
              <a:rPr b="1" lang="tt-RU" sz="3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3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Рисунок 4" descr=""/>
          <p:cNvPicPr/>
          <p:nvPr/>
        </p:nvPicPr>
        <p:blipFill>
          <a:blip r:embed="rId1"/>
          <a:stretch/>
        </p:blipFill>
        <p:spPr>
          <a:xfrm>
            <a:off x="6626160" y="122400"/>
            <a:ext cx="25178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311640" y="1631880"/>
            <a:ext cx="5819760" cy="34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әкый Исәнбәт</a:t>
            </a:r>
            <a:br>
              <a:rPr sz="4000"/>
            </a:br>
            <a:r>
              <a:rPr b="1" lang="tt-RU" sz="3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1899 – 1992)</a:t>
            </a:r>
            <a:br>
              <a:rPr sz="33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ренекле татар язучысы, шагыйрь, драматург, тәрҗемәче галим-филолог, фольклорчы, </a:t>
            </a:r>
            <a:br>
              <a:rPr sz="3000"/>
            </a:b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Г. Тукай исемендәге Дәүләт бүләге лауреаты һәм Татарстанның Халык язучысы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Объект 1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3060720" cy="4486320"/>
          </a:xfrm>
          <a:prstGeom prst="rect">
            <a:avLst/>
          </a:prstGeom>
          <a:ln w="0">
            <a:noFill/>
          </a:ln>
        </p:spPr>
      </p:pic>
      <p:pic>
        <p:nvPicPr>
          <p:cNvPr id="1199" name="Рисунок 2" descr=""/>
          <p:cNvPicPr/>
          <p:nvPr/>
        </p:nvPicPr>
        <p:blipFill>
          <a:blip r:embed="rId2"/>
          <a:stretch/>
        </p:blipFill>
        <p:spPr>
          <a:xfrm>
            <a:off x="7007400" y="-4680"/>
            <a:ext cx="21240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Рисунок 1" descr=""/>
          <p:cNvPicPr/>
          <p:nvPr/>
        </p:nvPicPr>
        <p:blipFill>
          <a:blip r:embed="rId1"/>
          <a:stretch/>
        </p:blipFill>
        <p:spPr>
          <a:xfrm>
            <a:off x="19080" y="0"/>
            <a:ext cx="9107280" cy="6858000"/>
          </a:xfrm>
          <a:prstGeom prst="rect">
            <a:avLst/>
          </a:prstGeom>
          <a:ln w="0">
            <a:noFill/>
          </a:ln>
        </p:spPr>
      </p:pic>
      <p:pic>
        <p:nvPicPr>
          <p:cNvPr id="1201" name="Н. Исәнбәт Туган ил - Валеева Зөлфия башкара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3751" fill="hold"/>
                                        <p:tgtEl>
                                          <p:spTgt spid="1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68360" y="1897200"/>
            <a:ext cx="86025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</a:t>
            </a:r>
            <a:r>
              <a:rPr b="1" i="1" lang="ru-RU" sz="5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ң  </a:t>
            </a: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- кайгы, аһ-зар, сагыш;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йөрәк хисе, тирән хис, моңсулык; </a:t>
            </a:r>
            <a:br>
              <a:rPr sz="3300"/>
            </a:br>
            <a:r>
              <a:rPr b="1" lang="ru-RU" sz="33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            - көй, хисләр җыелмасы;</a:t>
            </a:r>
            <a:endParaRPr b="0" lang="en-US" sz="33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3" name="Рисунок 5" descr=""/>
          <p:cNvPicPr/>
          <p:nvPr/>
        </p:nvPicPr>
        <p:blipFill>
          <a:blip r:embed="rId1"/>
          <a:stretch/>
        </p:blipFill>
        <p:spPr>
          <a:xfrm>
            <a:off x="6620040" y="0"/>
            <a:ext cx="252396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6050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</a:t>
            </a:r>
            <a:r>
              <a:rPr b="1" lang="tt-RU" sz="47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өркемнәрдә эш</a:t>
            </a:r>
            <a:endParaRPr b="0" lang="en-US" sz="47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5" name="Рисунок 5" descr=""/>
          <p:cNvPicPr/>
          <p:nvPr/>
        </p:nvPicPr>
        <p:blipFill>
          <a:blip r:embed="rId1"/>
          <a:stretch/>
        </p:blipFill>
        <p:spPr>
          <a:xfrm>
            <a:off x="6626160" y="92160"/>
            <a:ext cx="2517840" cy="190188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2" descr=""/>
          <p:cNvPicPr/>
          <p:nvPr/>
        </p:nvPicPr>
        <p:blipFill>
          <a:blip r:embed="rId2"/>
          <a:stretch/>
        </p:blipFill>
        <p:spPr>
          <a:xfrm>
            <a:off x="2035080" y="2060640"/>
            <a:ext cx="6120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221760" y="1762200"/>
            <a:ext cx="6078600" cy="34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3000" spc="-1" strike="noStrike">
                <a:solidFill>
                  <a:srgbClr val="993300"/>
                </a:solidFill>
                <a:latin typeface="Times New Roman"/>
                <a:ea typeface="Calibri"/>
              </a:rPr>
              <a:t>    </a:t>
            </a:r>
            <a:r>
              <a:rPr b="1" lang="tt-RU" sz="3000" spc="-1" strike="noStrike">
                <a:solidFill>
                  <a:srgbClr val="008000"/>
                </a:solidFill>
                <a:latin typeface="Times New Roman"/>
                <a:ea typeface="Calibri"/>
              </a:rPr>
              <a:t>Нәкый Исәнбәт </a:t>
            </a:r>
            <a:r>
              <a:rPr b="1" lang="tt-RU" sz="2900" spc="-1" strike="noStrike">
                <a:solidFill>
                  <a:srgbClr val="993300"/>
                </a:solidFill>
                <a:latin typeface="Times New Roman"/>
                <a:ea typeface="Calibri"/>
              </a:rPr>
              <a:t>күп еллар дәвамында татар фольклорын җыя. Ул – “Татар халык мәкальләре”, “Татар халык табышмаклары” җыентыкларын, “Татар теленең фразеологик сүзлеге”н, “Татар теленең аңлатмалы сүзлеге”н төзүче. 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Рисунок 2" descr=""/>
          <p:cNvPicPr/>
          <p:nvPr/>
        </p:nvPicPr>
        <p:blipFill>
          <a:blip r:embed="rId1"/>
          <a:stretch/>
        </p:blipFill>
        <p:spPr>
          <a:xfrm>
            <a:off x="7415280" y="-6480"/>
            <a:ext cx="1728720" cy="1305000"/>
          </a:xfrm>
          <a:prstGeom prst="rect">
            <a:avLst/>
          </a:prstGeom>
          <a:ln w="0">
            <a:noFill/>
          </a:ln>
        </p:spPr>
      </p:pic>
      <p:pic>
        <p:nvPicPr>
          <p:cNvPr id="1209" name="Рисунок 3" descr=""/>
          <p:cNvPicPr/>
          <p:nvPr/>
        </p:nvPicPr>
        <p:blipFill>
          <a:blip r:embed="rId2"/>
          <a:stretch/>
        </p:blipFill>
        <p:spPr>
          <a:xfrm>
            <a:off x="6372360" y="1557360"/>
            <a:ext cx="26272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20-12-01T13:32:34Z</dcterms:modified>
  <cp:revision>104</cp:revision>
  <dc:subject/>
  <dc:title>Слайд 1</dc:title>
</cp:coreProperties>
</file>