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6D77-A693-4716-A806-E3D5F7362B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4AF3-AC8F-4C01-8166-288EA589A1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3846-3389-4595-9903-E23D905B08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222-DB61-4ABF-BF98-68677C02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3AC-E606-4264-8699-811B5171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F8340-7B34-475B-B316-845F0ED7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E986B-3206-4839-80EB-2AECA4D9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67CF1-A33B-40A3-80B3-B90A4FD4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EB0CC-9D14-4A55-8765-61563D4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FDF66-3C2A-4B6C-804D-F2C24251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D24E2-5A8A-4AFF-890D-6773A4CB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84A20-11A2-4C7E-BC97-A8CF2051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B4343-8447-440D-A114-E28940B3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BEA2D-EE97-4FBE-92F0-08309054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63BAD-B6E4-4DB2-8B1D-ECD2A267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18D-142A-4EC3-B06F-11B743C6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5C501-83E2-4D84-A6FC-E686E1C0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070F3-65B0-4AD7-9EE8-61D8B7C1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06669-83B1-4931-B9BA-44E9309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C8120-ED84-408B-8219-1466874C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528A3-825D-432C-A02F-E8DA6724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1B815-20F3-498B-A459-26A29B6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34A18-0885-482D-9632-3D7C331D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E82F3-5146-4C5B-B3EE-C9ACC3C0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58BF6-0263-4B5B-BAD8-06297BE6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17C00-95CE-4F4C-950F-8C9CB7E1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4EE-B74E-4387-A551-A63742C8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0AC9B-87BE-4D7E-B1BA-43B64C6F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34F0B-3EDB-4422-A30F-80046051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B9AEC-937C-4C3D-8ED4-8B8A2187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0C61D-FE12-4CA9-A7E7-08C9B854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CFCA6-2F4F-4A7A-A233-CF554870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A7162-13FD-4E97-80B1-0B648F75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74826-9615-40A0-923D-735EF119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EEB32-97A2-4DE9-B18C-7D900560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506CD-4F89-4A98-89F2-97E7843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5AE2A-C044-48FC-B88C-C1B20B17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35D5-B050-4BEC-9E86-FFC3CB0E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1DA3E-1F66-46A2-9A5D-CD4B833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9C14E-A977-4E0C-ACF0-6EBF5D9C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F22FC-5D1F-42DB-B8BC-D9C3C395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4FA6C-D361-40D1-A972-5D251877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AD33F-78BF-4CEB-BF89-636FA09F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B3F3A-8ECD-4CAB-B180-3F3E10B6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84B32-E781-4FE6-B9EA-85FF86A7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2450B-2F6B-48A3-B638-2A58BD98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24D8D-F110-45EB-B9E8-62F3FCEE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E2B63-6BD3-409E-85A1-1E61AB2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0D67-99A3-4F61-A0D1-80A42317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DB0F4-C15D-47DB-858B-F4154441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5DF1E-B6E5-43F7-95F8-C04F6245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D2037-BE01-4E7F-9F1C-2BEF6B23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846C6-98F6-436C-B8EA-06EE6F2E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44EB0-BCA9-4E39-8D32-860569EE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A6867-5652-497A-94A3-3AE0C68D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BFA25-CCBD-4864-8E9F-A9E362A5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AB3A5-BE23-47CE-8895-57B85965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78997-8788-4B12-A177-C43C9378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1380F-B6CF-4CC4-95F8-7AB34EA4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D6FF-8ECB-47E9-8206-FE467897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C7584-833E-475B-B093-DD0BB6A1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0B830-FB84-4900-9479-940FC7B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52B93-FCBB-4C41-A0F9-98A2FA2A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B3C39-48C8-4BC0-9934-689A8483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B5659-25FE-4B84-8C01-044AA51A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D8CC3-50BC-4569-AEAA-B9FDDBAB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A8F54-D5C2-40DF-B4B5-D2659DEB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0E882-0AFB-46DB-A0AF-500DA099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4B8EC-A725-4B9A-8EA5-5A2B1F0A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430C7-B490-4A5C-93D4-1667634E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CCD8-604D-44A2-9F15-95FB6122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833CC-2287-4509-B6CC-C9CC4971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2CEA5-95C2-4A75-9506-4221DA0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6F90E-DBF6-4410-89E3-CF78C430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F0BD9-9E54-46B5-A135-641CE117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B831A-682A-4035-B0EE-699BAF78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0D431-E9B5-4015-9FB8-98ADD852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3CFE2-7241-4BD3-A864-B37CD85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A1EA2-16AE-4ACA-B7B1-A2FF97C1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929C0-FD9E-4B91-86BD-110391F0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F6B507-0546-440E-AB25-803AC20F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AB1C-88B7-4C8F-8E6D-F75269E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195C3-C072-43CE-8FF6-C0286F3B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65DB5-5E1B-42AD-A759-A3E428AF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DD455-5177-49B1-94EB-00151315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69E31-BE27-4B3B-8690-7B290213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0186B-CBD7-4A3A-A423-05B8C160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DE0DF-3539-42B4-8994-5772C8F2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89521-AC96-49F8-B1AC-E42F43A0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916E3-4CE0-4EC6-AC0D-41DE1B0D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576440-4608-431B-B82E-005DCBD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EB143-0CB1-4923-8F0A-A2B796D3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20C0-1DA8-405B-A477-A00075CC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19D4F-B448-466D-92AF-75047A47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564A7-26DF-418C-9168-443A225F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D9F92-8B01-4931-B6F0-106782F3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8BE86-41EB-4D74-B08A-C5748F5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710CC-226E-46A3-B72D-672F6FB8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61E4CE-CF8E-4D76-9C83-0D25BB74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3892A-D4A2-4FDC-A13D-741A298C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95625-9642-498F-AA5D-1F47271E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9290C-B0DC-42FB-8EE9-A2CD8D0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93EC1-B4AC-47EF-8B9A-2DDFE55B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8CC4-9C46-4D20-B7DB-CC33BEDA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D7404-19EB-46F8-B565-76FC0142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045CD-E857-44A9-9D01-DC03E9B3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08D9D-26E1-4E85-9FC1-65697D0D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0597C-8A00-40FC-9BA2-FB45869B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343F2-1DEA-4F18-AF80-E95E8764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A2E18-398F-467E-86E2-AC314B7E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5F6F7-BD94-43C6-9493-C67726E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F046C-C4F9-4AAD-8813-2140BFBE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86229-D029-47F3-9DD4-DBBA471E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E1A0FE-E3B4-4C18-8FC3-AC3AE82D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713-6C91-4C71-8E7F-25F83A95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71D1-A85C-43CC-81E8-A5CCA78A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070CC-4CC6-45A2-891A-D773FB2F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93FC2-7C97-4281-9C0A-761F12E7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B51FE-FAE7-408D-9AEC-650C15CB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3505D-C16B-4994-9CB0-EA06E8DF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27544F-F801-4736-9BB5-897EBC1C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8C32-7093-4071-9E4E-44686EA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F8F1-19B0-4593-B4BD-07503D97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87DD-948D-4DBB-A5A4-3A649F49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1EB2-DD4B-4F7D-939A-8C1F5DEB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1D30-D972-407A-BBDC-78160599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AD47-8DBD-4CC3-9F46-22A3FD6E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79B7-1D85-498D-8F19-E03D3323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5D79-2129-4CF5-936B-4E87BD7F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D52A-9898-467C-A228-A54EF3FC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8FA-EAE0-475A-956F-371DD96E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9437-E286-4C27-B672-18ACD674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9F92-E84B-4A3F-8DB5-6333E94B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2892-45C1-4DD5-9758-DC0203D7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E5AD-B815-4261-8430-975135E6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56C7-6113-41F8-A9A0-F5ECD371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BE06-FCE4-4DFB-B6FE-4B4A3FCB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5811-E6E0-42F1-9981-515F1DC8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45B2-F3E4-422D-8AC7-1CFD33E6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5A146-CF0E-4A53-ABA6-C53C4ED3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7E5E3-076D-4186-8B46-51F40B28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8F1-FD36-4CD6-870E-5850EA2F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F8B8-35D7-420C-AA7E-D9858EE3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73ED-AE35-4BAB-A5F5-C37EBA40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A383-B1EE-4164-83DC-DDC468F5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1D948-EF7C-48FD-931A-DA814D47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F8D9-B3BD-482F-A156-F5F24842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DC91-45B5-4228-AF10-67545213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9E429-EA5D-436E-9F0F-484BC385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0621-D967-460C-82BF-4A37EC31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5CA6-A599-447B-8482-4124D019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7B0C6-8881-46CF-A206-7F6A178D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CC0-72FB-4C4D-8FA1-8C7D48CE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D26F4-CA14-43B7-875F-2C74A4FF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935E3-0640-4092-8D87-451A27C9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43B5D-C195-4C42-B06D-36B4F1DA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A5744-0AE9-470A-8C6D-F981A0B3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058FB-8B96-4371-AE83-4BDACCD0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1CBA-F259-46C4-910B-8B81A7DF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182A0-5988-4F4F-9E34-EBE5BD7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732AC-6B68-4282-AD67-7B018B2A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9412E-EFA5-424B-9D0F-4D81E1B3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E557F-D166-42AD-BCED-E5E1A0A6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AA2-A434-4A16-A8E5-D379EA06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0CECE-C88E-4BDF-8D1E-1BBAA1E2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B5018-EDAD-42A8-943C-43F56AB7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1A0DD-9C04-437D-806C-8FDB704D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194B8-75EA-4D5F-909F-0204A6D3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E002A-A40E-4F3F-B4FC-438E512B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C617A-8EB9-4A31-9998-B8428E24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11189-C5AD-448B-88B7-1936CDC8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07BCA-7878-4BFE-A54D-FA2685B7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90C52-481F-45ED-B3A1-7DDBB5A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F7BB2-E742-4410-A9C6-D906E4C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C4E-A6BF-451F-B235-EBF2BE97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932E-6156-4722-9D24-45600F26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CC174-FD72-4DDF-B376-8A442F18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3AC53-524F-42F9-8719-661FF511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03321-BD5D-4407-AEDC-20A94767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F0B2C-35D1-4817-A309-6655ED51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97EE8-769E-4B00-9C5C-06A8839F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F6559-9757-496E-84C2-BF7B8A73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8FD79-FB65-4CB0-A0BF-3D76746A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0EFA-2002-4CCC-8697-E2DEC4A1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D74BF-1D19-4305-B519-AC61A0EB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8F9-43C5-4BF4-A821-F9B89DF9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2AB60-A52D-446E-B3EC-72CF89C1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1B9A5-C0C3-4361-A0C5-44C7BA1A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63305-B736-4ACF-8DB2-E43AA354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DF3A-C0BC-4806-A51F-2DAE6C73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68241-F9F5-43FE-90E9-7395E4AA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BDF43-73F2-4598-9371-332D22BE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B65D0-E90B-4488-A5A7-335183CC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ECB27-72F8-4734-991F-679571D7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D7673-6D30-4677-8747-91A3C8C1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11CD8-DA65-41EA-AB43-A824EC0F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E63-56C9-4C6A-84F7-67728095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34BB9-75EE-4280-B314-687008E3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B0D7F-F54C-4393-8C65-4AB99E32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63170-1678-4FE2-8A94-94F33884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5B3C4-CAFE-4C6E-913C-0756D44A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B0CE7-BB65-4672-B8D8-9D39C7B3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6685E-0A24-4B7A-8745-A09E31B5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00031-9CF2-4C91-9D52-1EC48C6A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A760A-6082-4395-ABF1-9646DAB3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67E9-8876-4C5E-A714-6B484D93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5FFC9-7C3A-4D5D-8A37-BA19DAB3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B6AF-9637-4695-B47A-5BA0036779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491B-E0A5-4A68-B639-A896D516CF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077C-3A01-42A4-91DE-6C4090E9BB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F717-F6C9-42C6-BC16-7171BE09C3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CFD5-FD2C-4C20-9DD9-FD85DDB9DC5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B596-DB07-4966-B090-5D5A440FD4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0AC-1CE1-4D8D-A28F-A37B7129AB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B394-1822-4ACD-9200-1E8B1682C5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350F-359D-4E86-A741-93ABDD5D28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B47B-0FDE-4EC8-8D1C-57EB289D92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601F-7DE0-4957-9138-274EFC9607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7425-FEE0-4D14-9AD9-079B95F0E82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C7DA-DB2D-4E4E-8094-0572AA8E33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AD42-9390-4FA6-A764-172925B02E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CC6C-1770-4FEA-B47B-3787E0A1DE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829A-7B1E-4D63-AD0E-10E735CD8F0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3FC0-0D13-41DF-9633-80415341F0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Box 7"/>
          <p:cNvSpPr/>
          <p:nvPr/>
        </p:nvSpPr>
        <p:spPr>
          <a:xfrm>
            <a:off x="179280" y="2060640"/>
            <a:ext cx="856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Җырлар. Нәкый Исәнбәт “Туган ил”» темасы буенч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 нче сыйныфта әдәбият дәресе өчен презентац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Box 10"/>
          <p:cNvSpPr/>
          <p:nvPr/>
        </p:nvSpPr>
        <p:spPr>
          <a:xfrm>
            <a:off x="3492360" y="4437000"/>
            <a:ext cx="5185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Шәгәрәева  Алинә  Илсур  кызы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азан шәһәре Яңа Савин район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“</a:t>
            </a: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атар телендә белем бирүче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3 нче гимназия”нең туган тел (татар теле) һәм әдәбият укытучыс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Рисунок 1" descr=""/>
          <p:cNvPicPr/>
          <p:nvPr/>
        </p:nvPicPr>
        <p:blipFill>
          <a:blip r:embed="rId1"/>
          <a:stretch/>
        </p:blipFill>
        <p:spPr>
          <a:xfrm>
            <a:off x="6603840" y="0"/>
            <a:ext cx="2521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04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5400" spc="-1" strike="noStrike">
              <a:solidFill>
                <a:srgbClr val="993300"/>
              </a:solidFill>
              <a:latin typeface="Century Gothic"/>
            </a:endParaRPr>
          </a:p>
        </p:txBody>
      </p:sp>
      <p:pic>
        <p:nvPicPr>
          <p:cNvPr id="1211" name="Рисунок 4" descr=""/>
          <p:cNvPicPr/>
          <p:nvPr/>
        </p:nvPicPr>
        <p:blipFill>
          <a:blip r:embed="rId1"/>
          <a:stretch/>
        </p:blipFill>
        <p:spPr>
          <a:xfrm>
            <a:off x="6083280" y="36360"/>
            <a:ext cx="2884680" cy="2176560"/>
          </a:xfrm>
          <a:prstGeom prst="rect">
            <a:avLst/>
          </a:prstGeom>
          <a:ln w="0">
            <a:noFill/>
          </a:ln>
        </p:spPr>
      </p:pic>
      <p:pic>
        <p:nvPicPr>
          <p:cNvPr id="1212" name="Рисунок 2" descr=""/>
          <p:cNvPicPr/>
          <p:nvPr/>
        </p:nvPicPr>
        <p:blipFill>
          <a:blip r:embed="rId2"/>
          <a:stretch/>
        </p:blipFill>
        <p:spPr>
          <a:xfrm>
            <a:off x="3713040" y="3138480"/>
            <a:ext cx="5399280" cy="3668760"/>
          </a:xfrm>
          <a:prstGeom prst="rect">
            <a:avLst/>
          </a:prstGeom>
          <a:ln w="0">
            <a:noFill/>
          </a:ln>
        </p:spPr>
      </p:pic>
      <p:pic>
        <p:nvPicPr>
          <p:cNvPr id="1213" name="Объект 5" descr=""/>
          <p:cNvPicPr/>
          <p:nvPr/>
        </p:nvPicPr>
        <p:blipFill>
          <a:blip r:embed="rId3"/>
          <a:srcRect l="12965" t="0" r="0" b="7480"/>
          <a:stretch/>
        </p:blipFill>
        <p:spPr>
          <a:xfrm>
            <a:off x="108000" y="-7920"/>
            <a:ext cx="53989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r>
              <a:rPr b="1" lang="tt-RU" sz="5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әтиҗәләр 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1476360" y="1915920"/>
            <a:ext cx="7221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.. белдек.</a:t>
            </a: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.. ачыкладык.</a:t>
            </a: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.. ныгыттык.</a:t>
            </a: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6" name="Рисунок 4" descr=""/>
          <p:cNvPicPr/>
          <p:nvPr/>
        </p:nvPicPr>
        <p:blipFill>
          <a:blip r:embed="rId1"/>
          <a:stretch/>
        </p:blipFill>
        <p:spPr>
          <a:xfrm>
            <a:off x="6638760" y="103320"/>
            <a:ext cx="25178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06200" y="549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5000" spc="-1" strike="noStrike">
                <a:solidFill>
                  <a:srgbClr val="993300"/>
                </a:solidFill>
                <a:latin typeface="Century Gothic"/>
              </a:rPr>
              <a:t>     </a:t>
            </a:r>
            <a:r>
              <a:rPr b="1" lang="tt-RU" sz="5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й эше: </a:t>
            </a:r>
            <a:endParaRPr b="0" lang="en-US" sz="5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755640" y="1766520"/>
            <a:ext cx="784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. “Туган ил” шигырен яттан өйрәнегез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. Илебез тарихында (ХХ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  </a:t>
            </a: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асырга кадәр) булган берәр мөһим вакыйга турында рәсем ясагыз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3. ТАССРның 100 еллыгы уңаеннан гимназиядә үткәреләчәк чаралар планын төзегез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9" name="Рисунок 2" descr=""/>
          <p:cNvPicPr/>
          <p:nvPr/>
        </p:nvPicPr>
        <p:blipFill>
          <a:blip r:embed="rId1"/>
          <a:stretch/>
        </p:blipFill>
        <p:spPr>
          <a:xfrm>
            <a:off x="6624720" y="0"/>
            <a:ext cx="252072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06200" y="549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5000" spc="-1" strike="noStrike">
                <a:solidFill>
                  <a:srgbClr val="993300"/>
                </a:solidFill>
                <a:latin typeface="Century Gothic"/>
              </a:rPr>
              <a:t>     </a:t>
            </a:r>
            <a:endParaRPr b="0" lang="en-US" sz="5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Выноска-облако 1"/>
          <p:cNvSpPr/>
          <p:nvPr/>
        </p:nvSpPr>
        <p:spPr>
          <a:xfrm>
            <a:off x="4970520" y="112680"/>
            <a:ext cx="3960720" cy="2276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Дәрес материалы миңа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Выноска-облако 5"/>
          <p:cNvSpPr/>
          <p:nvPr/>
        </p:nvSpPr>
        <p:spPr>
          <a:xfrm>
            <a:off x="42840" y="9360"/>
            <a:ext cx="3960720" cy="2087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ин дәрестә … эшләд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Выноска-облако 10"/>
          <p:cNvSpPr/>
          <p:nvPr/>
        </p:nvSpPr>
        <p:spPr>
          <a:xfrm>
            <a:off x="1355760" y="2087640"/>
            <a:ext cx="4464000" cy="2060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ине … гаҗәпләндер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Прямоугольник 7"/>
          <p:cNvSpPr/>
          <p:nvPr/>
        </p:nvSpPr>
        <p:spPr>
          <a:xfrm>
            <a:off x="323424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Выноска-облако 12"/>
          <p:cNvSpPr/>
          <p:nvPr/>
        </p:nvSpPr>
        <p:spPr>
          <a:xfrm>
            <a:off x="5330880" y="4260960"/>
            <a:ext cx="3600360" cy="2087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Дәрестә үз эшемнән мин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Выноска-облако 14"/>
          <p:cNvSpPr/>
          <p:nvPr/>
        </p:nvSpPr>
        <p:spPr>
          <a:xfrm>
            <a:off x="345960" y="4648320"/>
            <a:ext cx="3355920" cy="2079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993300"/>
                </a:solidFill>
                <a:latin typeface="Times New Roman"/>
              </a:rPr>
              <a:t>Минем кәефем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1619280" y="2565000"/>
            <a:ext cx="7221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Көй.mp3" descr=""/>
          <p:cNvPicPr/>
          <p:nvPr/>
        </p:nvPicPr>
        <p:blipFill>
          <a:blip r:embed="rId1"/>
          <a:stretch/>
        </p:blipFill>
        <p:spPr>
          <a:xfrm>
            <a:off x="1684440" y="620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9" descr="https://yt3.ggpht.com/a/AATXAJzcP854SIgv8UtI-9nd4ocwNjZBL1bQYxtL7CWO=s900-c-k-c0xffffffff-no-rj-mo"/>
          <p:cNvPicPr/>
          <p:nvPr/>
        </p:nvPicPr>
        <p:blipFill>
          <a:blip r:embed="rId2"/>
          <a:stretch/>
        </p:blipFill>
        <p:spPr>
          <a:xfrm>
            <a:off x="2293920" y="987480"/>
            <a:ext cx="4680000" cy="4968720"/>
          </a:xfrm>
          <a:prstGeom prst="rect">
            <a:avLst/>
          </a:prstGeom>
          <a:ln w="0">
            <a:noFill/>
          </a:ln>
        </p:spPr>
      </p:pic>
      <p:pic>
        <p:nvPicPr>
          <p:cNvPr id="1189" name="Рисунок 1" descr=""/>
          <p:cNvPicPr/>
          <p:nvPr/>
        </p:nvPicPr>
        <p:blipFill>
          <a:blip r:embed="rId3"/>
          <a:stretch/>
        </p:blipFill>
        <p:spPr>
          <a:xfrm>
            <a:off x="6603840" y="0"/>
            <a:ext cx="2521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77" fill="hold"/>
                                        <p:tgtEl>
                                          <p:spTgt spid="1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709560" y="1903320"/>
            <a:ext cx="7221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1" name="Рисунок 1" descr=""/>
          <p:cNvPicPr/>
          <p:nvPr/>
        </p:nvPicPr>
        <p:blipFill>
          <a:blip r:embed="rId1"/>
          <a:stretch/>
        </p:blipFill>
        <p:spPr>
          <a:xfrm>
            <a:off x="6603840" y="0"/>
            <a:ext cx="2521080" cy="1903320"/>
          </a:xfrm>
          <a:prstGeom prst="rect">
            <a:avLst/>
          </a:prstGeom>
          <a:ln w="0">
            <a:noFill/>
          </a:ln>
        </p:spPr>
      </p:pic>
      <p:pic>
        <p:nvPicPr>
          <p:cNvPr id="1192" name="Схема 5" descr=""/>
          <p:cNvPicPr/>
          <p:nvPr/>
        </p:nvPicPr>
        <p:blipFill>
          <a:blip r:embed="rId2"/>
          <a:stretch/>
        </p:blipFill>
        <p:spPr>
          <a:xfrm>
            <a:off x="822240" y="549360"/>
            <a:ext cx="7888320" cy="5686200"/>
          </a:xfrm>
          <a:prstGeom prst="rect">
            <a:avLst/>
          </a:prstGeom>
          <a:ln w="0">
            <a:noFill/>
          </a:ln>
        </p:spPr>
      </p:pic>
      <p:sp>
        <p:nvSpPr>
          <p:cNvPr id="1193" name="Прямоугольник 7"/>
          <p:cNvSpPr/>
          <p:nvPr/>
        </p:nvSpPr>
        <p:spPr>
          <a:xfrm>
            <a:off x="4932360" y="2990880"/>
            <a:ext cx="1943280" cy="1079640"/>
          </a:xfrm>
          <a:prstGeom prst="rect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300" spc="-1" strike="noStrike">
                <a:solidFill>
                  <a:srgbClr val="ffffff"/>
                </a:solidFill>
                <a:latin typeface="Times New Roman"/>
              </a:rPr>
              <a:t>Тарихи җырлар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Прямая соединительная линия 9"/>
          <p:cNvSpPr/>
          <p:nvPr/>
        </p:nvSpPr>
        <p:spPr>
          <a:xfrm>
            <a:off x="4694400" y="3530520"/>
            <a:ext cx="23796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64072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3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Дәреснең темасы:</a:t>
            </a:r>
            <a:r>
              <a:rPr b="1" lang="tt-RU" sz="4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br>
              <a:rPr sz="4300"/>
            </a:br>
            <a:r>
              <a:rPr b="1" i="1" lang="tt-RU" sz="3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Җырлар. Нәкый Исәнбәт “Туган ил”</a:t>
            </a:r>
            <a:br>
              <a:rPr sz="3900"/>
            </a:br>
            <a:r>
              <a:rPr b="1" lang="tt-RU" sz="3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3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Рисунок 4" descr=""/>
          <p:cNvPicPr/>
          <p:nvPr/>
        </p:nvPicPr>
        <p:blipFill>
          <a:blip r:embed="rId1"/>
          <a:stretch/>
        </p:blipFill>
        <p:spPr>
          <a:xfrm>
            <a:off x="6626160" y="122400"/>
            <a:ext cx="25178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311640" y="1631880"/>
            <a:ext cx="581976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әкый Исәнбәт</a:t>
            </a:r>
            <a:br>
              <a:rPr sz="4000"/>
            </a:br>
            <a:r>
              <a:rPr b="1" lang="tt-RU" sz="33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1899 – 1992)</a:t>
            </a:r>
            <a:br>
              <a:rPr sz="3300"/>
            </a:br>
            <a:r>
              <a:rPr b="1" lang="tt-RU" sz="3000" spc="-1" strike="noStrike">
                <a:solidFill>
                  <a:srgbClr val="993300"/>
                </a:solidFill>
                <a:latin typeface="Times New Roman"/>
                <a:ea typeface="Calibri"/>
              </a:rPr>
              <a:t>күренекле татар язучысы, шагыйрь, драматург, тәрҗемәче галим-филолог, фольклорчы, </a:t>
            </a:r>
            <a:br>
              <a:rPr sz="3000"/>
            </a:br>
            <a:r>
              <a:rPr b="1" lang="tt-RU" sz="3000" spc="-1" strike="noStrike">
                <a:solidFill>
                  <a:srgbClr val="993300"/>
                </a:solidFill>
                <a:latin typeface="Times New Roman"/>
                <a:ea typeface="Calibri"/>
              </a:rPr>
              <a:t>Г. Тукай исемендәге Дәүләт бүләге лауреаты һәм Татарстанның Халык язучысы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8" name="Объект 1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60720" cy="4486320"/>
          </a:xfrm>
          <a:prstGeom prst="rect">
            <a:avLst/>
          </a:prstGeom>
          <a:ln w="0">
            <a:noFill/>
          </a:ln>
        </p:spPr>
      </p:pic>
      <p:pic>
        <p:nvPicPr>
          <p:cNvPr id="1199" name="Рисунок 2" descr=""/>
          <p:cNvPicPr/>
          <p:nvPr/>
        </p:nvPicPr>
        <p:blipFill>
          <a:blip r:embed="rId2"/>
          <a:stretch/>
        </p:blipFill>
        <p:spPr>
          <a:xfrm>
            <a:off x="7007400" y="-4680"/>
            <a:ext cx="2124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Рисунок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01" name="Н. Исәнбәт Туган ил - Валеева Зөлфия башкара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3751" fill="hold"/>
                                        <p:tgtEl>
                                          <p:spTgt spid="1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68360" y="1897200"/>
            <a:ext cx="86025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5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ң  </a:t>
            </a:r>
            <a:r>
              <a:rPr b="1" lang="ru-RU" sz="3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 кайгы, аһ-зар, сагыш;</a:t>
            </a:r>
            <a:br>
              <a:rPr sz="3300"/>
            </a:br>
            <a:r>
              <a:rPr b="1" lang="ru-RU" sz="3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- йөрәк хисе, тирән хис, моңсулык; </a:t>
            </a:r>
            <a:br>
              <a:rPr sz="3300"/>
            </a:br>
            <a:r>
              <a:rPr b="1" lang="ru-RU" sz="3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- көй, хисләр җыелмасы;</a:t>
            </a:r>
            <a:endParaRPr b="0" lang="en-US" sz="33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3" name="Рисунок 5" descr=""/>
          <p:cNvPicPr/>
          <p:nvPr/>
        </p:nvPicPr>
        <p:blipFill>
          <a:blip r:embed="rId1"/>
          <a:stretch/>
        </p:blipFill>
        <p:spPr>
          <a:xfrm>
            <a:off x="6620040" y="0"/>
            <a:ext cx="25239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6050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</a:t>
            </a:r>
            <a:r>
              <a:rPr b="1" lang="tt-RU" sz="4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ркемнәрдә эш</a:t>
            </a:r>
            <a:endParaRPr b="0" lang="en-US" sz="47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5" name="Рисунок 5" descr=""/>
          <p:cNvPicPr/>
          <p:nvPr/>
        </p:nvPicPr>
        <p:blipFill>
          <a:blip r:embed="rId1"/>
          <a:stretch/>
        </p:blipFill>
        <p:spPr>
          <a:xfrm>
            <a:off x="6626160" y="92160"/>
            <a:ext cx="2517840" cy="190188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2" descr=""/>
          <p:cNvPicPr/>
          <p:nvPr/>
        </p:nvPicPr>
        <p:blipFill>
          <a:blip r:embed="rId2"/>
          <a:stretch/>
        </p:blipFill>
        <p:spPr>
          <a:xfrm>
            <a:off x="2035080" y="2060640"/>
            <a:ext cx="6120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21760" y="1762200"/>
            <a:ext cx="607860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000" spc="-1" strike="noStrike">
                <a:solidFill>
                  <a:srgbClr val="993300"/>
                </a:solidFill>
                <a:latin typeface="Times New Roman"/>
                <a:ea typeface="Calibri"/>
              </a:rPr>
              <a:t>    </a:t>
            </a:r>
            <a:r>
              <a:rPr b="1" lang="tt-RU" sz="3000" spc="-1" strike="noStrike">
                <a:solidFill>
                  <a:srgbClr val="008000"/>
                </a:solidFill>
                <a:latin typeface="Times New Roman"/>
                <a:ea typeface="Calibri"/>
              </a:rPr>
              <a:t>Нәкый Исәнбәт </a:t>
            </a:r>
            <a:r>
              <a:rPr b="1" lang="tt-RU" sz="2900" spc="-1" strike="noStrike">
                <a:solidFill>
                  <a:srgbClr val="993300"/>
                </a:solidFill>
                <a:latin typeface="Times New Roman"/>
                <a:ea typeface="Calibri"/>
              </a:rPr>
              <a:t>күп еллар дәвамында татар фольклорын җыя. Ул – “Татар халык мәкальләре”, “Татар халык табышмаклары” җыентыкларын, “Татар теленең фразеологик сүзлеге”н, “Татар теленең аңлатмалы сүзлеге”н төзүче.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8" name="Рисунок 2" descr=""/>
          <p:cNvPicPr/>
          <p:nvPr/>
        </p:nvPicPr>
        <p:blipFill>
          <a:blip r:embed="rId1"/>
          <a:stretch/>
        </p:blipFill>
        <p:spPr>
          <a:xfrm>
            <a:off x="7415280" y="-6480"/>
            <a:ext cx="1728720" cy="1305000"/>
          </a:xfrm>
          <a:prstGeom prst="rect">
            <a:avLst/>
          </a:prstGeom>
          <a:ln w="0">
            <a:noFill/>
          </a:ln>
        </p:spPr>
      </p:pic>
      <p:pic>
        <p:nvPicPr>
          <p:cNvPr id="1209" name="Рисунок 3" descr=""/>
          <p:cNvPicPr/>
          <p:nvPr/>
        </p:nvPicPr>
        <p:blipFill>
          <a:blip r:embed="rId2"/>
          <a:stretch/>
        </p:blipFill>
        <p:spPr>
          <a:xfrm>
            <a:off x="6372360" y="1557360"/>
            <a:ext cx="26272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20-12-01T13:32:34Z</dcterms:modified>
  <cp:revision>104</cp:revision>
  <dc:subject/>
  <dc:title>Слайд 1</dc:title>
</cp:coreProperties>
</file>