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gif" ContentType="image/gif"/>
  <Override PartName="/ppt/media/image18.jpeg" ContentType="image/jpeg"/>
  <Override PartName="/ppt/media/image21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23.jpeg" ContentType="image/jpeg"/>
  <Override PartName="/ppt/media/image2.jpeg" ContentType="image/jpeg"/>
  <Override PartName="/ppt/media/image27.gif" ContentType="image/gif"/>
  <Override PartName="/ppt/media/image28.jpeg" ContentType="image/jpeg"/>
  <Override PartName="/ppt/media/image51.jpeg" ContentType="image/jpeg"/>
  <Override PartName="/ppt/media/image4.gif" ContentType="image/gif"/>
  <Override PartName="/ppt/media/image6.jpeg" ContentType="image/jpeg"/>
  <Override PartName="/ppt/media/image25.gif" ContentType="image/gif"/>
  <Override PartName="/ppt/media/image5.jpeg" ContentType="image/jpeg"/>
  <Override PartName="/ppt/media/image15.gif" ContentType="image/gif"/>
  <Override PartName="/ppt/media/image11.gif" ContentType="image/gif"/>
  <Override PartName="/ppt/media/image7.jpeg" ContentType="image/jpeg"/>
  <Override PartName="/ppt/media/image10.jpeg" ContentType="image/jpeg"/>
  <Override PartName="/ppt/media/image34.jpeg" ContentType="image/jpeg"/>
  <Override PartName="/ppt/media/image36.png" ContentType="image/png"/>
  <Override PartName="/ppt/media/image31.gif" ContentType="image/gif"/>
  <Override PartName="/ppt/media/image9.png" ContentType="image/png"/>
  <Override PartName="/ppt/media/image29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1.png" ContentType="image/png"/>
  <Override PartName="/ppt/media/image48.jpeg" ContentType="image/jpeg"/>
  <Override PartName="/ppt/media/image49.jpeg" ContentType="image/jpeg"/>
  <Override PartName="/ppt/media/image47.png" ContentType="image/png"/>
  <Override PartName="/ppt/media/image43.jpeg" ContentType="image/jpeg"/>
  <Override PartName="/ppt/media/image35.png" ContentType="image/png"/>
  <Override PartName="/ppt/media/image50.jpeg" ContentType="image/jpeg"/>
  <Override PartName="/ppt/media/image52.jpeg" ContentType="image/jpeg"/>
  <Override PartName="/ppt/media/image33.png" ContentType="image/png"/>
  <Override PartName="/ppt/media/image30.gif" ContentType="image/gif"/>
  <Override PartName="/ppt/media/image32.gif" ContentType="image/gif"/>
  <Override PartName="/ppt/media/image4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39.jpeg" ContentType="image/jpeg"/>
  <Override PartName="/ppt/media/image38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74D-9E6C-472D-9153-CA0771EC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994-D589-41DC-9E21-D483EF6F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505-BA41-46B8-8613-78A502A5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5AB-D4F0-44C0-AB6D-18CCBC13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0E31-4DED-4EF3-BBAF-106EFE7F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60AA-03B3-4CB5-B545-8E75CEA0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5DEB-3755-4D80-A9FD-F9EB9631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0427-6984-4ED9-8C47-607F593A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C7A9-7D3D-4848-A7D5-10D304DA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E5B6-0C40-4088-BD87-BDBC8D2E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9BB3-C008-44C4-B9DE-8230A1F3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EE1-DFB2-4578-A7DA-748BD565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E51C-842B-4BD3-AC57-F32A84B7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7748-D940-457B-BF37-1464A79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A354-1228-41B5-8A66-B3ED2D6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19FF-152B-4E96-8FF0-66B44989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62CE-E219-4A0D-82BB-7EC9B6BA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D31-F618-4E3D-ABA2-CE3A4D5A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CD8-FB8A-48B3-80EF-2F590F3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8C2-E87B-40FD-B316-78CE7069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96C-6142-4645-8A45-2CBA1E8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700-16C3-4A92-BE2B-893D22C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903-BD54-4F68-8B6D-98C65AE3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44C-49D0-461C-828D-0A52D7CC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4024-03DF-4376-A0F4-2B1FE70B0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7CC-7D72-4C81-B058-9D1B3A97C9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264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 Black"/>
              </a:rPr>
              <a:t>Безопасное поведение в техногенных чрезвычайных ситуациях</a:t>
            </a:r>
            <a:endParaRPr b="0" lang="en-US" sz="4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566880"/>
            <a:ext cx="5556240" cy="1904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Уроки безопасности в повседневной жизн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cc0000"/>
                </a:solidFill>
                <a:latin typeface="Arial"/>
              </a:rPr>
              <a:t>Это надо знать!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1787760" cy="306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7289640" y="4076640"/>
            <a:ext cx="1854360" cy="2781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5016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1a07"/>
                </a:solidFill>
                <a:latin typeface="Arial Black"/>
              </a:rPr>
              <a:t>Общие правила безопасного обращения с электричеством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4276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вседневной жизни необходимо соблюдать ряд общих правил безопасного обращения с электричеством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пользуйтесь неисправными электроприборами, никогда не оставляйте включенный электроприбор без присмотр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включайте в одну розетку несколько электроприборов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блюдайте порядок включения электроприбора в сеть: сначала подключается шнур к прибору, а затем - шнур к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4546440" y="1773360"/>
            <a:ext cx="4597560" cy="4574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8101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1a07"/>
                </a:solidFill>
                <a:latin typeface="Arial Black"/>
              </a:rPr>
              <a:t>Общие правила безопасного обращения с электричеством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525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тключение прибора производится в обратном порядке;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- не прикасайтесь к включенному электроприбору мокрыми руками;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- помните: нельзя пользоваться электрическими устройствами, находясь в воде;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- об обнаруженных неисправностях в электроприборах, об оголенных и плохо изолированных проводах немедленно сообщайте родителям или старши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8244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5435640" y="1817640"/>
            <a:ext cx="3529080" cy="5040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95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551a07"/>
                </a:solidFill>
                <a:latin typeface="Arial Black"/>
              </a:rPr>
              <a:t>Помните!</a:t>
            </a:r>
            <a:br>
              <a:rPr sz="7200"/>
            </a:br>
            <a:endParaRPr b="0" lang="en-US" sz="7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554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льзя тушить водой горящие электрические устройства, подключенные в электрическую с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открытые электрические розетки должны быть «заглушены». Используйте для этого специальные пластиковые заглушки, они продаются в любом хозяйственном магазине и стоят  недор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815080" y="1700280"/>
            <a:ext cx="3328920" cy="46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539640" y="0"/>
            <a:ext cx="1032120" cy="1773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8" descr=""/>
          <p:cNvPicPr/>
          <p:nvPr/>
        </p:nvPicPr>
        <p:blipFill>
          <a:blip r:embed="rId3"/>
          <a:stretch/>
        </p:blipFill>
        <p:spPr>
          <a:xfrm>
            <a:off x="7615080" y="189000"/>
            <a:ext cx="1528920" cy="147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9280" y="533160"/>
            <a:ext cx="7345440" cy="1887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При поражении электрическим током</a:t>
            </a:r>
            <a:br>
              <a:rPr sz="4800"/>
            </a:b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райся как можно скорее освободить пострадавшего от воздействия электрического тока ( с помощью деревянной палки, резиновых перчаток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ить к пострадавшему можно только в резиновой обуви или «гусиным шагом» - пятка шагающей ноги, не отрываясь от земли, приставляется к носку другой н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утствии у пострадавшего признаков жизни проведи реанимационные 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наличии пульса поверни пострадавшего на живот, очисть рот, приложи к голове х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наличии ран наложи повя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ови скорую помощь по телефону 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о: прикасаться к пораженному током человеку, пока не будет прекращено его дей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кращать реанимацию до прибытия врач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ближаться бегом к лежащему про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7686720" y="4915080"/>
            <a:ext cx="1457280" cy="1942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5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Пользование системой водоснабжения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551a07"/>
                </a:solidFill>
                <a:latin typeface="Arial"/>
              </a:rPr>
              <a:t>Как избежать затопления в квартире (доме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 бросай в канализацию посторонние предме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 засоряй раковину отходами продуктов пита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ходя из дома, проверяй все ли краны закры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леди за состоянием труб для своевременного устранения в них протече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012000" y="3933720"/>
            <a:ext cx="2563560" cy="2708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6588000" y="1700280"/>
            <a:ext cx="2411640" cy="2325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8202600" cy="151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1a07"/>
                </a:solidFill>
                <a:latin typeface="Arial Black"/>
              </a:rPr>
              <a:t>При обнаружении протечек или затопления квартиры</a:t>
            </a:r>
            <a:br>
              <a:rPr sz="3600"/>
            </a:b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511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зу сообщи родителям на работу или позови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ни в диспетчерскую РЭУ, расскажи о том, что случилось, и попроси прислать специалиста – сантех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лючи электричество и перекрой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естах протечек поставь тазы, ведра, кастрюли или другие емкости, скорее убирай скопившуюся на полу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31953" r="0" b="6822"/>
          <a:stretch/>
        </p:blipFill>
        <p:spPr>
          <a:xfrm>
            <a:off x="5651640" y="3833640"/>
            <a:ext cx="3492360" cy="3024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0" name="Picture 5" descr=""/>
          <p:cNvPicPr/>
          <p:nvPr/>
        </p:nvPicPr>
        <p:blipFill>
          <a:blip r:embed="rId2"/>
          <a:srcRect l="0" t="0" r="33166" b="0"/>
          <a:stretch/>
        </p:blipFill>
        <p:spPr>
          <a:xfrm>
            <a:off x="6300720" y="1557360"/>
            <a:ext cx="2233800" cy="3024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7740720" cy="151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Правила работы за компьютером</a:t>
            </a:r>
            <a:br>
              <a:rPr sz="4800"/>
            </a:b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64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 очень полезная  и необходимая вещь. Однако неправильное обращение с ним может нанести вред здоровь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работы за компьютером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ледите за тем, чтобы положение монитора соответствовало направлению взгляда, середина экрана монитора располагалась на горизонтали, проведенной на уровне глаз или на 10-20° ниже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работайте в темном или полутемном помещени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 соответствии с установленными нормами не­прерывная продолжительность работы школьника за компьютером не должна превышать 25мин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сле каждого продолжительного занятия на компьютере рекомендуется выполнять определенные физически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588000" y="1773360"/>
            <a:ext cx="2556000" cy="200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802240" cy="292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19040" cy="1440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551a07"/>
                </a:solidFill>
                <a:latin typeface="Arial Black"/>
              </a:rPr>
              <a:t>Что такое Интернет?</a:t>
            </a:r>
            <a:br>
              <a:rPr sz="4400"/>
            </a:br>
            <a:r>
              <a:rPr b="1" i="1" lang="ru-RU" sz="3400" spc="-1" strike="noStrike">
                <a:solidFill>
                  <a:srgbClr val="551a07"/>
                </a:solidFill>
                <a:latin typeface="Arial Black"/>
              </a:rPr>
              <a:t>Правила безопасности в Интернете</a:t>
            </a:r>
            <a:endParaRPr b="0" lang="en-US" sz="3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ьте круг лиц, пользующихся Вашим компьютеро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альным вариантом является ситуация, когда никто, кроме вас, не имеет доступа к вашему компьютеру. Однако, если это невозможно, необходимо четко разграничить права доступа и определить круг разрешенных действий для других лиц. В первую очередь это касается работы с дискетами и CD, Интернетом и электронной почт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ообщайте своего домашнего адреса, паспортных данных, других регистрационных сведений (это требуется в очень редких случаях) и особенно научите этому  детей, имеющих доступ в Интерн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0" t="13352" r="4786" b="0"/>
          <a:stretch/>
        </p:blipFill>
        <p:spPr>
          <a:xfrm>
            <a:off x="1476360" y="4105440"/>
            <a:ext cx="6048360" cy="2752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50760" y="3789360"/>
            <a:ext cx="2252880" cy="25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6756480" y="4005360"/>
            <a:ext cx="2387520" cy="2492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1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1a07"/>
                </a:solidFill>
                <a:latin typeface="Arial Black"/>
              </a:rPr>
              <a:t>Соблюдение мер безопасности при работе с инструментами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583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у выполняй только исправными, хорошо налаженными инструментами. Во избежание травм следи за тем, что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рхность бойков молотков, кувалд была выпуклой, а не сбит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ы (напильники и др.), имеющие заостренные хвостовики, должны быть снабжены деревянными, плотно прилегающими рукоятками установленной формы без расколов и трещ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арные режущие инструменты (зубило, бородок, кернер, крейцмейсель и др.) иметь не сбитую поверх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сарными инструментами пользуйся только по их прямому на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пользуйся инструментами, правила обращения с которыми не изу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отребляй инструмент только по на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работай неисправными и тупыми инстру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236000" y="1557360"/>
            <a:ext cx="1908000" cy="1862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016000" cy="194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7093080" y="4581360"/>
            <a:ext cx="2050920" cy="2001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820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1a07"/>
                </a:solidFill>
                <a:latin typeface="Arial Black"/>
              </a:rPr>
              <a:t>Пользование опасными веществами и бытовой химией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66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средствам бытовой химии относятся моющие, чистящие, дезинфицирующие средства, средства для борьбы с бытовыми насекомыми и защиты растений, клеи, лакокрасочные матери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тепени опасности препараты бытовой химии 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Безопасные </a:t>
            </a:r>
            <a:r>
              <a:rPr b="1" i="1" lang="ru-RU" sz="2000" spc="-1" strike="noStrike">
                <a:solidFill>
                  <a:srgbClr val="551a07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упаковке отсутствуют предупредительные надпи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тносительно безопас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на упаковке есть предупредительные надписи, например, «Беречь от попадания в глаз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Ядовит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на упаковке есть предупредительные надписи «Огнеопасно», «Не распылять вблизи открытого огня»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69432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141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1a07"/>
                </a:solidFill>
                <a:latin typeface="Arial Black"/>
              </a:rPr>
              <a:t>Цели и задачи проекта</a:t>
            </a:r>
            <a:br>
              <a:rPr sz="4400"/>
            </a:br>
            <a:r>
              <a:rPr b="1" i="1" lang="ru-RU" sz="3600" spc="-1" strike="noStrike">
                <a:solidFill>
                  <a:srgbClr val="551a07"/>
                </a:solidFill>
                <a:latin typeface="Arial Black"/>
              </a:rPr>
              <a:t>«</a:t>
            </a:r>
            <a:r>
              <a:rPr b="1" i="1" lang="ru-RU" sz="3600" spc="-1" strike="noStrike">
                <a:solidFill>
                  <a:srgbClr val="990000"/>
                </a:solidFill>
                <a:latin typeface="Arial Black"/>
              </a:rPr>
              <a:t>Уроки безопасности в школе»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545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безопасности жизни  и жизнедеятельности обучающихся образователь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ие и предупрежд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риске и мерах необходим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ение, укрепление и защита здоровья обучающихся  школы в условиях опасных и чрезвычай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защиты обучающихся, формирование умений и навыков безопасного поведения в быту и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18160" y="1700280"/>
            <a:ext cx="3525840" cy="515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0" y="18900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487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1a07"/>
                </a:solidFill>
                <a:latin typeface="Arial Black"/>
              </a:rPr>
              <a:t>Как избежать отравлений препаратами бытовой химии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713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огда не пользуйся незнакомыми препаратами бытовой хи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ей жидкости из незнакомых бутылок и банок, особенно если они испачканы, стоят на полу или в укромн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ользуйся спичками и открытым огнем рядом с банками или бутылками с резким запа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ни химические вещества в закрывающихся шкафч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идев, что краску или лак перелили в другую бутылку, сделай на ней предупредительную надп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ни аэрозольные баллончики в вертикаль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и в прохладном мес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распыляй их вблизи открытого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31934" r="44732" b="0"/>
          <a:stretch/>
        </p:blipFill>
        <p:spPr>
          <a:xfrm>
            <a:off x="7191360" y="4149720"/>
            <a:ext cx="169236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223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Приборы, </a:t>
            </a:r>
            <a:br>
              <a:rPr sz="5400"/>
            </a:b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содержащие ртуть</a:t>
            </a:r>
            <a:br>
              <a:rPr sz="5400"/>
            </a:b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6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овые приборы, содержащие ртуть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лампы дневного света (это газоразрядные трубки, в которых находятся инертные газы и пары ртути). Все такие лампы содержат ртуть - от 40 до 70 мг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тутные термометры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иборы для измерения давления (маномет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ометры находятся в каждом доме, они стеклянные и легко разбиваются при падении. Шарики ртути при этом легко закатываются в щели пола или всасываются в ков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мпы дневного света нередко выбрасывают вместе с бытовыми отходами в мусорные баки, где они легко бьются, и пары ртути попадают в окружающую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и подростки, разбивающие из хулиганства такие лампы, обычно даже не подозревают, что при этом попадает к ним в легкие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4140360" cy="2842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272360" cy="158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Бытовой газ и его свойства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633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Газ, используемый для бытовых целей, может быть двух видов: сжиженный газ в баллонах и городской магистральный газ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Бытовой газ не имеет ни цвета, ни запаха, но, для того чтобы можно было обнаружить его утечку, в него добавляют специальные вещества, имеющие специфический запа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356520" y="1484280"/>
            <a:ext cx="2787480" cy="3097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771640" cy="202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1a07"/>
                </a:solidFill>
                <a:latin typeface="Arial Black"/>
              </a:rPr>
              <a:t>Правила безопасного обращения с газовыми приборами</a:t>
            </a:r>
            <a:br>
              <a:rPr sz="4000"/>
            </a:b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ечка газа может привести к отравлению человека и взрыву помещения. Чтобы предотвратить это, необходимо соблюдать правила безопасности при пользовании бытовым газом.  </a:t>
            </a:r>
            <a:r>
              <a:rPr b="1" i="1" lang="ru-RU" sz="2000" spc="-1" strike="noStrike">
                <a:solidFill>
                  <a:srgbClr val="551a07"/>
                </a:solidFill>
                <a:latin typeface="Arial"/>
              </a:rPr>
              <a:t>Основные правил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чтобы зажечь газовую горелку, сначала поднесите зажженную спичку, а затем плавно и осторожно откройте газовый кран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оставляйте включенные газовые горелки без присмотр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ледите за тем, чтобы нагреваемая на газовой плите жидкость не залила пламя горел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заметив потухшую горелку, не пытайтесь ее зажечь вновь - это может привести к взрыву. Перекройте кран подачи газа, распахните окна и как следует проветрите кухню. Сообщите о случившемся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1952640" cy="1428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2987640" y="4927680"/>
            <a:ext cx="3241800" cy="1930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4" name="Picture 13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2303280" cy="1760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696440" cy="134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Правила пользования </a:t>
            </a:r>
            <a:br>
              <a:rPr sz="4800"/>
            </a:b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газовыми приборами</a:t>
            </a: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604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обходимо постоянно помнить и выполнять правила пользования им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 не оставляйте без присмотра включенные газовые приборы;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 не допускайте к пользованию газовыми приборами детей дошкольного возраста, а также лиц, не знающих правил обращения с этими прибор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3419640" cy="3144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7885080" cy="1440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1a07"/>
                </a:solidFill>
                <a:latin typeface="Arial Black"/>
              </a:rPr>
              <a:t>При появлении </a:t>
            </a:r>
            <a:br>
              <a:rPr sz="6000"/>
            </a:br>
            <a:r>
              <a:rPr b="1" lang="ru-RU" sz="6000" spc="-1" strike="noStrike">
                <a:solidFill>
                  <a:srgbClr val="551a07"/>
                </a:solidFill>
                <a:latin typeface="Arial Black"/>
              </a:rPr>
              <a:t>запаха газа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появлении запаха газа немедленно сообщайте об этом по телефону 04. До прибытия аварийной машины примите меры безопасности: не допускайте открытого огня и, по возможности, проветривайт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те внимательны и осторож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ренебрегайте мерами безопасности. Экономьте газ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опускайте длительной работы газовых горелок без посуд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улируйте пламя газовых горелок. Убавляйте газ до минимального размера факела после закипания воды в посуд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556000" y="4270320"/>
            <a:ext cx="4608360" cy="2587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017440" cy="1200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93080" cy="87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1a07"/>
                </a:solidFill>
                <a:latin typeface="Arial Black"/>
              </a:rPr>
              <a:t>Что делать при утечке газа?</a:t>
            </a:r>
            <a:endParaRPr b="0" lang="en-US" sz="4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504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ключите газовые конфорки. Перекройте газовый кран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бегайте всяких действий, вызывающих искрение и повышение температуры воздуха в помеще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 трогайте электровыключатели, это тоже может вызвать появление искры. Обеспечьте интенсивное проветривание помещения, открыв все ок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далите всех присутствующих. Прекратите, по возможности, подачу газа. Вызовите мастера по 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995640" cy="3703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533160"/>
            <a:ext cx="7128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1a07"/>
                </a:solidFill>
                <a:latin typeface="Arial Black"/>
              </a:rPr>
              <a:t>При обнаружении источника возгорания</a:t>
            </a: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554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 бойся позвать на помощь взрослых, даже если ты являешься виновником пож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Немедленно покидай горящее помещение, проверив, не остались ли в квартире те, кто не сможет выбраться сам (маленькие дети, больные стари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озвони в пожарную аварийно-спасательную службу МЧС  по телефону « 01». При этом сообщи точный адрес, что и где горит, свою фамилию и номер телеф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838600" cy="2266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98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3"/>
          <a:stretch/>
        </p:blipFill>
        <p:spPr>
          <a:xfrm>
            <a:off x="5651640" y="4100400"/>
            <a:ext cx="3492360" cy="2757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1a07"/>
                </a:solidFill>
                <a:latin typeface="Arial Black"/>
              </a:rPr>
              <a:t>При пожаре нельзя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90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оценивать свои силы и возмо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сковать своей жизнью, спасая имущ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шить огонь до вызова пожарной аварийно-спасательной службы (за это время может разгореться большой пожа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шить водой электроприборы, находящиеся под напряж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таться в шкафах, кладовых, под крова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вать окна и двери – это увеличивает тягу и усиливает гор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ытаться выйти через задымленную лестничную клетку (горячий воздух обжигает легкие, а дым очень токсичен, влажная ткань не защищает от угарного газ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ускаться с верхних этажей по водосточным трубам и стоякам, с помощью веревок и простыней, если в этом нет острой необходимости, ведь при отсутствии навыков падение всегда неизбе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рыгивать из окон (прыжок может оказаться смертельны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даваться панике (в городе пожарный расчет приезжает в течение 5-7 мину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1322640" cy="1652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3038400" cy="4095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Arial Black"/>
              </a:rPr>
              <a:t>ПОМНИ!</a:t>
            </a:r>
            <a:endParaRPr b="0" lang="en-US" sz="8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52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ов пожарной аварийно-спасательной службы из шалости – подлость: в этот момент кто-то по-настоящему нуждается в помощи, а жестокая шутка только отвлечет силы спасателей от реального происше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домо ложный вызов пожарной аварийно-спасательной службы, также как милиции, «скорой помощи» и других специальных служб, является административным правонарушением и наказывается согласно Статье 17. 6. Заведомо ложное сообщение Административного кодекс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871640" cy="1403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3924360" cy="2938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56000" cy="1506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/>
          <p:cNvPicPr/>
          <p:nvPr/>
        </p:nvPicPr>
        <p:blipFill>
          <a:blip r:embed="rId4"/>
          <a:stretch/>
        </p:blipFill>
        <p:spPr>
          <a:xfrm>
            <a:off x="6222960" y="3500280"/>
            <a:ext cx="2330640" cy="3357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1a07"/>
                </a:solidFill>
                <a:latin typeface="Arial Black"/>
              </a:rPr>
              <a:t>Актуальность обращения к теме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ременный уровень развития промышленности как  в нашей стране, так и за рубежом не исключает возможности возникновения ава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астроф,  чрезвычайных ситу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родного и техногенного харак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е могут повлечь за со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овеческие жертвы, и нару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й жизне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упреждение и ликвид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резвычайных ситу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ются сегодня важнейш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уальной задач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еобеспечения 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92720" y="4132440"/>
            <a:ext cx="3851280" cy="272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651640" y="2349360"/>
            <a:ext cx="3203280" cy="218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4920" y="549000"/>
            <a:ext cx="6624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1a07"/>
                </a:solidFill>
                <a:latin typeface="Arial Black"/>
              </a:rPr>
              <a:t>Общие выводы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 – великое чудо природы. Человек создан для долгой и счастливой жизни, и реализация возможностей, заложенных в человеке, зависит от тех правил и привычек, которые он приобретает в школьные г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 </a:t>
            </a:r>
            <a:r>
              <a:rPr b="1" i="1" lang="ru-RU" sz="2200" spc="-1" strike="noStrike">
                <a:solidFill>
                  <a:srgbClr val="551a07"/>
                </a:solidFill>
                <a:latin typeface="Arial"/>
              </a:rPr>
              <a:t>знать, выполнять  и соблюдать ряд общих правил поведени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 повседневной жизни, способствующих повышению безопасности обучающихся в случае возникновения чрезвычай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ша безопасность – в ваших ру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учшая профилактика – это самосовершенствование, познание окружающего мира, ответственное и целенаправленное обучение в школе, соблюдение обязательных правил поведения в школе, в общественных местах  и в  повседневном б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28560" cy="147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134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51a07"/>
                </a:solidFill>
                <a:latin typeface="Arial Black"/>
              </a:rPr>
              <a:t>Федеральный закон «О защите населения и территорий от чрезвычайных ситуаций природного и техногенного характера»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318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«Чрезвычайная ситуация – это обстановка на определе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ли окружающей природной среде, значительные материальные потери и нарушение условий жизнедеятельности людей.» (Из Федерального закона. Декабрь 1994 год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8332" t="0" r="2779" b="0"/>
          <a:stretch/>
        </p:blipFill>
        <p:spPr>
          <a:xfrm>
            <a:off x="2124000" y="5541840"/>
            <a:ext cx="1656000" cy="1316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292720" y="5568840"/>
            <a:ext cx="1871640" cy="1289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1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51a07"/>
                </a:solidFill>
                <a:latin typeface="Arial Black"/>
              </a:rPr>
              <a:t>Единая государственная система предупреждения и ликвидации чрезвычайных ситуаций (РСЧС)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СЧС создана с целью  объединения усилий органов государственного управления всех уровней, подчиненных им сил и средств для предупреждения и ликвидац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1a07"/>
                </a:solidFill>
                <a:latin typeface="Arial"/>
              </a:rPr>
              <a:t>Основные задачи РСЧ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бор, обработка и выдача информации в области защиты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населения в действиям при чрезвычай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квидация чрезвычай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прав и обязанностей населени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сти защиты от чрезвычай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ие мероприятий по социа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щите населения, пострадавшего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резвычайных ситуаций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6443640" y="4491000"/>
            <a:ext cx="2700360" cy="1860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51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1a07"/>
                </a:solidFill>
                <a:latin typeface="Arial Black"/>
              </a:rPr>
              <a:t>Права  и обязанности граждан РФ в области защиты от чрезвычайных ситуаций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6480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е РФ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ют право на защиту жизни, здоровья и личного имущ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лучае возникновения чрезвычай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ждане РФ имеют право быть информированным о рис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ому они могут подвергаться в быту и о мерах необходим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е РФ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ют право на возмещение ущерба, причиненного их здоровью и имуществу вследствие чрезвычай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ходим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ть и соблюдать  законы,  меры безопасности и ряд общих правил повед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овседневной жизни, способствующих повышению  безопасности граждан РФ в случае возникновения чрезвычай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919840" y="1700280"/>
            <a:ext cx="322416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1487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551a07"/>
                </a:solidFill>
                <a:latin typeface="Arial Black"/>
              </a:rPr>
              <a:t>Правила безопасного поведения в жизни и быту</a:t>
            </a:r>
            <a:endParaRPr b="0" lang="en-US" sz="4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ждый человек должен знать и выполнять ряд общих правил в повседневной жизни, позволяющих ему подготовиться к наиболее вероятным чрезвычайным ситуациям, чтобы они не застали враспло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ждая опасная и чрезвычайная ситуация имеет свою специфику и требует конкретных действий человека с учетом реально складывающейся об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84360" y="3778200"/>
            <a:ext cx="4608720" cy="3079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2071440" cy="25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7107120" y="3789360"/>
            <a:ext cx="1866960" cy="23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0" y="460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23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Чем опасны </a:t>
            </a:r>
            <a:br>
              <a:rPr sz="5400"/>
            </a:b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электроприборы?</a:t>
            </a:r>
            <a:br>
              <a:rPr sz="5400"/>
            </a:b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4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определенных условиях при использовании хорошо знакомого оборудования и приборов могут возникнуть опасные ситуации для вас, для ваших близких и для до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кие ситуации могут возникать по двум причинам. В первом случае вы сами можете создать опасную ситуацию, нарушив правила использования оборудования и бытовых прибор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другом случае независимо от вас может возникнуть опасная ситуация: резко возросло электронапряжение в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348000" cy="4824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580000" y="3068640"/>
            <a:ext cx="3564000" cy="23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3"/>
          <a:stretch/>
        </p:blipFill>
        <p:spPr>
          <a:xfrm>
            <a:off x="0" y="26028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381880" cy="208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Правила пользования </a:t>
            </a:r>
            <a:br>
              <a:rPr sz="4800"/>
            </a:b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электроприборами</a:t>
            </a:r>
            <a:br>
              <a:rPr sz="4800"/>
            </a:b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6481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Электрический ток при прохождении через человеческое тело вызывает его нагрев и может привести к ожогу. При электрических ожогах могут быть серьезно повреждены внутренние ткани тела челове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роме того, поражение электрическим током может привести к остановке сердца или к остановке дыхани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732720" y="1700280"/>
            <a:ext cx="215892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6659640" y="4221000"/>
            <a:ext cx="2087640" cy="201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5:56:40Z</dcterms:created>
  <dc:creator>HP</dc:creator>
  <dc:description/>
  <dc:language>en-US</dc:language>
  <cp:lastModifiedBy>Виталий Железняков</cp:lastModifiedBy>
  <dcterms:modified xsi:type="dcterms:W3CDTF">2023-01-10T20:22:15Z</dcterms:modified>
  <cp:revision>226</cp:revision>
  <dc:subject/>
  <dc:title>Безопасное поведение в техногенных чрезвычайных ситуациях</dc:title>
</cp:coreProperties>
</file>