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gif" ContentType="image/gif"/>
  <Override PartName="/ppt/media/image18.jpeg" ContentType="image/jpeg"/>
  <Override PartName="/ppt/media/image21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6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3.jpeg" ContentType="image/jpeg"/>
  <Override PartName="/ppt/media/image2.jpeg" ContentType="image/jpeg"/>
  <Override PartName="/ppt/media/image27.gif" ContentType="image/gif"/>
  <Override PartName="/ppt/media/image28.jpeg" ContentType="image/jpeg"/>
  <Override PartName="/ppt/media/image51.jpeg" ContentType="image/jpeg"/>
  <Override PartName="/ppt/media/image4.gif" ContentType="image/gif"/>
  <Override PartName="/ppt/media/image6.jpeg" ContentType="image/jpeg"/>
  <Override PartName="/ppt/media/image25.gif" ContentType="image/gif"/>
  <Override PartName="/ppt/media/image5.jpeg" ContentType="image/jpeg"/>
  <Override PartName="/ppt/media/image15.gif" ContentType="image/gif"/>
  <Override PartName="/ppt/media/image11.gif" ContentType="image/gif"/>
  <Override PartName="/ppt/media/image7.jpeg" ContentType="image/jpeg"/>
  <Override PartName="/ppt/media/image10.jpeg" ContentType="image/jpeg"/>
  <Override PartName="/ppt/media/image34.jpeg" ContentType="image/jpeg"/>
  <Override PartName="/ppt/media/image36.png" ContentType="image/png"/>
  <Override PartName="/ppt/media/image31.gif" ContentType="image/gif"/>
  <Override PartName="/ppt/media/image9.png" ContentType="image/png"/>
  <Override PartName="/ppt/media/image29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1.png" ContentType="image/png"/>
  <Override PartName="/ppt/media/image48.jpeg" ContentType="image/jpeg"/>
  <Override PartName="/ppt/media/image49.jpeg" ContentType="image/jpeg"/>
  <Override PartName="/ppt/media/image47.png" ContentType="image/png"/>
  <Override PartName="/ppt/media/image43.jpeg" ContentType="image/jpeg"/>
  <Override PartName="/ppt/media/image35.png" ContentType="image/png"/>
  <Override PartName="/ppt/media/image50.jpeg" ContentType="image/jpeg"/>
  <Override PartName="/ppt/media/image52.jpeg" ContentType="image/jpeg"/>
  <Override PartName="/ppt/media/image33.png" ContentType="image/png"/>
  <Override PartName="/ppt/media/image30.gif" ContentType="image/gif"/>
  <Override PartName="/ppt/media/image32.gif" ContentType="image/gif"/>
  <Override PartName="/ppt/media/image4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40.jpeg" ContentType="image/jpeg"/>
  <Override PartName="/ppt/media/image13.jpeg" ContentType="image/jpeg"/>
  <Override PartName="/ppt/media/image20.gif" ContentType="image/gif"/>
  <Override PartName="/ppt/media/image39.jpeg" ContentType="image/jpeg"/>
  <Override PartName="/ppt/media/image38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FDE-AAC0-4628-9932-ECE911B8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A9B5-1DED-4156-B4DA-B2BBCE08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035F-7B09-408C-B2F4-D9BBF31C6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EC6A-F547-47F2-A7C7-AE5C3836F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9D2-170B-4F2B-A30D-CD0B0CC7E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1795-AFA2-4034-946C-3C7FAD68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2755-D499-4090-B662-606DEFC7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B88E-1096-4561-8639-9C125599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F432-34A3-489B-8597-B4BF1784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BFE5-EDD5-4C29-B73E-9E1CE689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2E3A-314C-4045-A117-3BC9A3ED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688-B9AC-44C1-B3AD-EE6B5D64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9F1E-401C-42AF-A103-1C7DFC86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D5A8-4618-4AF8-9B9C-FAE7FB95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05DB-5BC3-48C1-8DD5-A1CDD766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64A2-5898-47B7-803F-81D8016A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12AF-6A5E-48A0-B83C-59613FB8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6113-1F9B-4605-A440-FC887073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C426-3900-442A-B782-C96019E7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FA2-3F25-4EA3-A02B-3702FD20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5FD8-0293-4D35-BDAE-64350758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8003-8AC7-4E73-85E2-15BF8A22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8D2A-3229-4DE2-872A-F4C60A9E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B93-AADF-47F1-B99D-D2FBE354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4717-B7FD-4A2F-A86B-10A8A535BA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51a07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f4b4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551a07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669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0AC-5F8B-4ED4-8249-735EEB72B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5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2647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 Black"/>
              </a:rPr>
              <a:t>Безопасное поведение в техногенных чрезвычайных ситуациях</a:t>
            </a:r>
            <a:endParaRPr b="0" lang="en-US" sz="4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566880"/>
            <a:ext cx="5556240" cy="1904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Уроки безопасности в повседневной жизн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700" spc="-1" strike="noStrike">
                <a:solidFill>
                  <a:srgbClr val="cc0000"/>
                </a:solidFill>
                <a:latin typeface="Arial"/>
              </a:rPr>
              <a:t>Это надо знать!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1"/>
          <a:stretch/>
        </p:blipFill>
        <p:spPr>
          <a:xfrm>
            <a:off x="179280" y="3789360"/>
            <a:ext cx="1787760" cy="3068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7289640" y="4076640"/>
            <a:ext cx="1854360" cy="2781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85016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Общие правила безопасного обращения с электричеством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44276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повседневной жизни необходимо соблюдать ряд общих правил безопасного обращения с электричеством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пользуйтесь неисправными электроприборами, никогда не оставляйте включенный электроприбор без присмотра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включайте в одну розетку несколько электроприборов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облюдайте порядок включения электроприбора в сеть: сначала подключается шнур к прибору, а затем - шнур к се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18900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4546440" y="1773360"/>
            <a:ext cx="4597560" cy="4574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560" y="533160"/>
            <a:ext cx="8101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Общие правила безопасного обращения с электричеством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525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5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тключение прибора производится в обратном порядке;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не прикасайтесь к включенному электроприбору мокрыми руками; 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помните: нельзя пользоваться электрическими устройствами, находясь в воде;</a:t>
            </a:r>
            <a:br>
              <a:rPr sz="2300"/>
            </a:b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- об обнаруженных неисправностях в электроприборах, об оголенных и плохо изолированных проводах немедленно сообщайте родителям или старши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82440"/>
            <a:ext cx="1619280" cy="161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5435640" y="1817640"/>
            <a:ext cx="3529080" cy="5040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958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551a07"/>
                </a:solidFill>
                <a:latin typeface="Arial Black"/>
              </a:rPr>
              <a:t>Помните!</a:t>
            </a:r>
            <a:br>
              <a:rPr sz="7200"/>
            </a:br>
            <a:endParaRPr b="0" lang="en-US" sz="7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554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льзя тушить водой горящие электрические устройства, подключенные в электрическую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открытые электрические розетки должны быть «заглушены». Используйте для этого специальные пластиковые заглушки, они продаются в любом хозяйственном магазине и стоят  недор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5815080" y="1700280"/>
            <a:ext cx="3328920" cy="4681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539640" y="0"/>
            <a:ext cx="1032120" cy="177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38" name="Picture 8" descr=""/>
          <p:cNvPicPr/>
          <p:nvPr/>
        </p:nvPicPr>
        <p:blipFill>
          <a:blip r:embed="rId3"/>
          <a:stretch/>
        </p:blipFill>
        <p:spPr>
          <a:xfrm>
            <a:off x="7615080" y="189000"/>
            <a:ext cx="1528920" cy="1474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19280" y="533160"/>
            <a:ext cx="7345440" cy="1887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и поражении электрическим током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арайся как можно скорее освободить пострадавшего от воздействия электрического тока ( с помощью деревянной палки, резиновых перчаток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ходить к пострадавшему можно только в резиновой обуви или «гусиным шагом» - пятка шагающей ноги, не отрываясь от земли, приставляется к носку другой н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отсутствии у пострадавшего признаков жизни проведи реанимационные меропри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аличии пульса поверни пострадавшего на живот, очисть рот, приложи к голове хол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аличии ран наложи повя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ови скорую помощь по телефону 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допустимо: прикасаться к пораженному током человеку, пока не будет прекращено его действ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кращать реанимацию до прибытия врач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ближаться бегом к лежащему пров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7686720" y="4915080"/>
            <a:ext cx="1457280" cy="194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65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Пользование системой водоснабжения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5977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1a07"/>
                </a:solidFill>
                <a:latin typeface="Arial"/>
              </a:rPr>
              <a:t>Как избежать затопления в квартире (доме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бросай в канализацию посторонние предме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 засоряй раковину отходами продуктов пита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ходя из дома, проверяй все ли краны закрыт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Следи за состоянием труб для своевременного устранения в них протече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6012000" y="3933720"/>
            <a:ext cx="2563560" cy="27082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6588000" y="1700280"/>
            <a:ext cx="2411640" cy="2325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404280"/>
            <a:ext cx="8202600" cy="1511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При обнаружении протечек или затопления квартиры</a:t>
            </a:r>
            <a:br>
              <a:rPr sz="3600"/>
            </a:b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511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азу сообщи родителям на работу или позови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звони в диспетчерскую РЭУ, расскажи о том, что случилось, и попроси прислать специалиста – сантех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лючи электричество и перекрой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естах протечек поставь тазы, ведра, кастрюли или другие емкости, скорее убирай скопившуюся на полу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"/>
          <p:cNvPicPr/>
          <p:nvPr/>
        </p:nvPicPr>
        <p:blipFill>
          <a:blip r:embed="rId1"/>
          <a:srcRect l="0" t="31953" r="0" b="6822"/>
          <a:stretch/>
        </p:blipFill>
        <p:spPr>
          <a:xfrm>
            <a:off x="5651640" y="3833640"/>
            <a:ext cx="3492360" cy="302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50" name="Picture 5" descr=""/>
          <p:cNvPicPr/>
          <p:nvPr/>
        </p:nvPicPr>
        <p:blipFill>
          <a:blip r:embed="rId2"/>
          <a:srcRect l="0" t="0" r="33166" b="0"/>
          <a:stretch/>
        </p:blipFill>
        <p:spPr>
          <a:xfrm>
            <a:off x="6300720" y="1557360"/>
            <a:ext cx="2233800" cy="3024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3280" y="907560"/>
            <a:ext cx="7740720" cy="151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работы за компьютером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64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пьютер очень полезная  и необходимая вещь. Однако неправильное обращение с ним может нанести вред здоровью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а работы за компьютером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ледите за тем, чтобы положение монитора соответствовало направлению взгляда, середина экрана монитора располагалась на горизонтали, проведенной на уровне глаз или на 10-20° ниже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работайте в темном или полутемном помещени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в соответствии с установленными нормами не­прерывная продолжительность работы школьника за компьютером не должна превышать 25мин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после каждого продолжительного занятия на компьютере рекомендуется выполнять определенные физические упраж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588000" y="1773360"/>
            <a:ext cx="2556000" cy="2009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6084720" y="3933720"/>
            <a:ext cx="2802240" cy="292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19040" cy="1440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551a07"/>
                </a:solidFill>
                <a:latin typeface="Arial Black"/>
              </a:rPr>
              <a:t>Что такое Интернет?</a:t>
            </a:r>
            <a:br>
              <a:rPr sz="4400"/>
            </a:br>
            <a:r>
              <a:rPr b="1" i="1" lang="ru-RU" sz="3400" spc="-1" strike="noStrike">
                <a:solidFill>
                  <a:srgbClr val="551a07"/>
                </a:solidFill>
                <a:latin typeface="Arial Black"/>
              </a:rPr>
              <a:t>Правила безопасности в Интернете</a:t>
            </a:r>
            <a:endParaRPr b="0" lang="en-US" sz="3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аничьте круг лиц, пользующихся Вашим компьютеро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альным вариантом является ситуация, когда никто, кроме вас, не имеет доступа к вашему компьютеру. Однако, если это невозможно, необходимо четко разграничить права доступа и определить круг разрешенных действий для других лиц. В первую очередь это касается работы с дискетами и CD, Интернетом и электронной почт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сообщайте своего домашнего адреса, паспортных данных, других регистрационных сведений (это требуется в очень редких случаях) и особенно научите этому  детей, имеющих доступ в Интернет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rcRect l="0" t="13352" r="4786" b="0"/>
          <a:stretch/>
        </p:blipFill>
        <p:spPr>
          <a:xfrm>
            <a:off x="1476360" y="4105440"/>
            <a:ext cx="6048360" cy="2752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2"/>
          <a:stretch/>
        </p:blipFill>
        <p:spPr>
          <a:xfrm>
            <a:off x="50760" y="3789360"/>
            <a:ext cx="2252880" cy="25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3"/>
          <a:stretch/>
        </p:blipFill>
        <p:spPr>
          <a:xfrm>
            <a:off x="6756480" y="4005360"/>
            <a:ext cx="2387520" cy="2492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51a07"/>
                </a:solidFill>
                <a:latin typeface="Arial Black"/>
              </a:rPr>
              <a:t>Соблюдение мер безопасности при работе с инструментами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583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у выполняй только исправными, хорошо налаженными инструментами. Во избежание травм следи за тем, чтоб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рхность бойков молотков, кувалд была выпуклой, а не сбит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нструменты (напильники и др.), имеющие заостренные хвостовики, должны быть снабжены деревянными, плотно прилегающими рукоятками установленной формы без расколов и трещи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дарные режущие инструменты (зубило, бородок, кернер, крейцмейсель и др.) иметь не сбитую поверх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лесарными инструментами пользуйся только по их прямому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пользуйся инструментами, правила обращения с которыми не изуч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потребляй инструмент только по назна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 работай неисправными и тупыми инструмен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7236000" y="1557360"/>
            <a:ext cx="1908000" cy="1862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796000" y="2924280"/>
            <a:ext cx="2016000" cy="194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7093080" y="4581360"/>
            <a:ext cx="2050920" cy="2001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820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Пользование опасными веществами и бытовой химией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905120"/>
            <a:ext cx="669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средствам бытовой химии относятся моющие, чистящие, дезинфицирующие средства, средства для борьбы с бытовыми насекомыми и защиты растений, клеи, лакокрасочные материал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степени опасности препараты бытовой химии бываю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Безопасные </a:t>
            </a:r>
            <a:r>
              <a:rPr b="1" i="1" lang="ru-RU" sz="2000" spc="-1" strike="noStrike">
                <a:solidFill>
                  <a:srgbClr val="551a07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упаковке отсутствуют предупредительные надпис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тносительно безопас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на упаковке есть предупредительные надписи, например, «Беречь от попадания в глаз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Ядовит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на упаковке есть предупредительные надписи «Огнеопасно», «Не распылять вблизи открытого огня»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3694320" cy="5084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824400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51a07"/>
                </a:solidFill>
                <a:latin typeface="Arial Black"/>
              </a:rPr>
              <a:t>Цели и задачи проекта</a:t>
            </a:r>
            <a:br>
              <a:rPr sz="4400"/>
            </a:br>
            <a:r>
              <a:rPr b="1" i="1" lang="ru-RU" sz="3600" spc="-1" strike="noStrike">
                <a:solidFill>
                  <a:srgbClr val="551a07"/>
                </a:solidFill>
                <a:latin typeface="Arial Black"/>
              </a:rPr>
              <a:t>«</a:t>
            </a:r>
            <a:r>
              <a:rPr b="1" i="1" lang="ru-RU" sz="3600" spc="-1" strike="noStrike">
                <a:solidFill>
                  <a:srgbClr val="990000"/>
                </a:solidFill>
                <a:latin typeface="Arial Black"/>
              </a:rPr>
              <a:t>Уроки безопасности в школе»</a:t>
            </a:r>
            <a:endParaRPr b="0" lang="en-US" sz="36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545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еспечение безопасности жизни  и жизнедеятельности обучающихся образователь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и предупреждени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риске и мерах необходимой безопас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ение, укрепление и защита здоровья обучающихся  школы в условиях опасных и чрезвычай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защиты обучающихся, формирование умений и навыков безопасного поведения в быту и в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18160" y="1700280"/>
            <a:ext cx="3525840" cy="51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0" y="18900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893080" cy="148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Как избежать отравлений препаратами бытовой химии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0560" y="1904760"/>
            <a:ext cx="87138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когда не пользуйся незнакомыми препаратами бытовой хи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ей жидкости из незнакомых бутылок и банок, особенно если они испачканы, стоят на полу или в укром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льзуйся спичками и открытым огнем рядом с банками или бутылками с резким запах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 химические вещества в закрывающихся шкафчи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видев, что краску или лак перелили в другую бутылку, сделай на ней предупредительную надпи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рани аэрозольные баллончики в вертикаль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ении в прохладном мес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распыляй их вблизи открытого ог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0" t="31934" r="44732" b="0"/>
          <a:stretch/>
        </p:blipFill>
        <p:spPr>
          <a:xfrm>
            <a:off x="7191360" y="4149720"/>
            <a:ext cx="169236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2232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Приборы, </a:t>
            </a:r>
            <a:br>
              <a:rPr sz="5400"/>
            </a:b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содержащие ртуть</a:t>
            </a:r>
            <a:br>
              <a:rPr sz="5400"/>
            </a:b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688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товые приборы, содержащие ртуть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лампы дневного света (это газоразрядные трубки, в которых находятся инертные газы и пары ртути). Все такие лампы содержат ртуть - от 40 до 70 мг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ртутные термометры;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приборы для измерения давления (маномет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рмометры находятся в каждом доме, они стеклянные и легко разбиваются при падении. Шарики ртути при этом легко закатываются в щели пола или всасываются в ков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мпы дневного света нередко выбрасывают вместе с бытовыми отходами в мусорные баки, где они легко бьются, и пары ртути попадают в окружающую атмосфер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ти и подростки, разбивающие из хулиганства такие лампы, обычно даже не подозревают, что при этом попадает к ним в легкие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03640" y="2133720"/>
            <a:ext cx="4140360" cy="284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272360" cy="1584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Бытовой газ и его свойства</a:t>
            </a: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6337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Газ, используемый для бытовых целей, может быть двух видов: сжиженный газ в баллонах и городской магистральный газ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Бытовой газ не имеет ни цвета, ни запаха, но, для того чтобы можно было обнаружить его утечку, в него добавляют специальные вещества, имеющие специфический запах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356520" y="1484280"/>
            <a:ext cx="2787480" cy="309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8" name="Picture 5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2771640" cy="2028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1979640" cy="19796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51a07"/>
                </a:solidFill>
                <a:latin typeface="Arial Black"/>
              </a:rPr>
              <a:t>Правила безопасного обращения с газовыми приборами</a:t>
            </a:r>
            <a:br>
              <a:rPr sz="4000"/>
            </a:b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820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течка газа может привести к отравлению человека и взрыву помещения. Чтобы предотвратить это, необходимо соблюдать правила безопасности при пользовании бытовым газом.  </a:t>
            </a:r>
            <a:r>
              <a:rPr b="1" i="1" lang="ru-RU" sz="2000" spc="-1" strike="noStrike">
                <a:solidFill>
                  <a:srgbClr val="551a07"/>
                </a:solidFill>
                <a:latin typeface="Arial"/>
              </a:rPr>
              <a:t>Основные правила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чтобы зажечь газовую горелку, сначала поднесите зажженную спичку, а затем плавно и осторожно откройте газовый кран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не оставляйте включенные газовые горелки без присмотр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следите за тем, чтобы нагреваемая на газовой плите жидкость не залила пламя горелк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заметив потухшую горелку, не пытайтесь ее зажечь вновь - это может привести к взрыву. Перекройте кран подачи газа, распахните окна и как следует проветрите кухню. Сообщите о случившемся взрос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1952640" cy="14288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3" name="Picture 7" descr=""/>
          <p:cNvPicPr/>
          <p:nvPr/>
        </p:nvPicPr>
        <p:blipFill>
          <a:blip r:embed="rId2"/>
          <a:stretch/>
        </p:blipFill>
        <p:spPr>
          <a:xfrm>
            <a:off x="2987640" y="4927680"/>
            <a:ext cx="3241800" cy="1930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84" name="Picture 13" descr=""/>
          <p:cNvPicPr/>
          <p:nvPr/>
        </p:nvPicPr>
        <p:blipFill>
          <a:blip r:embed="rId3"/>
          <a:stretch/>
        </p:blipFill>
        <p:spPr>
          <a:xfrm>
            <a:off x="6516720" y="4869000"/>
            <a:ext cx="2303280" cy="17604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7696440" cy="134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пользования </a:t>
            </a:r>
            <a:br>
              <a:rPr sz="4800"/>
            </a:b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газовыми приборами</a:t>
            </a: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8920" y="1905120"/>
            <a:ext cx="604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Необходимо постоянно помнить и выполнять правила пользования им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 не оставляйте без присмотра включенные газовые приборы;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- не допускайте к пользованию газовыми приборами детей дошкольного возраста, а также лиц, не знающих правил обращения с этими прибора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3419640" cy="3144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58560" y="476280"/>
            <a:ext cx="7885080" cy="1440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При появлении </a:t>
            </a:r>
            <a:br>
              <a:rPr sz="6000"/>
            </a:b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запаха газа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8930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появлении запаха газа немедленно сообщайте об этом по телефону 04. До прибытия аварийной машины примите меры безопасности: не допускайте открытого огня и, по возможности, проветривайт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удьте внимательны и осторожны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ренебрегайте мерами безопасности. Экономьте газ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допускайте длительной работы газовых горелок без посуды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гулируйте пламя газовых горелок. Убавляйте газ до минимального размера факела после закипания воды в посуд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2556000" y="4270320"/>
            <a:ext cx="4608360" cy="258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2017440" cy="1200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893080" cy="879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1a07"/>
                </a:solidFill>
                <a:latin typeface="Arial Black"/>
              </a:rPr>
              <a:t>Что делать при утечке газа?</a:t>
            </a:r>
            <a:endParaRPr b="0" lang="en-US" sz="4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5040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ыключите газовые конфорки. Перекройте газовый кран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збегайте всяких действий, вызывающих искрение и повышение температуры воздуха в помеще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 трогайте электровыключатели, это тоже может вызвать появление искры. Обеспечьте интенсивное проветривание помещения, открыв все ок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далите всех присутствующих. Прекратите, по возможности, подачу газа. Вызовите мастера по 0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"/>
          <p:cNvPicPr/>
          <p:nvPr/>
        </p:nvPicPr>
        <p:blipFill>
          <a:blip r:embed="rId1"/>
          <a:stretch/>
        </p:blipFill>
        <p:spPr>
          <a:xfrm>
            <a:off x="5148360" y="2060640"/>
            <a:ext cx="3995640" cy="3703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7640" y="533160"/>
            <a:ext cx="71280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51a07"/>
                </a:solidFill>
                <a:latin typeface="Arial Black"/>
              </a:rPr>
              <a:t>При обнаружении источника возгорания</a:t>
            </a: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54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 бойся позвать на помощь взрослых, даже если ты являешься виновником пож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Немедленно покидай горящее помещение, проверив, не остались ли в квартире те, кто не сможет выбраться сам (маленькие дети, больные стари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озвони в пожарную аварийно-спасательную службу МЧС  по телефону « 01». При этом сообщи точный адрес, что и где горит, свою фамилию и номер телеф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6084720" y="1773360"/>
            <a:ext cx="2838600" cy="2266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98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"/>
          <p:cNvPicPr/>
          <p:nvPr/>
        </p:nvPicPr>
        <p:blipFill>
          <a:blip r:embed="rId3"/>
          <a:stretch/>
        </p:blipFill>
        <p:spPr>
          <a:xfrm>
            <a:off x="5651640" y="4100400"/>
            <a:ext cx="3492360" cy="27576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При пожаре нельзя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590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еоценивать свои силы и возмож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исковать своей жизнью, спасая имуще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шить огонь до вызова пожарной аварийно-спасательной службы (за это время может разгореться большой пожар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ушить водой электроприборы, находящиеся под напряжен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ятаться в шкафах, кладовых, под кроват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вать окна и двери – это увеличивает тягу и усиливает гор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ытаться выйти через задымленную лестничную клетку (горячий воздух обжигает легкие, а дым очень токсичен, влажная ткань не защищает от угарного газ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пускаться с верхних этажей по водосточным трубам и стоякам, с помощью веревок и простыней, если в этом нет острой необходимости, ведь при отсутствии навыков падение всегда неизбеж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прыгивать из окон (прыжок может оказаться смертельны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ддаваться панике (в городе пожарный расчет приезжает в течение 5-7 мину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"/>
          <p:cNvPicPr/>
          <p:nvPr/>
        </p:nvPicPr>
        <p:blipFill>
          <a:blip r:embed="rId1"/>
          <a:stretch/>
        </p:blipFill>
        <p:spPr>
          <a:xfrm>
            <a:off x="179280" y="0"/>
            <a:ext cx="1322640" cy="1652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5940360" y="1844640"/>
            <a:ext cx="3038400" cy="4095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6960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990000"/>
                </a:solidFill>
                <a:latin typeface="Arial Black"/>
              </a:rPr>
              <a:t>ПОМНИ!</a:t>
            </a:r>
            <a:endParaRPr b="0" lang="en-US" sz="8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5256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зов пожарной аварийно-спасательной службы из шалости – подлость: в этот момент кто-то по-настоящему нуждается в помощи, а жестокая шутка только отвлечет силы спасателей от реального происше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ведомо ложный вызов пожарной аварийно-спасательной службы, также как милиции, «скорой помощи» и других специальных служб, является административным правонарушением и наказывается согласно Статье 17. 6. Заведомо ложное сообщение Административного кодекса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6948360" y="260280"/>
            <a:ext cx="1871640" cy="1403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3924360" cy="2938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8" name="Picture 10" descr=""/>
          <p:cNvPicPr/>
          <p:nvPr/>
        </p:nvPicPr>
        <p:blipFill>
          <a:blip r:embed="rId3"/>
          <a:stretch/>
        </p:blipFill>
        <p:spPr>
          <a:xfrm>
            <a:off x="179280" y="260280"/>
            <a:ext cx="1656000" cy="1506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"/>
          <p:cNvPicPr/>
          <p:nvPr/>
        </p:nvPicPr>
        <p:blipFill>
          <a:blip r:embed="rId4"/>
          <a:stretch/>
        </p:blipFill>
        <p:spPr>
          <a:xfrm>
            <a:off x="6222960" y="3500280"/>
            <a:ext cx="2330640" cy="3357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820000" cy="1008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51a07"/>
                </a:solidFill>
                <a:latin typeface="Arial Black"/>
              </a:rPr>
              <a:t>Актуальность обращения к теме</a:t>
            </a:r>
            <a:endParaRPr b="0" lang="en-US" sz="4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временный уровень развития промышленности как  в нашей стране, так и за рубежом не исключает возможности возникновения ава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астроф,  чрезвычайных ситу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родного и техногенного характе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торые могут повлечь за со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ловеческие жертвы, и наруш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словий жизнедея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упреждение и ликвид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резвычайных ситу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ются сегодня важней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туальной задач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изнеобеспечения 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292720" y="4132440"/>
            <a:ext cx="3851280" cy="2725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5651640" y="2349360"/>
            <a:ext cx="3203280" cy="21830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34920" y="549000"/>
            <a:ext cx="6624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551a07"/>
                </a:solidFill>
                <a:latin typeface="Arial Black"/>
              </a:rPr>
              <a:t>Общие выводы</a:t>
            </a:r>
            <a:endParaRPr b="0" lang="en-US" sz="60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еловек – великое чудо природы. Человек создан для долгой и счастливой жизни, и реализация возможностей, заложенных в человеке, зависит от тех правил и привычек, которые он приобретает в школьные год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1" i="1" lang="ru-RU" sz="2200" spc="-1" strike="noStrike">
                <a:solidFill>
                  <a:srgbClr val="551a07"/>
                </a:solidFill>
                <a:latin typeface="Arial"/>
              </a:rPr>
              <a:t>знать, выполнять  и соблюдать ряд общих правил поведения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в повседневной жизни, способствующих повышению безопасности обучающихся в случае возникновения чрезвычайных ситу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аша безопасность – в ваших рук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Лучшая профилактика – это самосовершенствование, познание окружающего мира, ответственное и целенаправленное обучение в школе, соблюдение обязательных правил поведения в школе, в общественных местах  и в  повседневном быт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1528560" cy="1474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343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51a07"/>
                </a:solidFill>
                <a:latin typeface="Arial Black"/>
              </a:rPr>
              <a:t>Федеральный закон «О защите населения и территорий от чрезвычайных ситуаций природного и техногенного характера»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318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«Чрезвычайная ситуация – это обстановка на определе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природной среде, значительные материальные потери и нарушение условий жизнедеятельности людей.» (Из Федерального закона. Декабрь 1994 год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rcRect l="8332" t="0" r="2779" b="0"/>
          <a:stretch/>
        </p:blipFill>
        <p:spPr>
          <a:xfrm>
            <a:off x="2124000" y="5541840"/>
            <a:ext cx="1656000" cy="1316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5292720" y="5568840"/>
            <a:ext cx="1871640" cy="1289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1416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551a07"/>
                </a:solidFill>
                <a:latin typeface="Arial Black"/>
              </a:rPr>
              <a:t>Единая государственная система предупреждения и ликвидации чрезвычайных ситуаций (РСЧС)</a:t>
            </a:r>
            <a:endParaRPr b="0" lang="en-US" sz="29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СЧС создана с целью  объединения усилий органов государственного управления всех уровней, подчиненных им сил и средств для предупреждения и ликвидации Ч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51a07"/>
                </a:solidFill>
                <a:latin typeface="Arial"/>
              </a:rPr>
              <a:t>Основные задачи РСЧ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бор, обработка и выдача информации в области защиты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готовка населения в действиям при чрезвычайных ситуация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квидация чрезвычай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прав и обязанностей населения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ласти защиты от чрезвычай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уществление мероприятий по социаль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щите населения, пострадавшего 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резвычайных ситуаций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6443640" y="4491000"/>
            <a:ext cx="2700360" cy="1860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</p:spTree>
  </p:cSld>
  <p:transition spd="slow" advTm="7000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513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51a07"/>
                </a:solidFill>
                <a:latin typeface="Arial Black"/>
              </a:rPr>
              <a:t>Права  и обязанности граждан РФ в области защиты от чрезвычайных ситуаций</a:t>
            </a:r>
            <a:endParaRPr b="0" lang="en-US" sz="3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64803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РФ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право на защиту жизни, здоровья и личного имуществ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случае возникновения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ждане РФ имеют право быть информированным о риск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оторому они могут подвергаться в быту и о мерах необходимой безопас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ждане РФ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меют право на возмещение ущерба, причиненного их здоровью и имуществу вследствие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бходимо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нать и соблюдать  законы,  меры безопасности и ряд общих правил повед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овседневной жизни, способствующих повышению  безопасности граждан РФ в случае возникновения чрезвычайных ситуац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919840" y="1700280"/>
            <a:ext cx="322416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487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551a07"/>
                </a:solidFill>
                <a:latin typeface="Arial Black"/>
              </a:rPr>
              <a:t>Правила безопасного поведения в жизни и быту</a:t>
            </a:r>
            <a:endParaRPr b="0" lang="en-US" sz="42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ый человек должен знать и выполнять ряд общих правил в повседневной жизни, позволяющих ему подготовиться к наиболее вероятным чрезвычайным ситуациям, чтобы они не застали враспло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ждая опасная и чрезвычайная ситуация имеет свою специфику и требует конкретных действий человека с учетом реально складывающейся обстанов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84360" y="3778200"/>
            <a:ext cx="4608720" cy="30798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2071440" cy="25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7107120" y="3789360"/>
            <a:ext cx="1866960" cy="23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0" y="460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97800" cy="23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Чем опасны </a:t>
            </a:r>
            <a:br>
              <a:rPr sz="5400"/>
            </a:br>
            <a:r>
              <a:rPr b="1" i="1" lang="ru-RU" sz="5400" spc="-1" strike="noStrike">
                <a:solidFill>
                  <a:srgbClr val="551a07"/>
                </a:solidFill>
                <a:latin typeface="Arial Black"/>
              </a:rPr>
              <a:t>электроприборы?</a:t>
            </a:r>
            <a:br>
              <a:rPr sz="5400"/>
            </a:br>
            <a:endParaRPr b="0" lang="en-US" sz="54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5472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определенных условиях при использовании хорошо знакомого оборудования и приборов могут возникнуть опасные ситуации для вас, для ваших близких и для до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акие ситуации могут возникать по двум причинам. В первом случае вы сами можете создать опасную ситуацию, нарушив правила использования оборудования и бытовых прибор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другом случае независимо от вас может возникнуть опасная ситуация: резко возросло электронапряжение в се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5651640" y="1773360"/>
            <a:ext cx="3348000" cy="4824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5580000" y="3068640"/>
            <a:ext cx="3564000" cy="2386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/>
          <p:cNvPicPr/>
          <p:nvPr/>
        </p:nvPicPr>
        <p:blipFill>
          <a:blip r:embed="rId3"/>
          <a:stretch/>
        </p:blipFill>
        <p:spPr>
          <a:xfrm>
            <a:off x="0" y="260280"/>
            <a:ext cx="1476360" cy="14763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8381880" cy="2089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cc33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Правила пользования </a:t>
            </a:r>
            <a:br>
              <a:rPr sz="4800"/>
            </a:br>
            <a:r>
              <a:rPr b="1" i="1" lang="ru-RU" sz="4800" spc="-1" strike="noStrike">
                <a:solidFill>
                  <a:srgbClr val="551a07"/>
                </a:solidFill>
                <a:latin typeface="Arial Black"/>
              </a:rPr>
              <a:t>электроприборами</a:t>
            </a:r>
            <a:br>
              <a:rPr sz="4800"/>
            </a:br>
            <a:endParaRPr b="0" lang="en-US" sz="4800" spc="-1" strike="noStrike">
              <a:solidFill>
                <a:srgbClr val="551a0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6481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Электрический ток при прохождении через человеческое тело вызывает его нагрев и может привести к ожогу. При электрических ожогах могут быть серьезно повреждены внутренние ткани тела человек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роме того, поражение электрическим током может привести к остановке сердца или к остановке дыхания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732720" y="1700280"/>
            <a:ext cx="215892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6659640" y="4221000"/>
            <a:ext cx="2087640" cy="2013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5:56:40Z</dcterms:created>
  <dc:creator>HP</dc:creator>
  <dc:description/>
  <dc:language>en-US</dc:language>
  <cp:lastModifiedBy>Виталий Железняков</cp:lastModifiedBy>
  <dcterms:modified xsi:type="dcterms:W3CDTF">2023-01-10T20:22:15Z</dcterms:modified>
  <cp:revision>226</cp:revision>
  <dc:subject/>
  <dc:title>Безопасное поведение в техногенных чрезвычайных ситуациях</dc:title>
</cp:coreProperties>
</file>